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0075863" cy="75628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39440" y="282240"/>
            <a:ext cx="860436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39440" y="1963800"/>
            <a:ext cx="87678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39440" y="4542480"/>
            <a:ext cx="87678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39440" y="282240"/>
            <a:ext cx="860436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39440" y="1963800"/>
            <a:ext cx="4278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32240" y="1963800"/>
            <a:ext cx="4278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39440" y="4542480"/>
            <a:ext cx="4278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32240" y="4542480"/>
            <a:ext cx="4278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39440" y="282240"/>
            <a:ext cx="860436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39440" y="1963800"/>
            <a:ext cx="282312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04040" y="1963800"/>
            <a:ext cx="282312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68640" y="1963800"/>
            <a:ext cx="282312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39440" y="4542480"/>
            <a:ext cx="282312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04040" y="4542480"/>
            <a:ext cx="282312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68640" y="4542480"/>
            <a:ext cx="282312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39440" y="282240"/>
            <a:ext cx="860436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39440" y="1963800"/>
            <a:ext cx="876780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cccccc"/>
              </a:solidFill>
              <a:latin typeface="Luxi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39440" y="282240"/>
            <a:ext cx="860436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39440" y="1963800"/>
            <a:ext cx="876780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39440" y="282240"/>
            <a:ext cx="860436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39440" y="1963800"/>
            <a:ext cx="427860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232240" y="1963800"/>
            <a:ext cx="427860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39440" y="282240"/>
            <a:ext cx="860436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Utopi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39440" y="282240"/>
            <a:ext cx="860436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-21600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cccccc"/>
              </a:solidFill>
              <a:latin typeface="Luxi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9440" y="282240"/>
            <a:ext cx="860436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39440" y="1963800"/>
            <a:ext cx="4278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32240" y="1963800"/>
            <a:ext cx="427860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39440" y="4542480"/>
            <a:ext cx="4278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282240"/>
            <a:ext cx="860436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39440" y="1963800"/>
            <a:ext cx="876780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cccccc"/>
              </a:solidFill>
              <a:latin typeface="Luxi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39440" y="282240"/>
            <a:ext cx="860436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39440" y="1963800"/>
            <a:ext cx="427860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32240" y="1963800"/>
            <a:ext cx="4278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232240" y="4542480"/>
            <a:ext cx="4278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39440" y="282240"/>
            <a:ext cx="860436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39440" y="1963800"/>
            <a:ext cx="4278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32240" y="1963800"/>
            <a:ext cx="4278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39440" y="4542480"/>
            <a:ext cx="87678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9440" y="282240"/>
            <a:ext cx="860436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39440" y="1963800"/>
            <a:ext cx="87678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39440" y="4542480"/>
            <a:ext cx="87678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39440" y="282240"/>
            <a:ext cx="860436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39440" y="1963800"/>
            <a:ext cx="4278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32240" y="1963800"/>
            <a:ext cx="4278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39440" y="4542480"/>
            <a:ext cx="4278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232240" y="4542480"/>
            <a:ext cx="4278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39440" y="282240"/>
            <a:ext cx="860436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39440" y="1963800"/>
            <a:ext cx="282312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704040" y="1963800"/>
            <a:ext cx="282312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668640" y="1963800"/>
            <a:ext cx="282312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39440" y="4542480"/>
            <a:ext cx="282312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704040" y="4542480"/>
            <a:ext cx="282312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668640" y="4542480"/>
            <a:ext cx="282312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282240"/>
            <a:ext cx="860436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1963800"/>
            <a:ext cx="876780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9440" y="282240"/>
            <a:ext cx="860436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39440" y="1963800"/>
            <a:ext cx="427860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32240" y="1963800"/>
            <a:ext cx="427860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282240"/>
            <a:ext cx="860436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Utop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39440" y="282240"/>
            <a:ext cx="860436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-21600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cccccc"/>
              </a:solidFill>
              <a:latin typeface="Luxi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39440" y="282240"/>
            <a:ext cx="860436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39440" y="1963800"/>
            <a:ext cx="4278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32240" y="1963800"/>
            <a:ext cx="427860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39440" y="4542480"/>
            <a:ext cx="4278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39440" y="282240"/>
            <a:ext cx="860436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39440" y="1963800"/>
            <a:ext cx="427860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32240" y="1963800"/>
            <a:ext cx="4278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32240" y="4542480"/>
            <a:ext cx="4278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39440" y="282240"/>
            <a:ext cx="860436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39440" y="1963800"/>
            <a:ext cx="4278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2240" y="1963800"/>
            <a:ext cx="4278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39440" y="4542480"/>
            <a:ext cx="87678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858000"/>
            <a:ext cx="10077480" cy="703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39800" y="626760"/>
            <a:ext cx="86011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Utop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39800" y="2101680"/>
            <a:ext cx="860112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top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  <a:p>
            <a:pPr lvl="1" marL="861840" indent="-285480"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top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  <a:p>
            <a:pPr lvl="2" marL="1293840" indent="-2160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top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  <a:p>
            <a:pPr lvl="3" marL="1725480" indent="-214200"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top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  <a:p>
            <a:pPr lvl="4" marL="2157480" indent="-2160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top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  <a:p>
            <a:pPr lvl="5" marL="2157480" indent="-2160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top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  <a:p>
            <a:pPr lvl="6" marL="2157480" indent="-2160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top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3" name=""/>
          <p:cNvSpPr/>
          <p:nvPr/>
        </p:nvSpPr>
        <p:spPr>
          <a:xfrm>
            <a:off x="8686800" y="7201080"/>
            <a:ext cx="1312920" cy="3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Utopia"/>
              </a:rPr>
              <a:t>NSRC@SANOG 10 New Delh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39440" y="282240"/>
            <a:ext cx="860436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Utopi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739440" y="1963800"/>
            <a:ext cx="876780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top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  <a:p>
            <a:pPr lvl="1" marL="863640" indent="-287280"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top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  <a:p>
            <a:pPr lvl="2" marL="1295280" indent="-215640"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top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  <a:p>
            <a:pPr lvl="3" marL="1727280" indent="-216000"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top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  <a:p>
            <a:pPr lvl="4" marL="2158920" indent="-215640"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top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  <a:p>
            <a:pPr lvl="5" marL="2158920" indent="-21564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top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  <a:p>
            <a:pPr lvl="6" marL="2158920" indent="-21564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top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6840360"/>
            <a:ext cx="10077480" cy="722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458200" y="7110360"/>
            <a:ext cx="158760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000" spc="-1" strike="noStrike">
                <a:solidFill>
                  <a:srgbClr val="0000ff"/>
                </a:solidFill>
                <a:latin typeface="Utopia"/>
              </a:rPr>
              <a:t>nsrc@intERLa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000" spc="-1" strike="noStrike">
                <a:solidFill>
                  <a:srgbClr val="0000ff"/>
                </a:solidFill>
                <a:latin typeface="Utopia"/>
              </a:rPr>
              <a:t>Bangkok, Thail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39440" y="243000"/>
            <a:ext cx="8605800" cy="32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6000" spc="-1" strike="noStrike">
                <a:solidFill>
                  <a:srgbClr val="ff0000"/>
                </a:solidFill>
                <a:latin typeface="Purisa"/>
              </a:rPr>
              <a:t>Welcome!</a:t>
            </a:r>
            <a:br>
              <a:rPr sz="6600"/>
            </a:b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intERLab at AIT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Network Management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Bangkok, Thailand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arch 11-15, 2008</a:t>
            </a: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3914280"/>
            <a:ext cx="8769240" cy="27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tors:</a:t>
            </a:r>
            <a:endParaRPr b="0" lang="en-US" sz="4400" spc="-1" strike="noStrike">
              <a:solidFill>
                <a:srgbClr val="000000"/>
              </a:solidFill>
              <a:latin typeface="Utopia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rvey Allen (Chile/USA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hil Regnauld (Denmark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715000" y="3924360"/>
            <a:ext cx="3922560" cy="151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39440" y="28260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Verdana"/>
              </a:rPr>
              <a:t>Your Instructors</a:t>
            </a:r>
            <a:endParaRPr b="0" lang="en-US" sz="40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39800" y="1963800"/>
            <a:ext cx="8632800" cy="49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12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Utopia"/>
              </a:rPr>
              <a:t>Hervey Allen</a:t>
            </a: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  <a:p>
            <a:pPr lvl="1" marL="863640" indent="0">
              <a:lnSpc>
                <a:spcPct val="12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Utopia"/>
              </a:rPr>
              <a:t>Network Startup Resource Center</a:t>
            </a:r>
            <a:endParaRPr b="0" lang="en-US" sz="2800" spc="-1" strike="noStrike">
              <a:solidFill>
                <a:srgbClr val="000000"/>
              </a:solidFill>
              <a:latin typeface="Utopia"/>
            </a:endParaRPr>
          </a:p>
          <a:p>
            <a:pPr lvl="1" marL="863640" indent="0">
              <a:lnSpc>
                <a:spcPct val="12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Utopia"/>
              </a:rPr>
              <a:t>Santiago, Chil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Utopia"/>
            </a:endParaRPr>
          </a:p>
          <a:p>
            <a:pPr marL="431640" indent="0">
              <a:lnSpc>
                <a:spcPct val="12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Utopia"/>
              </a:rPr>
              <a:t>Phil Regnauld</a:t>
            </a: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  <a:p>
            <a:pPr lvl="1" marL="863640" indent="0">
              <a:lnSpc>
                <a:spcPct val="12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Utopia"/>
              </a:rPr>
              <a:t>catpipe systems ApS</a:t>
            </a:r>
            <a:endParaRPr b="0" lang="en-US" sz="2800" spc="-1" strike="noStrike">
              <a:solidFill>
                <a:srgbClr val="000000"/>
              </a:solidFill>
              <a:latin typeface="Utopia"/>
            </a:endParaRPr>
          </a:p>
          <a:p>
            <a:pPr lvl="1" marL="863640" indent="0">
              <a:lnSpc>
                <a:spcPct val="12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Utopia"/>
              </a:rPr>
              <a:t>Network Startup Resource Center</a:t>
            </a:r>
            <a:endParaRPr b="0" lang="en-US" sz="2800" spc="-1" strike="noStrike">
              <a:solidFill>
                <a:srgbClr val="000000"/>
              </a:solidFill>
              <a:latin typeface="Utopia"/>
            </a:endParaRPr>
          </a:p>
          <a:p>
            <a:pPr lvl="1" marL="863640" indent="0">
              <a:lnSpc>
                <a:spcPct val="12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Utopia"/>
              </a:rPr>
              <a:t>Copenhagen, Denmark</a:t>
            </a:r>
            <a:endParaRPr b="0" lang="en-US" sz="2800" spc="-1" strike="noStrike">
              <a:solidFill>
                <a:srgbClr val="000000"/>
              </a:solidFill>
              <a:latin typeface="Utop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39440" y="28260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40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39440" y="1963800"/>
            <a:ext cx="4289400" cy="49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863640" indent="0">
              <a:lnSpc>
                <a:spcPct val="12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Utopia"/>
              </a:rPr>
              <a:t>Timetable</a:t>
            </a: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  <a:p>
            <a:pPr lvl="1" marL="863640" indent="0">
              <a:lnSpc>
                <a:spcPct val="12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Utopia"/>
              </a:rPr>
              <a:t>09:00-10:30 </a:t>
            </a:r>
            <a:endParaRPr b="0" lang="en-US" sz="2800" spc="-1" strike="noStrike">
              <a:solidFill>
                <a:srgbClr val="000000"/>
              </a:solidFill>
              <a:latin typeface="Utopia"/>
            </a:endParaRPr>
          </a:p>
          <a:p>
            <a:pPr lvl="1" marL="863640" indent="0">
              <a:lnSpc>
                <a:spcPct val="12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Utopia"/>
              </a:rPr>
              <a:t>10:30-11:00 break</a:t>
            </a:r>
            <a:endParaRPr b="0" lang="en-US" sz="2800" spc="-1" strike="noStrike">
              <a:solidFill>
                <a:srgbClr val="000000"/>
              </a:solidFill>
              <a:latin typeface="Utopia"/>
            </a:endParaRPr>
          </a:p>
          <a:p>
            <a:pPr lvl="1" marL="863640" indent="0">
              <a:lnSpc>
                <a:spcPct val="12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Utopia"/>
              </a:rPr>
              <a:t>11:00-12:30 </a:t>
            </a:r>
            <a:endParaRPr b="0" lang="en-US" sz="2800" spc="-1" strike="noStrike">
              <a:solidFill>
                <a:srgbClr val="000000"/>
              </a:solidFill>
              <a:latin typeface="Utopia"/>
            </a:endParaRPr>
          </a:p>
          <a:p>
            <a:pPr lvl="1" marL="863640" indent="0">
              <a:lnSpc>
                <a:spcPct val="12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Utopia"/>
              </a:rPr>
              <a:t>12:30-14:00 lunch</a:t>
            </a:r>
            <a:endParaRPr b="0" lang="en-US" sz="2800" spc="-1" strike="noStrike">
              <a:solidFill>
                <a:srgbClr val="000000"/>
              </a:solidFill>
              <a:latin typeface="Utopia"/>
            </a:endParaRPr>
          </a:p>
          <a:p>
            <a:pPr lvl="1" marL="863640" indent="0">
              <a:lnSpc>
                <a:spcPct val="12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Utopia"/>
              </a:rPr>
              <a:t>14:00-15:30 </a:t>
            </a:r>
            <a:endParaRPr b="0" lang="en-US" sz="2800" spc="-1" strike="noStrike">
              <a:solidFill>
                <a:srgbClr val="000000"/>
              </a:solidFill>
              <a:latin typeface="Utopia"/>
            </a:endParaRPr>
          </a:p>
          <a:p>
            <a:pPr lvl="1" marL="863640" indent="0">
              <a:lnSpc>
                <a:spcPct val="12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Utopia"/>
              </a:rPr>
              <a:t>15:30-16:00 break</a:t>
            </a:r>
            <a:endParaRPr b="0" lang="en-US" sz="2800" spc="-1" strike="noStrike">
              <a:solidFill>
                <a:srgbClr val="000000"/>
              </a:solidFill>
              <a:latin typeface="Utopia"/>
            </a:endParaRPr>
          </a:p>
          <a:p>
            <a:pPr lvl="1" marL="863640" indent="0">
              <a:lnSpc>
                <a:spcPct val="12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Utopia"/>
              </a:rPr>
              <a:t>16:00-17:30 </a:t>
            </a:r>
            <a:endParaRPr b="0" lang="en-US" sz="28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87" name=""/>
          <p:cNvSpPr/>
          <p:nvPr/>
        </p:nvSpPr>
        <p:spPr>
          <a:xfrm>
            <a:off x="5715000" y="2033640"/>
            <a:ext cx="3657600" cy="10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Utopia"/>
              </a:rPr>
              <a:t>Five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Utopia"/>
              </a:rPr>
              <a:t>Tuesday - Satur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39440" y="28260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Verdana"/>
              </a:rPr>
              <a:t>Logistics</a:t>
            </a:r>
            <a:endParaRPr b="0" lang="en-US" sz="40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39800" y="1963800"/>
            <a:ext cx="8632800" cy="49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23000"/>
              </a:lnSpc>
              <a:buClr>
                <a:srgbClr val="000000"/>
              </a:buClr>
              <a:buFont typeface="Utopia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Utopi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Utopia"/>
              </a:rPr>
              <a:t>Please don't change the </a:t>
            </a:r>
            <a:r>
              <a:rPr b="0" i="1" lang="en-GB" sz="3200" spc="-1" strike="noStrike">
                <a:solidFill>
                  <a:srgbClr val="000000"/>
                </a:solidFill>
                <a:latin typeface="Utopia"/>
              </a:rPr>
              <a:t>inst</a:t>
            </a:r>
            <a:r>
              <a:rPr b="0" lang="en-GB" sz="3200" spc="-1" strike="noStrike">
                <a:solidFill>
                  <a:srgbClr val="000000"/>
                </a:solidFill>
                <a:latin typeface="Utopia"/>
              </a:rPr>
              <a:t> password.</a:t>
            </a: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  <a:p>
            <a:pPr marL="431640" indent="-323640">
              <a:lnSpc>
                <a:spcPct val="123000"/>
              </a:lnSpc>
              <a:buClr>
                <a:srgbClr val="000000"/>
              </a:buClr>
              <a:buFont typeface="Utopia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Utopi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Utopia"/>
              </a:rPr>
              <a:t>Please ask lots of questions.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Utop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  <a:p>
            <a:pPr marL="431640" indent="0">
              <a:lnSpc>
                <a:spcPct val="12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  <a:p>
            <a:pPr marL="431640" indent="0" algn="ctr">
              <a:lnSpc>
                <a:spcPct val="12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Utopia"/>
              </a:rPr>
              <a:t>Schedule for the week...</a:t>
            </a: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  <a:p>
            <a:pPr marL="431640" indent="0" algn="ctr">
              <a:lnSpc>
                <a:spcPct val="12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  <a:p>
            <a:pPr marL="431640" indent="0" algn="ctr">
              <a:lnSpc>
                <a:spcPct val="12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Utopia"/>
              </a:rPr>
              <a:t>http://noc/agenda.html</a:t>
            </a: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ervey Allen</cp:lastModifiedBy>
  <cp:revision>0</cp:revision>
  <dc:subject/>
  <dc:title/>
</cp:coreProperties>
</file>