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33440" y="1006560"/>
            <a:ext cx="5097600" cy="34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011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move the slid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5208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0360" y="4537800"/>
            <a:ext cx="935208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2680" y="1963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0360" y="4537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2680" y="4537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30110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2240" y="1963800"/>
            <a:ext cx="30110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84480" y="1963800"/>
            <a:ext cx="30110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0360" y="4537800"/>
            <a:ext cx="30110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2240" y="4537800"/>
            <a:ext cx="30110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84480" y="4537800"/>
            <a:ext cx="30110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60360" y="1963800"/>
            <a:ext cx="9352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8080"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52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45637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2680" y="1963800"/>
            <a:ext cx="45637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282600"/>
            <a:ext cx="859968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8080" indent="-208080"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680" y="1963800"/>
            <a:ext cx="45637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60360" y="4537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45637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63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2680" y="4537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63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0360" y="4537800"/>
            <a:ext cx="935208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5520" y="155520"/>
            <a:ext cx="9769680" cy="1328760"/>
          </a:xfrm>
          <a:prstGeom prst="rect">
            <a:avLst/>
          </a:prstGeom>
          <a:solidFill>
            <a:srgbClr val="c0c0c0"/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edit the title text forma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360" y="1963800"/>
            <a:ext cx="9352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Click to edit the outline text format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Second Outline Leve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2" marL="892080" indent="-21276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Third Outline Leve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3" marL="1719360" indent="-20808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Fourth Outline Leve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4" marL="2151000" indent="-20952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Fifth Outline Leve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5" marL="2151000" indent="-209520">
              <a:lnSpc>
                <a:spcPct val="87000"/>
              </a:lnSpc>
              <a:spcBef>
                <a:spcPts val="7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Sixth Outline Leve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6" marL="2151000" indent="-209520">
              <a:lnSpc>
                <a:spcPct val="87000"/>
              </a:lnSpc>
              <a:spcBef>
                <a:spcPts val="7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Seventh Outline Leve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" name=""/>
          <p:cNvSpPr/>
          <p:nvPr/>
        </p:nvSpPr>
        <p:spPr>
          <a:xfrm>
            <a:off x="360360" y="1619280"/>
            <a:ext cx="9360000" cy="144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15880" y="1795320"/>
            <a:ext cx="87724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3720" indent="-214200" algn="ctr">
              <a:lnSpc>
                <a:spcPct val="97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5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100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 Workshop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intERlab at AIT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Thailand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208080" indent="-208080" algn="ctr">
              <a:lnSpc>
                <a:spcPct val="96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March 11-15, 2008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208080" indent="-208080" algn="ctr">
              <a:lnSpc>
                <a:spcPct val="96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5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5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5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5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Cisco configuration element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19280" y="4897440"/>
            <a:ext cx="486432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112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SNMP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53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In config mode: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snmp-server community xxxxxxxxx RW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snmp-server community 1nterl4b RO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snmp-server location intERLab, AIT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snmp-server enable traps config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snmp-server enable traps envmon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snmp-server enable traps config-copy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snmp-server enable traps syslog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snmp-server host 10.10.10.1 1nterl4b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112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CDP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53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Cisco Discovery Protoco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Normally enabled by default nowaday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Otherwise, enabled with ”cdp enable” or ”cdp run”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tcpdump and tools like cdpr will show you CDP announcement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check neighbor announcement with: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how cdp neighbor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112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Questions 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Overview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6000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Basic things that we need to make sure are configured on a Cisco router (and switch) to do proper network management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These apply to other network equipment manufacturers of course, and to servers and workstation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112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Element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53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Hostname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hostname of the device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SH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enable secure shel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DNS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domain name lookup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NTP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time synchronization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yslog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yslog message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NMP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NMP configuration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NMP traps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and where to send trap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CDP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Cisco discovery protoco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112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Hostnam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53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Use the FQDN preferably.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In config mode: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hostname </a:t>
            </a:r>
            <a:r>
              <a:rPr b="0" i="1" lang="en-GB" sz="3000" spc="-1" strike="noStrike">
                <a:solidFill>
                  <a:srgbClr val="333333"/>
                </a:solidFill>
                <a:latin typeface="Lucida Sans Typewriter Regular"/>
              </a:rPr>
              <a:t>net-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gw.XYZ.domain.name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or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hostname </a:t>
            </a:r>
            <a:r>
              <a:rPr b="0" i="1" lang="en-GB" sz="3000" spc="-1" strike="noStrike">
                <a:solidFill>
                  <a:srgbClr val="333333"/>
                </a:solidFill>
                <a:latin typeface="Lucida Sans Typewriter Regular"/>
              </a:rPr>
              <a:t>net-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w-XYZ.domain.name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112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DNS configuration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53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Config mode:</a:t>
            </a:r>
            <a:br>
              <a:rPr sz="3000"/>
            </a:b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ip domain-name mgmt.ait.ac.th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ip name-server 10.10.10.1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112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NTP + time configuration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53520" cy="57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89520" indent="-29340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In config mode: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ntp server pool.ntp.org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clock timezone ICT 7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389520" indent="-29340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If needed: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clock summer-time XXX recurring last Sun Mar 2:00 last Sun Oct 3:00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389520" indent="-29340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Verify: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show clock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112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SSH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5352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98160" indent="-29952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Only crypto version of IOS/CatOS have support for SSH – there are export restrictions...  In config mode: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aaa new-model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crypto key generate rsa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username inst secret 0 xxxxxxxxx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398160" indent="-29952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... above is required to be allowed to enable SSH.  Verify creation with: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sh crypto key mypubkey  rsa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398160" indent="-29952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Use at least 768 bit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112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SSH (2)</a:t>
            </a: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‏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53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Enforce ssh (disabling telnet) on vty lines: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host</a:t>
            </a: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# conf t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host(config)# line vty 0 4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host(config-line)# transport input ssh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^Z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host#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SH is now enabled, and the telnet disabled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112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Syslog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53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In config mode: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logging noc.mgmt.ait.ac.th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logging facility local5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logging trap debugging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Courier New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   Track E0 AfNOG workshop April 23-27 2007 Abuja, Nigeria    </dc:title>
</cp:coreProperties>
</file>