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1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70A89-23FA-4502-8B26-3FA00E6667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856560"/>
            <a:ext cx="10080720" cy="7030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58200" y="7191360"/>
            <a:ext cx="17906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333333"/>
                </a:solidFill>
                <a:latin typeface="Verdana"/>
              </a:rPr>
              <a:t>nsrc@summer worksh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333333"/>
                </a:solidFill>
                <a:latin typeface="Verdana"/>
              </a:rPr>
              <a:t>eugene, oreg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oss.oetiker.ch/smokeping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oss.oetiker.ch/rrdtool/" TargetMode="External"/><Relationship Id="rId2" Type="http://schemas.openxmlformats.org/officeDocument/2006/relationships/hyperlink" Target="http://www.fping.com/" TargetMode="External"/><Relationship Id="rId3" Type="http://schemas.openxmlformats.org/officeDocument/2006/relationships/hyperlink" Target="http://echoping.sourceforge.net/" TargetMode="External"/><Relationship Id="rId4" Type="http://schemas.openxmlformats.org/officeDocument/2006/relationships/hyperlink" Target="http://www.daemoninc.com/SpeedyCGI/" TargetMode="External"/><Relationship Id="rId5" Type="http://schemas.openxmlformats.org/officeDocument/2006/relationships/hyperlink" Target="http://httpd.apache.org/" TargetMode="Externa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ostname/cgi-bin/smokeping.cgi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236160"/>
            <a:ext cx="9072360" cy="4907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easuring Delay with               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4400"/>
            </a:br>
            <a:br>
              <a:rPr sz="44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Bitstream Vera Sans"/>
              </a:rPr>
              <a:t>Network Design and Operation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4 July 2009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hervey@nsrc.or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599840"/>
            <a:ext cx="90723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01800" y="5313240"/>
            <a:ext cx="4942080" cy="139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32440" y="601560"/>
            <a:ext cx="2216160" cy="6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32652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mokeping configuration file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usr/local/etc/smokeping/conf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ocations of directories and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guration of the probe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tination nodes and the format of the hierarchical Smokeping me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'+' adds a level to the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 addition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/etc/smokeping/basepage.htm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allows you to change the look and feel of the initial Smokeping web p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Aler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6120" y="2239920"/>
            <a:ext cx="5838840" cy="3632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*** Alerts 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 = netmanage@localho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rom = smokealert@noc.mgmt.conference.apritcot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+big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ype =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in per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attern = ==0%,==0%,==0%,==0%,&gt;0%,&gt;0%,&gt;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mment = suddenly there is packet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+some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ype =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in per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attern = &gt;0%,*12*,&gt;0%,*12*,&gt;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mment = loss 3 times  in a r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Databa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6120" y="2313000"/>
            <a:ext cx="5838840" cy="3411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*** Database 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ep     = 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ings    =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consfn mrhb steps 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VERAGE  0.5   1  1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VERAGE  0.5  12  4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IN  0.5  12  4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X  0.5  12  4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VERAGE  0.5 144   7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X  0.5 144   7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IN  0.5 144   7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Gener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6120" y="2168640"/>
            <a:ext cx="5838840" cy="3411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*** General 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@include /etc/smokeping/config.d/path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Please edit this to suit your insta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wner    = netmanage@noc.mgmt.conference.apricot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act  = netmanage@local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giurl   = http://noc/cgi-bin/smokeping.c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ilhost = localho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specify this to get syslog log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yslogfacility = loca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each probe is now run in its ow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disable this to revert to the old behavi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concurrentprobes =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pathnam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2971800"/>
            <a:ext cx="5838840" cy="2525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endmail = /usr/sbin/send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mgcache = /usr/local/smokeping/htdocs/i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mgurl   = i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atadir  = /usr/local/var/smoke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iddir  = /usr/local/var/smoke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giurl   = http://localhost/smokeping/cgi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mokemail = /usr/local/etc/smokeping/smok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mail = /usr/local/etc/smokeping/t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specify this to get syslog log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yslogfacility = loca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79360" y="1568520"/>
            <a:ext cx="70232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generally do not need to edit th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f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near the t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Present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49640" y="1984320"/>
            <a:ext cx="5589360" cy="4414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*** Presentation **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template = /etc/smokeping/basepage.ht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cha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menu = Cha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title = The most interesting destin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+ stddev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sorter = StdDev(entries=&gt;4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title = Top Standard Devi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menu = Std Devi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format = Standard Deviation %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+ ma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sorter = Max(entries=&gt;5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title = Top Max Roundtrip Ti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menu = by Ma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format = Max Roundtrip Time %f secon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Prob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49640" y="1623960"/>
            <a:ext cx="5589360" cy="4788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*** Probes **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FP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binary = /usr/sbin/fp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D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binary = /usr/bin/d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lookup = www.uoregon.ed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pings =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step = 1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EchoPingHtt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binary = /usr/bin/echop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ignore_cache = y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pings =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url = 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EchoPingHtt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binary = /usr/bin/echop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pings =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url = 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EchoPingSmt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binary = /usr/bin/echop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forks =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Sla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49640" y="2379600"/>
            <a:ext cx="5589360" cy="1737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 *** Slaves **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# make sure this is not world-readable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# secrets=/etc/smokeping/slave-secr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 +slave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 display_name=slave_n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 color=0000f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122040"/>
            <a:ext cx="907236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Targe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43440" y="1170000"/>
            <a:ext cx="3738600" cy="5631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*** Targets 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obe = F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title = Network Latency Grap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 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University of Ore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title = UO web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host = www.uoregon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 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title = Universidad Tecnologica Equinoc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+ HT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HT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obe = EchoPingHt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++ w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UTE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host = www.ute.edu.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+ D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D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obe = D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++ d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UTE D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host = www.ute.edu.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6840" y="1338120"/>
            <a:ext cx="412092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look at a s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 file that w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for the ser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nsrc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Default Probe: P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bing for delay and jitter (ping)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10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formance and availability probe of a ser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06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++ Local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 = N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tle = The NOC@netman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ost = local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erts = startloss,someloss,bigloss,rttdetect,host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69704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ed on RRDTool (the same auth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sures ICMP delay and can measure status of services such as HTTP, DNS, SMTP, SSH, LDAP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s you to define ranges on statistics and generate al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ten in Perl for por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atively easy to install. In Debian it's very si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Another Type of Prob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39800" y="1994040"/>
            <a:ext cx="909000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rformance and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+ NOCsqu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enu = Squid on the N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tle = www-cache / HTTP for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noc@mgmt.conference.apricot.n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be = EchoPingHt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ost = localh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rt = 80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rl = http://localhost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More Types of Prob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97084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information available here:</a:t>
            </a: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oss.oetiker.ch/smokeping/probe/index.en.htm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few more probe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iscoRTTMonD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adi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(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iscoRTTMonTcpC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aca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Ping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ebProxyFil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WW-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okeping website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oss.oetiker.ch/smokepin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 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ttp://fushizen.net/cgi-bin/smokeping.c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od examples: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http://oss.oetiker.ch/smokeping/doc/smokeping_examples.en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okeping sends multiples tests (pings), makes note of RTT, orders these and selects the med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ifferent values of RTT are shown graphically as lighter and darkers shades of grey (the “smoke”). This conveys the idea of variable round trip times o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jit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umber of lost packets (if any) changes the color of the horizontal line across the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ow to Read Smokeping Graph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77760" y="1527120"/>
            <a:ext cx="7958160" cy="5172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“Smoke” and the “Pings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9440" y="482400"/>
            <a:ext cx="8605800" cy="69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Another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69880" y="1751040"/>
            <a:ext cx="9050400" cy="48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following packages are needed or recommen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rdtool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oss.oetiker.ch/rrdtool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p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fping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chop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echoping.sourceforg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yCGI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daemoninc.com/SpeedyCG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ache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httpd.apach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: Install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440" y="1993680"/>
            <a:ext cx="876132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269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BS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rtinstall -PP smok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igur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usr/local/etc/smokeping/config.d/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Smokeping's appearance he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usr/local/etc/smokeping/basepage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tart the servi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usr/local/etc/init.d/smokeping rest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usr/local/etc/init.d/smokepring relo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: Install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9440" y="1993680"/>
            <a:ext cx="876132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269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ian/Ubun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pt-get install smok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igur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etc/smokeping/config.d/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Smokeping's appearance he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etc/smokeping/basepage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tart the servi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etc/init.d/smokeping rest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etc/init.d/smokepring relo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: Instal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will find Smokeping running 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spcAft>
                <a:spcPts val="850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urier New"/>
                <a:ea typeface="Arial"/>
                <a:hlinkClick r:id="rId1"/>
              </a:rPr>
              <a:t>http://hostname/cgi-bin/smokeping.c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6000"/>
              </a:lnSpc>
              <a:spcAft>
                <a:spcPts val="1426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6000"/>
              </a:lnSpc>
              <a:spcAft>
                <a:spcPts val="850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rvey Allen</cp:lastModifiedBy>
  <dcterms:modified xsi:type="dcterms:W3CDTF">2009-07-24T14:39:29Z</dcterms:modified>
  <cp:revision>71</cp:revision>
  <dc:subject/>
  <dc:title/>
</cp:coreProperties>
</file>