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2829-1679-4902-B276-787069C0E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4691-5BD1-479D-95B5-CB30B8C6A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FE97-C91E-413D-8F74-4E3E7C7B9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75EF-FCE6-43C4-916C-529FC18B0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DCB98-D379-4D5F-AF5A-AD6AEA854A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6F76D-31CA-4305-B1FC-B40F52FE8D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7A34-77B5-4F59-AC01-F54FDBD4BC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9A89-C1E0-454E-A97A-A3BA0F8C90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3963-5DFB-48D6-BF31-0E15BE7001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E1E9-BBA1-4B50-9575-C92F598649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016B-57A1-42C7-B5AF-D3C48201A8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0553-D710-4866-87B6-09625425A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49445-FFBA-40F1-857A-8A5A113B2A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BFB38-B3D5-4830-9F13-0B244672BE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35186-B5E4-49DB-AC97-D81EB24750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25500-397A-4352-8C0E-DF0431F837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971E-030E-4ACA-9A5B-9C2C4AEF76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16D-AB3F-4946-B4AA-CD4B8B8761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8A5-9F08-432B-9F65-947C9228CB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22C-2E1F-4A94-83DF-2C5C49E735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261-1DBE-4CAF-873C-4DDC4F6912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875-419C-496B-83CF-3E2914BD53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F774-BE70-4FFD-B4CF-526ABD7DDC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FFF3-21F9-40C6-970B-8EB7DF8DF8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581-13F5-4A78-9713-520E2A269A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A235-E679-4288-B7CD-67D13CB37A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595-F916-4E42-94BB-6F0B673E4E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2C5-2966-491C-BF39-994DF2C026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A8F-2C36-4005-9210-D78E0CFA37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4DFF-19D3-40FB-981C-B5C8D6808C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9369B-534A-4903-8A80-4ED18F2CBB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97B21-C84E-44C7-B2EA-76FE734DC2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0C9DF-0876-49FE-AEAD-7302DC3BF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EB80-C4F5-4351-ADB2-3BF400E13F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70151-BB09-48F5-979C-A23C10F25A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54DDD-CD48-47F3-8BC8-ECE0B55811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EA154-C625-475A-BAB7-74976F581A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EF7A5-AE9C-4527-825B-0845243F01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78D8A-3A0F-4B3E-8CE5-1FE4B079BC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B2F9E-9BDD-4FBB-B836-1D7D3A1946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015C6-E0A5-435A-8C4E-1EF0A07CAA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88C75-E07C-4C7A-B1CE-460479BD16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08610-A80E-4A75-A140-9C77FF02451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338D9-8C21-40DD-8AC2-6E0748B7D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85A7-C6C1-4AF2-BDFA-F679D00E364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DBE67-287E-4ED4-BCE7-E317219B9A5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55C38-0572-4472-8000-FFA07D88D22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62382-7460-43C8-9911-CF4FEC22342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1BB41-170F-4635-9582-96A78F5CE16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79DAC-DEAB-48FD-8683-CC6A02CB48A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EC6AD-BE36-43C2-9191-E9A90C7D2BD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44F07-0C33-4552-B3B7-3CD162F8586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07815-BED8-4EFF-BD5C-4C8AFF8D802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CE21F-EF87-4BF9-8450-BFC222667E4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9FFF7-DC63-4D9E-A583-E090BEB20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FE64-53E2-4DDE-BBB6-6897CA08922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FA9DD-3975-4B84-89A4-24BFA258594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6E01-79C0-43F6-9986-A3E25AE71A4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639E-6A33-4C4D-BFD0-DC29DB34D3B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3F03-09F5-45BA-A69C-39F7F9DCFBD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B7B1-920F-4C44-9A07-C1FF02847A4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8014-CC7E-4112-8816-8B44C6B6722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122C-F82A-4D45-930F-D79453870FC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60E7-E58A-4C5D-9012-A86FD5D4DCA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E2A5-B92B-4135-A102-33E2453B77B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C08A-8428-4804-A0A5-EB549BBA9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16C3-826C-418A-B0BE-BA77CE73F58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D3F9-2C0C-428A-A983-5188450374A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9C7E-1F2A-4E33-9AB6-0E08A81C8AB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5130-A47C-4484-B8D1-05D0C0BD220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D70C20-500F-4A23-96A4-31796E8C160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6E8267-D114-4EEA-94A5-80BC1A0A439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11371A-087D-4E91-A543-437EBF964A5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BCDE4D-97CA-4CBE-9656-D15F75675E4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0F12EA-A7D3-4F83-A9A4-03913E3AC24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59013C-1CAC-4637-8C65-CE7E4B12180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4B9525-E1D4-46F6-A53D-BEA191F63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8A0A-9996-43EC-9307-444A638D45F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B9AEDB-C923-4A01-89EF-26B3DD0BE61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AC7042-AAC4-4A82-B6C6-BE30EE17DD4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BE31EA-44E5-488F-9033-89452673823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6AC919-76AC-4C7A-8E24-4598C364FF1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64E34B-6747-4434-9E32-D1F4447D3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32F4-C54B-479C-9A55-FD3324F65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55320" y="120960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27F95-DD68-40B0-9A0F-1657C4F2F401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55320" y="120960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1840"/>
            <a:ext cx="223920" cy="230040"/>
            <a:chOff x="914400" y="1401840"/>
            <a:chExt cx="223920" cy="23004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392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13A0A-F5B9-4C30-8028-A5EAF3F5194B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3680"/>
            <a:ext cx="223920" cy="230040"/>
            <a:chOff x="2163600" y="2803680"/>
            <a:chExt cx="223920" cy="23004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392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3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22876-275E-4948-ACEC-ECB8029C0528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3BD87-B8CE-43BD-8260-19A759F3CAC0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5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7C271-FE39-418B-933E-767B406E58A5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EAA94-A32B-48BA-A848-8BB775260C58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795920" cy="4795920"/>
            <a:chOff x="646200" y="969840"/>
            <a:chExt cx="4795920" cy="479592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5920" cy="47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4464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7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8EB5C-0B96-409A-AD89-99389E429DF2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14400" y="838080"/>
            <a:ext cx="8001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hana Academic and Research Network (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GARNET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)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Benjamin A. Eshu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beshun@garnet.edu.g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ly 24, 200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03600" y="3324240"/>
            <a:ext cx="1211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03600" y="1143000"/>
            <a:ext cx="395460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838080"/>
            <a:ext cx="8001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hana Academic and Research Network (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GARNET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)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Key Network features: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The use of BGP implementation (with OSPF as the IGP) for optimum routing among the various campus  communities for the necessary inter-routing informa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IP addressing to cater for the right number of hosts and subnets required by each institution and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Sufficient interconnection inform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Setting up of exchange points for internal traffic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Peering with other RREN’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72314"/>
                </a:solidFill>
                <a:latin typeface="Gill Sans MT"/>
              </a:rPr>
              <a:t>A clear defined routing policy will be enforced with the use of tagging and filtering at route redistribution 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72314"/>
                </a:solidFill>
                <a:latin typeface="Gill Sans MT"/>
              </a:rPr>
              <a:t>Additional Per-site filtering may be required for security on aggregator rou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 </a:t>
            </a:r>
            <a:r>
              <a:rPr b="0" lang="en-US" sz="1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This will ensure only allowed specific routes or traffic is shared according to pre-arranged agreements with the participating institution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43208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 and Discussion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32080" y="1849320"/>
            <a:ext cx="7407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43208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ank You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32080" y="1849320"/>
            <a:ext cx="7407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kground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hana Academic and Research Network (GARNE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aunched in 2006 AAU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iginal idea to get VCG to act as govern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allenges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CG did not sign M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ollective purchase of band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haring of research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ollaboration between researchers from different instit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nimum human network between “member” instit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cent Activitie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" y="1371600"/>
            <a:ext cx="784872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managers met at University of Legon to start the human network despite the fact that VCs had not signed the M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eting to elect interim execu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P Pres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garnet.edu.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orum@garnet.edu.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twork Startup Resource Center (NSRC) donate HP4000 managed swi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lanned Activitie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ablish the Governance Structures of GA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sure the registration of GARNET as a legal entity in accordance with the Laws of Gh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ablish GARNET Secretariat to manage the day- to-day activities of the Ghanaian National Research and Education Network (NR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and membership of GARNET to include all other tertiary and research instit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lanned Activitie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ology of the physical connections of the various institutions in GA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itiate discussions with VODAPONE on how the National Backbone may be used for the purpose of creating the physical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ARNET to become a Local Internet Registry (LIR), or at least get all members to subscribe to AfriNIC I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te and run at least one workshop for Campus Network Administrators in collaboration with the Network Startup Resource Center (nsrc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38080" y="250920"/>
            <a:ext cx="8096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State of National Backbone Infra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609588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urce : National Communications Backbone Company 2008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5257800" cy="38862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594360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6734160" y="1143000"/>
            <a:ext cx="21812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twork Proposal One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560052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twork Proposal Two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251480" cy="38098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4:53:38Z</dcterms:created>
  <dc:creator>tech</dc:creator>
  <dc:description/>
  <dc:language>en-US</dc:language>
  <cp:lastModifiedBy>Bejamin Eshun</cp:lastModifiedBy>
  <dcterms:modified xsi:type="dcterms:W3CDTF">2009-07-24T21:00:17Z</dcterms:modified>
  <cp:revision>25</cp:revision>
  <dc:subject/>
  <dc:title>Update on GHARNET</dc:title>
</cp:coreProperties>
</file>