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800" y="470736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0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8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4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9800" y="411120"/>
            <a:ext cx="860256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7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480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39800" y="470736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480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398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86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574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9800" y="411120"/>
            <a:ext cx="860256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7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480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9800" y="470736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480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7398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486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57400" y="4707360"/>
            <a:ext cx="2769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800" y="411120"/>
            <a:ext cx="860256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7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000" y="470736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800" y="4707360"/>
            <a:ext cx="8602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800" y="411120"/>
            <a:ext cx="86025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93600"/>
            <a:ext cx="10080720" cy="656604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60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39440" y="2099880"/>
            <a:ext cx="8604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76680" bIns="0" anchor="t">
            <a:normAutofit/>
          </a:bodyPr>
          <a:p>
            <a:pPr marL="343080" indent="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6160" y="62712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0584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Using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184896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ctr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x/IP Preparation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6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gene, Oregon,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6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6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1640" y="1968480"/>
            <a:ext cx="697104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9440" y="520200"/>
            <a:ext cx="8605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ke advantage of the command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7800" y="1994040"/>
            <a:ext cx="9144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mmand line in Unix is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much more powerfu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 than what you may be used to in Windows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You ca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...easily edit long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...find and recover pas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...quickly copy and paste comm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...auto-complete commands using the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tab key (in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bash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hell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9440" y="520200"/>
            <a:ext cx="8605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dit long com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7800" y="177768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n't touch that keyboard!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Arrow keys are sloooooow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lete with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Backspac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s &lt;ENTER&gt;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s soon as the command is correc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You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need to go to the end of the comm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“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history | grep st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then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!N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nstead of lots of up-arr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4763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520200"/>
            <a:ext cx="8605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 and recover past com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7800" y="1994040"/>
            <a:ext cx="9144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s noted on the previous slide. U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$ history | grep “command str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command number in resulting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the command by typing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$ !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to find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the ssh-keyg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mmand you typed “many” commands ago you could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$ history | grep ssh-ke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520200"/>
            <a:ext cx="8605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ckly copy and paste com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7800" y="1994040"/>
            <a:ext cx="9144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Unix/Linux once you highlight something it is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n your copy buff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copy/paste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ighlight text with left mouse cursor. It i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now copied (lik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ctrl-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n Window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ve mouse/cursor where you want (any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window), and press th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middl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us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button. This is paste (lik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ctrl-v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520200"/>
            <a:ext cx="8605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to-complete commands using t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7800" y="1994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Very, very, very pow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tab key is good”, “the tab key is my friend”, “press the tab key”, “press it again” - This is your mant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b works in th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shell. Note, th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r might not use the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shell by defau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9440" y="520200"/>
            <a:ext cx="860580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to-complete commands using t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7800" y="1922400"/>
            <a:ext cx="91425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re conce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nce you type something unique, press TAB. If nothing happens, press TAB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f text was unique text will auto-complet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 A command will complete, director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 name, file name, command parameters wil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 all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f not unique, press TAB twice. A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possibiliti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will be displ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Works with file types based on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ou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93680"/>
            <a:ext cx="89154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uld you choose to accept i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y close attention to options and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comm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 --hel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to figure out how each command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ommand line magic to save lots and lots and lots and lots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mand acts upon its parameters based on the options you give to the comman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format of a 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30040"/>
            <a:ext cx="86598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 algn="ctr">
              <a:lnSpc>
                <a:spcPct val="92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 Bold"/>
                <a:ea typeface="Courier New Bold"/>
              </a:rPr>
              <a:t>command [options]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ly, UNIX command-line options consist of a dash, followed by one or more lowercase letters. The GNU utilities added a double-dash, followed by a complete word or compound wor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very typical examp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and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030040"/>
            <a:ext cx="86598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 algn="ctr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what the comman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cts 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re are multipl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nix UPPERCASE and lowercase for both options and parameters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___ are ___ critical 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urier New Bold"/>
                <a:ea typeface="Courier New Bold"/>
              </a:rPr>
              <a:t>-- hel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is wro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urier New Bold"/>
                <a:ea typeface="Courier New Bold"/>
              </a:rPr>
              <a:t>--hel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is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60360" y="5181120"/>
            <a:ext cx="1800" cy="6159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command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30040"/>
            <a:ext cx="865980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 algn="ctr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's start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of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of files in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g listing 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1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of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l files in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g listing format 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an-readable file sizes: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a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gu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command example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30040"/>
            <a:ext cx="914400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 algn="ctr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quivalent ways to do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al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1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 -a -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1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 --all –human-re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hat there is no double-dash option for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-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. You can figure this out by ty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by ty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-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ere's the parame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30040"/>
            <a:ext cx="914400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typed the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command with several options, but no parameter. Do you think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uses a par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the parameter for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“.”  -- our current dire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 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a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'll discuss files and directories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disconcerting Unix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030400"/>
            <a:ext cx="86598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command executes successfully there is no output returned from the command execution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is is normal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is, if you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p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sult is that you get your command prompt back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hing means succ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's give this a tr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disconcerting Unix feature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30040"/>
            <a:ext cx="8915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doing the following on your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d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8000"/>
                </a:solidFill>
                <a:latin typeface="Arial"/>
              </a:rPr>
              <a:t>[cd = change di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 touch file1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8000"/>
                </a:solidFill>
                <a:latin typeface="Arial"/>
              </a:rPr>
              <a:t>[touch = create/updat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p file1 file2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8000"/>
                </a:solidFill>
                <a:latin typeface="Arial"/>
              </a:rPr>
              <a:t>[cp = cop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“$” indicates the command prompt for a normal user. A “#” usually means you are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483840"/>
            <a:ext cx="86058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pi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30040"/>
            <a:ext cx="891540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Unix it is very easy to use the result of one command as the input for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do this we use the pipe symbol “|”. For 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4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 /sbin | s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 /sbin | sort |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will these commands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59640" y="7128000"/>
            <a:ext cx="1560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18T21:49:59Z</dcterms:modified>
  <cp:revision>37</cp:revision>
  <dc:subject/>
  <dc:title/>
</cp:coreProperties>
</file>