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75863" cy="7562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728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88185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0720" y="3866760"/>
            <a:ext cx="88185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0720" y="38667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9800" y="38667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2240" y="12603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4120" y="12603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0720" y="38667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2240" y="38667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4120" y="38667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0720" y="1260360"/>
            <a:ext cx="8818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8818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72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0720" y="38667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9800" y="38667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0720" y="3866760"/>
            <a:ext cx="88185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0360"/>
            <a:ext cx="10080720" cy="6303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0720" y="1260360"/>
            <a:ext cx="8818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12360" y="7236000"/>
            <a:ext cx="14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nsrc@summer worksh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eugene, oreg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Unix/IP Preparation Cours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4520" y="1263240"/>
            <a:ext cx="86058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uly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ugene, Oregon, US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ervey@nsr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evev@uoregon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5920" y="6066000"/>
            <a:ext cx="6970680" cy="104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675640" y="7236000"/>
            <a:ext cx="1260360" cy="3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1007424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Class Schedul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1711440"/>
            <a:ext cx="876924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0" anchor="t">
            <a:normAutofit/>
          </a:bodyPr>
          <a:p>
            <a:pPr lvl="1" marL="861840" indent="0">
              <a:lnSpc>
                <a:spcPct val="93000"/>
              </a:lnSpc>
              <a:buNone/>
              <a:tabLst>
                <a:tab algn="l" pos="0"/>
                <a:tab algn="l" pos="861840"/>
                <a:tab algn="l" pos="1319040"/>
                <a:tab algn="l" pos="2233440"/>
                <a:tab algn="l" pos="3147840"/>
                <a:tab algn="l" pos="4062240"/>
                <a:tab algn="l" pos="4976640"/>
                <a:tab algn="l" pos="5891040"/>
                <a:tab algn="l" pos="6805440"/>
                <a:tab algn="l" pos="7719840"/>
                <a:tab algn="l" pos="8634240"/>
                <a:tab algn="l" pos="9548640"/>
                <a:tab algn="l" pos="1046304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2233440"/>
                <a:tab algn="l" pos="3147840"/>
                <a:tab algn="l" pos="4062240"/>
                <a:tab algn="l" pos="4976640"/>
                <a:tab algn="l" pos="5891040"/>
                <a:tab algn="l" pos="6805440"/>
                <a:tab algn="l" pos="7719840"/>
                <a:tab algn="l" pos="8634240"/>
                <a:tab algn="l" pos="9548640"/>
                <a:tab algn="l" pos="1046304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900-103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ssio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2233440"/>
                <a:tab algn="l" pos="3147840"/>
                <a:tab algn="l" pos="4062240"/>
                <a:tab algn="l" pos="4976640"/>
                <a:tab algn="l" pos="5891040"/>
                <a:tab algn="l" pos="6805440"/>
                <a:tab algn="l" pos="7719840"/>
                <a:tab algn="l" pos="8634240"/>
                <a:tab algn="l" pos="9548640"/>
                <a:tab algn="l" pos="10463040"/>
                <a:tab algn="l" pos="1078236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030-1100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2233440"/>
                <a:tab algn="l" pos="3147840"/>
                <a:tab algn="l" pos="4062240"/>
                <a:tab algn="l" pos="4976640"/>
                <a:tab algn="l" pos="5891040"/>
                <a:tab algn="l" pos="6805440"/>
                <a:tab algn="l" pos="7719840"/>
                <a:tab algn="l" pos="8634240"/>
                <a:tab algn="l" pos="9548640"/>
                <a:tab algn="l" pos="1046304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00-123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ssio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2233440"/>
                <a:tab algn="l" pos="3147840"/>
                <a:tab algn="l" pos="4062240"/>
                <a:tab algn="l" pos="4976640"/>
                <a:tab algn="l" pos="5891040"/>
                <a:tab algn="l" pos="6805440"/>
                <a:tab algn="l" pos="7719840"/>
                <a:tab algn="l" pos="8634240"/>
                <a:tab algn="l" pos="9548640"/>
                <a:tab algn="l" pos="10463040"/>
                <a:tab algn="l" pos="1078236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230-1330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2233440"/>
                <a:tab algn="l" pos="3147840"/>
                <a:tab algn="l" pos="4062240"/>
                <a:tab algn="l" pos="4976640"/>
                <a:tab algn="l" pos="5891040"/>
                <a:tab algn="l" pos="6805440"/>
                <a:tab algn="l" pos="7719840"/>
                <a:tab algn="l" pos="8634240"/>
                <a:tab algn="l" pos="9548640"/>
                <a:tab algn="l" pos="1046304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30-15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ssion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2233440"/>
                <a:tab algn="l" pos="3147840"/>
                <a:tab algn="l" pos="4062240"/>
                <a:tab algn="l" pos="4976640"/>
                <a:tab algn="l" pos="5891040"/>
                <a:tab algn="l" pos="6805440"/>
                <a:tab algn="l" pos="7719840"/>
                <a:tab algn="l" pos="8634240"/>
                <a:tab algn="l" pos="9548640"/>
                <a:tab algn="l" pos="10463040"/>
                <a:tab algn="l" pos="1078236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500-1530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1319040"/>
                <a:tab algn="l" pos="2233440"/>
                <a:tab algn="l" pos="3147840"/>
                <a:tab algn="l" pos="4062240"/>
                <a:tab algn="l" pos="4976640"/>
                <a:tab algn="l" pos="5891040"/>
                <a:tab algn="l" pos="6805440"/>
                <a:tab algn="l" pos="7719840"/>
                <a:tab algn="l" pos="8634240"/>
                <a:tab algn="l" pos="9548640"/>
                <a:tab algn="l" pos="1046304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30-170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ssion IV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1007424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Class Schedul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368360"/>
            <a:ext cx="8820000" cy="581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vailable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nsrc.org/workshops/2009/summer/unix-ip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SSIO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roduction to Unix: The Basic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ssions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SSION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rminals and Cons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SSION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CP/IP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SSION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 Performance Metrics /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1007424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882000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dcterms:modified xsi:type="dcterms:W3CDTF">2009-07-19T00:35:40Z</dcterms:modified>
  <cp:revision>87</cp:revision>
  <dc:subject/>
  <dc:title/>
</cp:coreProperties>
</file>