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480" y="812520"/>
            <a:ext cx="531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20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7680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2"/>
          </p:nvPr>
        </p:nvSpPr>
        <p:spPr>
          <a:xfrm>
            <a:off x="4276800" y="10158480"/>
            <a:ext cx="32464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CFD3-AC5D-40C4-A2D9-35BD7E2E571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CCB80-3ECE-4FC0-9EA2-7680A3E486DA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1104840" y="81288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08E42-5852-48D9-8341-A6F47F08A4C1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CEE81-4A24-45C3-B485-9E307DF8B32E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8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B538A-A22C-4AE0-BDEB-064786F54ECA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406E7-BE25-4948-8337-B6E37471DD6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3947B-FF23-4344-9C91-6B4EEF2402D4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4840" y="812880"/>
            <a:ext cx="53420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D7D22-C47F-431B-BF68-BE25430001E5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8C1DF-6FED-4DF7-A6CE-A9B770703EAC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75762-F018-4AA1-BBF0-7365B36EF2C9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204C-E7B5-4683-8878-E6707D58F7D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0A49-EC4A-4FF0-9677-50B700C7B203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A16B-9AE8-4CDA-A6FE-F495DFAD5AA7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812880"/>
            <a:ext cx="5329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9CEE5-3538-4FEE-A02E-B023B2F2596B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3104-DC4B-4B80-A361-AE3331289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8174-1E4C-4639-98BD-7362D9E98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8B19-5273-4E68-8607-2D49C8497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6184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93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7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6184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6193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DD70-D6A4-48D9-B9B5-03B17C36D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51E8-5435-41B2-8AD5-4113EEF53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E257-36D9-4EDB-8C93-9F095BE02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68EE-1A81-43CE-A683-6B065FA1D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59EA-78C8-4210-9C9A-FC9D32BDF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4360" y="135000"/>
            <a:ext cx="8285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6A2E-3E07-421E-BDEE-A1ACE17E3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5354-3FD0-4599-B9C2-9D77611EC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91B6-433E-4B34-906A-60D5655A2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5110-132D-4BF7-A10F-D1B0051B5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24480" y="6887880"/>
            <a:ext cx="2322360" cy="484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A671-8FCC-43F3-8C40-3ACF6BF0DA6D}" type="slidenum">
              <a: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71560" cy="1425600"/>
            <a:chOff x="8988480" y="168120"/>
            <a:chExt cx="871560" cy="142560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676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676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2520" y="3524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676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252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8280" y="538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676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2520" y="72396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676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252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8280" y="90648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22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676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2520" y="109224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676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252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252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053560" y="473040"/>
            <a:ext cx="64908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550800"/>
            <a:ext cx="9072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300" spc="-1" strike="noStrike">
                <a:solidFill>
                  <a:srgbClr val="330066"/>
                </a:solidFill>
                <a:latin typeface="Arial"/>
              </a:rPr>
              <a:t>KE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330066"/>
                </a:solidFill>
                <a:uFillTx/>
                <a:latin typeface="Arial"/>
              </a:rPr>
              <a:t>Kenya Education Network 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National Research and Education Network for Keny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evin G. Chege</a:t>
            </a:r>
            <a:br>
              <a:rPr sz="22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chege@kenet.or.ke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08000" y="3822840"/>
            <a:ext cx="907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Previous Bandwidth capacity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Uplink - 1Mb via Intelsat and 3Mb via Jambonet (Local Telco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ownlink – 3Mb via Jambonet and 1.8Mb via Intelsat burstible to 2.4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rger Universities have their own VSAT downlinks via Intels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7Mb downlink shared from Intelsat to different geographic locations – Nairobi, Eldoret, Nak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ose outside Nairobi uplink via Jambo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e dedicated Intelsat bandwidth is 5.7Mb and the rest is a shared bu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Bandwidth Cost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AT – Intelsat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costs about $1 for 2.3Kbps or $2,330 for 1Mb/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mmercial rate for that would be $3,000 for 1Mb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ease line via Jambonet– Approximately $6 per kilobit or $1 for 170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egotiated from commercial rate of $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ot 1:1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savings all gained by member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Early problem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063000" cy="62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policy both at KENET and at member institutions to govern 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own infrastructure hence relying on other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qualified technical staff at several member institu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st of bandwidth and bandwidth mis-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a result of lack of trained staff some networks were/are poorly set up eg no proxy server for 20+ machines and IP addresses sometimes get black listed for spamming,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05-2006, complaints were made to KENET concerning poor service. The already low capacity bandwidth were unusable for most institutions due to clogged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out case study solutions at: http://wiki.bwm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4720" y="1350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KENET Memb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2040" y="1112760"/>
          <a:ext cx="8820360" cy="6091200"/>
        </p:xfrm>
        <a:graphic>
          <a:graphicData uri="http://schemas.openxmlformats.org/drawingml/2006/table">
            <a:tbl>
              <a:tblPr/>
              <a:tblGrid>
                <a:gridCol w="3529080"/>
                <a:gridCol w="880920"/>
                <a:gridCol w="2814840"/>
                <a:gridCol w="159552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tion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enrollm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and 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technic Universit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egree Tertiar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and International research instit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 full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but in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memb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 of KE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ET consortium 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940040"/>
            <a:ext cx="90457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400" y="1857240"/>
            <a:ext cx="4705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ogle partn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C84A-B00B-4217-80E7-915291A9B54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2960" y="1440000"/>
            <a:ext cx="9239400" cy="54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64880" y="1427040"/>
            <a:ext cx="336924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KENET / Google Partnership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95D9A-9CBA-47D5-8254-FC35A7327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Value Proposition of KENET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95520"/>
            <a:ext cx="89884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 Bandwidth and leased lines? 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1:1 ratio, best price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Consortium power in bandwidth and computer purchases? 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s and connections to other RENs  and partnerships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601"/>
              </a:spcBef>
              <a:spcAft>
                <a:spcPts val="19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utonomous System Number as an NREN, IP address block , routing and layer 3 services ; Google partnership, Ubuntunet Alliance etc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C9DB5-341A-47D2-A1E8-A255E87D6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0200" y="1319040"/>
            <a:ext cx="5029200" cy="552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00" y="2174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buntuNet Alliance – A regional REN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17F34-BADC-4986-A3B3-8D1C786FB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95440" y="2858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Example: UbuntuNet today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944720" y="2668680"/>
            <a:ext cx="2539800" cy="87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1081080"/>
            <a:ext cx="5160960" cy="143208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96920" y="3859200"/>
            <a:ext cx="1724040" cy="793800"/>
          </a:xfrm>
          <a:prstGeom prst="wedgeRoundRectCallout">
            <a:avLst>
              <a:gd name="adj1" fmla="val 69453"/>
              <a:gd name="adj2" fmla="val -42347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Submarine cable circuts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57520" y="2031480"/>
            <a:ext cx="476280" cy="876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03520" y="2111400"/>
            <a:ext cx="637920" cy="7970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2141640" y="1509840"/>
            <a:ext cx="1724040" cy="587160"/>
          </a:xfrm>
          <a:prstGeom prst="pie">
            <a:avLst/>
          </a:prstGeom>
          <a:solidFill>
            <a:srgbClr val="3366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Géan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976480" y="4970520"/>
            <a:ext cx="2063880" cy="127008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929040" y="5049720"/>
            <a:ext cx="43200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9" name=""/>
          <p:cNvSpPr/>
          <p:nvPr/>
        </p:nvSpPr>
        <p:spPr>
          <a:xfrm>
            <a:off x="2500200" y="3224160"/>
            <a:ext cx="1428840" cy="198432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0" name=""/>
          <p:cNvSpPr/>
          <p:nvPr/>
        </p:nvSpPr>
        <p:spPr>
          <a:xfrm>
            <a:off x="2260440" y="2827440"/>
            <a:ext cx="43344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118120" y="2906640"/>
            <a:ext cx="2222640" cy="1111320"/>
          </a:xfrm>
          <a:prstGeom prst="wedgeRoundRectCallout">
            <a:avLst>
              <a:gd name="adj1" fmla="val 74921"/>
              <a:gd name="adj2" fmla="val -186342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VSAT connection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GRE tunnel to Ubuntu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74644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itstream Vera Sans"/>
              </a:rPr>
              <a:t>UbuntuNet, Londo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3036960" y="544824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buntuNet, Johannesburg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276120" y="4890960"/>
            <a:ext cx="1903680" cy="1349640"/>
          </a:xfrm>
          <a:prstGeom prst="pie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TENET/ SANRe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5" name=""/>
          <p:cNvSpPr/>
          <p:nvPr/>
        </p:nvSpPr>
        <p:spPr>
          <a:xfrm>
            <a:off x="5675400" y="576432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Lesotho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340760" y="4494240"/>
            <a:ext cx="23032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Swaziland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5288040"/>
            <a:ext cx="1825560" cy="23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25760" y="4772160"/>
            <a:ext cx="3015000" cy="35712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7818480" y="5605560"/>
            <a:ext cx="19828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MoR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325760" y="5129280"/>
            <a:ext cx="3730680" cy="71424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325760" y="5288040"/>
            <a:ext cx="1587600" cy="63504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15880" y="639936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Namibia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1944720" y="5367240"/>
            <a:ext cx="1984320" cy="111132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70360" y="1158480"/>
            <a:ext cx="241560" cy="167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37080" y="1158480"/>
            <a:ext cx="2936880" cy="399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213760" y="1081080"/>
            <a:ext cx="318960" cy="15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781760" y="2746440"/>
            <a:ext cx="1746360" cy="103176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K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8" name=""/>
          <p:cNvSpPr/>
          <p:nvPr/>
        </p:nvSpPr>
        <p:spPr>
          <a:xfrm>
            <a:off x="1414440" y="1279440"/>
            <a:ext cx="4022640" cy="833400"/>
          </a:xfrm>
          <a:prstGeom prst="pie">
            <a:avLst/>
          </a:prstGeom>
          <a:noFill/>
          <a:ln w="57240">
            <a:solidFill>
              <a:srgbClr val="ff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16320" y="1557360"/>
            <a:ext cx="322200" cy="23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TCIP Projec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90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ject to improve bandwidth access for Higher Education Institutions in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ll upgrade Number of POPs to six across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ase total bandwidth to 200Mbp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local infrastructure to leased fiber to at least half of 62 participating institution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all POPs to high standard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ll a main Data Center in Nairobi to provide top IT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POPs will be ready to receive Fiber when Kenya's fiber network will be complete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es will be leased but provider will be tied to hard SL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270000"/>
            <a:ext cx="702288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he project so far....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43280"/>
            <a:ext cx="86868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87480"/>
            <a:ext cx="8286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hanges?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3920" cy="485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eed to change the IGP and improve the BG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Universities and get help them organise their networks, some still have daisy chai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Layer 1 provider, current fiber is dropping packets, jitter. Might not be well d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t STP running on the switch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93720"/>
            <a:ext cx="83152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Thank you!</a:t>
            </a:r>
            <a:br>
              <a:rPr sz="4300"/>
            </a:br>
            <a:br>
              <a:rPr sz="4300"/>
            </a:br>
            <a:r>
              <a:rPr b="1" lang="en-GB" sz="2400" spc="-1" strike="noStrike">
                <a:solidFill>
                  <a:srgbClr val="330066"/>
                </a:solidFill>
                <a:latin typeface="Arial"/>
              </a:rPr>
              <a:t>http://www.kenet.or.ke</a:t>
            </a: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Questions, Comments..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4720" y="135000"/>
            <a:ext cx="8286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vernance and Operation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36600" y="1679400"/>
            <a:ext cx="950436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nya Education Network Trust (KENET)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Trustees -  5 VCs, MD of Telkom Kenya, DG of CCK, PS, Education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Management Board representing Trustee VCs and research institutions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(ICT directors or senior ICT faculty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Secretariat with a CEO “donated” by a member university (USIU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icensed as Alternative Networks Operator by CCK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ll license fees waived by the regulator since inception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International gateway license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s Internet services in partnership with commercial operato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2 member institutions; 130,000 students + 17,000 staff membe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oli Kashorda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4645E-2789-4EC3-AD6B-027CE02EE9D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 Accession Project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Secretaria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IT professionals permanent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2 to 3 IT Interns at any one time from member universiti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accountant and one administrator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CEO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ysically hosted by the University of Nairobi in the Jomo Kenyatta Memorial Library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ving to USIU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472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What KENET offers to member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ndwidth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4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t negotiated pric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s – mail hosting, backup, web hosting, setting up of custom servers, DNS Record hosting, monitoring for all connected host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er co-locatio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chnical training of member technical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 algn="just">
              <a:lnSpc>
                <a:spcPct val="98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Bandwidth management training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support and desig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Current KENET NoC 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700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e NoC in Nairobi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l services running on open source  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isco routers used for routing, BGP sessions with both uplink providers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ocates some elearning server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17484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NoC cont'd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309600" y="16002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osting the mirror.ac.ke  which contains FOSS software available for free download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cognised by OpenOffice.org as the mirror for Kenya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vides link to KIXP to improve access to local sites (18 Mb/s)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his link to KIXP also provides access to Google Apps Gmail accounts for Universitie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eb hosting and Email hosting for several Universities and institution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1320" y="2971800"/>
            <a:ext cx="8302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Early Network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Infrastructure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92040" y="1417680"/>
            <a:ext cx="90630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atellite bandwidth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ccess via local leased lines connected directly to Jambonet (Internet services operator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In some case DVB satellite with uplink via KENET POPs or Jambonet POP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tribution Infrastructure used local leased lin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 control – network owned by the Telcom and they offer no SLA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IXP and some campuses connected using wireless link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t viable for far away institution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st mile for 4 member institutions via digital microwave radio installed in Telkom network in year 2002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Moi, JKUAT, ANU, Baraton,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ee PoPs with VSAT nodes in Nairobi, Nakuru, Eldoret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10-05T14:44:33Z</dcterms:modified>
  <cp:revision>16</cp:revision>
  <dc:subject/>
  <dc:title>Bandwidth Optimisation in Low Capacity Networks  Case studies o</dc:title>
</cp:coreProperties>
</file>