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wmf" ContentType="image/x-wmf"/>
  <Override PartName="/ppt/media/image9.jpeg" ContentType="image/jpeg"/>
  <Override PartName="/ppt/media/image10.jpeg" ContentType="image/jpeg"/>
  <Override PartName="/ppt/media/image1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CE39-3631-4C9D-9C60-3B32B08AA86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943B-E70B-4934-83E1-B21F94B97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8DA9-E1BC-4FD2-B598-4D9DEBC8A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E0CF-049F-45A5-BB25-D241E3B20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58DD-E85F-4E16-935B-34EBFAB6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F529-D8DA-4ACA-BD35-1ED88AD8C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2E33-3D99-47D5-9329-2299A83BF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3C02-DB71-4B01-B060-8F7B9768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BD5A-007B-471D-A675-8D829637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9C96-0029-493D-BDB6-F734879A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B05F-DF1C-40F1-95F2-D8309AE1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FD5E-7090-4FB8-957B-EE136F08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7325-C171-4415-9C54-55200B42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9C9A-33F6-4A85-95E6-4BE4903C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4040-3B69-4ACF-841D-AFB64C27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2B2E-472A-45A2-AC06-2A27F791E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uctured Network Cabl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S 399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y 1, Morning Sess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1600200" y="3809880"/>
            <a:ext cx="5867280" cy="16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le Sm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Oregon &amp; NS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smith@uoregon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ing Fast on Fi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 mode Fi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2.5 mic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Gbs to 50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Gbs to 22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 micron laser optim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Gbs to 50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Gbs to 30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mode Fi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Gbs to 70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Gbs to 70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bout Going Even Fas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ersion becomes your enemy at 10Gbs and above (40 and 100Gbs very h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single mode fiber has disp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atic Dispersion (CD)  Even slightly different colors of light travel different sp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arization Mode Dispersion (PMD) Slight variations from true roundness causes differently polarized light to travel different dista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olution Today is W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e Division Multiplexing (WD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visioning multiple Gigabit or 10 Gigabit using different colors of ligh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arse (CWDM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ewer waves, low co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310nm frequency spectru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t suitable for amplification – short haul (70km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nse (DWDM)  more wav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re waves, higher co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550nm frequency spectru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itable for EDFA amplification – long haul (1000s of km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DM Simple Single Sp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10"/>
          <p:cNvSpPr/>
          <p:nvPr/>
        </p:nvSpPr>
        <p:spPr>
          <a:xfrm>
            <a:off x="2057400" y="2424240"/>
            <a:ext cx="1295280" cy="14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12"/>
          <p:cNvSpPr/>
          <p:nvPr/>
        </p:nvSpPr>
        <p:spPr>
          <a:xfrm>
            <a:off x="5616720" y="2424240"/>
            <a:ext cx="1469880" cy="2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13"/>
          <p:cNvSpPr/>
          <p:nvPr/>
        </p:nvSpPr>
        <p:spPr>
          <a:xfrm>
            <a:off x="2057400" y="2662200"/>
            <a:ext cx="1219320" cy="46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4"/>
          <p:cNvSpPr/>
          <p:nvPr/>
        </p:nvSpPr>
        <p:spPr>
          <a:xfrm>
            <a:off x="5616720" y="2662200"/>
            <a:ext cx="1469880" cy="3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15"/>
          <p:cNvSpPr/>
          <p:nvPr/>
        </p:nvSpPr>
        <p:spPr>
          <a:xfrm flipV="1">
            <a:off x="2057400" y="2895480"/>
            <a:ext cx="1219320" cy="5040"/>
          </a:xfrm>
          <a:prstGeom prst="line">
            <a:avLst/>
          </a:prstGeom>
          <a:ln w="38160">
            <a:solidFill>
              <a:srgbClr val="00b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16"/>
          <p:cNvSpPr/>
          <p:nvPr/>
        </p:nvSpPr>
        <p:spPr>
          <a:xfrm>
            <a:off x="5616720" y="2900520"/>
            <a:ext cx="1469880" cy="2880"/>
          </a:xfrm>
          <a:prstGeom prst="line">
            <a:avLst/>
          </a:prstGeom>
          <a:ln w="38160">
            <a:solidFill>
              <a:srgbClr val="00b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17"/>
          <p:cNvSpPr/>
          <p:nvPr/>
        </p:nvSpPr>
        <p:spPr>
          <a:xfrm flipV="1">
            <a:off x="2057400" y="3124080"/>
            <a:ext cx="1295280" cy="14400"/>
          </a:xfrm>
          <a:prstGeom prst="line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traight Connector 18"/>
          <p:cNvSpPr/>
          <p:nvPr/>
        </p:nvSpPr>
        <p:spPr>
          <a:xfrm>
            <a:off x="5616720" y="3138480"/>
            <a:ext cx="1469880" cy="3240"/>
          </a:xfrm>
          <a:prstGeom prst="line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4"/>
          <p:cNvSpPr/>
          <p:nvPr/>
        </p:nvSpPr>
        <p:spPr>
          <a:xfrm>
            <a:off x="3527280" y="2662200"/>
            <a:ext cx="2089440" cy="238320"/>
          </a:xfrm>
          <a:prstGeom prst="rect">
            <a:avLst/>
          </a:prstGeom>
          <a:solidFill>
            <a:srgbClr val="f9a5f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Isosceles Triangle 4"/>
          <p:cNvSpPr/>
          <p:nvPr/>
        </p:nvSpPr>
        <p:spPr>
          <a:xfrm flipH="1" flipV="1" rot="5400000">
            <a:off x="2457720" y="2665440"/>
            <a:ext cx="1905120" cy="2314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Isosceles Triangle 5"/>
          <p:cNvSpPr/>
          <p:nvPr/>
        </p:nvSpPr>
        <p:spPr>
          <a:xfrm rot="5400000">
            <a:off x="4779360" y="2665440"/>
            <a:ext cx="1905120" cy="2314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5"/>
          <p:cNvSpPr/>
          <p:nvPr/>
        </p:nvSpPr>
        <p:spPr>
          <a:xfrm>
            <a:off x="1219320" y="236232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2"/>
          <p:cNvSpPr/>
          <p:nvPr/>
        </p:nvSpPr>
        <p:spPr>
          <a:xfrm>
            <a:off x="1219320" y="259092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3"/>
          <p:cNvSpPr/>
          <p:nvPr/>
        </p:nvSpPr>
        <p:spPr>
          <a:xfrm>
            <a:off x="1219320" y="281952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4"/>
          <p:cNvSpPr/>
          <p:nvPr/>
        </p:nvSpPr>
        <p:spPr>
          <a:xfrm>
            <a:off x="1219320" y="304812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5"/>
          <p:cNvSpPr/>
          <p:nvPr/>
        </p:nvSpPr>
        <p:spPr>
          <a:xfrm>
            <a:off x="7086600" y="236232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6"/>
          <p:cNvSpPr/>
          <p:nvPr/>
        </p:nvSpPr>
        <p:spPr>
          <a:xfrm>
            <a:off x="7086600" y="259092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7"/>
          <p:cNvSpPr/>
          <p:nvPr/>
        </p:nvSpPr>
        <p:spPr>
          <a:xfrm>
            <a:off x="7086600" y="281952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8"/>
          <p:cNvSpPr/>
          <p:nvPr/>
        </p:nvSpPr>
        <p:spPr>
          <a:xfrm>
            <a:off x="7086600" y="304812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0"/>
          <p:cNvSpPr/>
          <p:nvPr/>
        </p:nvSpPr>
        <p:spPr>
          <a:xfrm>
            <a:off x="3809880" y="22860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Fi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54"/>
          <p:cNvSpPr/>
          <p:nvPr/>
        </p:nvSpPr>
        <p:spPr>
          <a:xfrm>
            <a:off x="2057400" y="4557600"/>
            <a:ext cx="146988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55"/>
          <p:cNvSpPr/>
          <p:nvPr/>
        </p:nvSpPr>
        <p:spPr>
          <a:xfrm flipV="1">
            <a:off x="5791320" y="4559040"/>
            <a:ext cx="1295280" cy="12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56"/>
          <p:cNvSpPr/>
          <p:nvPr/>
        </p:nvSpPr>
        <p:spPr>
          <a:xfrm>
            <a:off x="2057400" y="4795920"/>
            <a:ext cx="1469880" cy="144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57"/>
          <p:cNvSpPr/>
          <p:nvPr/>
        </p:nvSpPr>
        <p:spPr>
          <a:xfrm flipV="1">
            <a:off x="5791320" y="4797000"/>
            <a:ext cx="1295280" cy="324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58"/>
          <p:cNvSpPr/>
          <p:nvPr/>
        </p:nvSpPr>
        <p:spPr>
          <a:xfrm>
            <a:off x="2057400" y="5033880"/>
            <a:ext cx="1469880" cy="1800"/>
          </a:xfrm>
          <a:prstGeom prst="line">
            <a:avLst/>
          </a:prstGeom>
          <a:ln w="38160">
            <a:solidFill>
              <a:srgbClr val="00b05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59"/>
          <p:cNvSpPr/>
          <p:nvPr/>
        </p:nvSpPr>
        <p:spPr>
          <a:xfrm>
            <a:off x="5791320" y="5029200"/>
            <a:ext cx="1295280" cy="6480"/>
          </a:xfrm>
          <a:prstGeom prst="line">
            <a:avLst/>
          </a:prstGeom>
          <a:ln w="38160">
            <a:solidFill>
              <a:srgbClr val="00b05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60"/>
          <p:cNvSpPr/>
          <p:nvPr/>
        </p:nvSpPr>
        <p:spPr>
          <a:xfrm>
            <a:off x="2057400" y="5272200"/>
            <a:ext cx="1469880" cy="1440"/>
          </a:xfrm>
          <a:prstGeom prst="line">
            <a:avLst/>
          </a:prstGeom>
          <a:ln w="38160">
            <a:solidFill>
              <a:srgbClr val="0070c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61"/>
          <p:cNvSpPr/>
          <p:nvPr/>
        </p:nvSpPr>
        <p:spPr>
          <a:xfrm>
            <a:off x="5791320" y="5257800"/>
            <a:ext cx="1295280" cy="15840"/>
          </a:xfrm>
          <a:prstGeom prst="line">
            <a:avLst/>
          </a:prstGeom>
          <a:ln w="38160">
            <a:solidFill>
              <a:srgbClr val="0070c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2"/>
          <p:cNvSpPr/>
          <p:nvPr/>
        </p:nvSpPr>
        <p:spPr>
          <a:xfrm>
            <a:off x="3527280" y="4795920"/>
            <a:ext cx="2089440" cy="237960"/>
          </a:xfrm>
          <a:prstGeom prst="rect">
            <a:avLst/>
          </a:prstGeom>
          <a:solidFill>
            <a:srgbClr val="f9a5f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Isosceles Triangle 4"/>
          <p:cNvSpPr/>
          <p:nvPr/>
        </p:nvSpPr>
        <p:spPr>
          <a:xfrm flipH="1" flipV="1" rot="5400000">
            <a:off x="2458080" y="4798440"/>
            <a:ext cx="1904760" cy="2314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Isosceles Triangle 64"/>
          <p:cNvSpPr/>
          <p:nvPr/>
        </p:nvSpPr>
        <p:spPr>
          <a:xfrm rot="5400000">
            <a:off x="4779720" y="4799160"/>
            <a:ext cx="1904760" cy="2314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6"/>
          <p:cNvSpPr/>
          <p:nvPr/>
        </p:nvSpPr>
        <p:spPr>
          <a:xfrm>
            <a:off x="1219320" y="449568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7"/>
          <p:cNvSpPr/>
          <p:nvPr/>
        </p:nvSpPr>
        <p:spPr>
          <a:xfrm>
            <a:off x="1219320" y="472428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8"/>
          <p:cNvSpPr/>
          <p:nvPr/>
        </p:nvSpPr>
        <p:spPr>
          <a:xfrm>
            <a:off x="1219320" y="495288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9"/>
          <p:cNvSpPr/>
          <p:nvPr/>
        </p:nvSpPr>
        <p:spPr>
          <a:xfrm>
            <a:off x="1219320" y="518148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0"/>
          <p:cNvSpPr/>
          <p:nvPr/>
        </p:nvSpPr>
        <p:spPr>
          <a:xfrm>
            <a:off x="7086600" y="449568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1"/>
          <p:cNvSpPr/>
          <p:nvPr/>
        </p:nvSpPr>
        <p:spPr>
          <a:xfrm>
            <a:off x="7086600" y="472428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52"/>
          <p:cNvSpPr/>
          <p:nvPr/>
        </p:nvSpPr>
        <p:spPr>
          <a:xfrm>
            <a:off x="7086600" y="495288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53"/>
          <p:cNvSpPr/>
          <p:nvPr/>
        </p:nvSpPr>
        <p:spPr>
          <a:xfrm>
            <a:off x="7086600" y="518148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4"/>
          <p:cNvSpPr/>
          <p:nvPr/>
        </p:nvSpPr>
        <p:spPr>
          <a:xfrm>
            <a:off x="3809880" y="44197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Fi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1"/>
          <p:cNvSpPr/>
          <p:nvPr/>
        </p:nvSpPr>
        <p:spPr>
          <a:xfrm>
            <a:off x="5334120" y="2819520"/>
            <a:ext cx="1098360" cy="237960"/>
          </a:xfrm>
          <a:prstGeom prst="rect">
            <a:avLst/>
          </a:prstGeom>
          <a:solidFill>
            <a:srgbClr val="f9a5f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2"/>
          <p:cNvSpPr/>
          <p:nvPr/>
        </p:nvSpPr>
        <p:spPr>
          <a:xfrm>
            <a:off x="3886200" y="2819520"/>
            <a:ext cx="1295280" cy="237960"/>
          </a:xfrm>
          <a:prstGeom prst="rect">
            <a:avLst/>
          </a:prstGeom>
          <a:solidFill>
            <a:srgbClr val="f9a5f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cal Add Drop Multiplex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28"/>
          <p:cNvSpPr/>
          <p:nvPr/>
        </p:nvSpPr>
        <p:spPr>
          <a:xfrm>
            <a:off x="1165320" y="2576520"/>
            <a:ext cx="1295280" cy="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29"/>
          <p:cNvSpPr/>
          <p:nvPr/>
        </p:nvSpPr>
        <p:spPr>
          <a:xfrm>
            <a:off x="6400800" y="2576520"/>
            <a:ext cx="1469880" cy="3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30"/>
          <p:cNvSpPr/>
          <p:nvPr/>
        </p:nvSpPr>
        <p:spPr>
          <a:xfrm>
            <a:off x="1165320" y="2814480"/>
            <a:ext cx="1218960" cy="50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31"/>
          <p:cNvSpPr/>
          <p:nvPr/>
        </p:nvSpPr>
        <p:spPr>
          <a:xfrm>
            <a:off x="6400800" y="2814480"/>
            <a:ext cx="1469880" cy="3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32"/>
          <p:cNvSpPr/>
          <p:nvPr/>
        </p:nvSpPr>
        <p:spPr>
          <a:xfrm flipV="1">
            <a:off x="1165320" y="3047760"/>
            <a:ext cx="1218960" cy="4680"/>
          </a:xfrm>
          <a:prstGeom prst="line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33"/>
          <p:cNvSpPr/>
          <p:nvPr/>
        </p:nvSpPr>
        <p:spPr>
          <a:xfrm>
            <a:off x="6400800" y="3052800"/>
            <a:ext cx="1469880" cy="3240"/>
          </a:xfrm>
          <a:prstGeom prst="line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34"/>
          <p:cNvSpPr/>
          <p:nvPr/>
        </p:nvSpPr>
        <p:spPr>
          <a:xfrm flipV="1">
            <a:off x="1165320" y="3276360"/>
            <a:ext cx="1295280" cy="14040"/>
          </a:xfrm>
          <a:prstGeom prst="line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35"/>
          <p:cNvSpPr/>
          <p:nvPr/>
        </p:nvSpPr>
        <p:spPr>
          <a:xfrm>
            <a:off x="6400800" y="3290760"/>
            <a:ext cx="1469880" cy="3240"/>
          </a:xfrm>
          <a:prstGeom prst="line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6"/>
          <p:cNvSpPr/>
          <p:nvPr/>
        </p:nvSpPr>
        <p:spPr>
          <a:xfrm>
            <a:off x="2635200" y="2814480"/>
            <a:ext cx="1098720" cy="238320"/>
          </a:xfrm>
          <a:prstGeom prst="rect">
            <a:avLst/>
          </a:prstGeom>
          <a:solidFill>
            <a:srgbClr val="f9a5f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Isosceles Triangle 37"/>
          <p:cNvSpPr/>
          <p:nvPr/>
        </p:nvSpPr>
        <p:spPr>
          <a:xfrm flipH="1" flipV="1" rot="5400000">
            <a:off x="1566720" y="2817720"/>
            <a:ext cx="1905120" cy="231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9"/>
          <p:cNvSpPr/>
          <p:nvPr/>
        </p:nvSpPr>
        <p:spPr>
          <a:xfrm>
            <a:off x="326880" y="2514600"/>
            <a:ext cx="8384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0"/>
          <p:cNvSpPr/>
          <p:nvPr/>
        </p:nvSpPr>
        <p:spPr>
          <a:xfrm>
            <a:off x="326880" y="2743200"/>
            <a:ext cx="8384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1"/>
          <p:cNvSpPr/>
          <p:nvPr/>
        </p:nvSpPr>
        <p:spPr>
          <a:xfrm>
            <a:off x="326880" y="2971800"/>
            <a:ext cx="8384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2"/>
          <p:cNvSpPr/>
          <p:nvPr/>
        </p:nvSpPr>
        <p:spPr>
          <a:xfrm>
            <a:off x="326880" y="3200400"/>
            <a:ext cx="8384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3"/>
          <p:cNvSpPr/>
          <p:nvPr/>
        </p:nvSpPr>
        <p:spPr>
          <a:xfrm>
            <a:off x="7870680" y="2514600"/>
            <a:ext cx="8384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4"/>
          <p:cNvSpPr/>
          <p:nvPr/>
        </p:nvSpPr>
        <p:spPr>
          <a:xfrm>
            <a:off x="7870680" y="2743200"/>
            <a:ext cx="8384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5"/>
          <p:cNvSpPr/>
          <p:nvPr/>
        </p:nvSpPr>
        <p:spPr>
          <a:xfrm>
            <a:off x="7870680" y="2971800"/>
            <a:ext cx="8384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6"/>
          <p:cNvSpPr/>
          <p:nvPr/>
        </p:nvSpPr>
        <p:spPr>
          <a:xfrm>
            <a:off x="7870680" y="3200400"/>
            <a:ext cx="8384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Isosceles Triangle 48"/>
          <p:cNvSpPr/>
          <p:nvPr/>
        </p:nvSpPr>
        <p:spPr>
          <a:xfrm rot="5400000">
            <a:off x="5564160" y="2817720"/>
            <a:ext cx="1905120" cy="231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Isosceles Triangle 49"/>
          <p:cNvSpPr/>
          <p:nvPr/>
        </p:nvSpPr>
        <p:spPr>
          <a:xfrm rot="5400000">
            <a:off x="2896560" y="2817720"/>
            <a:ext cx="1905120" cy="2314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Isosceles Triangle 50"/>
          <p:cNvSpPr/>
          <p:nvPr/>
        </p:nvSpPr>
        <p:spPr>
          <a:xfrm flipH="1" flipV="1" rot="5400000">
            <a:off x="4267440" y="2817720"/>
            <a:ext cx="1905120" cy="2314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60"/>
          <p:cNvSpPr/>
          <p:nvPr/>
        </p:nvSpPr>
        <p:spPr>
          <a:xfrm>
            <a:off x="3886200" y="3276720"/>
            <a:ext cx="228600" cy="144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Straight Arrow Connector 62"/>
          <p:cNvCxnSpPr/>
          <p:nvPr/>
        </p:nvCxnSpPr>
        <p:spPr>
          <a:xfrm flipH="1">
            <a:off x="4113000" y="3277800"/>
            <a:ext cx="3600" cy="76284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177" name="Straight Connector 63"/>
          <p:cNvSpPr/>
          <p:nvPr/>
        </p:nvSpPr>
        <p:spPr>
          <a:xfrm>
            <a:off x="4952880" y="3276720"/>
            <a:ext cx="228600" cy="1440"/>
          </a:xfrm>
          <a:prstGeom prst="line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Straight Arrow Connector 64"/>
          <p:cNvCxnSpPr/>
          <p:nvPr/>
        </p:nvCxnSpPr>
        <p:spPr>
          <a:xfrm flipH="1">
            <a:off x="4950720" y="3277800"/>
            <a:ext cx="3960" cy="762840"/>
          </a:xfrm>
          <a:prstGeom prst="straightConnector1">
            <a:avLst/>
          </a:prstGeom>
          <a:ln w="38160">
            <a:solidFill>
              <a:srgbClr val="0070c0"/>
            </a:solidFill>
            <a:miter/>
          </a:ln>
        </p:spPr>
      </p:cxnSp>
      <p:pic>
        <p:nvPicPr>
          <p:cNvPr id="179" name="TextBox 67" descr=""/>
          <p:cNvPicPr/>
          <p:nvPr/>
        </p:nvPicPr>
        <p:blipFill>
          <a:blip r:embed="rId1"/>
          <a:stretch/>
        </p:blipFill>
        <p:spPr>
          <a:xfrm>
            <a:off x="3949560" y="4029120"/>
            <a:ext cx="463680" cy="2384280"/>
          </a:xfrm>
          <a:prstGeom prst="rect">
            <a:avLst/>
          </a:prstGeom>
          <a:ln w="0">
            <a:noFill/>
          </a:ln>
        </p:spPr>
      </p:pic>
      <p:pic>
        <p:nvPicPr>
          <p:cNvPr id="180" name="TextBox 68" descr=""/>
          <p:cNvPicPr/>
          <p:nvPr/>
        </p:nvPicPr>
        <p:blipFill>
          <a:blip r:embed="rId2"/>
          <a:stretch/>
        </p:blipFill>
        <p:spPr>
          <a:xfrm>
            <a:off x="4791240" y="4029120"/>
            <a:ext cx="45720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Build Complex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7"/>
          <p:cNvGrpSpPr/>
          <p:nvPr/>
        </p:nvGrpSpPr>
        <p:grpSpPr>
          <a:xfrm>
            <a:off x="2717640" y="1981080"/>
            <a:ext cx="1219320" cy="1219320"/>
            <a:chOff x="2717640" y="1981080"/>
            <a:chExt cx="1219320" cy="1219320"/>
          </a:xfrm>
        </p:grpSpPr>
        <p:sp>
          <p:nvSpPr>
            <p:cNvPr id="183" name="Rectangle 5"/>
            <p:cNvSpPr/>
            <p:nvPr/>
          </p:nvSpPr>
          <p:spPr>
            <a:xfrm>
              <a:off x="2793600" y="1981080"/>
              <a:ext cx="990720" cy="1219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Box 6"/>
            <p:cNvSpPr/>
            <p:nvPr/>
          </p:nvSpPr>
          <p:spPr>
            <a:xfrm>
              <a:off x="2717640" y="236196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A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8"/>
          <p:cNvGrpSpPr/>
          <p:nvPr/>
        </p:nvGrpSpPr>
        <p:grpSpPr>
          <a:xfrm>
            <a:off x="4826160" y="1981080"/>
            <a:ext cx="1218960" cy="1219320"/>
            <a:chOff x="4826160" y="1981080"/>
            <a:chExt cx="1218960" cy="1219320"/>
          </a:xfrm>
        </p:grpSpPr>
        <p:sp>
          <p:nvSpPr>
            <p:cNvPr id="186" name="Rectangle 9"/>
            <p:cNvSpPr/>
            <p:nvPr/>
          </p:nvSpPr>
          <p:spPr>
            <a:xfrm>
              <a:off x="4902120" y="1981080"/>
              <a:ext cx="990360" cy="1219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0"/>
            <p:cNvSpPr/>
            <p:nvPr/>
          </p:nvSpPr>
          <p:spPr>
            <a:xfrm>
              <a:off x="4826160" y="236196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A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1"/>
          <p:cNvGrpSpPr/>
          <p:nvPr/>
        </p:nvGrpSpPr>
        <p:grpSpPr>
          <a:xfrm>
            <a:off x="6934320" y="1981080"/>
            <a:ext cx="1218960" cy="1219320"/>
            <a:chOff x="6934320" y="1981080"/>
            <a:chExt cx="1218960" cy="1219320"/>
          </a:xfrm>
        </p:grpSpPr>
        <p:sp>
          <p:nvSpPr>
            <p:cNvPr id="189" name="Rectangle 12"/>
            <p:cNvSpPr/>
            <p:nvPr/>
          </p:nvSpPr>
          <p:spPr>
            <a:xfrm>
              <a:off x="7010280" y="1981080"/>
              <a:ext cx="990360" cy="1219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13"/>
            <p:cNvSpPr/>
            <p:nvPr/>
          </p:nvSpPr>
          <p:spPr>
            <a:xfrm>
              <a:off x="6934320" y="236196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A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32"/>
          <p:cNvGrpSpPr/>
          <p:nvPr/>
        </p:nvGrpSpPr>
        <p:grpSpPr>
          <a:xfrm>
            <a:off x="685800" y="2019240"/>
            <a:ext cx="1219320" cy="1219320"/>
            <a:chOff x="685800" y="2019240"/>
            <a:chExt cx="1219320" cy="1219320"/>
          </a:xfrm>
        </p:grpSpPr>
        <p:sp>
          <p:nvSpPr>
            <p:cNvPr id="192" name="Rectangle 33"/>
            <p:cNvSpPr/>
            <p:nvPr/>
          </p:nvSpPr>
          <p:spPr>
            <a:xfrm>
              <a:off x="761760" y="2019240"/>
              <a:ext cx="990720" cy="1219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34"/>
            <p:cNvSpPr/>
            <p:nvPr/>
          </p:nvSpPr>
          <p:spPr>
            <a:xfrm>
              <a:off x="685800" y="2400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A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Straight Connector 37"/>
          <p:cNvSpPr/>
          <p:nvPr/>
        </p:nvSpPr>
        <p:spPr>
          <a:xfrm flipH="1">
            <a:off x="1066320" y="3238560"/>
            <a:ext cx="1800" cy="685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38"/>
          <p:cNvSpPr/>
          <p:nvPr/>
        </p:nvSpPr>
        <p:spPr>
          <a:xfrm flipH="1">
            <a:off x="1220760" y="3236760"/>
            <a:ext cx="1440" cy="685800"/>
          </a:xfrm>
          <a:prstGeom prst="line">
            <a:avLst/>
          </a:prstGeom>
          <a:ln w="38160">
            <a:solidFill>
              <a:srgbClr val="00b05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39"/>
          <p:cNvSpPr/>
          <p:nvPr/>
        </p:nvSpPr>
        <p:spPr>
          <a:xfrm flipH="1">
            <a:off x="1372680" y="3236760"/>
            <a:ext cx="1800" cy="685800"/>
          </a:xfrm>
          <a:prstGeom prst="line">
            <a:avLst/>
          </a:prstGeom>
          <a:ln w="38160">
            <a:solidFill>
              <a:srgbClr val="0070c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40"/>
          <p:cNvSpPr/>
          <p:nvPr/>
        </p:nvSpPr>
        <p:spPr>
          <a:xfrm flipH="1">
            <a:off x="7467120" y="3238560"/>
            <a:ext cx="1800" cy="685800"/>
          </a:xfrm>
          <a:prstGeom prst="line">
            <a:avLst/>
          </a:prstGeom>
          <a:ln w="38160">
            <a:solidFill>
              <a:srgbClr val="0070c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41"/>
          <p:cNvSpPr/>
          <p:nvPr/>
        </p:nvSpPr>
        <p:spPr>
          <a:xfrm flipH="1">
            <a:off x="5409720" y="3238560"/>
            <a:ext cx="1800" cy="685800"/>
          </a:xfrm>
          <a:prstGeom prst="line">
            <a:avLst/>
          </a:prstGeom>
          <a:ln w="38160">
            <a:solidFill>
              <a:srgbClr val="00b05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42"/>
          <p:cNvSpPr/>
          <p:nvPr/>
        </p:nvSpPr>
        <p:spPr>
          <a:xfrm flipH="1">
            <a:off x="3276720" y="3238560"/>
            <a:ext cx="1440" cy="685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Straight Arrow Connector 44"/>
          <p:cNvCxnSpPr/>
          <p:nvPr/>
        </p:nvCxnSpPr>
        <p:spPr>
          <a:xfrm>
            <a:off x="1752480" y="2629080"/>
            <a:ext cx="10677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01" name="Straight Arrow Connector 45"/>
          <p:cNvCxnSpPr/>
          <p:nvPr/>
        </p:nvCxnSpPr>
        <p:spPr>
          <a:xfrm>
            <a:off x="3809880" y="2629080"/>
            <a:ext cx="10677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02" name="Straight Arrow Connector 46"/>
          <p:cNvCxnSpPr/>
          <p:nvPr/>
        </p:nvCxnSpPr>
        <p:spPr>
          <a:xfrm>
            <a:off x="5943240" y="2629080"/>
            <a:ext cx="10674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03" name="TextBox 47"/>
          <p:cNvSpPr/>
          <p:nvPr/>
        </p:nvSpPr>
        <p:spPr>
          <a:xfrm>
            <a:off x="1905120" y="232416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48"/>
          <p:cNvSpPr/>
          <p:nvPr/>
        </p:nvSpPr>
        <p:spPr>
          <a:xfrm>
            <a:off x="3962520" y="232416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49"/>
          <p:cNvSpPr/>
          <p:nvPr/>
        </p:nvSpPr>
        <p:spPr>
          <a:xfrm>
            <a:off x="6095880" y="232416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48"/>
          <p:cNvGrpSpPr/>
          <p:nvPr/>
        </p:nvGrpSpPr>
        <p:grpSpPr>
          <a:xfrm>
            <a:off x="6705720" y="3886200"/>
            <a:ext cx="1593720" cy="954000"/>
            <a:chOff x="6705720" y="3886200"/>
            <a:chExt cx="1593720" cy="954000"/>
          </a:xfrm>
        </p:grpSpPr>
        <p:sp>
          <p:nvSpPr>
            <p:cNvPr id="207" name="Freeform 43"/>
            <p:cNvSpPr/>
            <p:nvPr/>
          </p:nvSpPr>
          <p:spPr>
            <a:xfrm>
              <a:off x="6705720" y="3886200"/>
              <a:ext cx="1593720" cy="954000"/>
            </a:xfrm>
            <a:custGeom>
              <a:avLst/>
              <a:gdLst/>
              <a:ahLst/>
              <a:rect l="l" t="t" r="r" b="b"/>
              <a:pathLst>
                <a:path w="1594576" h="954536">
                  <a:moveTo>
                    <a:pt x="680176" y="132499"/>
                  </a:moveTo>
                  <a:cubicBezTo>
                    <a:pt x="672664" y="109965"/>
                    <a:pt x="670370" y="94984"/>
                    <a:pt x="652467" y="77081"/>
                  </a:cubicBezTo>
                  <a:cubicBezTo>
                    <a:pt x="644617" y="69231"/>
                    <a:pt x="633994" y="64766"/>
                    <a:pt x="624757" y="58608"/>
                  </a:cubicBezTo>
                  <a:cubicBezTo>
                    <a:pt x="569339" y="67844"/>
                    <a:pt x="512316" y="70173"/>
                    <a:pt x="458503" y="86317"/>
                  </a:cubicBezTo>
                  <a:cubicBezTo>
                    <a:pt x="447870" y="89507"/>
                    <a:pt x="441407" y="103012"/>
                    <a:pt x="440030" y="114027"/>
                  </a:cubicBezTo>
                  <a:cubicBezTo>
                    <a:pt x="438083" y="129604"/>
                    <a:pt x="446188" y="144814"/>
                    <a:pt x="449267" y="160208"/>
                  </a:cubicBezTo>
                  <a:cubicBezTo>
                    <a:pt x="452346" y="150972"/>
                    <a:pt x="460104" y="142102"/>
                    <a:pt x="458503" y="132499"/>
                  </a:cubicBezTo>
                  <a:cubicBezTo>
                    <a:pt x="450332" y="83479"/>
                    <a:pt x="407132" y="109490"/>
                    <a:pt x="375376" y="114027"/>
                  </a:cubicBezTo>
                  <a:cubicBezTo>
                    <a:pt x="366140" y="123263"/>
                    <a:pt x="357702" y="133374"/>
                    <a:pt x="347667" y="141736"/>
                  </a:cubicBezTo>
                  <a:cubicBezTo>
                    <a:pt x="339139" y="148842"/>
                    <a:pt x="328254" y="152833"/>
                    <a:pt x="319957" y="160208"/>
                  </a:cubicBezTo>
                  <a:cubicBezTo>
                    <a:pt x="300431" y="177564"/>
                    <a:pt x="287906" y="203944"/>
                    <a:pt x="264539" y="215627"/>
                  </a:cubicBezTo>
                  <a:cubicBezTo>
                    <a:pt x="243502" y="226145"/>
                    <a:pt x="188252" y="249951"/>
                    <a:pt x="162939" y="271045"/>
                  </a:cubicBezTo>
                  <a:cubicBezTo>
                    <a:pt x="152904" y="279407"/>
                    <a:pt x="144466" y="289518"/>
                    <a:pt x="135230" y="298754"/>
                  </a:cubicBezTo>
                  <a:cubicBezTo>
                    <a:pt x="132151" y="307990"/>
                    <a:pt x="117286" y="322109"/>
                    <a:pt x="125994" y="326463"/>
                  </a:cubicBezTo>
                  <a:cubicBezTo>
                    <a:pt x="135923" y="331427"/>
                    <a:pt x="153703" y="319091"/>
                    <a:pt x="153703" y="307990"/>
                  </a:cubicBezTo>
                  <a:cubicBezTo>
                    <a:pt x="153703" y="298254"/>
                    <a:pt x="135230" y="301833"/>
                    <a:pt x="125994" y="298754"/>
                  </a:cubicBezTo>
                  <a:cubicBezTo>
                    <a:pt x="107521" y="317227"/>
                    <a:pt x="78837" y="329388"/>
                    <a:pt x="70576" y="354172"/>
                  </a:cubicBezTo>
                  <a:lnTo>
                    <a:pt x="52103" y="409590"/>
                  </a:lnTo>
                  <a:cubicBezTo>
                    <a:pt x="55182" y="428063"/>
                    <a:pt x="61339" y="446281"/>
                    <a:pt x="61339" y="465008"/>
                  </a:cubicBezTo>
                  <a:cubicBezTo>
                    <a:pt x="61339" y="484129"/>
                    <a:pt x="42970" y="506417"/>
                    <a:pt x="33630" y="520427"/>
                  </a:cubicBezTo>
                  <a:cubicBezTo>
                    <a:pt x="36709" y="548136"/>
                    <a:pt x="30399" y="578618"/>
                    <a:pt x="42867" y="603554"/>
                  </a:cubicBezTo>
                  <a:cubicBezTo>
                    <a:pt x="47221" y="612262"/>
                    <a:pt x="80312" y="594317"/>
                    <a:pt x="70576" y="594317"/>
                  </a:cubicBezTo>
                  <a:cubicBezTo>
                    <a:pt x="57882" y="594317"/>
                    <a:pt x="45945" y="600475"/>
                    <a:pt x="33630" y="603554"/>
                  </a:cubicBezTo>
                  <a:cubicBezTo>
                    <a:pt x="27472" y="612790"/>
                    <a:pt x="20121" y="621334"/>
                    <a:pt x="15157" y="631263"/>
                  </a:cubicBezTo>
                  <a:cubicBezTo>
                    <a:pt x="5684" y="650209"/>
                    <a:pt x="0" y="667735"/>
                    <a:pt x="15157" y="686681"/>
                  </a:cubicBezTo>
                  <a:cubicBezTo>
                    <a:pt x="22092" y="695349"/>
                    <a:pt x="33630" y="698996"/>
                    <a:pt x="42867" y="705154"/>
                  </a:cubicBezTo>
                  <a:cubicBezTo>
                    <a:pt x="27472" y="751336"/>
                    <a:pt x="30551" y="723626"/>
                    <a:pt x="52103" y="788281"/>
                  </a:cubicBezTo>
                  <a:cubicBezTo>
                    <a:pt x="55182" y="797517"/>
                    <a:pt x="52103" y="812911"/>
                    <a:pt x="61339" y="815990"/>
                  </a:cubicBezTo>
                  <a:lnTo>
                    <a:pt x="89048" y="825227"/>
                  </a:lnTo>
                  <a:cubicBezTo>
                    <a:pt x="98284" y="822148"/>
                    <a:pt x="107021" y="815990"/>
                    <a:pt x="116757" y="815990"/>
                  </a:cubicBezTo>
                  <a:cubicBezTo>
                    <a:pt x="126493" y="815990"/>
                    <a:pt x="135105" y="822552"/>
                    <a:pt x="144467" y="825227"/>
                  </a:cubicBezTo>
                  <a:cubicBezTo>
                    <a:pt x="156673" y="828714"/>
                    <a:pt x="169097" y="831384"/>
                    <a:pt x="181412" y="834463"/>
                  </a:cubicBezTo>
                  <a:cubicBezTo>
                    <a:pt x="184491" y="843699"/>
                    <a:pt x="183764" y="855288"/>
                    <a:pt x="190648" y="862172"/>
                  </a:cubicBezTo>
                  <a:cubicBezTo>
                    <a:pt x="209120" y="880644"/>
                    <a:pt x="227595" y="868329"/>
                    <a:pt x="246067" y="862172"/>
                  </a:cubicBezTo>
                  <a:cubicBezTo>
                    <a:pt x="261461" y="865251"/>
                    <a:pt x="277018" y="867600"/>
                    <a:pt x="292248" y="871408"/>
                  </a:cubicBezTo>
                  <a:cubicBezTo>
                    <a:pt x="301693" y="873769"/>
                    <a:pt x="310281" y="881720"/>
                    <a:pt x="319957" y="880645"/>
                  </a:cubicBezTo>
                  <a:cubicBezTo>
                    <a:pt x="339310" y="878495"/>
                    <a:pt x="356903" y="868330"/>
                    <a:pt x="375376" y="862172"/>
                  </a:cubicBezTo>
                  <a:lnTo>
                    <a:pt x="403085" y="852936"/>
                  </a:lnTo>
                  <a:cubicBezTo>
                    <a:pt x="412321" y="856015"/>
                    <a:pt x="422283" y="857444"/>
                    <a:pt x="430794" y="862172"/>
                  </a:cubicBezTo>
                  <a:cubicBezTo>
                    <a:pt x="450202" y="872954"/>
                    <a:pt x="465150" y="892096"/>
                    <a:pt x="486212" y="899117"/>
                  </a:cubicBezTo>
                  <a:cubicBezTo>
                    <a:pt x="555866" y="922337"/>
                    <a:pt x="470003" y="891013"/>
                    <a:pt x="541630" y="926827"/>
                  </a:cubicBezTo>
                  <a:cubicBezTo>
                    <a:pt x="550338" y="931181"/>
                    <a:pt x="560103" y="932984"/>
                    <a:pt x="569339" y="936063"/>
                  </a:cubicBezTo>
                  <a:cubicBezTo>
                    <a:pt x="578575" y="932984"/>
                    <a:pt x="587312" y="926827"/>
                    <a:pt x="597048" y="926827"/>
                  </a:cubicBezTo>
                  <a:cubicBezTo>
                    <a:pt x="656484" y="926827"/>
                    <a:pt x="651854" y="929497"/>
                    <a:pt x="689412" y="954536"/>
                  </a:cubicBezTo>
                  <a:cubicBezTo>
                    <a:pt x="698648" y="951457"/>
                    <a:pt x="708413" y="949653"/>
                    <a:pt x="717121" y="945299"/>
                  </a:cubicBezTo>
                  <a:cubicBezTo>
                    <a:pt x="788741" y="909489"/>
                    <a:pt x="702891" y="940808"/>
                    <a:pt x="772539" y="917590"/>
                  </a:cubicBezTo>
                  <a:cubicBezTo>
                    <a:pt x="781775" y="923748"/>
                    <a:pt x="789147" y="936063"/>
                    <a:pt x="800248" y="936063"/>
                  </a:cubicBezTo>
                  <a:cubicBezTo>
                    <a:pt x="825636" y="936063"/>
                    <a:pt x="874139" y="917590"/>
                    <a:pt x="874139" y="917590"/>
                  </a:cubicBezTo>
                  <a:cubicBezTo>
                    <a:pt x="883375" y="911432"/>
                    <a:pt x="893999" y="906966"/>
                    <a:pt x="901848" y="899117"/>
                  </a:cubicBezTo>
                  <a:cubicBezTo>
                    <a:pt x="928706" y="872259"/>
                    <a:pt x="914194" y="853025"/>
                    <a:pt x="929557" y="899117"/>
                  </a:cubicBezTo>
                  <a:cubicBezTo>
                    <a:pt x="938794" y="896038"/>
                    <a:pt x="947821" y="892242"/>
                    <a:pt x="957267" y="889881"/>
                  </a:cubicBezTo>
                  <a:cubicBezTo>
                    <a:pt x="1010016" y="876694"/>
                    <a:pt x="992973" y="885634"/>
                    <a:pt x="1040394" y="871408"/>
                  </a:cubicBezTo>
                  <a:cubicBezTo>
                    <a:pt x="1059045" y="865813"/>
                    <a:pt x="1077339" y="859094"/>
                    <a:pt x="1095812" y="852936"/>
                  </a:cubicBezTo>
                  <a:cubicBezTo>
                    <a:pt x="1105048" y="849857"/>
                    <a:pt x="1115420" y="849099"/>
                    <a:pt x="1123521" y="843699"/>
                  </a:cubicBezTo>
                  <a:cubicBezTo>
                    <a:pt x="1132757" y="837542"/>
                    <a:pt x="1142933" y="832602"/>
                    <a:pt x="1151230" y="825227"/>
                  </a:cubicBezTo>
                  <a:cubicBezTo>
                    <a:pt x="1170756" y="807871"/>
                    <a:pt x="1206648" y="769808"/>
                    <a:pt x="1206648" y="769808"/>
                  </a:cubicBezTo>
                  <a:cubicBezTo>
                    <a:pt x="1215884" y="772887"/>
                    <a:pt x="1224621" y="779045"/>
                    <a:pt x="1234357" y="779045"/>
                  </a:cubicBezTo>
                  <a:cubicBezTo>
                    <a:pt x="1250056" y="779045"/>
                    <a:pt x="1265214" y="773214"/>
                    <a:pt x="1280539" y="769808"/>
                  </a:cubicBezTo>
                  <a:cubicBezTo>
                    <a:pt x="1345502" y="755372"/>
                    <a:pt x="1291199" y="766764"/>
                    <a:pt x="1345194" y="751336"/>
                  </a:cubicBezTo>
                  <a:cubicBezTo>
                    <a:pt x="1357400" y="747849"/>
                    <a:pt x="1369824" y="745178"/>
                    <a:pt x="1382139" y="742099"/>
                  </a:cubicBezTo>
                  <a:cubicBezTo>
                    <a:pt x="1428219" y="696019"/>
                    <a:pt x="1435926" y="699994"/>
                    <a:pt x="1456030" y="649736"/>
                  </a:cubicBezTo>
                  <a:cubicBezTo>
                    <a:pt x="1463262" y="631656"/>
                    <a:pt x="1468345" y="612790"/>
                    <a:pt x="1474503" y="594317"/>
                  </a:cubicBezTo>
                  <a:cubicBezTo>
                    <a:pt x="1477582" y="585081"/>
                    <a:pt x="1475638" y="572008"/>
                    <a:pt x="1483739" y="566608"/>
                  </a:cubicBezTo>
                  <a:lnTo>
                    <a:pt x="1511448" y="548136"/>
                  </a:lnTo>
                  <a:cubicBezTo>
                    <a:pt x="1555680" y="489159"/>
                    <a:pt x="1532272" y="524960"/>
                    <a:pt x="1576103" y="437299"/>
                  </a:cubicBezTo>
                  <a:lnTo>
                    <a:pt x="1594576" y="400354"/>
                  </a:lnTo>
                  <a:cubicBezTo>
                    <a:pt x="1591497" y="391118"/>
                    <a:pt x="1591421" y="380248"/>
                    <a:pt x="1585339" y="372645"/>
                  </a:cubicBezTo>
                  <a:cubicBezTo>
                    <a:pt x="1560970" y="342184"/>
                    <a:pt x="1545320" y="356634"/>
                    <a:pt x="1511448" y="363408"/>
                  </a:cubicBezTo>
                  <a:cubicBezTo>
                    <a:pt x="1514527" y="335699"/>
                    <a:pt x="1520685" y="308161"/>
                    <a:pt x="1520685" y="280281"/>
                  </a:cubicBezTo>
                  <a:cubicBezTo>
                    <a:pt x="1520685" y="267587"/>
                    <a:pt x="1514935" y="255542"/>
                    <a:pt x="1511448" y="243336"/>
                  </a:cubicBezTo>
                  <a:cubicBezTo>
                    <a:pt x="1508773" y="233975"/>
                    <a:pt x="1507612" y="223728"/>
                    <a:pt x="1502212" y="215627"/>
                  </a:cubicBezTo>
                  <a:cubicBezTo>
                    <a:pt x="1486534" y="192109"/>
                    <a:pt x="1463243" y="179077"/>
                    <a:pt x="1437557" y="169445"/>
                  </a:cubicBezTo>
                  <a:cubicBezTo>
                    <a:pt x="1425671" y="164988"/>
                    <a:pt x="1412927" y="163287"/>
                    <a:pt x="1400612" y="160208"/>
                  </a:cubicBezTo>
                  <a:lnTo>
                    <a:pt x="1419085" y="132499"/>
                  </a:lnTo>
                  <a:cubicBezTo>
                    <a:pt x="1416006" y="123263"/>
                    <a:pt x="1415930" y="112393"/>
                    <a:pt x="1409848" y="104790"/>
                  </a:cubicBezTo>
                  <a:cubicBezTo>
                    <a:pt x="1402913" y="96122"/>
                    <a:pt x="1392068" y="91281"/>
                    <a:pt x="1382139" y="86317"/>
                  </a:cubicBezTo>
                  <a:cubicBezTo>
                    <a:pt x="1373431" y="81963"/>
                    <a:pt x="1363791" y="79756"/>
                    <a:pt x="1354430" y="77081"/>
                  </a:cubicBezTo>
                  <a:cubicBezTo>
                    <a:pt x="1310882" y="64639"/>
                    <a:pt x="1305154" y="66083"/>
                    <a:pt x="1252830" y="58608"/>
                  </a:cubicBezTo>
                  <a:cubicBezTo>
                    <a:pt x="1234357" y="61687"/>
                    <a:pt x="1215694" y="63782"/>
                    <a:pt x="1197412" y="67845"/>
                  </a:cubicBezTo>
                  <a:cubicBezTo>
                    <a:pt x="1187908" y="69957"/>
                    <a:pt x="1169703" y="67345"/>
                    <a:pt x="1169703" y="77081"/>
                  </a:cubicBezTo>
                  <a:cubicBezTo>
                    <a:pt x="1169703" y="86817"/>
                    <a:pt x="1188176" y="83238"/>
                    <a:pt x="1197412" y="86317"/>
                  </a:cubicBezTo>
                  <a:cubicBezTo>
                    <a:pt x="1191254" y="74002"/>
                    <a:pt x="1189393" y="58332"/>
                    <a:pt x="1178939" y="49372"/>
                  </a:cubicBezTo>
                  <a:cubicBezTo>
                    <a:pt x="1166351" y="38582"/>
                    <a:pt x="1148638" y="35663"/>
                    <a:pt x="1132757" y="30899"/>
                  </a:cubicBezTo>
                  <a:cubicBezTo>
                    <a:pt x="1117721" y="26388"/>
                    <a:pt x="1101806" y="25470"/>
                    <a:pt x="1086576" y="21663"/>
                  </a:cubicBezTo>
                  <a:cubicBezTo>
                    <a:pt x="999922" y="0"/>
                    <a:pt x="1161599" y="23842"/>
                    <a:pt x="975739" y="3190"/>
                  </a:cubicBezTo>
                  <a:cubicBezTo>
                    <a:pt x="966503" y="6269"/>
                    <a:pt x="957577" y="10518"/>
                    <a:pt x="948030" y="12427"/>
                  </a:cubicBezTo>
                  <a:cubicBezTo>
                    <a:pt x="841890" y="33656"/>
                    <a:pt x="918272" y="10031"/>
                    <a:pt x="855667" y="30899"/>
                  </a:cubicBezTo>
                  <a:cubicBezTo>
                    <a:pt x="858746" y="40135"/>
                    <a:pt x="858019" y="51724"/>
                    <a:pt x="864903" y="58608"/>
                  </a:cubicBezTo>
                  <a:cubicBezTo>
                    <a:pt x="883454" y="77160"/>
                    <a:pt x="910808" y="63296"/>
                    <a:pt x="929557" y="58608"/>
                  </a:cubicBezTo>
                  <a:cubicBezTo>
                    <a:pt x="920321" y="52451"/>
                    <a:pt x="911777" y="45100"/>
                    <a:pt x="901848" y="40136"/>
                  </a:cubicBezTo>
                  <a:cubicBezTo>
                    <a:pt x="882910" y="30667"/>
                    <a:pt x="845529" y="25177"/>
                    <a:pt x="827957" y="21663"/>
                  </a:cubicBezTo>
                  <a:cubicBezTo>
                    <a:pt x="800248" y="24742"/>
                    <a:pt x="772168" y="25431"/>
                    <a:pt x="744830" y="30899"/>
                  </a:cubicBezTo>
                  <a:cubicBezTo>
                    <a:pt x="725736" y="34718"/>
                    <a:pt x="689412" y="49372"/>
                    <a:pt x="689412" y="49372"/>
                  </a:cubicBezTo>
                  <a:cubicBezTo>
                    <a:pt x="686333" y="58608"/>
                    <a:pt x="671468" y="72727"/>
                    <a:pt x="680176" y="77081"/>
                  </a:cubicBezTo>
                  <a:cubicBezTo>
                    <a:pt x="694217" y="84102"/>
                    <a:pt x="726357" y="67845"/>
                    <a:pt x="726357" y="6784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11"/>
            <p:cNvSpPr/>
            <p:nvPr/>
          </p:nvSpPr>
          <p:spPr>
            <a:xfrm>
              <a:off x="6705720" y="419076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vers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49"/>
          <p:cNvGrpSpPr/>
          <p:nvPr/>
        </p:nvGrpSpPr>
        <p:grpSpPr>
          <a:xfrm>
            <a:off x="4572000" y="3886200"/>
            <a:ext cx="1593720" cy="954000"/>
            <a:chOff x="4572000" y="3886200"/>
            <a:chExt cx="1593720" cy="954000"/>
          </a:xfrm>
        </p:grpSpPr>
        <p:sp>
          <p:nvSpPr>
            <p:cNvPr id="210" name="Freeform 50"/>
            <p:cNvSpPr/>
            <p:nvPr/>
          </p:nvSpPr>
          <p:spPr>
            <a:xfrm>
              <a:off x="4572000" y="3886200"/>
              <a:ext cx="1593720" cy="954000"/>
            </a:xfrm>
            <a:custGeom>
              <a:avLst/>
              <a:gdLst/>
              <a:ahLst/>
              <a:rect l="l" t="t" r="r" b="b"/>
              <a:pathLst>
                <a:path w="1594576" h="954536">
                  <a:moveTo>
                    <a:pt x="680176" y="132499"/>
                  </a:moveTo>
                  <a:cubicBezTo>
                    <a:pt x="672664" y="109965"/>
                    <a:pt x="670370" y="94984"/>
                    <a:pt x="652467" y="77081"/>
                  </a:cubicBezTo>
                  <a:cubicBezTo>
                    <a:pt x="644617" y="69231"/>
                    <a:pt x="633994" y="64766"/>
                    <a:pt x="624757" y="58608"/>
                  </a:cubicBezTo>
                  <a:cubicBezTo>
                    <a:pt x="569339" y="67844"/>
                    <a:pt x="512316" y="70173"/>
                    <a:pt x="458503" y="86317"/>
                  </a:cubicBezTo>
                  <a:cubicBezTo>
                    <a:pt x="447870" y="89507"/>
                    <a:pt x="441407" y="103012"/>
                    <a:pt x="440030" y="114027"/>
                  </a:cubicBezTo>
                  <a:cubicBezTo>
                    <a:pt x="438083" y="129604"/>
                    <a:pt x="446188" y="144814"/>
                    <a:pt x="449267" y="160208"/>
                  </a:cubicBezTo>
                  <a:cubicBezTo>
                    <a:pt x="452346" y="150972"/>
                    <a:pt x="460104" y="142102"/>
                    <a:pt x="458503" y="132499"/>
                  </a:cubicBezTo>
                  <a:cubicBezTo>
                    <a:pt x="450332" y="83479"/>
                    <a:pt x="407132" y="109490"/>
                    <a:pt x="375376" y="114027"/>
                  </a:cubicBezTo>
                  <a:cubicBezTo>
                    <a:pt x="366140" y="123263"/>
                    <a:pt x="357702" y="133374"/>
                    <a:pt x="347667" y="141736"/>
                  </a:cubicBezTo>
                  <a:cubicBezTo>
                    <a:pt x="339139" y="148842"/>
                    <a:pt x="328254" y="152833"/>
                    <a:pt x="319957" y="160208"/>
                  </a:cubicBezTo>
                  <a:cubicBezTo>
                    <a:pt x="300431" y="177564"/>
                    <a:pt x="287906" y="203944"/>
                    <a:pt x="264539" y="215627"/>
                  </a:cubicBezTo>
                  <a:cubicBezTo>
                    <a:pt x="243502" y="226145"/>
                    <a:pt x="188252" y="249951"/>
                    <a:pt x="162939" y="271045"/>
                  </a:cubicBezTo>
                  <a:cubicBezTo>
                    <a:pt x="152904" y="279407"/>
                    <a:pt x="144466" y="289518"/>
                    <a:pt x="135230" y="298754"/>
                  </a:cubicBezTo>
                  <a:cubicBezTo>
                    <a:pt x="132151" y="307990"/>
                    <a:pt x="117286" y="322109"/>
                    <a:pt x="125994" y="326463"/>
                  </a:cubicBezTo>
                  <a:cubicBezTo>
                    <a:pt x="135923" y="331427"/>
                    <a:pt x="153703" y="319091"/>
                    <a:pt x="153703" y="307990"/>
                  </a:cubicBezTo>
                  <a:cubicBezTo>
                    <a:pt x="153703" y="298254"/>
                    <a:pt x="135230" y="301833"/>
                    <a:pt x="125994" y="298754"/>
                  </a:cubicBezTo>
                  <a:cubicBezTo>
                    <a:pt x="107521" y="317227"/>
                    <a:pt x="78837" y="329388"/>
                    <a:pt x="70576" y="354172"/>
                  </a:cubicBezTo>
                  <a:lnTo>
                    <a:pt x="52103" y="409590"/>
                  </a:lnTo>
                  <a:cubicBezTo>
                    <a:pt x="55182" y="428063"/>
                    <a:pt x="61339" y="446281"/>
                    <a:pt x="61339" y="465008"/>
                  </a:cubicBezTo>
                  <a:cubicBezTo>
                    <a:pt x="61339" y="484129"/>
                    <a:pt x="42970" y="506417"/>
                    <a:pt x="33630" y="520427"/>
                  </a:cubicBezTo>
                  <a:cubicBezTo>
                    <a:pt x="36709" y="548136"/>
                    <a:pt x="30399" y="578618"/>
                    <a:pt x="42867" y="603554"/>
                  </a:cubicBezTo>
                  <a:cubicBezTo>
                    <a:pt x="47221" y="612262"/>
                    <a:pt x="80312" y="594317"/>
                    <a:pt x="70576" y="594317"/>
                  </a:cubicBezTo>
                  <a:cubicBezTo>
                    <a:pt x="57882" y="594317"/>
                    <a:pt x="45945" y="600475"/>
                    <a:pt x="33630" y="603554"/>
                  </a:cubicBezTo>
                  <a:cubicBezTo>
                    <a:pt x="27472" y="612790"/>
                    <a:pt x="20121" y="621334"/>
                    <a:pt x="15157" y="631263"/>
                  </a:cubicBezTo>
                  <a:cubicBezTo>
                    <a:pt x="5684" y="650209"/>
                    <a:pt x="0" y="667735"/>
                    <a:pt x="15157" y="686681"/>
                  </a:cubicBezTo>
                  <a:cubicBezTo>
                    <a:pt x="22092" y="695349"/>
                    <a:pt x="33630" y="698996"/>
                    <a:pt x="42867" y="705154"/>
                  </a:cubicBezTo>
                  <a:cubicBezTo>
                    <a:pt x="27472" y="751336"/>
                    <a:pt x="30551" y="723626"/>
                    <a:pt x="52103" y="788281"/>
                  </a:cubicBezTo>
                  <a:cubicBezTo>
                    <a:pt x="55182" y="797517"/>
                    <a:pt x="52103" y="812911"/>
                    <a:pt x="61339" y="815990"/>
                  </a:cubicBezTo>
                  <a:lnTo>
                    <a:pt x="89048" y="825227"/>
                  </a:lnTo>
                  <a:cubicBezTo>
                    <a:pt x="98284" y="822148"/>
                    <a:pt x="107021" y="815990"/>
                    <a:pt x="116757" y="815990"/>
                  </a:cubicBezTo>
                  <a:cubicBezTo>
                    <a:pt x="126493" y="815990"/>
                    <a:pt x="135105" y="822552"/>
                    <a:pt x="144467" y="825227"/>
                  </a:cubicBezTo>
                  <a:cubicBezTo>
                    <a:pt x="156673" y="828714"/>
                    <a:pt x="169097" y="831384"/>
                    <a:pt x="181412" y="834463"/>
                  </a:cubicBezTo>
                  <a:cubicBezTo>
                    <a:pt x="184491" y="843699"/>
                    <a:pt x="183764" y="855288"/>
                    <a:pt x="190648" y="862172"/>
                  </a:cubicBezTo>
                  <a:cubicBezTo>
                    <a:pt x="209120" y="880644"/>
                    <a:pt x="227595" y="868329"/>
                    <a:pt x="246067" y="862172"/>
                  </a:cubicBezTo>
                  <a:cubicBezTo>
                    <a:pt x="261461" y="865251"/>
                    <a:pt x="277018" y="867600"/>
                    <a:pt x="292248" y="871408"/>
                  </a:cubicBezTo>
                  <a:cubicBezTo>
                    <a:pt x="301693" y="873769"/>
                    <a:pt x="310281" y="881720"/>
                    <a:pt x="319957" y="880645"/>
                  </a:cubicBezTo>
                  <a:cubicBezTo>
                    <a:pt x="339310" y="878495"/>
                    <a:pt x="356903" y="868330"/>
                    <a:pt x="375376" y="862172"/>
                  </a:cubicBezTo>
                  <a:lnTo>
                    <a:pt x="403085" y="852936"/>
                  </a:lnTo>
                  <a:cubicBezTo>
                    <a:pt x="412321" y="856015"/>
                    <a:pt x="422283" y="857444"/>
                    <a:pt x="430794" y="862172"/>
                  </a:cubicBezTo>
                  <a:cubicBezTo>
                    <a:pt x="450202" y="872954"/>
                    <a:pt x="465150" y="892096"/>
                    <a:pt x="486212" y="899117"/>
                  </a:cubicBezTo>
                  <a:cubicBezTo>
                    <a:pt x="555866" y="922337"/>
                    <a:pt x="470003" y="891013"/>
                    <a:pt x="541630" y="926827"/>
                  </a:cubicBezTo>
                  <a:cubicBezTo>
                    <a:pt x="550338" y="931181"/>
                    <a:pt x="560103" y="932984"/>
                    <a:pt x="569339" y="936063"/>
                  </a:cubicBezTo>
                  <a:cubicBezTo>
                    <a:pt x="578575" y="932984"/>
                    <a:pt x="587312" y="926827"/>
                    <a:pt x="597048" y="926827"/>
                  </a:cubicBezTo>
                  <a:cubicBezTo>
                    <a:pt x="656484" y="926827"/>
                    <a:pt x="651854" y="929497"/>
                    <a:pt x="689412" y="954536"/>
                  </a:cubicBezTo>
                  <a:cubicBezTo>
                    <a:pt x="698648" y="951457"/>
                    <a:pt x="708413" y="949653"/>
                    <a:pt x="717121" y="945299"/>
                  </a:cubicBezTo>
                  <a:cubicBezTo>
                    <a:pt x="788741" y="909489"/>
                    <a:pt x="702891" y="940808"/>
                    <a:pt x="772539" y="917590"/>
                  </a:cubicBezTo>
                  <a:cubicBezTo>
                    <a:pt x="781775" y="923748"/>
                    <a:pt x="789147" y="936063"/>
                    <a:pt x="800248" y="936063"/>
                  </a:cubicBezTo>
                  <a:cubicBezTo>
                    <a:pt x="825636" y="936063"/>
                    <a:pt x="874139" y="917590"/>
                    <a:pt x="874139" y="917590"/>
                  </a:cubicBezTo>
                  <a:cubicBezTo>
                    <a:pt x="883375" y="911432"/>
                    <a:pt x="893999" y="906966"/>
                    <a:pt x="901848" y="899117"/>
                  </a:cubicBezTo>
                  <a:cubicBezTo>
                    <a:pt x="928706" y="872259"/>
                    <a:pt x="914194" y="853025"/>
                    <a:pt x="929557" y="899117"/>
                  </a:cubicBezTo>
                  <a:cubicBezTo>
                    <a:pt x="938794" y="896038"/>
                    <a:pt x="947821" y="892242"/>
                    <a:pt x="957267" y="889881"/>
                  </a:cubicBezTo>
                  <a:cubicBezTo>
                    <a:pt x="1010016" y="876694"/>
                    <a:pt x="992973" y="885634"/>
                    <a:pt x="1040394" y="871408"/>
                  </a:cubicBezTo>
                  <a:cubicBezTo>
                    <a:pt x="1059045" y="865813"/>
                    <a:pt x="1077339" y="859094"/>
                    <a:pt x="1095812" y="852936"/>
                  </a:cubicBezTo>
                  <a:cubicBezTo>
                    <a:pt x="1105048" y="849857"/>
                    <a:pt x="1115420" y="849099"/>
                    <a:pt x="1123521" y="843699"/>
                  </a:cubicBezTo>
                  <a:cubicBezTo>
                    <a:pt x="1132757" y="837542"/>
                    <a:pt x="1142933" y="832602"/>
                    <a:pt x="1151230" y="825227"/>
                  </a:cubicBezTo>
                  <a:cubicBezTo>
                    <a:pt x="1170756" y="807871"/>
                    <a:pt x="1206648" y="769808"/>
                    <a:pt x="1206648" y="769808"/>
                  </a:cubicBezTo>
                  <a:cubicBezTo>
                    <a:pt x="1215884" y="772887"/>
                    <a:pt x="1224621" y="779045"/>
                    <a:pt x="1234357" y="779045"/>
                  </a:cubicBezTo>
                  <a:cubicBezTo>
                    <a:pt x="1250056" y="779045"/>
                    <a:pt x="1265214" y="773214"/>
                    <a:pt x="1280539" y="769808"/>
                  </a:cubicBezTo>
                  <a:cubicBezTo>
                    <a:pt x="1345502" y="755372"/>
                    <a:pt x="1291199" y="766764"/>
                    <a:pt x="1345194" y="751336"/>
                  </a:cubicBezTo>
                  <a:cubicBezTo>
                    <a:pt x="1357400" y="747849"/>
                    <a:pt x="1369824" y="745178"/>
                    <a:pt x="1382139" y="742099"/>
                  </a:cubicBezTo>
                  <a:cubicBezTo>
                    <a:pt x="1428219" y="696019"/>
                    <a:pt x="1435926" y="699994"/>
                    <a:pt x="1456030" y="649736"/>
                  </a:cubicBezTo>
                  <a:cubicBezTo>
                    <a:pt x="1463262" y="631656"/>
                    <a:pt x="1468345" y="612790"/>
                    <a:pt x="1474503" y="594317"/>
                  </a:cubicBezTo>
                  <a:cubicBezTo>
                    <a:pt x="1477582" y="585081"/>
                    <a:pt x="1475638" y="572008"/>
                    <a:pt x="1483739" y="566608"/>
                  </a:cubicBezTo>
                  <a:lnTo>
                    <a:pt x="1511448" y="548136"/>
                  </a:lnTo>
                  <a:cubicBezTo>
                    <a:pt x="1555680" y="489159"/>
                    <a:pt x="1532272" y="524960"/>
                    <a:pt x="1576103" y="437299"/>
                  </a:cubicBezTo>
                  <a:lnTo>
                    <a:pt x="1594576" y="400354"/>
                  </a:lnTo>
                  <a:cubicBezTo>
                    <a:pt x="1591497" y="391118"/>
                    <a:pt x="1591421" y="380248"/>
                    <a:pt x="1585339" y="372645"/>
                  </a:cubicBezTo>
                  <a:cubicBezTo>
                    <a:pt x="1560970" y="342184"/>
                    <a:pt x="1545320" y="356634"/>
                    <a:pt x="1511448" y="363408"/>
                  </a:cubicBezTo>
                  <a:cubicBezTo>
                    <a:pt x="1514527" y="335699"/>
                    <a:pt x="1520685" y="308161"/>
                    <a:pt x="1520685" y="280281"/>
                  </a:cubicBezTo>
                  <a:cubicBezTo>
                    <a:pt x="1520685" y="267587"/>
                    <a:pt x="1514935" y="255542"/>
                    <a:pt x="1511448" y="243336"/>
                  </a:cubicBezTo>
                  <a:cubicBezTo>
                    <a:pt x="1508773" y="233975"/>
                    <a:pt x="1507612" y="223728"/>
                    <a:pt x="1502212" y="215627"/>
                  </a:cubicBezTo>
                  <a:cubicBezTo>
                    <a:pt x="1486534" y="192109"/>
                    <a:pt x="1463243" y="179077"/>
                    <a:pt x="1437557" y="169445"/>
                  </a:cubicBezTo>
                  <a:cubicBezTo>
                    <a:pt x="1425671" y="164988"/>
                    <a:pt x="1412927" y="163287"/>
                    <a:pt x="1400612" y="160208"/>
                  </a:cubicBezTo>
                  <a:lnTo>
                    <a:pt x="1419085" y="132499"/>
                  </a:lnTo>
                  <a:cubicBezTo>
                    <a:pt x="1416006" y="123263"/>
                    <a:pt x="1415930" y="112393"/>
                    <a:pt x="1409848" y="104790"/>
                  </a:cubicBezTo>
                  <a:cubicBezTo>
                    <a:pt x="1402913" y="96122"/>
                    <a:pt x="1392068" y="91281"/>
                    <a:pt x="1382139" y="86317"/>
                  </a:cubicBezTo>
                  <a:cubicBezTo>
                    <a:pt x="1373431" y="81963"/>
                    <a:pt x="1363791" y="79756"/>
                    <a:pt x="1354430" y="77081"/>
                  </a:cubicBezTo>
                  <a:cubicBezTo>
                    <a:pt x="1310882" y="64639"/>
                    <a:pt x="1305154" y="66083"/>
                    <a:pt x="1252830" y="58608"/>
                  </a:cubicBezTo>
                  <a:cubicBezTo>
                    <a:pt x="1234357" y="61687"/>
                    <a:pt x="1215694" y="63782"/>
                    <a:pt x="1197412" y="67845"/>
                  </a:cubicBezTo>
                  <a:cubicBezTo>
                    <a:pt x="1187908" y="69957"/>
                    <a:pt x="1169703" y="67345"/>
                    <a:pt x="1169703" y="77081"/>
                  </a:cubicBezTo>
                  <a:cubicBezTo>
                    <a:pt x="1169703" y="86817"/>
                    <a:pt x="1188176" y="83238"/>
                    <a:pt x="1197412" y="86317"/>
                  </a:cubicBezTo>
                  <a:cubicBezTo>
                    <a:pt x="1191254" y="74002"/>
                    <a:pt x="1189393" y="58332"/>
                    <a:pt x="1178939" y="49372"/>
                  </a:cubicBezTo>
                  <a:cubicBezTo>
                    <a:pt x="1166351" y="38582"/>
                    <a:pt x="1148638" y="35663"/>
                    <a:pt x="1132757" y="30899"/>
                  </a:cubicBezTo>
                  <a:cubicBezTo>
                    <a:pt x="1117721" y="26388"/>
                    <a:pt x="1101806" y="25470"/>
                    <a:pt x="1086576" y="21663"/>
                  </a:cubicBezTo>
                  <a:cubicBezTo>
                    <a:pt x="999922" y="0"/>
                    <a:pt x="1161599" y="23842"/>
                    <a:pt x="975739" y="3190"/>
                  </a:cubicBezTo>
                  <a:cubicBezTo>
                    <a:pt x="966503" y="6269"/>
                    <a:pt x="957577" y="10518"/>
                    <a:pt x="948030" y="12427"/>
                  </a:cubicBezTo>
                  <a:cubicBezTo>
                    <a:pt x="841890" y="33656"/>
                    <a:pt x="918272" y="10031"/>
                    <a:pt x="855667" y="30899"/>
                  </a:cubicBezTo>
                  <a:cubicBezTo>
                    <a:pt x="858746" y="40135"/>
                    <a:pt x="858019" y="51724"/>
                    <a:pt x="864903" y="58608"/>
                  </a:cubicBezTo>
                  <a:cubicBezTo>
                    <a:pt x="883454" y="77160"/>
                    <a:pt x="910808" y="63296"/>
                    <a:pt x="929557" y="58608"/>
                  </a:cubicBezTo>
                  <a:cubicBezTo>
                    <a:pt x="920321" y="52451"/>
                    <a:pt x="911777" y="45100"/>
                    <a:pt x="901848" y="40136"/>
                  </a:cubicBezTo>
                  <a:cubicBezTo>
                    <a:pt x="882910" y="30667"/>
                    <a:pt x="845529" y="25177"/>
                    <a:pt x="827957" y="21663"/>
                  </a:cubicBezTo>
                  <a:cubicBezTo>
                    <a:pt x="800248" y="24742"/>
                    <a:pt x="772168" y="25431"/>
                    <a:pt x="744830" y="30899"/>
                  </a:cubicBezTo>
                  <a:cubicBezTo>
                    <a:pt x="725736" y="34718"/>
                    <a:pt x="689412" y="49372"/>
                    <a:pt x="689412" y="49372"/>
                  </a:cubicBezTo>
                  <a:cubicBezTo>
                    <a:pt x="686333" y="58608"/>
                    <a:pt x="671468" y="72727"/>
                    <a:pt x="680176" y="77081"/>
                  </a:cubicBezTo>
                  <a:cubicBezTo>
                    <a:pt x="694217" y="84102"/>
                    <a:pt x="726357" y="67845"/>
                    <a:pt x="726357" y="6784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11"/>
            <p:cNvSpPr/>
            <p:nvPr/>
          </p:nvSpPr>
          <p:spPr>
            <a:xfrm>
              <a:off x="4572000" y="419076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vers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52"/>
          <p:cNvGrpSpPr/>
          <p:nvPr/>
        </p:nvGrpSpPr>
        <p:grpSpPr>
          <a:xfrm>
            <a:off x="2438280" y="3886200"/>
            <a:ext cx="1594080" cy="954000"/>
            <a:chOff x="2438280" y="3886200"/>
            <a:chExt cx="1594080" cy="954000"/>
          </a:xfrm>
        </p:grpSpPr>
        <p:sp>
          <p:nvSpPr>
            <p:cNvPr id="213" name="Freeform 53"/>
            <p:cNvSpPr/>
            <p:nvPr/>
          </p:nvSpPr>
          <p:spPr>
            <a:xfrm>
              <a:off x="2438280" y="3886200"/>
              <a:ext cx="1594080" cy="954000"/>
            </a:xfrm>
            <a:custGeom>
              <a:avLst/>
              <a:gdLst/>
              <a:ahLst/>
              <a:rect l="l" t="t" r="r" b="b"/>
              <a:pathLst>
                <a:path w="1594576" h="954536">
                  <a:moveTo>
                    <a:pt x="680176" y="132499"/>
                  </a:moveTo>
                  <a:cubicBezTo>
                    <a:pt x="672664" y="109965"/>
                    <a:pt x="670370" y="94984"/>
                    <a:pt x="652467" y="77081"/>
                  </a:cubicBezTo>
                  <a:cubicBezTo>
                    <a:pt x="644617" y="69231"/>
                    <a:pt x="633994" y="64766"/>
                    <a:pt x="624757" y="58608"/>
                  </a:cubicBezTo>
                  <a:cubicBezTo>
                    <a:pt x="569339" y="67844"/>
                    <a:pt x="512316" y="70173"/>
                    <a:pt x="458503" y="86317"/>
                  </a:cubicBezTo>
                  <a:cubicBezTo>
                    <a:pt x="447870" y="89507"/>
                    <a:pt x="441407" y="103012"/>
                    <a:pt x="440030" y="114027"/>
                  </a:cubicBezTo>
                  <a:cubicBezTo>
                    <a:pt x="438083" y="129604"/>
                    <a:pt x="446188" y="144814"/>
                    <a:pt x="449267" y="160208"/>
                  </a:cubicBezTo>
                  <a:cubicBezTo>
                    <a:pt x="452346" y="150972"/>
                    <a:pt x="460104" y="142102"/>
                    <a:pt x="458503" y="132499"/>
                  </a:cubicBezTo>
                  <a:cubicBezTo>
                    <a:pt x="450332" y="83479"/>
                    <a:pt x="407132" y="109490"/>
                    <a:pt x="375376" y="114027"/>
                  </a:cubicBezTo>
                  <a:cubicBezTo>
                    <a:pt x="366140" y="123263"/>
                    <a:pt x="357702" y="133374"/>
                    <a:pt x="347667" y="141736"/>
                  </a:cubicBezTo>
                  <a:cubicBezTo>
                    <a:pt x="339139" y="148842"/>
                    <a:pt x="328254" y="152833"/>
                    <a:pt x="319957" y="160208"/>
                  </a:cubicBezTo>
                  <a:cubicBezTo>
                    <a:pt x="300431" y="177564"/>
                    <a:pt x="287906" y="203944"/>
                    <a:pt x="264539" y="215627"/>
                  </a:cubicBezTo>
                  <a:cubicBezTo>
                    <a:pt x="243502" y="226145"/>
                    <a:pt x="188252" y="249951"/>
                    <a:pt x="162939" y="271045"/>
                  </a:cubicBezTo>
                  <a:cubicBezTo>
                    <a:pt x="152904" y="279407"/>
                    <a:pt x="144466" y="289518"/>
                    <a:pt x="135230" y="298754"/>
                  </a:cubicBezTo>
                  <a:cubicBezTo>
                    <a:pt x="132151" y="307990"/>
                    <a:pt x="117286" y="322109"/>
                    <a:pt x="125994" y="326463"/>
                  </a:cubicBezTo>
                  <a:cubicBezTo>
                    <a:pt x="135923" y="331427"/>
                    <a:pt x="153703" y="319091"/>
                    <a:pt x="153703" y="307990"/>
                  </a:cubicBezTo>
                  <a:cubicBezTo>
                    <a:pt x="153703" y="298254"/>
                    <a:pt x="135230" y="301833"/>
                    <a:pt x="125994" y="298754"/>
                  </a:cubicBezTo>
                  <a:cubicBezTo>
                    <a:pt x="107521" y="317227"/>
                    <a:pt x="78837" y="329388"/>
                    <a:pt x="70576" y="354172"/>
                  </a:cubicBezTo>
                  <a:lnTo>
                    <a:pt x="52103" y="409590"/>
                  </a:lnTo>
                  <a:cubicBezTo>
                    <a:pt x="55182" y="428063"/>
                    <a:pt x="61339" y="446281"/>
                    <a:pt x="61339" y="465008"/>
                  </a:cubicBezTo>
                  <a:cubicBezTo>
                    <a:pt x="61339" y="484129"/>
                    <a:pt x="42970" y="506417"/>
                    <a:pt x="33630" y="520427"/>
                  </a:cubicBezTo>
                  <a:cubicBezTo>
                    <a:pt x="36709" y="548136"/>
                    <a:pt x="30399" y="578618"/>
                    <a:pt x="42867" y="603554"/>
                  </a:cubicBezTo>
                  <a:cubicBezTo>
                    <a:pt x="47221" y="612262"/>
                    <a:pt x="80312" y="594317"/>
                    <a:pt x="70576" y="594317"/>
                  </a:cubicBezTo>
                  <a:cubicBezTo>
                    <a:pt x="57882" y="594317"/>
                    <a:pt x="45945" y="600475"/>
                    <a:pt x="33630" y="603554"/>
                  </a:cubicBezTo>
                  <a:cubicBezTo>
                    <a:pt x="27472" y="612790"/>
                    <a:pt x="20121" y="621334"/>
                    <a:pt x="15157" y="631263"/>
                  </a:cubicBezTo>
                  <a:cubicBezTo>
                    <a:pt x="5684" y="650209"/>
                    <a:pt x="0" y="667735"/>
                    <a:pt x="15157" y="686681"/>
                  </a:cubicBezTo>
                  <a:cubicBezTo>
                    <a:pt x="22092" y="695349"/>
                    <a:pt x="33630" y="698996"/>
                    <a:pt x="42867" y="705154"/>
                  </a:cubicBezTo>
                  <a:cubicBezTo>
                    <a:pt x="27472" y="751336"/>
                    <a:pt x="30551" y="723626"/>
                    <a:pt x="52103" y="788281"/>
                  </a:cubicBezTo>
                  <a:cubicBezTo>
                    <a:pt x="55182" y="797517"/>
                    <a:pt x="52103" y="812911"/>
                    <a:pt x="61339" y="815990"/>
                  </a:cubicBezTo>
                  <a:lnTo>
                    <a:pt x="89048" y="825227"/>
                  </a:lnTo>
                  <a:cubicBezTo>
                    <a:pt x="98284" y="822148"/>
                    <a:pt x="107021" y="815990"/>
                    <a:pt x="116757" y="815990"/>
                  </a:cubicBezTo>
                  <a:cubicBezTo>
                    <a:pt x="126493" y="815990"/>
                    <a:pt x="135105" y="822552"/>
                    <a:pt x="144467" y="825227"/>
                  </a:cubicBezTo>
                  <a:cubicBezTo>
                    <a:pt x="156673" y="828714"/>
                    <a:pt x="169097" y="831384"/>
                    <a:pt x="181412" y="834463"/>
                  </a:cubicBezTo>
                  <a:cubicBezTo>
                    <a:pt x="184491" y="843699"/>
                    <a:pt x="183764" y="855288"/>
                    <a:pt x="190648" y="862172"/>
                  </a:cubicBezTo>
                  <a:cubicBezTo>
                    <a:pt x="209120" y="880644"/>
                    <a:pt x="227595" y="868329"/>
                    <a:pt x="246067" y="862172"/>
                  </a:cubicBezTo>
                  <a:cubicBezTo>
                    <a:pt x="261461" y="865251"/>
                    <a:pt x="277018" y="867600"/>
                    <a:pt x="292248" y="871408"/>
                  </a:cubicBezTo>
                  <a:cubicBezTo>
                    <a:pt x="301693" y="873769"/>
                    <a:pt x="310281" y="881720"/>
                    <a:pt x="319957" y="880645"/>
                  </a:cubicBezTo>
                  <a:cubicBezTo>
                    <a:pt x="339310" y="878495"/>
                    <a:pt x="356903" y="868330"/>
                    <a:pt x="375376" y="862172"/>
                  </a:cubicBezTo>
                  <a:lnTo>
                    <a:pt x="403085" y="852936"/>
                  </a:lnTo>
                  <a:cubicBezTo>
                    <a:pt x="412321" y="856015"/>
                    <a:pt x="422283" y="857444"/>
                    <a:pt x="430794" y="862172"/>
                  </a:cubicBezTo>
                  <a:cubicBezTo>
                    <a:pt x="450202" y="872954"/>
                    <a:pt x="465150" y="892096"/>
                    <a:pt x="486212" y="899117"/>
                  </a:cubicBezTo>
                  <a:cubicBezTo>
                    <a:pt x="555866" y="922337"/>
                    <a:pt x="470003" y="891013"/>
                    <a:pt x="541630" y="926827"/>
                  </a:cubicBezTo>
                  <a:cubicBezTo>
                    <a:pt x="550338" y="931181"/>
                    <a:pt x="560103" y="932984"/>
                    <a:pt x="569339" y="936063"/>
                  </a:cubicBezTo>
                  <a:cubicBezTo>
                    <a:pt x="578575" y="932984"/>
                    <a:pt x="587312" y="926827"/>
                    <a:pt x="597048" y="926827"/>
                  </a:cubicBezTo>
                  <a:cubicBezTo>
                    <a:pt x="656484" y="926827"/>
                    <a:pt x="651854" y="929497"/>
                    <a:pt x="689412" y="954536"/>
                  </a:cubicBezTo>
                  <a:cubicBezTo>
                    <a:pt x="698648" y="951457"/>
                    <a:pt x="708413" y="949653"/>
                    <a:pt x="717121" y="945299"/>
                  </a:cubicBezTo>
                  <a:cubicBezTo>
                    <a:pt x="788741" y="909489"/>
                    <a:pt x="702891" y="940808"/>
                    <a:pt x="772539" y="917590"/>
                  </a:cubicBezTo>
                  <a:cubicBezTo>
                    <a:pt x="781775" y="923748"/>
                    <a:pt x="789147" y="936063"/>
                    <a:pt x="800248" y="936063"/>
                  </a:cubicBezTo>
                  <a:cubicBezTo>
                    <a:pt x="825636" y="936063"/>
                    <a:pt x="874139" y="917590"/>
                    <a:pt x="874139" y="917590"/>
                  </a:cubicBezTo>
                  <a:cubicBezTo>
                    <a:pt x="883375" y="911432"/>
                    <a:pt x="893999" y="906966"/>
                    <a:pt x="901848" y="899117"/>
                  </a:cubicBezTo>
                  <a:cubicBezTo>
                    <a:pt x="928706" y="872259"/>
                    <a:pt x="914194" y="853025"/>
                    <a:pt x="929557" y="899117"/>
                  </a:cubicBezTo>
                  <a:cubicBezTo>
                    <a:pt x="938794" y="896038"/>
                    <a:pt x="947821" y="892242"/>
                    <a:pt x="957267" y="889881"/>
                  </a:cubicBezTo>
                  <a:cubicBezTo>
                    <a:pt x="1010016" y="876694"/>
                    <a:pt x="992973" y="885634"/>
                    <a:pt x="1040394" y="871408"/>
                  </a:cubicBezTo>
                  <a:cubicBezTo>
                    <a:pt x="1059045" y="865813"/>
                    <a:pt x="1077339" y="859094"/>
                    <a:pt x="1095812" y="852936"/>
                  </a:cubicBezTo>
                  <a:cubicBezTo>
                    <a:pt x="1105048" y="849857"/>
                    <a:pt x="1115420" y="849099"/>
                    <a:pt x="1123521" y="843699"/>
                  </a:cubicBezTo>
                  <a:cubicBezTo>
                    <a:pt x="1132757" y="837542"/>
                    <a:pt x="1142933" y="832602"/>
                    <a:pt x="1151230" y="825227"/>
                  </a:cubicBezTo>
                  <a:cubicBezTo>
                    <a:pt x="1170756" y="807871"/>
                    <a:pt x="1206648" y="769808"/>
                    <a:pt x="1206648" y="769808"/>
                  </a:cubicBezTo>
                  <a:cubicBezTo>
                    <a:pt x="1215884" y="772887"/>
                    <a:pt x="1224621" y="779045"/>
                    <a:pt x="1234357" y="779045"/>
                  </a:cubicBezTo>
                  <a:cubicBezTo>
                    <a:pt x="1250056" y="779045"/>
                    <a:pt x="1265214" y="773214"/>
                    <a:pt x="1280539" y="769808"/>
                  </a:cubicBezTo>
                  <a:cubicBezTo>
                    <a:pt x="1345502" y="755372"/>
                    <a:pt x="1291199" y="766764"/>
                    <a:pt x="1345194" y="751336"/>
                  </a:cubicBezTo>
                  <a:cubicBezTo>
                    <a:pt x="1357400" y="747849"/>
                    <a:pt x="1369824" y="745178"/>
                    <a:pt x="1382139" y="742099"/>
                  </a:cubicBezTo>
                  <a:cubicBezTo>
                    <a:pt x="1428219" y="696019"/>
                    <a:pt x="1435926" y="699994"/>
                    <a:pt x="1456030" y="649736"/>
                  </a:cubicBezTo>
                  <a:cubicBezTo>
                    <a:pt x="1463262" y="631656"/>
                    <a:pt x="1468345" y="612790"/>
                    <a:pt x="1474503" y="594317"/>
                  </a:cubicBezTo>
                  <a:cubicBezTo>
                    <a:pt x="1477582" y="585081"/>
                    <a:pt x="1475638" y="572008"/>
                    <a:pt x="1483739" y="566608"/>
                  </a:cubicBezTo>
                  <a:lnTo>
                    <a:pt x="1511448" y="548136"/>
                  </a:lnTo>
                  <a:cubicBezTo>
                    <a:pt x="1555680" y="489159"/>
                    <a:pt x="1532272" y="524960"/>
                    <a:pt x="1576103" y="437299"/>
                  </a:cubicBezTo>
                  <a:lnTo>
                    <a:pt x="1594576" y="400354"/>
                  </a:lnTo>
                  <a:cubicBezTo>
                    <a:pt x="1591497" y="391118"/>
                    <a:pt x="1591421" y="380248"/>
                    <a:pt x="1585339" y="372645"/>
                  </a:cubicBezTo>
                  <a:cubicBezTo>
                    <a:pt x="1560970" y="342184"/>
                    <a:pt x="1545320" y="356634"/>
                    <a:pt x="1511448" y="363408"/>
                  </a:cubicBezTo>
                  <a:cubicBezTo>
                    <a:pt x="1514527" y="335699"/>
                    <a:pt x="1520685" y="308161"/>
                    <a:pt x="1520685" y="280281"/>
                  </a:cubicBezTo>
                  <a:cubicBezTo>
                    <a:pt x="1520685" y="267587"/>
                    <a:pt x="1514935" y="255542"/>
                    <a:pt x="1511448" y="243336"/>
                  </a:cubicBezTo>
                  <a:cubicBezTo>
                    <a:pt x="1508773" y="233975"/>
                    <a:pt x="1507612" y="223728"/>
                    <a:pt x="1502212" y="215627"/>
                  </a:cubicBezTo>
                  <a:cubicBezTo>
                    <a:pt x="1486534" y="192109"/>
                    <a:pt x="1463243" y="179077"/>
                    <a:pt x="1437557" y="169445"/>
                  </a:cubicBezTo>
                  <a:cubicBezTo>
                    <a:pt x="1425671" y="164988"/>
                    <a:pt x="1412927" y="163287"/>
                    <a:pt x="1400612" y="160208"/>
                  </a:cubicBezTo>
                  <a:lnTo>
                    <a:pt x="1419085" y="132499"/>
                  </a:lnTo>
                  <a:cubicBezTo>
                    <a:pt x="1416006" y="123263"/>
                    <a:pt x="1415930" y="112393"/>
                    <a:pt x="1409848" y="104790"/>
                  </a:cubicBezTo>
                  <a:cubicBezTo>
                    <a:pt x="1402913" y="96122"/>
                    <a:pt x="1392068" y="91281"/>
                    <a:pt x="1382139" y="86317"/>
                  </a:cubicBezTo>
                  <a:cubicBezTo>
                    <a:pt x="1373431" y="81963"/>
                    <a:pt x="1363791" y="79756"/>
                    <a:pt x="1354430" y="77081"/>
                  </a:cubicBezTo>
                  <a:cubicBezTo>
                    <a:pt x="1310882" y="64639"/>
                    <a:pt x="1305154" y="66083"/>
                    <a:pt x="1252830" y="58608"/>
                  </a:cubicBezTo>
                  <a:cubicBezTo>
                    <a:pt x="1234357" y="61687"/>
                    <a:pt x="1215694" y="63782"/>
                    <a:pt x="1197412" y="67845"/>
                  </a:cubicBezTo>
                  <a:cubicBezTo>
                    <a:pt x="1187908" y="69957"/>
                    <a:pt x="1169703" y="67345"/>
                    <a:pt x="1169703" y="77081"/>
                  </a:cubicBezTo>
                  <a:cubicBezTo>
                    <a:pt x="1169703" y="86817"/>
                    <a:pt x="1188176" y="83238"/>
                    <a:pt x="1197412" y="86317"/>
                  </a:cubicBezTo>
                  <a:cubicBezTo>
                    <a:pt x="1191254" y="74002"/>
                    <a:pt x="1189393" y="58332"/>
                    <a:pt x="1178939" y="49372"/>
                  </a:cubicBezTo>
                  <a:cubicBezTo>
                    <a:pt x="1166351" y="38582"/>
                    <a:pt x="1148638" y="35663"/>
                    <a:pt x="1132757" y="30899"/>
                  </a:cubicBezTo>
                  <a:cubicBezTo>
                    <a:pt x="1117721" y="26388"/>
                    <a:pt x="1101806" y="25470"/>
                    <a:pt x="1086576" y="21663"/>
                  </a:cubicBezTo>
                  <a:cubicBezTo>
                    <a:pt x="999922" y="0"/>
                    <a:pt x="1161599" y="23842"/>
                    <a:pt x="975739" y="3190"/>
                  </a:cubicBezTo>
                  <a:cubicBezTo>
                    <a:pt x="966503" y="6269"/>
                    <a:pt x="957577" y="10518"/>
                    <a:pt x="948030" y="12427"/>
                  </a:cubicBezTo>
                  <a:cubicBezTo>
                    <a:pt x="841890" y="33656"/>
                    <a:pt x="918272" y="10031"/>
                    <a:pt x="855667" y="30899"/>
                  </a:cubicBezTo>
                  <a:cubicBezTo>
                    <a:pt x="858746" y="40135"/>
                    <a:pt x="858019" y="51724"/>
                    <a:pt x="864903" y="58608"/>
                  </a:cubicBezTo>
                  <a:cubicBezTo>
                    <a:pt x="883454" y="77160"/>
                    <a:pt x="910808" y="63296"/>
                    <a:pt x="929557" y="58608"/>
                  </a:cubicBezTo>
                  <a:cubicBezTo>
                    <a:pt x="920321" y="52451"/>
                    <a:pt x="911777" y="45100"/>
                    <a:pt x="901848" y="40136"/>
                  </a:cubicBezTo>
                  <a:cubicBezTo>
                    <a:pt x="882910" y="30667"/>
                    <a:pt x="845529" y="25177"/>
                    <a:pt x="827957" y="21663"/>
                  </a:cubicBezTo>
                  <a:cubicBezTo>
                    <a:pt x="800248" y="24742"/>
                    <a:pt x="772168" y="25431"/>
                    <a:pt x="744830" y="30899"/>
                  </a:cubicBezTo>
                  <a:cubicBezTo>
                    <a:pt x="725736" y="34718"/>
                    <a:pt x="689412" y="49372"/>
                    <a:pt x="689412" y="49372"/>
                  </a:cubicBezTo>
                  <a:cubicBezTo>
                    <a:pt x="686333" y="58608"/>
                    <a:pt x="671468" y="72727"/>
                    <a:pt x="680176" y="77081"/>
                  </a:cubicBezTo>
                  <a:cubicBezTo>
                    <a:pt x="694217" y="84102"/>
                    <a:pt x="726357" y="67845"/>
                    <a:pt x="726357" y="6784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Box 11"/>
            <p:cNvSpPr/>
            <p:nvPr/>
          </p:nvSpPr>
          <p:spPr>
            <a:xfrm>
              <a:off x="2438280" y="419076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vers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55"/>
          <p:cNvGrpSpPr/>
          <p:nvPr/>
        </p:nvGrpSpPr>
        <p:grpSpPr>
          <a:xfrm>
            <a:off x="228600" y="3886200"/>
            <a:ext cx="1828800" cy="1219320"/>
            <a:chOff x="228600" y="3886200"/>
            <a:chExt cx="1828800" cy="1219320"/>
          </a:xfrm>
        </p:grpSpPr>
        <p:sp>
          <p:nvSpPr>
            <p:cNvPr id="216" name="Freeform 56"/>
            <p:cNvSpPr/>
            <p:nvPr/>
          </p:nvSpPr>
          <p:spPr>
            <a:xfrm>
              <a:off x="228600" y="3886200"/>
              <a:ext cx="1828800" cy="1219320"/>
            </a:xfrm>
            <a:custGeom>
              <a:avLst/>
              <a:gdLst/>
              <a:ahLst/>
              <a:rect l="l" t="t" r="r" b="b"/>
              <a:pathLst>
                <a:path w="1594576" h="954536">
                  <a:moveTo>
                    <a:pt x="680176" y="132499"/>
                  </a:moveTo>
                  <a:cubicBezTo>
                    <a:pt x="672664" y="109965"/>
                    <a:pt x="670370" y="94984"/>
                    <a:pt x="652467" y="77081"/>
                  </a:cubicBezTo>
                  <a:cubicBezTo>
                    <a:pt x="644617" y="69231"/>
                    <a:pt x="633994" y="64766"/>
                    <a:pt x="624757" y="58608"/>
                  </a:cubicBezTo>
                  <a:cubicBezTo>
                    <a:pt x="569339" y="67844"/>
                    <a:pt x="512316" y="70173"/>
                    <a:pt x="458503" y="86317"/>
                  </a:cubicBezTo>
                  <a:cubicBezTo>
                    <a:pt x="447870" y="89507"/>
                    <a:pt x="441407" y="103012"/>
                    <a:pt x="440030" y="114027"/>
                  </a:cubicBezTo>
                  <a:cubicBezTo>
                    <a:pt x="438083" y="129604"/>
                    <a:pt x="446188" y="144814"/>
                    <a:pt x="449267" y="160208"/>
                  </a:cubicBezTo>
                  <a:cubicBezTo>
                    <a:pt x="452346" y="150972"/>
                    <a:pt x="460104" y="142102"/>
                    <a:pt x="458503" y="132499"/>
                  </a:cubicBezTo>
                  <a:cubicBezTo>
                    <a:pt x="450332" y="83479"/>
                    <a:pt x="407132" y="109490"/>
                    <a:pt x="375376" y="114027"/>
                  </a:cubicBezTo>
                  <a:cubicBezTo>
                    <a:pt x="366140" y="123263"/>
                    <a:pt x="357702" y="133374"/>
                    <a:pt x="347667" y="141736"/>
                  </a:cubicBezTo>
                  <a:cubicBezTo>
                    <a:pt x="339139" y="148842"/>
                    <a:pt x="328254" y="152833"/>
                    <a:pt x="319957" y="160208"/>
                  </a:cubicBezTo>
                  <a:cubicBezTo>
                    <a:pt x="300431" y="177564"/>
                    <a:pt x="287906" y="203944"/>
                    <a:pt x="264539" y="215627"/>
                  </a:cubicBezTo>
                  <a:cubicBezTo>
                    <a:pt x="243502" y="226145"/>
                    <a:pt x="188252" y="249951"/>
                    <a:pt x="162939" y="271045"/>
                  </a:cubicBezTo>
                  <a:cubicBezTo>
                    <a:pt x="152904" y="279407"/>
                    <a:pt x="144466" y="289518"/>
                    <a:pt x="135230" y="298754"/>
                  </a:cubicBezTo>
                  <a:cubicBezTo>
                    <a:pt x="132151" y="307990"/>
                    <a:pt x="117286" y="322109"/>
                    <a:pt x="125994" y="326463"/>
                  </a:cubicBezTo>
                  <a:cubicBezTo>
                    <a:pt x="135923" y="331427"/>
                    <a:pt x="153703" y="319091"/>
                    <a:pt x="153703" y="307990"/>
                  </a:cubicBezTo>
                  <a:cubicBezTo>
                    <a:pt x="153703" y="298254"/>
                    <a:pt x="135230" y="301833"/>
                    <a:pt x="125994" y="298754"/>
                  </a:cubicBezTo>
                  <a:cubicBezTo>
                    <a:pt x="107521" y="317227"/>
                    <a:pt x="78837" y="329388"/>
                    <a:pt x="70576" y="354172"/>
                  </a:cubicBezTo>
                  <a:lnTo>
                    <a:pt x="52103" y="409590"/>
                  </a:lnTo>
                  <a:cubicBezTo>
                    <a:pt x="55182" y="428063"/>
                    <a:pt x="61339" y="446281"/>
                    <a:pt x="61339" y="465008"/>
                  </a:cubicBezTo>
                  <a:cubicBezTo>
                    <a:pt x="61339" y="484129"/>
                    <a:pt x="42970" y="506417"/>
                    <a:pt x="33630" y="520427"/>
                  </a:cubicBezTo>
                  <a:cubicBezTo>
                    <a:pt x="36709" y="548136"/>
                    <a:pt x="30399" y="578618"/>
                    <a:pt x="42867" y="603554"/>
                  </a:cubicBezTo>
                  <a:cubicBezTo>
                    <a:pt x="47221" y="612262"/>
                    <a:pt x="80312" y="594317"/>
                    <a:pt x="70576" y="594317"/>
                  </a:cubicBezTo>
                  <a:cubicBezTo>
                    <a:pt x="57882" y="594317"/>
                    <a:pt x="45945" y="600475"/>
                    <a:pt x="33630" y="603554"/>
                  </a:cubicBezTo>
                  <a:cubicBezTo>
                    <a:pt x="27472" y="612790"/>
                    <a:pt x="20121" y="621334"/>
                    <a:pt x="15157" y="631263"/>
                  </a:cubicBezTo>
                  <a:cubicBezTo>
                    <a:pt x="5684" y="650209"/>
                    <a:pt x="0" y="667735"/>
                    <a:pt x="15157" y="686681"/>
                  </a:cubicBezTo>
                  <a:cubicBezTo>
                    <a:pt x="22092" y="695349"/>
                    <a:pt x="33630" y="698996"/>
                    <a:pt x="42867" y="705154"/>
                  </a:cubicBezTo>
                  <a:cubicBezTo>
                    <a:pt x="27472" y="751336"/>
                    <a:pt x="30551" y="723626"/>
                    <a:pt x="52103" y="788281"/>
                  </a:cubicBezTo>
                  <a:cubicBezTo>
                    <a:pt x="55182" y="797517"/>
                    <a:pt x="52103" y="812911"/>
                    <a:pt x="61339" y="815990"/>
                  </a:cubicBezTo>
                  <a:lnTo>
                    <a:pt x="89048" y="825227"/>
                  </a:lnTo>
                  <a:cubicBezTo>
                    <a:pt x="98284" y="822148"/>
                    <a:pt x="107021" y="815990"/>
                    <a:pt x="116757" y="815990"/>
                  </a:cubicBezTo>
                  <a:cubicBezTo>
                    <a:pt x="126493" y="815990"/>
                    <a:pt x="135105" y="822552"/>
                    <a:pt x="144467" y="825227"/>
                  </a:cubicBezTo>
                  <a:cubicBezTo>
                    <a:pt x="156673" y="828714"/>
                    <a:pt x="169097" y="831384"/>
                    <a:pt x="181412" y="834463"/>
                  </a:cubicBezTo>
                  <a:cubicBezTo>
                    <a:pt x="184491" y="843699"/>
                    <a:pt x="183764" y="855288"/>
                    <a:pt x="190648" y="862172"/>
                  </a:cubicBezTo>
                  <a:cubicBezTo>
                    <a:pt x="209120" y="880644"/>
                    <a:pt x="227595" y="868329"/>
                    <a:pt x="246067" y="862172"/>
                  </a:cubicBezTo>
                  <a:cubicBezTo>
                    <a:pt x="261461" y="865251"/>
                    <a:pt x="277018" y="867600"/>
                    <a:pt x="292248" y="871408"/>
                  </a:cubicBezTo>
                  <a:cubicBezTo>
                    <a:pt x="301693" y="873769"/>
                    <a:pt x="310281" y="881720"/>
                    <a:pt x="319957" y="880645"/>
                  </a:cubicBezTo>
                  <a:cubicBezTo>
                    <a:pt x="339310" y="878495"/>
                    <a:pt x="356903" y="868330"/>
                    <a:pt x="375376" y="862172"/>
                  </a:cubicBezTo>
                  <a:lnTo>
                    <a:pt x="403085" y="852936"/>
                  </a:lnTo>
                  <a:cubicBezTo>
                    <a:pt x="412321" y="856015"/>
                    <a:pt x="422283" y="857444"/>
                    <a:pt x="430794" y="862172"/>
                  </a:cubicBezTo>
                  <a:cubicBezTo>
                    <a:pt x="450202" y="872954"/>
                    <a:pt x="465150" y="892096"/>
                    <a:pt x="486212" y="899117"/>
                  </a:cubicBezTo>
                  <a:cubicBezTo>
                    <a:pt x="555866" y="922337"/>
                    <a:pt x="470003" y="891013"/>
                    <a:pt x="541630" y="926827"/>
                  </a:cubicBezTo>
                  <a:cubicBezTo>
                    <a:pt x="550338" y="931181"/>
                    <a:pt x="560103" y="932984"/>
                    <a:pt x="569339" y="936063"/>
                  </a:cubicBezTo>
                  <a:cubicBezTo>
                    <a:pt x="578575" y="932984"/>
                    <a:pt x="587312" y="926827"/>
                    <a:pt x="597048" y="926827"/>
                  </a:cubicBezTo>
                  <a:cubicBezTo>
                    <a:pt x="656484" y="926827"/>
                    <a:pt x="651854" y="929497"/>
                    <a:pt x="689412" y="954536"/>
                  </a:cubicBezTo>
                  <a:cubicBezTo>
                    <a:pt x="698648" y="951457"/>
                    <a:pt x="708413" y="949653"/>
                    <a:pt x="717121" y="945299"/>
                  </a:cubicBezTo>
                  <a:cubicBezTo>
                    <a:pt x="788741" y="909489"/>
                    <a:pt x="702891" y="940808"/>
                    <a:pt x="772539" y="917590"/>
                  </a:cubicBezTo>
                  <a:cubicBezTo>
                    <a:pt x="781775" y="923748"/>
                    <a:pt x="789147" y="936063"/>
                    <a:pt x="800248" y="936063"/>
                  </a:cubicBezTo>
                  <a:cubicBezTo>
                    <a:pt x="825636" y="936063"/>
                    <a:pt x="874139" y="917590"/>
                    <a:pt x="874139" y="917590"/>
                  </a:cubicBezTo>
                  <a:cubicBezTo>
                    <a:pt x="883375" y="911432"/>
                    <a:pt x="893999" y="906966"/>
                    <a:pt x="901848" y="899117"/>
                  </a:cubicBezTo>
                  <a:cubicBezTo>
                    <a:pt x="928706" y="872259"/>
                    <a:pt x="914194" y="853025"/>
                    <a:pt x="929557" y="899117"/>
                  </a:cubicBezTo>
                  <a:cubicBezTo>
                    <a:pt x="938794" y="896038"/>
                    <a:pt x="947821" y="892242"/>
                    <a:pt x="957267" y="889881"/>
                  </a:cubicBezTo>
                  <a:cubicBezTo>
                    <a:pt x="1010016" y="876694"/>
                    <a:pt x="992973" y="885634"/>
                    <a:pt x="1040394" y="871408"/>
                  </a:cubicBezTo>
                  <a:cubicBezTo>
                    <a:pt x="1059045" y="865813"/>
                    <a:pt x="1077339" y="859094"/>
                    <a:pt x="1095812" y="852936"/>
                  </a:cubicBezTo>
                  <a:cubicBezTo>
                    <a:pt x="1105048" y="849857"/>
                    <a:pt x="1115420" y="849099"/>
                    <a:pt x="1123521" y="843699"/>
                  </a:cubicBezTo>
                  <a:cubicBezTo>
                    <a:pt x="1132757" y="837542"/>
                    <a:pt x="1142933" y="832602"/>
                    <a:pt x="1151230" y="825227"/>
                  </a:cubicBezTo>
                  <a:cubicBezTo>
                    <a:pt x="1170756" y="807871"/>
                    <a:pt x="1206648" y="769808"/>
                    <a:pt x="1206648" y="769808"/>
                  </a:cubicBezTo>
                  <a:cubicBezTo>
                    <a:pt x="1215884" y="772887"/>
                    <a:pt x="1224621" y="779045"/>
                    <a:pt x="1234357" y="779045"/>
                  </a:cubicBezTo>
                  <a:cubicBezTo>
                    <a:pt x="1250056" y="779045"/>
                    <a:pt x="1265214" y="773214"/>
                    <a:pt x="1280539" y="769808"/>
                  </a:cubicBezTo>
                  <a:cubicBezTo>
                    <a:pt x="1345502" y="755372"/>
                    <a:pt x="1291199" y="766764"/>
                    <a:pt x="1345194" y="751336"/>
                  </a:cubicBezTo>
                  <a:cubicBezTo>
                    <a:pt x="1357400" y="747849"/>
                    <a:pt x="1369824" y="745178"/>
                    <a:pt x="1382139" y="742099"/>
                  </a:cubicBezTo>
                  <a:cubicBezTo>
                    <a:pt x="1428219" y="696019"/>
                    <a:pt x="1435926" y="699994"/>
                    <a:pt x="1456030" y="649736"/>
                  </a:cubicBezTo>
                  <a:cubicBezTo>
                    <a:pt x="1463262" y="631656"/>
                    <a:pt x="1468345" y="612790"/>
                    <a:pt x="1474503" y="594317"/>
                  </a:cubicBezTo>
                  <a:cubicBezTo>
                    <a:pt x="1477582" y="585081"/>
                    <a:pt x="1475638" y="572008"/>
                    <a:pt x="1483739" y="566608"/>
                  </a:cubicBezTo>
                  <a:lnTo>
                    <a:pt x="1511448" y="548136"/>
                  </a:lnTo>
                  <a:cubicBezTo>
                    <a:pt x="1555680" y="489159"/>
                    <a:pt x="1532272" y="524960"/>
                    <a:pt x="1576103" y="437299"/>
                  </a:cubicBezTo>
                  <a:lnTo>
                    <a:pt x="1594576" y="400354"/>
                  </a:lnTo>
                  <a:cubicBezTo>
                    <a:pt x="1591497" y="391118"/>
                    <a:pt x="1591421" y="380248"/>
                    <a:pt x="1585339" y="372645"/>
                  </a:cubicBezTo>
                  <a:cubicBezTo>
                    <a:pt x="1560970" y="342184"/>
                    <a:pt x="1545320" y="356634"/>
                    <a:pt x="1511448" y="363408"/>
                  </a:cubicBezTo>
                  <a:cubicBezTo>
                    <a:pt x="1514527" y="335699"/>
                    <a:pt x="1520685" y="308161"/>
                    <a:pt x="1520685" y="280281"/>
                  </a:cubicBezTo>
                  <a:cubicBezTo>
                    <a:pt x="1520685" y="267587"/>
                    <a:pt x="1514935" y="255542"/>
                    <a:pt x="1511448" y="243336"/>
                  </a:cubicBezTo>
                  <a:cubicBezTo>
                    <a:pt x="1508773" y="233975"/>
                    <a:pt x="1507612" y="223728"/>
                    <a:pt x="1502212" y="215627"/>
                  </a:cubicBezTo>
                  <a:cubicBezTo>
                    <a:pt x="1486534" y="192109"/>
                    <a:pt x="1463243" y="179077"/>
                    <a:pt x="1437557" y="169445"/>
                  </a:cubicBezTo>
                  <a:cubicBezTo>
                    <a:pt x="1425671" y="164988"/>
                    <a:pt x="1412927" y="163287"/>
                    <a:pt x="1400612" y="160208"/>
                  </a:cubicBezTo>
                  <a:lnTo>
                    <a:pt x="1419085" y="132499"/>
                  </a:lnTo>
                  <a:cubicBezTo>
                    <a:pt x="1416006" y="123263"/>
                    <a:pt x="1415930" y="112393"/>
                    <a:pt x="1409848" y="104790"/>
                  </a:cubicBezTo>
                  <a:cubicBezTo>
                    <a:pt x="1402913" y="96122"/>
                    <a:pt x="1392068" y="91281"/>
                    <a:pt x="1382139" y="86317"/>
                  </a:cubicBezTo>
                  <a:cubicBezTo>
                    <a:pt x="1373431" y="81963"/>
                    <a:pt x="1363791" y="79756"/>
                    <a:pt x="1354430" y="77081"/>
                  </a:cubicBezTo>
                  <a:cubicBezTo>
                    <a:pt x="1310882" y="64639"/>
                    <a:pt x="1305154" y="66083"/>
                    <a:pt x="1252830" y="58608"/>
                  </a:cubicBezTo>
                  <a:cubicBezTo>
                    <a:pt x="1234357" y="61687"/>
                    <a:pt x="1215694" y="63782"/>
                    <a:pt x="1197412" y="67845"/>
                  </a:cubicBezTo>
                  <a:cubicBezTo>
                    <a:pt x="1187908" y="69957"/>
                    <a:pt x="1169703" y="67345"/>
                    <a:pt x="1169703" y="77081"/>
                  </a:cubicBezTo>
                  <a:cubicBezTo>
                    <a:pt x="1169703" y="86817"/>
                    <a:pt x="1188176" y="83238"/>
                    <a:pt x="1197412" y="86317"/>
                  </a:cubicBezTo>
                  <a:cubicBezTo>
                    <a:pt x="1191254" y="74002"/>
                    <a:pt x="1189393" y="58332"/>
                    <a:pt x="1178939" y="49372"/>
                  </a:cubicBezTo>
                  <a:cubicBezTo>
                    <a:pt x="1166351" y="38582"/>
                    <a:pt x="1148638" y="35663"/>
                    <a:pt x="1132757" y="30899"/>
                  </a:cubicBezTo>
                  <a:cubicBezTo>
                    <a:pt x="1117721" y="26388"/>
                    <a:pt x="1101806" y="25470"/>
                    <a:pt x="1086576" y="21663"/>
                  </a:cubicBezTo>
                  <a:cubicBezTo>
                    <a:pt x="999922" y="0"/>
                    <a:pt x="1161599" y="23842"/>
                    <a:pt x="975739" y="3190"/>
                  </a:cubicBezTo>
                  <a:cubicBezTo>
                    <a:pt x="966503" y="6269"/>
                    <a:pt x="957577" y="10518"/>
                    <a:pt x="948030" y="12427"/>
                  </a:cubicBezTo>
                  <a:cubicBezTo>
                    <a:pt x="841890" y="33656"/>
                    <a:pt x="918272" y="10031"/>
                    <a:pt x="855667" y="30899"/>
                  </a:cubicBezTo>
                  <a:cubicBezTo>
                    <a:pt x="858746" y="40135"/>
                    <a:pt x="858019" y="51724"/>
                    <a:pt x="864903" y="58608"/>
                  </a:cubicBezTo>
                  <a:cubicBezTo>
                    <a:pt x="883454" y="77160"/>
                    <a:pt x="910808" y="63296"/>
                    <a:pt x="929557" y="58608"/>
                  </a:cubicBezTo>
                  <a:cubicBezTo>
                    <a:pt x="920321" y="52451"/>
                    <a:pt x="911777" y="45100"/>
                    <a:pt x="901848" y="40136"/>
                  </a:cubicBezTo>
                  <a:cubicBezTo>
                    <a:pt x="882910" y="30667"/>
                    <a:pt x="845529" y="25177"/>
                    <a:pt x="827957" y="21663"/>
                  </a:cubicBezTo>
                  <a:cubicBezTo>
                    <a:pt x="800248" y="24742"/>
                    <a:pt x="772168" y="25431"/>
                    <a:pt x="744830" y="30899"/>
                  </a:cubicBezTo>
                  <a:cubicBezTo>
                    <a:pt x="725736" y="34718"/>
                    <a:pt x="689412" y="49372"/>
                    <a:pt x="689412" y="49372"/>
                  </a:cubicBezTo>
                  <a:cubicBezTo>
                    <a:pt x="686333" y="58608"/>
                    <a:pt x="671468" y="72727"/>
                    <a:pt x="680176" y="77081"/>
                  </a:cubicBezTo>
                  <a:cubicBezTo>
                    <a:pt x="694217" y="84102"/>
                    <a:pt x="726357" y="67845"/>
                    <a:pt x="726357" y="6784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11"/>
            <p:cNvSpPr/>
            <p:nvPr/>
          </p:nvSpPr>
          <p:spPr>
            <a:xfrm>
              <a:off x="228600" y="4275720"/>
              <a:ext cx="174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R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rying Service Mod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Service Provider (ISP) provides Internet and circuit to your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P is different from provider of circu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situation when you have choices in both ISP and provider of telecom or fiber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tion is the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ber Opt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er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 mode: don’t bother if run is over 20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mode: use fiber optimized for 1310/1550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in star configuration from core network location to individual buil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run in star configuration inside of buildings from main phone closet to other clo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duce costs, can run large fiber cable from core to some remote location, then smaller cables from there to surrounding buil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for future -- Install enough fi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: 6 multimode plus 6 single mode from core to each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: 6 multimode plus 6 single mode from building entrance network closet to every other network closet in the buil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6934320" y="3505320"/>
          <a:ext cx="81252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3505320"/>
                    <a:ext cx="81252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1219320" y="4648320"/>
            <a:ext cx="11430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network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6"/>
          <p:cNvGraphicFramePr/>
          <p:nvPr/>
        </p:nvGraphicFramePr>
        <p:xfrm>
          <a:off x="5638680" y="4800600"/>
          <a:ext cx="812880" cy="94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4800600"/>
                    <a:ext cx="81288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7"/>
          <p:cNvGraphicFramePr/>
          <p:nvPr/>
        </p:nvGraphicFramePr>
        <p:xfrm>
          <a:off x="7772400" y="4191120"/>
          <a:ext cx="812880" cy="94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72400" y="4191120"/>
                    <a:ext cx="81288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8"/>
          <p:cNvGraphicFramePr/>
          <p:nvPr/>
        </p:nvGraphicFramePr>
        <p:xfrm>
          <a:off x="7696080" y="5486400"/>
          <a:ext cx="812880" cy="947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2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96080" y="5486400"/>
                    <a:ext cx="81288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Line 9"/>
          <p:cNvSpPr/>
          <p:nvPr/>
        </p:nvSpPr>
        <p:spPr>
          <a:xfrm>
            <a:off x="2362320" y="5105520"/>
            <a:ext cx="32763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4648320" y="45720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to be 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6705720" y="50292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by buil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ber Opt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762120" y="1600200"/>
            <a:ext cx="12189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Core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5105520" y="1905120"/>
            <a:ext cx="9144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work Close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28600" y="3962520"/>
            <a:ext cx="1219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6781680" y="2590920"/>
            <a:ext cx="9144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work Close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4724280" y="1600200"/>
            <a:ext cx="34290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5718240" y="121932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5257800" y="3733920"/>
            <a:ext cx="9144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work Close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0"/>
          <p:cNvSpPr/>
          <p:nvPr/>
        </p:nvSpPr>
        <p:spPr>
          <a:xfrm>
            <a:off x="6019920" y="213372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1"/>
          <p:cNvSpPr/>
          <p:nvPr/>
        </p:nvSpPr>
        <p:spPr>
          <a:xfrm>
            <a:off x="5562720" y="2286000"/>
            <a:ext cx="15228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4"/>
          <p:cNvSpPr/>
          <p:nvPr/>
        </p:nvSpPr>
        <p:spPr>
          <a:xfrm>
            <a:off x="3733920" y="5257800"/>
            <a:ext cx="1218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5"/>
          <p:cNvSpPr/>
          <p:nvPr/>
        </p:nvSpPr>
        <p:spPr>
          <a:xfrm>
            <a:off x="1447920" y="4572000"/>
            <a:ext cx="1218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6"/>
          <p:cNvSpPr/>
          <p:nvPr/>
        </p:nvSpPr>
        <p:spPr>
          <a:xfrm>
            <a:off x="3048120" y="3733920"/>
            <a:ext cx="1218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57"/>
          <p:cNvSpPr/>
          <p:nvPr/>
        </p:nvSpPr>
        <p:spPr>
          <a:xfrm>
            <a:off x="1981080" y="1981080"/>
            <a:ext cx="31244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8"/>
          <p:cNvSpPr/>
          <p:nvPr/>
        </p:nvSpPr>
        <p:spPr>
          <a:xfrm flipH="1">
            <a:off x="3809520" y="2209680"/>
            <a:ext cx="129564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59"/>
          <p:cNvSpPr/>
          <p:nvPr/>
        </p:nvSpPr>
        <p:spPr>
          <a:xfrm flipH="1">
            <a:off x="4190760" y="2286000"/>
            <a:ext cx="106668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60"/>
          <p:cNvSpPr/>
          <p:nvPr/>
        </p:nvSpPr>
        <p:spPr>
          <a:xfrm>
            <a:off x="1523880" y="2514600"/>
            <a:ext cx="6098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61"/>
          <p:cNvSpPr/>
          <p:nvPr/>
        </p:nvSpPr>
        <p:spPr>
          <a:xfrm flipH="1">
            <a:off x="837720" y="2514600"/>
            <a:ext cx="38124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77"/>
          <p:cNvSpPr/>
          <p:nvPr/>
        </p:nvSpPr>
        <p:spPr>
          <a:xfrm>
            <a:off x="3124080" y="18288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9"/>
          <p:cNvSpPr/>
          <p:nvPr/>
        </p:nvSpPr>
        <p:spPr>
          <a:xfrm>
            <a:off x="5334120" y="28954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80"/>
          <p:cNvSpPr/>
          <p:nvPr/>
        </p:nvSpPr>
        <p:spPr>
          <a:xfrm>
            <a:off x="6248520" y="22096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1"/>
          <p:cNvSpPr/>
          <p:nvPr/>
        </p:nvSpPr>
        <p:spPr>
          <a:xfrm>
            <a:off x="1447920" y="35053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2"/>
          <p:cNvSpPr/>
          <p:nvPr/>
        </p:nvSpPr>
        <p:spPr>
          <a:xfrm>
            <a:off x="609480" y="3200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3"/>
          <p:cNvSpPr/>
          <p:nvPr/>
        </p:nvSpPr>
        <p:spPr>
          <a:xfrm>
            <a:off x="3809880" y="48006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84"/>
          <p:cNvSpPr/>
          <p:nvPr/>
        </p:nvSpPr>
        <p:spPr>
          <a:xfrm>
            <a:off x="3733920" y="31240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all have some ugly w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P1010224"/>
          <p:cNvPicPr/>
          <p:nvPr/>
        </p:nvPicPr>
        <p:blipFill>
          <a:blip r:embed="rId1"/>
          <a:stretch/>
        </p:blipFill>
        <p:spPr>
          <a:xfrm>
            <a:off x="838080" y="1257480"/>
            <a:ext cx="746784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on H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2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utdoor cable between buil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mored (to protect against rod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s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ndoor cabling inside buil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ght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ize on Conn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 mode: ST or SC (epoxy or hot me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mode: SC or LC (fusion splice factory pigtails, however hand polish is OK if done proper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ber Optic Cable 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ber has bend radius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P5040152-1"/>
          <p:cNvPicPr/>
          <p:nvPr/>
        </p:nvPicPr>
        <p:blipFill>
          <a:blip r:embed="rId1"/>
          <a:stretch/>
        </p:blipFill>
        <p:spPr>
          <a:xfrm>
            <a:off x="2362320" y="2209680"/>
            <a:ext cx="44193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Object 22"/>
          <p:cNvGraphicFramePr/>
          <p:nvPr/>
        </p:nvGraphicFramePr>
        <p:xfrm>
          <a:off x="533520" y="3429000"/>
          <a:ext cx="1447560" cy="168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429000"/>
                    <a:ext cx="1447560" cy="16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Construction H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cable installed in underground condu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ore than 200m between pull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distance by 50m for every 90 degrees of b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3"/>
          <p:cNvGraphicFramePr/>
          <p:nvPr/>
        </p:nvGraphicFramePr>
        <p:xfrm>
          <a:off x="6934320" y="3429000"/>
          <a:ext cx="1447560" cy="168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3429000"/>
                    <a:ext cx="1447560" cy="16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Rectangle 5"/>
          <p:cNvSpPr/>
          <p:nvPr/>
        </p:nvSpPr>
        <p:spPr>
          <a:xfrm>
            <a:off x="1523880" y="4572000"/>
            <a:ext cx="15264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6"/>
          <p:cNvSpPr/>
          <p:nvPr/>
        </p:nvSpPr>
        <p:spPr>
          <a:xfrm>
            <a:off x="1558800" y="4470480"/>
            <a:ext cx="6643800" cy="1792080"/>
          </a:xfrm>
          <a:custGeom>
            <a:avLst/>
            <a:gdLst/>
            <a:ahLst/>
            <a:rect l="l" t="t" r="r" b="b"/>
            <a:pathLst>
              <a:path w="6643470" h="1791855">
                <a:moveTo>
                  <a:pt x="48706" y="286327"/>
                </a:moveTo>
                <a:cubicBezTo>
                  <a:pt x="0" y="359388"/>
                  <a:pt x="36324" y="294797"/>
                  <a:pt x="20997" y="471055"/>
                </a:cubicBezTo>
                <a:cubicBezTo>
                  <a:pt x="19178" y="491972"/>
                  <a:pt x="7053" y="550012"/>
                  <a:pt x="2524" y="572655"/>
                </a:cubicBezTo>
                <a:cubicBezTo>
                  <a:pt x="10340" y="596103"/>
                  <a:pt x="25610" y="650008"/>
                  <a:pt x="48706" y="655782"/>
                </a:cubicBezTo>
                <a:lnTo>
                  <a:pt x="85652" y="665018"/>
                </a:lnTo>
                <a:cubicBezTo>
                  <a:pt x="101046" y="661939"/>
                  <a:pt x="116509" y="659188"/>
                  <a:pt x="131834" y="655782"/>
                </a:cubicBezTo>
                <a:cubicBezTo>
                  <a:pt x="168151" y="647711"/>
                  <a:pt x="175943" y="642883"/>
                  <a:pt x="214961" y="637309"/>
                </a:cubicBezTo>
                <a:cubicBezTo>
                  <a:pt x="287873" y="626893"/>
                  <a:pt x="363598" y="623401"/>
                  <a:pt x="436634" y="618836"/>
                </a:cubicBezTo>
                <a:lnTo>
                  <a:pt x="593652" y="609600"/>
                </a:lnTo>
                <a:cubicBezTo>
                  <a:pt x="615203" y="606521"/>
                  <a:pt x="636685" y="602908"/>
                  <a:pt x="658306" y="600364"/>
                </a:cubicBezTo>
                <a:cubicBezTo>
                  <a:pt x="689036" y="596749"/>
                  <a:pt x="720000" y="595216"/>
                  <a:pt x="750670" y="591127"/>
                </a:cubicBezTo>
                <a:cubicBezTo>
                  <a:pt x="785491" y="586484"/>
                  <a:pt x="800873" y="579972"/>
                  <a:pt x="833797" y="572655"/>
                </a:cubicBezTo>
                <a:cubicBezTo>
                  <a:pt x="849122" y="569249"/>
                  <a:pt x="864682" y="566948"/>
                  <a:pt x="879979" y="563418"/>
                </a:cubicBezTo>
                <a:cubicBezTo>
                  <a:pt x="904717" y="557709"/>
                  <a:pt x="929240" y="551103"/>
                  <a:pt x="953870" y="544945"/>
                </a:cubicBezTo>
                <a:cubicBezTo>
                  <a:pt x="966185" y="541866"/>
                  <a:pt x="978367" y="538198"/>
                  <a:pt x="990815" y="535709"/>
                </a:cubicBezTo>
                <a:cubicBezTo>
                  <a:pt x="1006209" y="532630"/>
                  <a:pt x="1021700" y="530003"/>
                  <a:pt x="1036997" y="526473"/>
                </a:cubicBezTo>
                <a:cubicBezTo>
                  <a:pt x="1061735" y="520764"/>
                  <a:pt x="1085993" y="512979"/>
                  <a:pt x="1110888" y="508000"/>
                </a:cubicBezTo>
                <a:cubicBezTo>
                  <a:pt x="1137272" y="502724"/>
                  <a:pt x="1167914" y="497357"/>
                  <a:pt x="1194015" y="489527"/>
                </a:cubicBezTo>
                <a:cubicBezTo>
                  <a:pt x="1212666" y="483932"/>
                  <a:pt x="1230961" y="477213"/>
                  <a:pt x="1249434" y="471055"/>
                </a:cubicBezTo>
                <a:cubicBezTo>
                  <a:pt x="1258670" y="467976"/>
                  <a:pt x="1267698" y="464179"/>
                  <a:pt x="1277143" y="461818"/>
                </a:cubicBezTo>
                <a:cubicBezTo>
                  <a:pt x="1289458" y="458739"/>
                  <a:pt x="1301882" y="456069"/>
                  <a:pt x="1314088" y="452582"/>
                </a:cubicBezTo>
                <a:cubicBezTo>
                  <a:pt x="1323449" y="449907"/>
                  <a:pt x="1332404" y="445907"/>
                  <a:pt x="1341797" y="443345"/>
                </a:cubicBezTo>
                <a:cubicBezTo>
                  <a:pt x="1366291" y="436665"/>
                  <a:pt x="1391603" y="432902"/>
                  <a:pt x="1415688" y="424873"/>
                </a:cubicBezTo>
                <a:lnTo>
                  <a:pt x="1498815" y="397164"/>
                </a:lnTo>
                <a:cubicBezTo>
                  <a:pt x="1508051" y="394085"/>
                  <a:pt x="1517079" y="390288"/>
                  <a:pt x="1526524" y="387927"/>
                </a:cubicBezTo>
                <a:cubicBezTo>
                  <a:pt x="1619296" y="364735"/>
                  <a:pt x="1576337" y="377482"/>
                  <a:pt x="1655834" y="350982"/>
                </a:cubicBezTo>
                <a:lnTo>
                  <a:pt x="1738961" y="323273"/>
                </a:lnTo>
                <a:lnTo>
                  <a:pt x="1766670" y="314036"/>
                </a:lnTo>
                <a:lnTo>
                  <a:pt x="1794379" y="304800"/>
                </a:lnTo>
                <a:cubicBezTo>
                  <a:pt x="1873790" y="251859"/>
                  <a:pt x="1773317" y="315331"/>
                  <a:pt x="1849797" y="277091"/>
                </a:cubicBezTo>
                <a:cubicBezTo>
                  <a:pt x="1921416" y="241281"/>
                  <a:pt x="1835568" y="272597"/>
                  <a:pt x="1905215" y="249382"/>
                </a:cubicBezTo>
                <a:cubicBezTo>
                  <a:pt x="1914451" y="243224"/>
                  <a:pt x="1922995" y="235873"/>
                  <a:pt x="1932924" y="230909"/>
                </a:cubicBezTo>
                <a:cubicBezTo>
                  <a:pt x="1941632" y="226555"/>
                  <a:pt x="1952533" y="227074"/>
                  <a:pt x="1960634" y="221673"/>
                </a:cubicBezTo>
                <a:cubicBezTo>
                  <a:pt x="1971502" y="214428"/>
                  <a:pt x="1978308" y="202326"/>
                  <a:pt x="1988343" y="193964"/>
                </a:cubicBezTo>
                <a:cubicBezTo>
                  <a:pt x="2012217" y="174069"/>
                  <a:pt x="2015989" y="175512"/>
                  <a:pt x="2043761" y="166255"/>
                </a:cubicBezTo>
                <a:cubicBezTo>
                  <a:pt x="2062234" y="153940"/>
                  <a:pt x="2078117" y="136330"/>
                  <a:pt x="2099179" y="129309"/>
                </a:cubicBezTo>
                <a:cubicBezTo>
                  <a:pt x="2117652" y="123151"/>
                  <a:pt x="2138395" y="121637"/>
                  <a:pt x="2154597" y="110836"/>
                </a:cubicBezTo>
                <a:lnTo>
                  <a:pt x="2210015" y="73891"/>
                </a:lnTo>
                <a:cubicBezTo>
                  <a:pt x="2219251" y="67733"/>
                  <a:pt x="2227193" y="58928"/>
                  <a:pt x="2237724" y="55418"/>
                </a:cubicBezTo>
                <a:lnTo>
                  <a:pt x="2320852" y="27709"/>
                </a:lnTo>
                <a:cubicBezTo>
                  <a:pt x="2342809" y="20390"/>
                  <a:pt x="2362318" y="13101"/>
                  <a:pt x="2385506" y="9236"/>
                </a:cubicBezTo>
                <a:cubicBezTo>
                  <a:pt x="2409990" y="5155"/>
                  <a:pt x="2434767" y="3079"/>
                  <a:pt x="2459397" y="0"/>
                </a:cubicBezTo>
                <a:cubicBezTo>
                  <a:pt x="2477870" y="6158"/>
                  <a:pt x="2504014" y="2271"/>
                  <a:pt x="2514815" y="18473"/>
                </a:cubicBezTo>
                <a:cubicBezTo>
                  <a:pt x="2539446" y="55418"/>
                  <a:pt x="2524052" y="40024"/>
                  <a:pt x="2560997" y="64655"/>
                </a:cubicBezTo>
                <a:cubicBezTo>
                  <a:pt x="2579160" y="91899"/>
                  <a:pt x="2580511" y="97850"/>
                  <a:pt x="2607179" y="120073"/>
                </a:cubicBezTo>
                <a:cubicBezTo>
                  <a:pt x="2615707" y="127179"/>
                  <a:pt x="2625652" y="132388"/>
                  <a:pt x="2634888" y="138545"/>
                </a:cubicBezTo>
                <a:cubicBezTo>
                  <a:pt x="2644124" y="150860"/>
                  <a:pt x="2650771" y="165636"/>
                  <a:pt x="2662597" y="175491"/>
                </a:cubicBezTo>
                <a:cubicBezTo>
                  <a:pt x="2670076" y="181724"/>
                  <a:pt x="2682703" y="178645"/>
                  <a:pt x="2690306" y="184727"/>
                </a:cubicBezTo>
                <a:cubicBezTo>
                  <a:pt x="2698974" y="191662"/>
                  <a:pt x="2700425" y="205126"/>
                  <a:pt x="2708779" y="212436"/>
                </a:cubicBezTo>
                <a:cubicBezTo>
                  <a:pt x="2725487" y="227056"/>
                  <a:pt x="2748498" y="233683"/>
                  <a:pt x="2764197" y="249382"/>
                </a:cubicBezTo>
                <a:cubicBezTo>
                  <a:pt x="2773433" y="258618"/>
                  <a:pt x="2781038" y="269845"/>
                  <a:pt x="2791906" y="277091"/>
                </a:cubicBezTo>
                <a:cubicBezTo>
                  <a:pt x="2800007" y="282491"/>
                  <a:pt x="2810379" y="283248"/>
                  <a:pt x="2819615" y="286327"/>
                </a:cubicBezTo>
                <a:cubicBezTo>
                  <a:pt x="2900566" y="367278"/>
                  <a:pt x="2797879" y="268213"/>
                  <a:pt x="2875034" y="332509"/>
                </a:cubicBezTo>
                <a:cubicBezTo>
                  <a:pt x="2885069" y="340871"/>
                  <a:pt x="2891875" y="352972"/>
                  <a:pt x="2902743" y="360218"/>
                </a:cubicBezTo>
                <a:cubicBezTo>
                  <a:pt x="2910844" y="365619"/>
                  <a:pt x="2921941" y="364727"/>
                  <a:pt x="2930452" y="369455"/>
                </a:cubicBezTo>
                <a:cubicBezTo>
                  <a:pt x="3014492" y="416144"/>
                  <a:pt x="2959726" y="389231"/>
                  <a:pt x="3013579" y="434109"/>
                </a:cubicBezTo>
                <a:cubicBezTo>
                  <a:pt x="3022107" y="441216"/>
                  <a:pt x="3032760" y="445475"/>
                  <a:pt x="3041288" y="452582"/>
                </a:cubicBezTo>
                <a:cubicBezTo>
                  <a:pt x="3051323" y="460944"/>
                  <a:pt x="3058962" y="471929"/>
                  <a:pt x="3068997" y="480291"/>
                </a:cubicBezTo>
                <a:cubicBezTo>
                  <a:pt x="3077525" y="487398"/>
                  <a:pt x="3088409" y="491389"/>
                  <a:pt x="3096706" y="498764"/>
                </a:cubicBezTo>
                <a:cubicBezTo>
                  <a:pt x="3116232" y="516120"/>
                  <a:pt x="3133651" y="535709"/>
                  <a:pt x="3152124" y="554182"/>
                </a:cubicBezTo>
                <a:lnTo>
                  <a:pt x="3179834" y="581891"/>
                </a:lnTo>
                <a:cubicBezTo>
                  <a:pt x="3189070" y="591127"/>
                  <a:pt x="3196675" y="602354"/>
                  <a:pt x="3207543" y="609600"/>
                </a:cubicBezTo>
                <a:lnTo>
                  <a:pt x="3235252" y="628073"/>
                </a:lnTo>
                <a:cubicBezTo>
                  <a:pt x="3241409" y="637309"/>
                  <a:pt x="3245370" y="648472"/>
                  <a:pt x="3253724" y="655782"/>
                </a:cubicBezTo>
                <a:cubicBezTo>
                  <a:pt x="3270432" y="670402"/>
                  <a:pt x="3290670" y="680412"/>
                  <a:pt x="3309143" y="692727"/>
                </a:cubicBezTo>
                <a:cubicBezTo>
                  <a:pt x="3318379" y="698885"/>
                  <a:pt x="3329003" y="703351"/>
                  <a:pt x="3336852" y="711200"/>
                </a:cubicBezTo>
                <a:cubicBezTo>
                  <a:pt x="3417804" y="792152"/>
                  <a:pt x="3315115" y="693086"/>
                  <a:pt x="3392270" y="757382"/>
                </a:cubicBezTo>
                <a:cubicBezTo>
                  <a:pt x="3402305" y="765744"/>
                  <a:pt x="3409944" y="776729"/>
                  <a:pt x="3419979" y="785091"/>
                </a:cubicBezTo>
                <a:cubicBezTo>
                  <a:pt x="3428507" y="792198"/>
                  <a:pt x="3439160" y="796457"/>
                  <a:pt x="3447688" y="803564"/>
                </a:cubicBezTo>
                <a:cubicBezTo>
                  <a:pt x="3457723" y="811926"/>
                  <a:pt x="3465362" y="822911"/>
                  <a:pt x="3475397" y="831273"/>
                </a:cubicBezTo>
                <a:cubicBezTo>
                  <a:pt x="3483925" y="838379"/>
                  <a:pt x="3494578" y="842639"/>
                  <a:pt x="3503106" y="849745"/>
                </a:cubicBezTo>
                <a:cubicBezTo>
                  <a:pt x="3513141" y="858107"/>
                  <a:pt x="3520504" y="869435"/>
                  <a:pt x="3530815" y="877455"/>
                </a:cubicBezTo>
                <a:cubicBezTo>
                  <a:pt x="3548340" y="891085"/>
                  <a:pt x="3570535" y="898701"/>
                  <a:pt x="3586234" y="914400"/>
                </a:cubicBezTo>
                <a:cubicBezTo>
                  <a:pt x="3595470" y="923636"/>
                  <a:pt x="3603632" y="934090"/>
                  <a:pt x="3613943" y="942109"/>
                </a:cubicBezTo>
                <a:cubicBezTo>
                  <a:pt x="3631468" y="955739"/>
                  <a:pt x="3653662" y="963356"/>
                  <a:pt x="3669361" y="979055"/>
                </a:cubicBezTo>
                <a:cubicBezTo>
                  <a:pt x="3689790" y="999484"/>
                  <a:pt x="3699059" y="1012376"/>
                  <a:pt x="3724779" y="1025236"/>
                </a:cubicBezTo>
                <a:cubicBezTo>
                  <a:pt x="3733487" y="1029590"/>
                  <a:pt x="3743252" y="1031394"/>
                  <a:pt x="3752488" y="1034473"/>
                </a:cubicBezTo>
                <a:cubicBezTo>
                  <a:pt x="3833440" y="1115425"/>
                  <a:pt x="3730751" y="1016359"/>
                  <a:pt x="3807906" y="1080655"/>
                </a:cubicBezTo>
                <a:cubicBezTo>
                  <a:pt x="3817941" y="1089017"/>
                  <a:pt x="3825304" y="1100345"/>
                  <a:pt x="3835615" y="1108364"/>
                </a:cubicBezTo>
                <a:cubicBezTo>
                  <a:pt x="3853140" y="1121994"/>
                  <a:pt x="3891034" y="1145309"/>
                  <a:pt x="3891034" y="1145309"/>
                </a:cubicBezTo>
                <a:cubicBezTo>
                  <a:pt x="3897191" y="1154545"/>
                  <a:pt x="3900838" y="1166083"/>
                  <a:pt x="3909506" y="1173018"/>
                </a:cubicBezTo>
                <a:cubicBezTo>
                  <a:pt x="3917108" y="1179100"/>
                  <a:pt x="3928704" y="1177527"/>
                  <a:pt x="3937215" y="1182255"/>
                </a:cubicBezTo>
                <a:cubicBezTo>
                  <a:pt x="3956623" y="1193037"/>
                  <a:pt x="3974161" y="1206885"/>
                  <a:pt x="3992634" y="1219200"/>
                </a:cubicBezTo>
                <a:lnTo>
                  <a:pt x="3992634" y="1219200"/>
                </a:lnTo>
                <a:cubicBezTo>
                  <a:pt x="4073586" y="1300152"/>
                  <a:pt x="3970897" y="1201086"/>
                  <a:pt x="4048052" y="1265382"/>
                </a:cubicBezTo>
                <a:cubicBezTo>
                  <a:pt x="4058087" y="1273744"/>
                  <a:pt x="4065450" y="1285072"/>
                  <a:pt x="4075761" y="1293091"/>
                </a:cubicBezTo>
                <a:cubicBezTo>
                  <a:pt x="4123399" y="1330142"/>
                  <a:pt x="4117081" y="1325336"/>
                  <a:pt x="4158888" y="1339273"/>
                </a:cubicBezTo>
                <a:cubicBezTo>
                  <a:pt x="4168124" y="1348509"/>
                  <a:pt x="4176286" y="1358963"/>
                  <a:pt x="4186597" y="1366982"/>
                </a:cubicBezTo>
                <a:cubicBezTo>
                  <a:pt x="4204122" y="1380612"/>
                  <a:pt x="4226316" y="1388228"/>
                  <a:pt x="4242015" y="1403927"/>
                </a:cubicBezTo>
                <a:cubicBezTo>
                  <a:pt x="4260488" y="1422400"/>
                  <a:pt x="4275697" y="1444854"/>
                  <a:pt x="4297434" y="1459345"/>
                </a:cubicBezTo>
                <a:cubicBezTo>
                  <a:pt x="4306670" y="1465503"/>
                  <a:pt x="4316846" y="1470443"/>
                  <a:pt x="4325143" y="1477818"/>
                </a:cubicBezTo>
                <a:cubicBezTo>
                  <a:pt x="4344669" y="1495174"/>
                  <a:pt x="4362088" y="1514763"/>
                  <a:pt x="4380561" y="1533236"/>
                </a:cubicBezTo>
                <a:cubicBezTo>
                  <a:pt x="4389797" y="1542472"/>
                  <a:pt x="4397402" y="1553699"/>
                  <a:pt x="4408270" y="1560945"/>
                </a:cubicBezTo>
                <a:lnTo>
                  <a:pt x="4463688" y="1597891"/>
                </a:lnTo>
                <a:lnTo>
                  <a:pt x="4519106" y="1634836"/>
                </a:lnTo>
                <a:cubicBezTo>
                  <a:pt x="4528342" y="1637915"/>
                  <a:pt x="4538107" y="1639719"/>
                  <a:pt x="4546815" y="1644073"/>
                </a:cubicBezTo>
                <a:cubicBezTo>
                  <a:pt x="4556744" y="1649037"/>
                  <a:pt x="4564380" y="1658037"/>
                  <a:pt x="4574524" y="1662545"/>
                </a:cubicBezTo>
                <a:cubicBezTo>
                  <a:pt x="4592318" y="1670453"/>
                  <a:pt x="4629943" y="1681018"/>
                  <a:pt x="4629943" y="1681018"/>
                </a:cubicBezTo>
                <a:cubicBezTo>
                  <a:pt x="4636100" y="1690254"/>
                  <a:pt x="4639002" y="1702844"/>
                  <a:pt x="4648415" y="1708727"/>
                </a:cubicBezTo>
                <a:cubicBezTo>
                  <a:pt x="4648419" y="1708730"/>
                  <a:pt x="4717686" y="1731817"/>
                  <a:pt x="4731543" y="1736436"/>
                </a:cubicBezTo>
                <a:lnTo>
                  <a:pt x="4814670" y="1764145"/>
                </a:lnTo>
                <a:lnTo>
                  <a:pt x="4870088" y="1782618"/>
                </a:lnTo>
                <a:lnTo>
                  <a:pt x="4916270" y="1791855"/>
                </a:lnTo>
                <a:cubicBezTo>
                  <a:pt x="4963677" y="1785082"/>
                  <a:pt x="4983221" y="1783509"/>
                  <a:pt x="5027106" y="1773382"/>
                </a:cubicBezTo>
                <a:cubicBezTo>
                  <a:pt x="5051844" y="1767673"/>
                  <a:pt x="5076912" y="1762938"/>
                  <a:pt x="5100997" y="1754909"/>
                </a:cubicBezTo>
                <a:cubicBezTo>
                  <a:pt x="5119470" y="1748751"/>
                  <a:pt x="5138999" y="1745144"/>
                  <a:pt x="5156415" y="1736436"/>
                </a:cubicBezTo>
                <a:cubicBezTo>
                  <a:pt x="5168730" y="1730279"/>
                  <a:pt x="5180577" y="1723078"/>
                  <a:pt x="5193361" y="1717964"/>
                </a:cubicBezTo>
                <a:cubicBezTo>
                  <a:pt x="5211440" y="1710732"/>
                  <a:pt x="5248779" y="1699491"/>
                  <a:pt x="5248779" y="1699491"/>
                </a:cubicBezTo>
                <a:lnTo>
                  <a:pt x="5304197" y="1662545"/>
                </a:lnTo>
                <a:cubicBezTo>
                  <a:pt x="5313433" y="1656388"/>
                  <a:pt x="5324057" y="1651922"/>
                  <a:pt x="5331906" y="1644073"/>
                </a:cubicBezTo>
                <a:cubicBezTo>
                  <a:pt x="5366499" y="1609480"/>
                  <a:pt x="5347223" y="1620495"/>
                  <a:pt x="5387324" y="1607127"/>
                </a:cubicBezTo>
                <a:cubicBezTo>
                  <a:pt x="5407750" y="1586702"/>
                  <a:pt x="5417027" y="1573803"/>
                  <a:pt x="5442743" y="1560945"/>
                </a:cubicBezTo>
                <a:cubicBezTo>
                  <a:pt x="5451451" y="1556591"/>
                  <a:pt x="5461216" y="1554788"/>
                  <a:pt x="5470452" y="1551709"/>
                </a:cubicBezTo>
                <a:cubicBezTo>
                  <a:pt x="5479688" y="1545551"/>
                  <a:pt x="5487958" y="1537609"/>
                  <a:pt x="5498161" y="1533236"/>
                </a:cubicBezTo>
                <a:cubicBezTo>
                  <a:pt x="5509829" y="1528236"/>
                  <a:pt x="5522900" y="1527487"/>
                  <a:pt x="5535106" y="1524000"/>
                </a:cubicBezTo>
                <a:cubicBezTo>
                  <a:pt x="5544467" y="1521325"/>
                  <a:pt x="5553579" y="1517843"/>
                  <a:pt x="5562815" y="1514764"/>
                </a:cubicBezTo>
                <a:cubicBezTo>
                  <a:pt x="5632380" y="1468387"/>
                  <a:pt x="5543969" y="1522841"/>
                  <a:pt x="5627470" y="1487055"/>
                </a:cubicBezTo>
                <a:cubicBezTo>
                  <a:pt x="5637673" y="1482682"/>
                  <a:pt x="5645035" y="1473091"/>
                  <a:pt x="5655179" y="1468582"/>
                </a:cubicBezTo>
                <a:cubicBezTo>
                  <a:pt x="5672973" y="1460674"/>
                  <a:pt x="5710597" y="1450109"/>
                  <a:pt x="5710597" y="1450109"/>
                </a:cubicBezTo>
                <a:cubicBezTo>
                  <a:pt x="5729070" y="1437794"/>
                  <a:pt x="5744953" y="1420185"/>
                  <a:pt x="5766015" y="1413164"/>
                </a:cubicBezTo>
                <a:cubicBezTo>
                  <a:pt x="5775251" y="1410085"/>
                  <a:pt x="5785016" y="1408281"/>
                  <a:pt x="5793724" y="1403927"/>
                </a:cubicBezTo>
                <a:cubicBezTo>
                  <a:pt x="5803653" y="1398963"/>
                  <a:pt x="5811505" y="1390419"/>
                  <a:pt x="5821434" y="1385455"/>
                </a:cubicBezTo>
                <a:cubicBezTo>
                  <a:pt x="5836263" y="1378040"/>
                  <a:pt x="5852464" y="1373716"/>
                  <a:pt x="5867615" y="1366982"/>
                </a:cubicBezTo>
                <a:cubicBezTo>
                  <a:pt x="5936089" y="1336549"/>
                  <a:pt x="5875363" y="1358241"/>
                  <a:pt x="5932270" y="1339273"/>
                </a:cubicBezTo>
                <a:cubicBezTo>
                  <a:pt x="5941506" y="1333115"/>
                  <a:pt x="5950050" y="1325764"/>
                  <a:pt x="5959979" y="1320800"/>
                </a:cubicBezTo>
                <a:cubicBezTo>
                  <a:pt x="5968687" y="1316446"/>
                  <a:pt x="5979177" y="1316292"/>
                  <a:pt x="5987688" y="1311564"/>
                </a:cubicBezTo>
                <a:cubicBezTo>
                  <a:pt x="6007096" y="1300782"/>
                  <a:pt x="6024633" y="1286933"/>
                  <a:pt x="6043106" y="1274618"/>
                </a:cubicBezTo>
                <a:cubicBezTo>
                  <a:pt x="6052342" y="1268460"/>
                  <a:pt x="6062966" y="1263994"/>
                  <a:pt x="6070815" y="1256145"/>
                </a:cubicBezTo>
                <a:cubicBezTo>
                  <a:pt x="6080051" y="1246909"/>
                  <a:pt x="6088213" y="1236455"/>
                  <a:pt x="6098524" y="1228436"/>
                </a:cubicBezTo>
                <a:cubicBezTo>
                  <a:pt x="6116049" y="1214806"/>
                  <a:pt x="6153943" y="1191491"/>
                  <a:pt x="6153943" y="1191491"/>
                </a:cubicBezTo>
                <a:cubicBezTo>
                  <a:pt x="6203199" y="1117605"/>
                  <a:pt x="6138552" y="1206881"/>
                  <a:pt x="6200124" y="1145309"/>
                </a:cubicBezTo>
                <a:cubicBezTo>
                  <a:pt x="6207973" y="1137460"/>
                  <a:pt x="6210243" y="1124910"/>
                  <a:pt x="6218597" y="1117600"/>
                </a:cubicBezTo>
                <a:cubicBezTo>
                  <a:pt x="6235305" y="1102980"/>
                  <a:pt x="6255542" y="1092970"/>
                  <a:pt x="6274015" y="1080655"/>
                </a:cubicBezTo>
                <a:lnTo>
                  <a:pt x="6357143" y="1025236"/>
                </a:lnTo>
                <a:cubicBezTo>
                  <a:pt x="6366379" y="1019079"/>
                  <a:pt x="6377003" y="1014613"/>
                  <a:pt x="6384852" y="1006764"/>
                </a:cubicBezTo>
                <a:cubicBezTo>
                  <a:pt x="6405279" y="986337"/>
                  <a:pt x="6414552" y="973442"/>
                  <a:pt x="6440270" y="960582"/>
                </a:cubicBezTo>
                <a:cubicBezTo>
                  <a:pt x="6448978" y="956228"/>
                  <a:pt x="6458743" y="954424"/>
                  <a:pt x="6467979" y="951345"/>
                </a:cubicBezTo>
                <a:cubicBezTo>
                  <a:pt x="6486142" y="924101"/>
                  <a:pt x="6487493" y="918150"/>
                  <a:pt x="6514161" y="895927"/>
                </a:cubicBezTo>
                <a:cubicBezTo>
                  <a:pt x="6522689" y="888821"/>
                  <a:pt x="6532634" y="883612"/>
                  <a:pt x="6541870" y="877455"/>
                </a:cubicBezTo>
                <a:cubicBezTo>
                  <a:pt x="6548028" y="868218"/>
                  <a:pt x="6552493" y="857595"/>
                  <a:pt x="6560343" y="849745"/>
                </a:cubicBezTo>
                <a:cubicBezTo>
                  <a:pt x="6568192" y="841896"/>
                  <a:pt x="6580742" y="839627"/>
                  <a:pt x="6588052" y="831273"/>
                </a:cubicBezTo>
                <a:cubicBezTo>
                  <a:pt x="6602672" y="814565"/>
                  <a:pt x="6612682" y="794328"/>
                  <a:pt x="6624997" y="775855"/>
                </a:cubicBezTo>
                <a:lnTo>
                  <a:pt x="6643470" y="748145"/>
                </a:lnTo>
                <a:cubicBezTo>
                  <a:pt x="6630045" y="707870"/>
                  <a:pt x="6630919" y="694292"/>
                  <a:pt x="6606524" y="665018"/>
                </a:cubicBezTo>
                <a:cubicBezTo>
                  <a:pt x="6598162" y="654983"/>
                  <a:pt x="6587177" y="647344"/>
                  <a:pt x="6578815" y="637309"/>
                </a:cubicBezTo>
                <a:cubicBezTo>
                  <a:pt x="6546678" y="598744"/>
                  <a:pt x="6578122" y="615526"/>
                  <a:pt x="6532634" y="600364"/>
                </a:cubicBezTo>
                <a:cubicBezTo>
                  <a:pt x="6523397" y="594206"/>
                  <a:pt x="6511859" y="590559"/>
                  <a:pt x="6504924" y="581891"/>
                </a:cubicBezTo>
                <a:cubicBezTo>
                  <a:pt x="6498842" y="574289"/>
                  <a:pt x="6500042" y="562890"/>
                  <a:pt x="6495688" y="554182"/>
                </a:cubicBezTo>
                <a:cubicBezTo>
                  <a:pt x="6490724" y="544253"/>
                  <a:pt x="6484322" y="535001"/>
                  <a:pt x="6477215" y="526473"/>
                </a:cubicBezTo>
                <a:cubicBezTo>
                  <a:pt x="6454991" y="499804"/>
                  <a:pt x="6449042" y="498455"/>
                  <a:pt x="6421797" y="480291"/>
                </a:cubicBezTo>
                <a:cubicBezTo>
                  <a:pt x="6399814" y="414342"/>
                  <a:pt x="6419526" y="435674"/>
                  <a:pt x="6375615" y="406400"/>
                </a:cubicBezTo>
                <a:lnTo>
                  <a:pt x="6357143" y="350982"/>
                </a:lnTo>
                <a:lnTo>
                  <a:pt x="6347906" y="323273"/>
                </a:lnTo>
                <a:cubicBezTo>
                  <a:pt x="6344827" y="295564"/>
                  <a:pt x="6342613" y="267745"/>
                  <a:pt x="6338670" y="240145"/>
                </a:cubicBezTo>
                <a:cubicBezTo>
                  <a:pt x="6336450" y="224604"/>
                  <a:pt x="6329434" y="193964"/>
                  <a:pt x="6329434" y="19396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7772400" y="4572000"/>
            <a:ext cx="15228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ber Optic Cable 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ve slack l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5" descr="P6180010"/>
          <p:cNvPicPr/>
          <p:nvPr/>
        </p:nvPicPr>
        <p:blipFill>
          <a:blip r:embed="rId1"/>
          <a:stretch/>
        </p:blipFill>
        <p:spPr>
          <a:xfrm>
            <a:off x="3048120" y="2362320"/>
            <a:ext cx="2952720" cy="39369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P6180006"/>
          <p:cNvPicPr/>
          <p:nvPr/>
        </p:nvPicPr>
        <p:blipFill>
          <a:blip r:embed="rId2"/>
          <a:stretch/>
        </p:blipFill>
        <p:spPr>
          <a:xfrm>
            <a:off x="152280" y="2362320"/>
            <a:ext cx="2952720" cy="39369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P6180005"/>
          <p:cNvPicPr/>
          <p:nvPr/>
        </p:nvPicPr>
        <p:blipFill>
          <a:blip r:embed="rId3"/>
          <a:stretch/>
        </p:blipFill>
        <p:spPr>
          <a:xfrm>
            <a:off x="5943600" y="2362320"/>
            <a:ext cx="29718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762120" y="1600200"/>
            <a:ext cx="12189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Core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5105520" y="1905120"/>
            <a:ext cx="9144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work Close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228600" y="3962520"/>
            <a:ext cx="1219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6781680" y="2590920"/>
            <a:ext cx="9144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work Close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4724280" y="1600200"/>
            <a:ext cx="34290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5718240" y="121932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5257800" y="3733920"/>
            <a:ext cx="9144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work Close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6019920" y="213372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1"/>
          <p:cNvSpPr/>
          <p:nvPr/>
        </p:nvSpPr>
        <p:spPr>
          <a:xfrm>
            <a:off x="5562720" y="2286000"/>
            <a:ext cx="15228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12"/>
          <p:cNvGrpSpPr/>
          <p:nvPr/>
        </p:nvGrpSpPr>
        <p:grpSpPr>
          <a:xfrm>
            <a:off x="6934320" y="1752480"/>
            <a:ext cx="152280" cy="228600"/>
            <a:chOff x="6934320" y="1752480"/>
            <a:chExt cx="152280" cy="228600"/>
          </a:xfrm>
        </p:grpSpPr>
        <p:sp>
          <p:nvSpPr>
            <p:cNvPr id="291" name="Rectangle 13"/>
            <p:cNvSpPr/>
            <p:nvPr/>
          </p:nvSpPr>
          <p:spPr>
            <a:xfrm>
              <a:off x="6934320" y="1752480"/>
              <a:ext cx="152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4"/>
            <p:cNvSpPr/>
            <p:nvPr/>
          </p:nvSpPr>
          <p:spPr>
            <a:xfrm>
              <a:off x="6972480" y="1797840"/>
              <a:ext cx="3816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5"/>
            <p:cNvSpPr/>
            <p:nvPr/>
          </p:nvSpPr>
          <p:spPr>
            <a:xfrm>
              <a:off x="7010640" y="1797840"/>
              <a:ext cx="3780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6"/>
            <p:cNvSpPr/>
            <p:nvPr/>
          </p:nvSpPr>
          <p:spPr>
            <a:xfrm>
              <a:off x="6972480" y="1889640"/>
              <a:ext cx="3816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7"/>
            <p:cNvSpPr/>
            <p:nvPr/>
          </p:nvSpPr>
          <p:spPr>
            <a:xfrm>
              <a:off x="7010640" y="1889640"/>
              <a:ext cx="3780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18"/>
          <p:cNvGrpSpPr/>
          <p:nvPr/>
        </p:nvGrpSpPr>
        <p:grpSpPr>
          <a:xfrm>
            <a:off x="7848720" y="3200400"/>
            <a:ext cx="152280" cy="228600"/>
            <a:chOff x="7848720" y="3200400"/>
            <a:chExt cx="152280" cy="228600"/>
          </a:xfrm>
        </p:grpSpPr>
        <p:sp>
          <p:nvSpPr>
            <p:cNvPr id="297" name="Rectangle 19"/>
            <p:cNvSpPr/>
            <p:nvPr/>
          </p:nvSpPr>
          <p:spPr>
            <a:xfrm>
              <a:off x="7848720" y="3200400"/>
              <a:ext cx="152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20"/>
            <p:cNvSpPr/>
            <p:nvPr/>
          </p:nvSpPr>
          <p:spPr>
            <a:xfrm>
              <a:off x="7886880" y="3245760"/>
              <a:ext cx="3816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21"/>
            <p:cNvSpPr/>
            <p:nvPr/>
          </p:nvSpPr>
          <p:spPr>
            <a:xfrm>
              <a:off x="7925040" y="3245760"/>
              <a:ext cx="3780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22"/>
            <p:cNvSpPr/>
            <p:nvPr/>
          </p:nvSpPr>
          <p:spPr>
            <a:xfrm>
              <a:off x="7886880" y="3337560"/>
              <a:ext cx="3816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23"/>
            <p:cNvSpPr/>
            <p:nvPr/>
          </p:nvSpPr>
          <p:spPr>
            <a:xfrm>
              <a:off x="7925040" y="3337560"/>
              <a:ext cx="3780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24"/>
          <p:cNvGrpSpPr/>
          <p:nvPr/>
        </p:nvGrpSpPr>
        <p:grpSpPr>
          <a:xfrm>
            <a:off x="7543800" y="3657600"/>
            <a:ext cx="152280" cy="228600"/>
            <a:chOff x="7543800" y="3657600"/>
            <a:chExt cx="152280" cy="228600"/>
          </a:xfrm>
        </p:grpSpPr>
        <p:sp>
          <p:nvSpPr>
            <p:cNvPr id="303" name="Rectangle 25"/>
            <p:cNvSpPr/>
            <p:nvPr/>
          </p:nvSpPr>
          <p:spPr>
            <a:xfrm>
              <a:off x="7543800" y="3657600"/>
              <a:ext cx="152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26"/>
            <p:cNvSpPr/>
            <p:nvPr/>
          </p:nvSpPr>
          <p:spPr>
            <a:xfrm>
              <a:off x="7581960" y="3702960"/>
              <a:ext cx="3816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27"/>
            <p:cNvSpPr/>
            <p:nvPr/>
          </p:nvSpPr>
          <p:spPr>
            <a:xfrm>
              <a:off x="7620120" y="3702960"/>
              <a:ext cx="3780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28"/>
            <p:cNvSpPr/>
            <p:nvPr/>
          </p:nvSpPr>
          <p:spPr>
            <a:xfrm>
              <a:off x="7581960" y="3794760"/>
              <a:ext cx="3816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29"/>
            <p:cNvSpPr/>
            <p:nvPr/>
          </p:nvSpPr>
          <p:spPr>
            <a:xfrm>
              <a:off x="7620120" y="3794760"/>
              <a:ext cx="3780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30"/>
          <p:cNvGrpSpPr/>
          <p:nvPr/>
        </p:nvGrpSpPr>
        <p:grpSpPr>
          <a:xfrm>
            <a:off x="6858000" y="3657600"/>
            <a:ext cx="152280" cy="228600"/>
            <a:chOff x="6858000" y="3657600"/>
            <a:chExt cx="152280" cy="228600"/>
          </a:xfrm>
        </p:grpSpPr>
        <p:sp>
          <p:nvSpPr>
            <p:cNvPr id="309" name="Rectangle 31"/>
            <p:cNvSpPr/>
            <p:nvPr/>
          </p:nvSpPr>
          <p:spPr>
            <a:xfrm>
              <a:off x="6858000" y="3657600"/>
              <a:ext cx="152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32"/>
            <p:cNvSpPr/>
            <p:nvPr/>
          </p:nvSpPr>
          <p:spPr>
            <a:xfrm>
              <a:off x="6896160" y="3702960"/>
              <a:ext cx="3816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33"/>
            <p:cNvSpPr/>
            <p:nvPr/>
          </p:nvSpPr>
          <p:spPr>
            <a:xfrm>
              <a:off x="6934320" y="3702960"/>
              <a:ext cx="3780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34"/>
            <p:cNvSpPr/>
            <p:nvPr/>
          </p:nvSpPr>
          <p:spPr>
            <a:xfrm>
              <a:off x="6896160" y="3794760"/>
              <a:ext cx="3816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5"/>
            <p:cNvSpPr/>
            <p:nvPr/>
          </p:nvSpPr>
          <p:spPr>
            <a:xfrm>
              <a:off x="6934320" y="3794760"/>
              <a:ext cx="3780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36"/>
          <p:cNvGrpSpPr/>
          <p:nvPr/>
        </p:nvGrpSpPr>
        <p:grpSpPr>
          <a:xfrm>
            <a:off x="5334120" y="4572000"/>
            <a:ext cx="152280" cy="228600"/>
            <a:chOff x="5334120" y="4572000"/>
            <a:chExt cx="152280" cy="228600"/>
          </a:xfrm>
        </p:grpSpPr>
        <p:sp>
          <p:nvSpPr>
            <p:cNvPr id="315" name="Rectangle 37"/>
            <p:cNvSpPr/>
            <p:nvPr/>
          </p:nvSpPr>
          <p:spPr>
            <a:xfrm>
              <a:off x="5334120" y="4572000"/>
              <a:ext cx="152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38"/>
            <p:cNvSpPr/>
            <p:nvPr/>
          </p:nvSpPr>
          <p:spPr>
            <a:xfrm>
              <a:off x="5372280" y="4617360"/>
              <a:ext cx="3816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39"/>
            <p:cNvSpPr/>
            <p:nvPr/>
          </p:nvSpPr>
          <p:spPr>
            <a:xfrm>
              <a:off x="5410440" y="4617360"/>
              <a:ext cx="3780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40"/>
            <p:cNvSpPr/>
            <p:nvPr/>
          </p:nvSpPr>
          <p:spPr>
            <a:xfrm>
              <a:off x="5372280" y="4709160"/>
              <a:ext cx="3816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1"/>
            <p:cNvSpPr/>
            <p:nvPr/>
          </p:nvSpPr>
          <p:spPr>
            <a:xfrm>
              <a:off x="5410440" y="4709160"/>
              <a:ext cx="3780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42"/>
          <p:cNvGrpSpPr/>
          <p:nvPr/>
        </p:nvGrpSpPr>
        <p:grpSpPr>
          <a:xfrm>
            <a:off x="5715000" y="4572000"/>
            <a:ext cx="152280" cy="228600"/>
            <a:chOff x="5715000" y="4572000"/>
            <a:chExt cx="152280" cy="228600"/>
          </a:xfrm>
        </p:grpSpPr>
        <p:sp>
          <p:nvSpPr>
            <p:cNvPr id="321" name="Rectangle 43"/>
            <p:cNvSpPr/>
            <p:nvPr/>
          </p:nvSpPr>
          <p:spPr>
            <a:xfrm>
              <a:off x="5715000" y="4572000"/>
              <a:ext cx="152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44"/>
            <p:cNvSpPr/>
            <p:nvPr/>
          </p:nvSpPr>
          <p:spPr>
            <a:xfrm>
              <a:off x="5753160" y="4617360"/>
              <a:ext cx="3816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45"/>
            <p:cNvSpPr/>
            <p:nvPr/>
          </p:nvSpPr>
          <p:spPr>
            <a:xfrm>
              <a:off x="5791320" y="4617360"/>
              <a:ext cx="3780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46"/>
            <p:cNvSpPr/>
            <p:nvPr/>
          </p:nvSpPr>
          <p:spPr>
            <a:xfrm>
              <a:off x="5753160" y="4709160"/>
              <a:ext cx="3816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47"/>
            <p:cNvSpPr/>
            <p:nvPr/>
          </p:nvSpPr>
          <p:spPr>
            <a:xfrm>
              <a:off x="5791320" y="4709160"/>
              <a:ext cx="3780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48"/>
          <p:cNvGrpSpPr/>
          <p:nvPr/>
        </p:nvGrpSpPr>
        <p:grpSpPr>
          <a:xfrm>
            <a:off x="6172200" y="4572000"/>
            <a:ext cx="152280" cy="228600"/>
            <a:chOff x="6172200" y="4572000"/>
            <a:chExt cx="152280" cy="228600"/>
          </a:xfrm>
        </p:grpSpPr>
        <p:sp>
          <p:nvSpPr>
            <p:cNvPr id="327" name="Rectangle 49"/>
            <p:cNvSpPr/>
            <p:nvPr/>
          </p:nvSpPr>
          <p:spPr>
            <a:xfrm>
              <a:off x="6172200" y="4572000"/>
              <a:ext cx="152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50"/>
            <p:cNvSpPr/>
            <p:nvPr/>
          </p:nvSpPr>
          <p:spPr>
            <a:xfrm>
              <a:off x="6210360" y="4617360"/>
              <a:ext cx="3816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51"/>
            <p:cNvSpPr/>
            <p:nvPr/>
          </p:nvSpPr>
          <p:spPr>
            <a:xfrm>
              <a:off x="6248520" y="4617360"/>
              <a:ext cx="3780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52"/>
            <p:cNvSpPr/>
            <p:nvPr/>
          </p:nvSpPr>
          <p:spPr>
            <a:xfrm>
              <a:off x="6210360" y="4709160"/>
              <a:ext cx="3816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53"/>
            <p:cNvSpPr/>
            <p:nvPr/>
          </p:nvSpPr>
          <p:spPr>
            <a:xfrm>
              <a:off x="6248520" y="4709160"/>
              <a:ext cx="3780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Text Box 54"/>
          <p:cNvSpPr/>
          <p:nvPr/>
        </p:nvSpPr>
        <p:spPr>
          <a:xfrm>
            <a:off x="3733920" y="5257800"/>
            <a:ext cx="1218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55"/>
          <p:cNvSpPr/>
          <p:nvPr/>
        </p:nvSpPr>
        <p:spPr>
          <a:xfrm>
            <a:off x="1447920" y="4572000"/>
            <a:ext cx="1218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6"/>
          <p:cNvSpPr/>
          <p:nvPr/>
        </p:nvSpPr>
        <p:spPr>
          <a:xfrm>
            <a:off x="3048120" y="3733920"/>
            <a:ext cx="1218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57"/>
          <p:cNvSpPr/>
          <p:nvPr/>
        </p:nvSpPr>
        <p:spPr>
          <a:xfrm>
            <a:off x="1981080" y="1981080"/>
            <a:ext cx="31244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58"/>
          <p:cNvSpPr/>
          <p:nvPr/>
        </p:nvSpPr>
        <p:spPr>
          <a:xfrm flipH="1">
            <a:off x="3809520" y="2209680"/>
            <a:ext cx="129564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59"/>
          <p:cNvSpPr/>
          <p:nvPr/>
        </p:nvSpPr>
        <p:spPr>
          <a:xfrm flipH="1">
            <a:off x="4190760" y="2286000"/>
            <a:ext cx="106668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60"/>
          <p:cNvSpPr/>
          <p:nvPr/>
        </p:nvSpPr>
        <p:spPr>
          <a:xfrm>
            <a:off x="1523880" y="2514600"/>
            <a:ext cx="6098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61"/>
          <p:cNvSpPr/>
          <p:nvPr/>
        </p:nvSpPr>
        <p:spPr>
          <a:xfrm flipH="1">
            <a:off x="837720" y="2514600"/>
            <a:ext cx="38124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62"/>
          <p:cNvSpPr/>
          <p:nvPr/>
        </p:nvSpPr>
        <p:spPr>
          <a:xfrm flipH="1">
            <a:off x="5410080" y="411480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63"/>
          <p:cNvSpPr/>
          <p:nvPr/>
        </p:nvSpPr>
        <p:spPr>
          <a:xfrm>
            <a:off x="579132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64"/>
          <p:cNvSpPr/>
          <p:nvPr/>
        </p:nvSpPr>
        <p:spPr>
          <a:xfrm>
            <a:off x="5943600" y="41148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65"/>
          <p:cNvSpPr/>
          <p:nvPr/>
        </p:nvSpPr>
        <p:spPr>
          <a:xfrm flipH="1">
            <a:off x="6933960" y="297180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66"/>
          <p:cNvSpPr/>
          <p:nvPr/>
        </p:nvSpPr>
        <p:spPr>
          <a:xfrm>
            <a:off x="7467480" y="2971800"/>
            <a:ext cx="1526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67"/>
          <p:cNvSpPr/>
          <p:nvPr/>
        </p:nvSpPr>
        <p:spPr>
          <a:xfrm>
            <a:off x="7620120" y="29718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68"/>
          <p:cNvSpPr/>
          <p:nvPr/>
        </p:nvSpPr>
        <p:spPr>
          <a:xfrm flipV="1">
            <a:off x="6019920" y="182844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69"/>
          <p:cNvGrpSpPr/>
          <p:nvPr/>
        </p:nvGrpSpPr>
        <p:grpSpPr>
          <a:xfrm>
            <a:off x="7162920" y="1981080"/>
            <a:ext cx="152280" cy="228600"/>
            <a:chOff x="7162920" y="1981080"/>
            <a:chExt cx="152280" cy="228600"/>
          </a:xfrm>
        </p:grpSpPr>
        <p:sp>
          <p:nvSpPr>
            <p:cNvPr id="348" name="Rectangle 70"/>
            <p:cNvSpPr/>
            <p:nvPr/>
          </p:nvSpPr>
          <p:spPr>
            <a:xfrm>
              <a:off x="7162920" y="1981080"/>
              <a:ext cx="152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71"/>
            <p:cNvSpPr/>
            <p:nvPr/>
          </p:nvSpPr>
          <p:spPr>
            <a:xfrm>
              <a:off x="7201080" y="2026440"/>
              <a:ext cx="3816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72"/>
            <p:cNvSpPr/>
            <p:nvPr/>
          </p:nvSpPr>
          <p:spPr>
            <a:xfrm>
              <a:off x="7239240" y="2026440"/>
              <a:ext cx="3780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73"/>
            <p:cNvSpPr/>
            <p:nvPr/>
          </p:nvSpPr>
          <p:spPr>
            <a:xfrm>
              <a:off x="7201080" y="2118240"/>
              <a:ext cx="3816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74"/>
            <p:cNvSpPr/>
            <p:nvPr/>
          </p:nvSpPr>
          <p:spPr>
            <a:xfrm>
              <a:off x="7239240" y="2118240"/>
              <a:ext cx="3780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Line 75"/>
          <p:cNvSpPr/>
          <p:nvPr/>
        </p:nvSpPr>
        <p:spPr>
          <a:xfrm>
            <a:off x="6019920" y="2057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76"/>
          <p:cNvSpPr/>
          <p:nvPr/>
        </p:nvSpPr>
        <p:spPr>
          <a:xfrm>
            <a:off x="5410080" y="42670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5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77"/>
          <p:cNvSpPr/>
          <p:nvPr/>
        </p:nvSpPr>
        <p:spPr>
          <a:xfrm>
            <a:off x="3124080" y="18288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78"/>
          <p:cNvSpPr/>
          <p:nvPr/>
        </p:nvSpPr>
        <p:spPr>
          <a:xfrm>
            <a:off x="6095880" y="18288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5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79"/>
          <p:cNvSpPr/>
          <p:nvPr/>
        </p:nvSpPr>
        <p:spPr>
          <a:xfrm>
            <a:off x="5334120" y="289548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5e + 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80"/>
          <p:cNvSpPr/>
          <p:nvPr/>
        </p:nvSpPr>
        <p:spPr>
          <a:xfrm>
            <a:off x="6248520" y="220968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5e + 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81"/>
          <p:cNvSpPr/>
          <p:nvPr/>
        </p:nvSpPr>
        <p:spPr>
          <a:xfrm>
            <a:off x="1447920" y="35053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82"/>
          <p:cNvSpPr/>
          <p:nvPr/>
        </p:nvSpPr>
        <p:spPr>
          <a:xfrm>
            <a:off x="609480" y="3200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83"/>
          <p:cNvSpPr/>
          <p:nvPr/>
        </p:nvSpPr>
        <p:spPr>
          <a:xfrm>
            <a:off x="3809880" y="48006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84"/>
          <p:cNvSpPr/>
          <p:nvPr/>
        </p:nvSpPr>
        <p:spPr>
          <a:xfrm>
            <a:off x="3733920" y="31240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d Cabling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ll cabling in star configuration – don’t daisy ch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ll cat5e or cat6a – cat6 is a waste of money if the runs are over 57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runs are under 200M, then multi mode is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do single mode if runs over 200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d Cabling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types of cab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hielded twisted pair copper – provides service to individual computers and between network clo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ber optic cabling – provides service to buildings and between network clo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thing is run in a star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4"/>
          <p:cNvGraphicFramePr/>
          <p:nvPr/>
        </p:nvGraphicFramePr>
        <p:xfrm>
          <a:off x="7696080" y="5638680"/>
          <a:ext cx="623880" cy="5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638680"/>
                    <a:ext cx="62388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5"/>
          <p:cNvSpPr/>
          <p:nvPr/>
        </p:nvSpPr>
        <p:spPr>
          <a:xfrm>
            <a:off x="762120" y="480060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clo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105520" y="4800600"/>
            <a:ext cx="1143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7"/>
          <p:cNvGrpSpPr/>
          <p:nvPr/>
        </p:nvGrpSpPr>
        <p:grpSpPr>
          <a:xfrm>
            <a:off x="3276720" y="4495680"/>
            <a:ext cx="304560" cy="380880"/>
            <a:chOff x="3276720" y="4495680"/>
            <a:chExt cx="304560" cy="380880"/>
          </a:xfrm>
        </p:grpSpPr>
        <p:sp>
          <p:nvSpPr>
            <p:cNvPr id="59" name="Rectangle 8"/>
            <p:cNvSpPr/>
            <p:nvPr/>
          </p:nvSpPr>
          <p:spPr>
            <a:xfrm>
              <a:off x="3276720" y="4495680"/>
              <a:ext cx="3045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3352680" y="4571640"/>
              <a:ext cx="75960" cy="7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3429000" y="4571640"/>
              <a:ext cx="75600" cy="7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3352680" y="4724280"/>
              <a:ext cx="7596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2"/>
            <p:cNvSpPr/>
            <p:nvPr/>
          </p:nvSpPr>
          <p:spPr>
            <a:xfrm>
              <a:off x="3429000" y="4724280"/>
              <a:ext cx="7560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3"/>
          <p:cNvGrpSpPr/>
          <p:nvPr/>
        </p:nvGrpSpPr>
        <p:grpSpPr>
          <a:xfrm>
            <a:off x="3886200" y="5029200"/>
            <a:ext cx="304920" cy="380880"/>
            <a:chOff x="3886200" y="5029200"/>
            <a:chExt cx="304920" cy="380880"/>
          </a:xfrm>
        </p:grpSpPr>
        <p:sp>
          <p:nvSpPr>
            <p:cNvPr id="65" name="Rectangle 14"/>
            <p:cNvSpPr/>
            <p:nvPr/>
          </p:nvSpPr>
          <p:spPr>
            <a:xfrm>
              <a:off x="3886200" y="5029200"/>
              <a:ext cx="3049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5"/>
            <p:cNvSpPr/>
            <p:nvPr/>
          </p:nvSpPr>
          <p:spPr>
            <a:xfrm>
              <a:off x="3962520" y="5105160"/>
              <a:ext cx="76320" cy="7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6"/>
            <p:cNvSpPr/>
            <p:nvPr/>
          </p:nvSpPr>
          <p:spPr>
            <a:xfrm>
              <a:off x="4038840" y="5105160"/>
              <a:ext cx="75960" cy="7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7"/>
            <p:cNvSpPr/>
            <p:nvPr/>
          </p:nvSpPr>
          <p:spPr>
            <a:xfrm>
              <a:off x="3962520" y="5257800"/>
              <a:ext cx="7632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8"/>
            <p:cNvSpPr/>
            <p:nvPr/>
          </p:nvSpPr>
          <p:spPr>
            <a:xfrm>
              <a:off x="4038840" y="5257800"/>
              <a:ext cx="7596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9"/>
          <p:cNvGrpSpPr/>
          <p:nvPr/>
        </p:nvGrpSpPr>
        <p:grpSpPr>
          <a:xfrm>
            <a:off x="3352680" y="5562720"/>
            <a:ext cx="304920" cy="380880"/>
            <a:chOff x="3352680" y="5562720"/>
            <a:chExt cx="304920" cy="380880"/>
          </a:xfrm>
        </p:grpSpPr>
        <p:sp>
          <p:nvSpPr>
            <p:cNvPr id="71" name="Rectangle 20"/>
            <p:cNvSpPr/>
            <p:nvPr/>
          </p:nvSpPr>
          <p:spPr>
            <a:xfrm>
              <a:off x="3352680" y="5562720"/>
              <a:ext cx="3049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1"/>
            <p:cNvSpPr/>
            <p:nvPr/>
          </p:nvSpPr>
          <p:spPr>
            <a:xfrm>
              <a:off x="3429000" y="5638680"/>
              <a:ext cx="76320" cy="7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2"/>
            <p:cNvSpPr/>
            <p:nvPr/>
          </p:nvSpPr>
          <p:spPr>
            <a:xfrm>
              <a:off x="3505320" y="5638680"/>
              <a:ext cx="75960" cy="7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3"/>
            <p:cNvSpPr/>
            <p:nvPr/>
          </p:nvSpPr>
          <p:spPr>
            <a:xfrm>
              <a:off x="3429000" y="5791320"/>
              <a:ext cx="7632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4"/>
            <p:cNvSpPr/>
            <p:nvPr/>
          </p:nvSpPr>
          <p:spPr>
            <a:xfrm>
              <a:off x="3505320" y="5791320"/>
              <a:ext cx="7596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6" name="Object 25"/>
          <p:cNvGraphicFramePr/>
          <p:nvPr/>
        </p:nvGraphicFramePr>
        <p:xfrm>
          <a:off x="8001000" y="4952880"/>
          <a:ext cx="609480" cy="56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01000" y="4952880"/>
                    <a:ext cx="60948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26"/>
          <p:cNvGraphicFramePr/>
          <p:nvPr/>
        </p:nvGraphicFramePr>
        <p:xfrm>
          <a:off x="7620120" y="4191120"/>
          <a:ext cx="609480" cy="566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" name="Object 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4191120"/>
                    <a:ext cx="60948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Line 27"/>
          <p:cNvSpPr/>
          <p:nvPr/>
        </p:nvSpPr>
        <p:spPr>
          <a:xfrm flipV="1">
            <a:off x="1676520" y="472392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8"/>
          <p:cNvSpPr/>
          <p:nvPr/>
        </p:nvSpPr>
        <p:spPr>
          <a:xfrm>
            <a:off x="1676520" y="51814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9"/>
          <p:cNvSpPr/>
          <p:nvPr/>
        </p:nvSpPr>
        <p:spPr>
          <a:xfrm>
            <a:off x="1676520" y="5334120"/>
            <a:ext cx="1676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0"/>
          <p:cNvSpPr/>
          <p:nvPr/>
        </p:nvSpPr>
        <p:spPr>
          <a:xfrm flipV="1">
            <a:off x="6248520" y="457200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1"/>
          <p:cNvSpPr/>
          <p:nvPr/>
        </p:nvSpPr>
        <p:spPr>
          <a:xfrm>
            <a:off x="6248520" y="5181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2"/>
          <p:cNvSpPr/>
          <p:nvPr/>
        </p:nvSpPr>
        <p:spPr>
          <a:xfrm>
            <a:off x="6248520" y="533412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3"/>
          <p:cNvSpPr/>
          <p:nvPr/>
        </p:nvSpPr>
        <p:spPr>
          <a:xfrm>
            <a:off x="2209680" y="4952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t5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4"/>
          <p:cNvSpPr/>
          <p:nvPr/>
        </p:nvSpPr>
        <p:spPr>
          <a:xfrm>
            <a:off x="6705720" y="495288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ber 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shielded Twisted Pair C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in star configuration from Network Closet location to individual outlets in offices or la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at least two cables to every outlet – I recommend four if you can afford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at least six cables between network closets if the distance is less than 90 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what type of cable to run?  Cat5, cat5e, Cat6,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ype of U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peed does each type supp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09480" y="2362320"/>
          <a:ext cx="8001000" cy="3135240"/>
        </p:xfrm>
        <a:graphic>
          <a:graphicData uri="http://schemas.openxmlformats.org/drawingml/2006/table">
            <a:tbl>
              <a:tblPr/>
              <a:tblGrid>
                <a:gridCol w="2000520"/>
                <a:gridCol w="1809720"/>
                <a:gridCol w="2286000"/>
                <a:gridCol w="1904760"/>
              </a:tblGrid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ble 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Spe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Dist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Fac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Mb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 5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Mb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Mb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Mb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 6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Mb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Rectangle 48"/>
          <p:cNvSpPr/>
          <p:nvPr/>
        </p:nvSpPr>
        <p:spPr>
          <a:xfrm>
            <a:off x="228600" y="57150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recommend category 5e cab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shielded Twisted Pair C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ing is a key to reduce work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P5080165-1"/>
          <p:cNvPicPr/>
          <p:nvPr/>
        </p:nvPicPr>
        <p:blipFill>
          <a:blip r:embed="rId1"/>
          <a:stretch/>
        </p:blipFill>
        <p:spPr>
          <a:xfrm>
            <a:off x="5715000" y="2286000"/>
            <a:ext cx="2666880" cy="3962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P5080166-1"/>
          <p:cNvPicPr/>
          <p:nvPr/>
        </p:nvPicPr>
        <p:blipFill>
          <a:blip r:embed="rId2"/>
          <a:stretch/>
        </p:blipFill>
        <p:spPr>
          <a:xfrm>
            <a:off x="685800" y="2286000"/>
            <a:ext cx="454824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ber Optic Cab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basic types of fi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 Mode limited to 2km @ 100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Mode 70km @ virtually unlim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types of multi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2.5 micron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 micron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types of single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ed for 1310 and 1550 nm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ed for WDM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s of Fi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ype of Fib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 mode Fi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.5 mic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baseFX for 2km, optical interface cost $250 U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baseSX for 275m, optical interface cost $250 U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baseLX for 500m, optical interface cost $750 U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GbaseSR for 33m, optical interface cost $2000 U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GbaseLRM for 220m, optical interface cost $1500 USD (not widely ava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micron laser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baseFX for 2km, optical interface cost $250 U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baseSX for 550m, optical interface cost $250 U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baseLX for 500m, optical interface cost $750 U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GbaseSR for 300m, optical interface cost $2000 U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GbaseLRM for 220m, optical interface cost $1500 USD (not widely ava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mode Fi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baseFX not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baseSX not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baseLX for 5km (most vendors support 10km), cost $750 U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baseLH (not a standard) 70 km with 1550nm lasers, cost $3000 U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GbaseLR for 10km, optical interface cost $3000 U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GbaseER for 30-40km, optical interface cost $8500 U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7T10:42:03Z</dcterms:created>
  <dc:creator>Dale Smith</dc:creator>
  <dc:description/>
  <dc:language>en-US</dc:language>
  <cp:lastModifiedBy>Dale Smith</cp:lastModifiedBy>
  <dcterms:modified xsi:type="dcterms:W3CDTF">2009-07-20T19:37:30Z</dcterms:modified>
  <cp:revision>52</cp:revision>
  <dc:subject/>
  <dc:title>Slide 1</dc:title>
</cp:coreProperties>
</file>