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9150-4DD2-4556-AF86-C4901423C3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A95F-154D-4299-A1C9-67298971588D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3015-969A-4775-85EF-FDE691A421CD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FD35-DF55-4733-82A0-0E6838BFCB28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2BFC-BAC5-4420-9F35-90B0E6246D01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D560-D50C-482D-86F1-ED8D2DA7A579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A5D3-82C0-4BAB-B8D8-99B477C8A35F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70F-EA25-4FCF-9C80-6827A663A45A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F10-0F6F-45A2-98C5-77B680ED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A17-3A73-4CFA-8E56-17E34265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015-8D58-48F9-8B6F-21D7921B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050-6676-4FE1-A568-29EE4104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1716-1855-45F4-B783-750879C9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210A-E44B-48A7-B393-80B4B006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8831-C56E-4F0C-B56A-D8312665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ED67-284B-40BA-8EAB-039A04A1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E46-8C52-48C5-A9A1-17073A0F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63AC-7821-4C5E-B451-FC74AB9A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1F9C-163A-4840-99AD-C2CEF537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C3B-3635-427F-93B1-AC63C81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AF08-1B6E-4F34-9414-9C2529CD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3EBC-F3B8-4AF5-898A-E7EA5415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02FE-AB5C-4F1B-958D-4647B85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CBCC-CF1E-4718-934D-A4E7E378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5113-F4C9-42F6-B959-F86F07E7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5925-84DA-4B3B-81D4-174E0EB6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F86D-B4D4-4EF2-AAB6-D447DA41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A14E-5632-4692-8109-71D43087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0E121-89E7-483B-AA2C-D565D1E0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DF07-B87E-490A-89FF-5C7C7F79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E96-ACB1-4B9E-B34C-913C9D55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08A2-FC2A-4471-B163-8B1A5AD1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482D-80CB-46EE-BA71-6D9B1F4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CDB4-3CB9-442A-A6AA-6F79795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04D7-F4F5-4C1D-A51B-DD99211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0506-925B-490F-B9DE-6817FA99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EF49-ED6A-4620-AE5D-FFBAC64A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C101-0262-4A5A-BD29-4AD809F2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5C20-9673-43DC-883D-8FDDF607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38877-39E4-4CD5-9936-8C389B3A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ACBD-AF2F-42ED-B422-DE3BD784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DC4-1A4B-46F1-9547-CF72708A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7E3B-AAB7-4274-BDDF-BB313AFD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0EA6C-C5A7-4B96-BF9E-E0A83D44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983C-FF51-4631-A267-D89845C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90DA-1639-4001-AA0A-D68DE75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20C0-3700-44CF-86A4-8AAC8A2C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DDE7-F3A4-4727-990A-9317C53F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66CD-29FB-4409-B0D3-A579F260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712EE-172D-4E23-ACD3-B22B6284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C467-2186-4B6B-A98C-3A0CB77D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D73-7478-4958-B4B4-D4EA0BEB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BCF-35C8-4E14-9156-143BE74A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594-4596-4220-8591-3EBB870D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107-F52A-4DA2-99C1-1B8D40B4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98D-EF44-405B-A59D-DE1C8E4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BE58-9A0F-4A0B-A4B0-683A934D00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46AB-74F2-446D-B3E8-B5F273ACC9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7C8F-C60E-493F-9AB0-417C389635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FDAA-BAFB-48CC-9E58-CE16BE65746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92160" y="208080"/>
            <a:ext cx="9455400" cy="3290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8600" y="4495680"/>
            <a:ext cx="876312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URICE K. NYIRONG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W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mzunilogo.GIF"/>
          <p:cNvPicPr/>
          <p:nvPr/>
        </p:nvPicPr>
        <p:blipFill>
          <a:blip r:embed="rId2"/>
          <a:stretch/>
        </p:blipFill>
        <p:spPr>
          <a:xfrm>
            <a:off x="3505320" y="228600"/>
            <a:ext cx="1430280" cy="13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ZUZU UNIVERSIT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33520" y="144792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Mzuzu University is an institution of higher learning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The first students were admitted in January 1999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Since its inception, Mzuzu University has grown from one (1) Faculty and centre to seven (7) faculties and three (3) centr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Has  student population of over 2000 full time students.</a:t>
            </a:r>
            <a:br>
              <a:rPr sz="2400"/>
            </a:b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URRENT NET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Library and Learning Resources Centre offers Internet connectivity and IT services to students, staff and the commun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ocal Area Network has a combination of wireless and w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et access is through V-SAT with a bandwidth of 1024kbps downstream, and 256kbps upstre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8"/>
          <p:cNvGraphicFramePr/>
          <p:nvPr/>
        </p:nvGraphicFramePr>
        <p:xfrm>
          <a:off x="457200" y="0"/>
          <a:ext cx="8686800" cy="67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686800" cy="67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533520" y="-65160"/>
          <a:ext cx="861048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-65160"/>
                    <a:ext cx="861048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BLEM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andwidth is not enoug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SAT is expens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ack of antivirus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requent power failur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ack of resources. i.e. No Redundanc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ireless Network unreliab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posed solu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mplement a full wired network with fiber backbon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7:55:59Z</dcterms:created>
  <dc:creator>Maganizo Monawe</dc:creator>
  <dc:description/>
  <dc:language>en-US</dc:language>
  <cp:lastModifiedBy>uSE</cp:lastModifiedBy>
  <dcterms:modified xsi:type="dcterms:W3CDTF">2009-07-24T21:39:30Z</dcterms:modified>
  <cp:revision>97</cp:revision>
  <dc:subject/>
  <dc:title>NETWORK DESIGN AND MANAGEMENT: MONITORING AND ANALYSING TRAFFIC ON THE LOCAL NETWORK </dc:title>
</cp:coreProperties>
</file>