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27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1"/>
          </p:nvPr>
        </p:nvSpPr>
        <p:spPr>
          <a:xfrm>
            <a:off x="4398480" y="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67080" cy="49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36251D-28BA-48BF-8359-0C3A38FA13E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324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856560"/>
            <a:ext cx="10080720" cy="7030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458200" y="7191360"/>
            <a:ext cx="17906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333333"/>
                </a:solidFill>
                <a:latin typeface="Verdana"/>
              </a:rPr>
              <a:t>nsrc@summer worksho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900" spc="-1" strike="noStrike">
                <a:solidFill>
                  <a:srgbClr val="333333"/>
                </a:solidFill>
                <a:latin typeface="Verdana"/>
              </a:rPr>
              <a:t>eugene, oreg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oss.oetiker.ch/smokeping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oss.oetiker.ch/rrdtool/" TargetMode="External"/><Relationship Id="rId2" Type="http://schemas.openxmlformats.org/officeDocument/2006/relationships/hyperlink" Target="http://www.fping.com/" TargetMode="External"/><Relationship Id="rId3" Type="http://schemas.openxmlformats.org/officeDocument/2006/relationships/hyperlink" Target="http://echoping.sourceforge.net/" TargetMode="External"/><Relationship Id="rId4" Type="http://schemas.openxmlformats.org/officeDocument/2006/relationships/hyperlink" Target="http://www.daemoninc.com/SpeedyCGI/" TargetMode="External"/><Relationship Id="rId5" Type="http://schemas.openxmlformats.org/officeDocument/2006/relationships/hyperlink" Target="http://httpd.apache.org/" TargetMode="Externa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hostname/cgi-bin/smokeping.cgi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236160"/>
            <a:ext cx="907236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easuring Delay with               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br>
              <a:rPr sz="4400"/>
            </a:br>
            <a:br>
              <a:rPr sz="44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Bitstream Vera Sans"/>
              </a:rPr>
              <a:t>Network Design and Operations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4 July 2009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hervey@nsrc.or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599840"/>
            <a:ext cx="907236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01800" y="5313240"/>
            <a:ext cx="4942080" cy="1390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32440" y="601560"/>
            <a:ext cx="2216160" cy="6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326520" cy="5075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mokeping configuration fil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/usr/local/etc/smokeping/conf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locations of directories an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iguration of the probe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tination nodes and the format of the hierarchical Smokeping me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1276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ch '+' adds a level to the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 addition </a:t>
            </a:r>
            <a:r>
              <a:rPr b="0" i="1" lang="en-GB" sz="2600" spc="-1" strike="noStrike">
                <a:solidFill>
                  <a:srgbClr val="000000"/>
                </a:solidFill>
                <a:latin typeface="Arial"/>
              </a:rPr>
              <a:t>/etc/smokeping/basepage.html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allows you to change the look and feel of the initial Smokeping web p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Aler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6120" y="2239920"/>
            <a:ext cx="5838840" cy="363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** Alerts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o = netmanage@localh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from = smokealert@noc.mgmt.conference.apritco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big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ype =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in per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ttern = ==0%,==0%,==0%,==0%,&gt;0%,&gt;0%,&gt;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mment = suddenly there is packet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+some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ype = l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in per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attern = &gt;0%,*12*,&gt;0%,*12*,&gt;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mment = loss 3 times  in a r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Databas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86120" y="2313000"/>
            <a:ext cx="5838840" cy="3411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** Database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tep     = 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ings    =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consfn mrhb steps to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VERAGE  0.5   1  1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VERAGE  0.5  12  4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IN  0.5  12  4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X  0.5  12  43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AVERAGE  0.5 144   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X  0.5 144   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IN  0.5 144   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Gener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86120" y="2168640"/>
            <a:ext cx="5838840" cy="3411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*** General **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@include /etc/smokeping/config.d/pathna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Please edit this to suit your insta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owner    = netmanage@noc.mgmt.conference.apricot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ontact  = netmanage@localho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giurl   = http://noc/cgi-bin/smokeping.c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mailhost = localho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specify this to get syslog log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yslogfacility = loca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each probe is now run in its own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disable this to revert to the old behavi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concurrentprobes = 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pathnam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7400" y="2971800"/>
            <a:ext cx="5838840" cy="2525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endmail = /usr/sbin/send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gcache = /usr/local/smokeping/htdocs/i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imgurl   = im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datadir  = /usr/local/var/smoke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piddir  = /usr/local/var/smoke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cgiurl   = http://localhost/smokeping/cgi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mokemail = /usr/local/etc/smokeping/smoke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tmail = /usr/local/etc/smokeping/tm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# specify this to get syslog log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syslogfacility = local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79360" y="1568520"/>
            <a:ext cx="702324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generally do not need to edit th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f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f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near the to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Present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49640" y="1984320"/>
            <a:ext cx="5589360" cy="4414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*** Presentation **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emplate = /etc/smokeping/basepage.htm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cha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menu = Cha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itle = The most interesting destin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+ stddev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sorter = StdDev(entries=&gt;4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itle = Top Standard Devi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menu = Std Devi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format = Standard Deviation %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+ ma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sorter = Max(entries=&gt;5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title = Top Max Roundtrip 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menu = by Ma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format = Max Roundtrip Time %f secon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Prob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49640" y="1623960"/>
            <a:ext cx="5589360" cy="478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*** Probes **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F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sbin/f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D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di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lookup = www.uoregon.edu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pings =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step = 1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EchoPingHtt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echo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ignore_cache = y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pings =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url = 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EchoPingHtt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echo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pings =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url = 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+ EchoPingSmt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binary = /usr/bin/echop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forks = 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Slav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49640" y="2379600"/>
            <a:ext cx="5589360" cy="1737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*** Slaves **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# make sure this is not world-readable!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# secrets=/etc/smokeping/slave-secr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+slave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display_name=slave_na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</a:rPr>
              <a:t># color=0000f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122040"/>
            <a:ext cx="907236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nfiguration: Targe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43440" y="1170000"/>
            <a:ext cx="3738600" cy="5631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*** Targets 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obe = F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itle = Network Latency Grap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 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niversity of Ore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itle = UO web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ost = www.uoregon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 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title = Universidad Tecnologica Equinocc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 HT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HT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obe = EchoPingHt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+ 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TE 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ost = www.ute.edu.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probe =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+++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enu = UTE D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host = www.ute.edu.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6840" y="1338120"/>
            <a:ext cx="412092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ill look at a s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tion file that w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for the 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nsrc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Default Probe: P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bing for delay and jitter (ping)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106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erformance and availability probe of a serv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06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+ LocalMach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 = N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tle = The NOC@netman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st = local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erts = startloss,someloss,bigloss,rttdetect,host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69704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ed on RRDTool (the same auth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s ICMP delay and can measure status of services such as HTTP, DNS, SMTP, SSH, LDAP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s you to define ranges on statistics and generate ala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ten in Perl for por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latively easy to install. In Debian it's very s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Another Type of Prob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9800" y="1994040"/>
            <a:ext cx="909000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erformance and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+ NOCsqu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enu = Squid on the NO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tle = www-cache / HTTP for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 noc@mgmt.conference.apricot.n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obe = EchoPingHtt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host = localho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rt = 80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98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rl = http://localhost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More Types of Prob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97084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information available here: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://oss.oetiker.ch/smokeping/probe/index.en.htm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few more probes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iscoRTTMonD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adi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(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iscoRTTMonTcpC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ac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Ping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ebProxyFil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WWW-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okeping website: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oss.oetiker.ch/smokepin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 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http://fushizen.net/cgi-bin/smokeping.c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ood examples: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ff"/>
                </a:solidFill>
                <a:latin typeface="Arial"/>
              </a:rPr>
              <a:t>http://oss.oetiker.ch/smokeping/doc/smokeping_examples.en.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mokeping sends multiples tests (pings), makes note of RTT, orders these and selects the medi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different values of RTT are shown graphically as lighter and darkers shades of grey (the “smoke”). This conveys the idea of variable round trip times or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jit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umber of lost packets (if any) changes the color of the horizontal line across the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How to Read Smokeping Graph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77760" y="1527120"/>
            <a:ext cx="7958160" cy="5172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“Smoke” and the “Pings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482400"/>
            <a:ext cx="8605800" cy="69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Another Examp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69880" y="1751040"/>
            <a:ext cx="9050400" cy="487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2696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ollowing packages are needed or recommen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rdtool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oss.oetiker.ch/rrdtoo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fp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fping.co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ff"/>
                </a:solidFill>
                <a:latin typeface="Arial"/>
              </a:rPr>
              <a:t>echop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echoping.sourceforge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edyCGI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daemoninc.com/SpeedyCG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ache </a:t>
            </a: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httpd.apach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e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Instal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1993680"/>
            <a:ext cx="87613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26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BS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rtinstall -PP smok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igu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usr/local/etc/smokeping/config.d/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Smokeping's appearance he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usr/local/etc/smokeping/basepage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tart the servi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usr/local/etc/init.d/smokeping re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usr/local/etc/init.d/smokepring relo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Instal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9440" y="1993680"/>
            <a:ext cx="876132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4269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ian/Ubun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apt-get install smoke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figur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smokeping/config.d/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nge Smokeping's appearance her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smokeping/basepage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26960" indent="-322200">
              <a:lnSpc>
                <a:spcPct val="9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tart the servi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init.d/smokeping rest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2858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27000"/>
                <a:tab algn="l" pos="484200"/>
                <a:tab algn="l" pos="941400"/>
                <a:tab algn="l" pos="1398600"/>
                <a:tab algn="l" pos="1855800"/>
                <a:tab algn="l" pos="2313000"/>
                <a:tab algn="l" pos="2770200"/>
                <a:tab algn="l" pos="3227400"/>
                <a:tab algn="l" pos="3684600"/>
                <a:tab algn="l" pos="4141800"/>
                <a:tab algn="l" pos="4599000"/>
                <a:tab algn="l" pos="5056200"/>
                <a:tab algn="l" pos="5513400"/>
                <a:tab algn="l" pos="5970600"/>
                <a:tab algn="l" pos="6427800"/>
                <a:tab algn="l" pos="6885000"/>
                <a:tab algn="l" pos="7342200"/>
                <a:tab algn="l" pos="7799400"/>
                <a:tab algn="l" pos="8256600"/>
                <a:tab algn="l" pos="871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/etc/init.d/smokepring relo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Verdana"/>
              </a:rPr>
              <a:t>Smokeping: Instala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1994040"/>
            <a:ext cx="876132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will find Smokeping running he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8000"/>
              </a:lnSpc>
              <a:spcAft>
                <a:spcPts val="850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Courier New"/>
                <a:ea typeface="Arial"/>
                <a:hlinkClick r:id="rId1"/>
              </a:rPr>
              <a:t>http://hostname/cgi-bin/smokeping.c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6000"/>
              </a:lnSpc>
              <a:spcAft>
                <a:spcPts val="1426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6000"/>
              </a:lnSpc>
              <a:spcAft>
                <a:spcPts val="850"/>
              </a:spcAft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vey Allen</cp:lastModifiedBy>
  <dcterms:modified xsi:type="dcterms:W3CDTF">2009-07-24T14:39:29Z</dcterms:modified>
  <cp:revision>71</cp:revision>
  <dc:subject/>
  <dc:title/>
</cp:coreProperties>
</file>