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B4ED-7245-4510-8E37-ABDB321110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5826-6F63-4C1A-AF10-3B9E5807E238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44D2-65CE-414B-BA9A-1C8ED31BE2E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A512-288E-4D70-AC53-6D73BF97C885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B305-0489-40D9-B47B-1D074D29178F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8717-FF30-446C-9D55-E54341E10892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12B8-8576-4F54-B271-6BCB0D3DD9E7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20F7-6888-49B9-B4EF-55B4730A5151}" type="slidenum">
              <a:rPr b="0" lang="en-GB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604-2D29-4842-8ABF-1AAADAE39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83AD-5BDF-42EA-A6BC-05BE3207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E165-634D-4767-92D9-7FA2B3C9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644-0364-44F5-86F1-368519718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9685-B239-4BE9-B891-0A268FEE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0C65-CA00-41B8-87C1-19AC4430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13AA-7930-49B0-B63F-02DC4AEA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DF2F-585E-48CA-9DDD-DCE4C5F1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822D-5DF8-43B3-A214-3B862818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6B76-0DCA-4B3C-AC54-26E76CEB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5248-E757-44BA-89B5-BFEBC2C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1EE-00EB-4519-A48D-90A185A3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3109-DB3A-4513-9256-E0436F5B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2162-1D83-400D-B162-9473B801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E247-A7C2-4E8F-9FA4-AE662FFC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65CA-2A60-42CE-8A41-502D9C2A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1396-205F-475E-8ABB-2832076B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B4891-023B-4E59-AF5E-93B995B0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49D9-4BCE-4A82-B22A-4BC2D5BF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9909-6EB0-4775-9639-75E00856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E6E5-A7D2-447D-A37E-9FBD0EF4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59DE-E586-44E8-86FF-7C7915D5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AAC-5882-4596-9434-83B1229A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48490-AAA3-4B9B-8DC5-153CB043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D65F-E75A-40D8-AD1B-72AB0851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0811F-38B3-4F1D-B1F9-2A6C10C9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9953-5E1F-483E-B1EC-4C4ED4AF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03345-D091-4856-AD8A-BC4A2A32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C6154-9E52-4CCE-8AD7-2A956637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C3CE4-C243-42D9-8390-0E232E67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2DA7D-DB6E-4CD8-B942-4244D066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DFF73-04D1-4BA2-8E60-5017662D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9F00F-C626-41B1-B464-C5B4C517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2F3-FD06-42CF-85CE-30273C2C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5D7F-3386-4417-BD05-7E783C63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600F-CCEA-4A9A-B72E-EC83C2D7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BD5C-1BB7-4406-8372-18F6363A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839B1-38EF-49F9-B17F-C5EB7DB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BC041-EBCF-4BD2-B352-E01176F9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C3EF1-1E6E-42A2-B809-7A4B112D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A6F49-30FB-4F46-A549-7B2177D8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2FAF1-0B9F-44D2-891F-CEAAF079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9AD5-B825-4675-ADA8-98D45C89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E76-4244-4B47-8DC5-CD9215B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11E9-DDCD-4C7A-83E4-BFA47500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EF76-3166-4B16-B743-E42D45F1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B8C-D428-413E-82D1-0979A558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82A1-2FB8-4EA5-A6FE-F566EF27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F2EA-0617-4C84-A931-3BD32517D5E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C8B4-8424-47C7-8147-385AF03F746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534-FADE-41EB-B716-5C32B09EED9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7317-EEF2-46DB-94CB-ACDF932569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92160" y="208080"/>
            <a:ext cx="9455400" cy="3290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8600" y="4495680"/>
            <a:ext cx="8763120" cy="1371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DAURICE K. NYIRONG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LAW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mzunilogo.GIF"/>
          <p:cNvPicPr/>
          <p:nvPr/>
        </p:nvPicPr>
        <p:blipFill>
          <a:blip r:embed="rId2"/>
          <a:stretch/>
        </p:blipFill>
        <p:spPr>
          <a:xfrm>
            <a:off x="3505320" y="228600"/>
            <a:ext cx="1430280" cy="1395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1219320" y="30492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ZUZU UNIVERSITY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TextBox 7"/>
          <p:cNvSpPr/>
          <p:nvPr/>
        </p:nvSpPr>
        <p:spPr>
          <a:xfrm>
            <a:off x="533520" y="1447920"/>
            <a:ext cx="7619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Mzuzu University is an institution of higher learning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The first students were admitted in January 1999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Since its inception, Mzuzu University has grown from one (1) Faculty and centre to seven (7) faculties and three (3) centres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0461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Has  student population of over 2000 full time students.</a:t>
            </a:r>
            <a:br>
              <a:rPr sz="2400"/>
            </a:br>
            <a:r>
              <a:rPr b="0" lang="en-GB" sz="2400" spc="-1" strike="noStrike">
                <a:solidFill>
                  <a:srgbClr val="04617b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CURRENT NETWOR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Library and Learning Resources Centre offers Internet connectivity and IT services to students, staff and the commun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ocal Area Network has a combination of wireless and wir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ternet access is through V-SAT with a bandwidth of 1024kbps downstream, and 256kbps upstrea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8"/>
          <p:cNvGraphicFramePr/>
          <p:nvPr/>
        </p:nvGraphicFramePr>
        <p:xfrm>
          <a:off x="457200" y="0"/>
          <a:ext cx="8686800" cy="671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0"/>
                    <a:ext cx="8686800" cy="67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533520" y="-65160"/>
          <a:ext cx="861048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-65160"/>
                    <a:ext cx="861048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PROBLEM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Bandwidth is not enoug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VSAT is expensiv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ack of antivirus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Frequent power failur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Lack of resources. i.e. No Redundanc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Wireless Network unreliabl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roposed solutio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mplement a full wired network with fiber backbon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7:55:59Z</dcterms:created>
  <dc:creator>Maganizo Monawe</dc:creator>
  <dc:description/>
  <dc:language>en-US</dc:language>
  <cp:lastModifiedBy>uSE</cp:lastModifiedBy>
  <dcterms:modified xsi:type="dcterms:W3CDTF">2009-07-24T21:39:30Z</dcterms:modified>
  <cp:revision>97</cp:revision>
  <dc:subject/>
  <dc:title>NETWORK DESIGN AND MANAGEMENT: MONITORING AND ANALYSING TRAFFIC ON THE LOCAL NETWORK </dc:title>
</cp:coreProperties>
</file>