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04480" y="812520"/>
            <a:ext cx="5311800" cy="40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3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12000" cy="47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32479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99" name=""/>
          <p:cNvSpPr/>
          <p:nvPr/>
        </p:nvSpPr>
        <p:spPr>
          <a:xfrm>
            <a:off x="4276800" y="0"/>
            <a:ext cx="32479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0158480"/>
            <a:ext cx="32479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Num" idx="2"/>
          </p:nvPr>
        </p:nvSpPr>
        <p:spPr>
          <a:xfrm>
            <a:off x="4276800" y="10158480"/>
            <a:ext cx="324648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Bitstream Vera Serif"/>
                <a:ea typeface="Bitstream Vera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CBD077-D154-4CED-A839-C710F4C732E8}" type="slidenum">
              <a:rPr b="0" lang="en-GB" sz="1400" spc="-1" strike="noStrike">
                <a:solidFill>
                  <a:srgbClr val="000000"/>
                </a:solidFill>
                <a:latin typeface="Bitstream Vera Serif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Bitstream Ver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76800" y="10158480"/>
            <a:ext cx="32479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DE6BD7-1F4A-4BAE-ABE3-A5851D372BC2}" type="slidenum">
              <a:rPr b="0" lang="en-GB" sz="1400" spc="-1" strike="noStrike">
                <a:solidFill>
                  <a:srgbClr val="000000"/>
                </a:solidFill>
                <a:latin typeface="Bitstream Vera Serif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92" name=""/>
          <p:cNvSpPr/>
          <p:nvPr/>
        </p:nvSpPr>
        <p:spPr>
          <a:xfrm>
            <a:off x="1104840" y="812880"/>
            <a:ext cx="534528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13440" cy="477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04840" y="812880"/>
            <a:ext cx="533556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488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04840" y="812880"/>
            <a:ext cx="533232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488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04840" y="812880"/>
            <a:ext cx="533232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488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092240" y="812880"/>
            <a:ext cx="5338800" cy="400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13440" cy="477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276800" y="10158480"/>
            <a:ext cx="32479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7B7313-BA82-4195-A778-AA8E08F313F6}" type="slidenum">
              <a:rPr b="0" lang="en-US" sz="1400" spc="-1" strike="noStrike">
                <a:solidFill>
                  <a:srgbClr val="000000"/>
                </a:solidFill>
                <a:latin typeface="Bitstream Vera Serif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Bitstream Vera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276800" y="10158480"/>
            <a:ext cx="32479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18A315-EC23-47A6-A03D-EB1613FD2637}" type="slidenum">
              <a:rPr b="0" lang="en-GB" sz="1400" spc="-1" strike="noStrike">
                <a:solidFill>
                  <a:srgbClr val="000000"/>
                </a:solidFill>
                <a:latin typeface="Bitstream Vera Serif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28" name=""/>
          <p:cNvSpPr/>
          <p:nvPr/>
        </p:nvSpPr>
        <p:spPr>
          <a:xfrm>
            <a:off x="1092240" y="812880"/>
            <a:ext cx="5340240" cy="400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13440" cy="477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092240" y="812880"/>
            <a:ext cx="5338800" cy="400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13440" cy="477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276800" y="10158480"/>
            <a:ext cx="32479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F8400D-2176-4573-82BB-00C93456DDA6}" type="slidenum">
              <a:rPr b="0" lang="en-US" sz="1400" spc="-1" strike="noStrike">
                <a:solidFill>
                  <a:srgbClr val="000000"/>
                </a:solidFill>
                <a:latin typeface="Bitstream Vera Serif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Bitstream Vera San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258920" y="801720"/>
            <a:ext cx="50371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51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258920" y="801720"/>
            <a:ext cx="50371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51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258920" y="801720"/>
            <a:ext cx="5037120" cy="401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51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4276800" y="10158480"/>
            <a:ext cx="32479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53FA0F-3751-4653-8068-ACC8493105F7}" type="slidenum">
              <a:rPr b="0" lang="en-GB" sz="1400" spc="-1" strike="noStrike">
                <a:solidFill>
                  <a:srgbClr val="000000"/>
                </a:solidFill>
                <a:latin typeface="Bitstream Vera Serif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40" name=""/>
          <p:cNvSpPr/>
          <p:nvPr/>
        </p:nvSpPr>
        <p:spPr>
          <a:xfrm>
            <a:off x="1092240" y="812880"/>
            <a:ext cx="5340240" cy="400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13440" cy="477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4276800" y="10158480"/>
            <a:ext cx="32479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5A1670-DFDB-4405-BABB-59932C5361CC}" type="slidenum">
              <a:rPr b="0" lang="en-US" sz="1400" spc="-1" strike="noStrike">
                <a:solidFill>
                  <a:srgbClr val="000000"/>
                </a:solidFill>
                <a:latin typeface="Bitstream Vera Serif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95" name=""/>
          <p:cNvSpPr/>
          <p:nvPr/>
        </p:nvSpPr>
        <p:spPr>
          <a:xfrm>
            <a:off x="1092240" y="812880"/>
            <a:ext cx="5338800" cy="400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13440" cy="477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104840" y="812880"/>
            <a:ext cx="534204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14880" cy="47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092240" y="812880"/>
            <a:ext cx="5338800" cy="400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13440" cy="477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276800" y="10158480"/>
            <a:ext cx="32479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F50EF8-DD1E-4ACA-8C7F-011BB19A86D9}" type="slidenum">
              <a:rPr b="0" lang="en-US" sz="1400" spc="-1" strike="noStrike">
                <a:solidFill>
                  <a:srgbClr val="000000"/>
                </a:solidFill>
                <a:latin typeface="Bitstream Vera Serif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Bitstream Vera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276800" y="10158480"/>
            <a:ext cx="32479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558327-E3B6-4B3C-9798-F03CB95D4E60}" type="slidenum">
              <a:rPr b="0" lang="en-GB" sz="1400" spc="-1" strike="noStrike">
                <a:solidFill>
                  <a:srgbClr val="000000"/>
                </a:solidFill>
                <a:latin typeface="Bitstream Vera Serif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01" name=""/>
          <p:cNvSpPr/>
          <p:nvPr/>
        </p:nvSpPr>
        <p:spPr>
          <a:xfrm>
            <a:off x="1104840" y="812880"/>
            <a:ext cx="533232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13440" cy="477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276800" y="10158480"/>
            <a:ext cx="32479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723D3F-52C8-49EF-AEC7-63D2B8A83DE1}" type="slidenum">
              <a:rPr b="0" lang="en-GB" sz="1400" spc="-1" strike="noStrike">
                <a:solidFill>
                  <a:srgbClr val="000000"/>
                </a:solidFill>
                <a:latin typeface="Bitstream Vera Serif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04" name=""/>
          <p:cNvSpPr/>
          <p:nvPr/>
        </p:nvSpPr>
        <p:spPr>
          <a:xfrm>
            <a:off x="1104840" y="812880"/>
            <a:ext cx="533556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13440" cy="477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276800" y="10158480"/>
            <a:ext cx="32479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671F5A-0734-47DB-8388-7E57CB8479DD}" type="slidenum">
              <a:rPr b="0" lang="en-GB" sz="1400" spc="-1" strike="noStrike">
                <a:solidFill>
                  <a:srgbClr val="000000"/>
                </a:solidFill>
                <a:latin typeface="Bitstream Vera Serif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07" name=""/>
          <p:cNvSpPr/>
          <p:nvPr/>
        </p:nvSpPr>
        <p:spPr>
          <a:xfrm>
            <a:off x="1104840" y="812880"/>
            <a:ext cx="533232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13440" cy="477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276800" y="10158480"/>
            <a:ext cx="32479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762E13-3678-4E1F-A003-54A74528D893}" type="slidenum">
              <a:rPr b="0" lang="en-GB" sz="1400" spc="-1" strike="noStrike">
                <a:solidFill>
                  <a:srgbClr val="000000"/>
                </a:solidFill>
                <a:latin typeface="Bitstream Vera Serif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10" name=""/>
          <p:cNvSpPr/>
          <p:nvPr/>
        </p:nvSpPr>
        <p:spPr>
          <a:xfrm>
            <a:off x="1104840" y="812880"/>
            <a:ext cx="533232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13440" cy="477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276800" y="10158480"/>
            <a:ext cx="32479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29E958-65B9-486D-9308-235E863942C9}" type="slidenum">
              <a:rPr b="0" lang="en-GB" sz="1400" spc="-1" strike="noStrike">
                <a:solidFill>
                  <a:srgbClr val="000000"/>
                </a:solidFill>
                <a:latin typeface="Bitstream Vera Serif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13" name=""/>
          <p:cNvSpPr/>
          <p:nvPr/>
        </p:nvSpPr>
        <p:spPr>
          <a:xfrm>
            <a:off x="1104840" y="812880"/>
            <a:ext cx="532944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13440" cy="477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276800" y="10158480"/>
            <a:ext cx="324792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BDD07A-7B3C-44FA-98F2-44F417222196}" type="slidenum">
              <a:rPr b="0" lang="en-GB" sz="1400" spc="-1" strike="noStrike">
                <a:solidFill>
                  <a:srgbClr val="000000"/>
                </a:solidFill>
                <a:latin typeface="Bitstream Vera Serif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16" name=""/>
          <p:cNvSpPr/>
          <p:nvPr/>
        </p:nvSpPr>
        <p:spPr>
          <a:xfrm>
            <a:off x="1104840" y="812880"/>
            <a:ext cx="533232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13440" cy="477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EB10B-1B6A-4FB3-8961-829A002BA6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4360" y="135000"/>
            <a:ext cx="8285400" cy="1417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4720" y="1895400"/>
            <a:ext cx="90424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720" y="4433040"/>
            <a:ext cx="90424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A8CC6-1243-4D8F-847E-BD8CFADECA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4360" y="135000"/>
            <a:ext cx="8285400" cy="1417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4720" y="1895400"/>
            <a:ext cx="441252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38280" y="1895400"/>
            <a:ext cx="441252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4720" y="4433040"/>
            <a:ext cx="441252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5138280" y="4433040"/>
            <a:ext cx="441252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35D15-8408-48A3-93FC-62A012289A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135000"/>
            <a:ext cx="8285400" cy="1417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720" y="1895400"/>
            <a:ext cx="291132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61840" y="1895400"/>
            <a:ext cx="291132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619320" y="1895400"/>
            <a:ext cx="291132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04720" y="4433040"/>
            <a:ext cx="291132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561840" y="4433040"/>
            <a:ext cx="291132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619320" y="4433040"/>
            <a:ext cx="291132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6BB75-D44A-490C-88E5-35142276E4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04360" y="135000"/>
            <a:ext cx="8285400" cy="1417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504720" y="1895400"/>
            <a:ext cx="904248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2E116-80E2-49AE-A147-A7BBEC4352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4360" y="135000"/>
            <a:ext cx="8285400" cy="1417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4720" y="1895400"/>
            <a:ext cx="90424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9913C-2F79-40F6-B337-2737394BC1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135000"/>
            <a:ext cx="8285400" cy="1417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720" y="1895400"/>
            <a:ext cx="441252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138280" y="1895400"/>
            <a:ext cx="441252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FCF78-7687-4EB8-9216-B7630DCB38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4360" y="135000"/>
            <a:ext cx="8285400" cy="1417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BE0A1-FAF4-4889-877C-4B0A97D6EE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504360" y="135000"/>
            <a:ext cx="82854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62000"/>
              </a:lnSpc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FE7A0-EEF1-4810-A42C-BA557A0490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4360" y="135000"/>
            <a:ext cx="8285400" cy="1417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4720" y="1895400"/>
            <a:ext cx="441252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38280" y="1895400"/>
            <a:ext cx="441252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04720" y="4433040"/>
            <a:ext cx="441252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151DC-7BC4-4685-A2B3-788A0DC238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4360" y="135000"/>
            <a:ext cx="8285400" cy="1417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4720" y="1895400"/>
            <a:ext cx="441252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38280" y="1895400"/>
            <a:ext cx="441252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138280" y="4433040"/>
            <a:ext cx="441252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96780-056B-4F7F-AACC-00B4011CD7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4360" y="135000"/>
            <a:ext cx="8285400" cy="1417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720" y="1895400"/>
            <a:ext cx="441252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38280" y="1895400"/>
            <a:ext cx="441252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4720" y="4433040"/>
            <a:ext cx="9042480" cy="2316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1BD73-200D-4732-B53E-7D254C0FEB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778960" y="168120"/>
            <a:ext cx="1440" cy="1679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4360" y="135000"/>
            <a:ext cx="8285400" cy="1417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3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4720" y="1895400"/>
            <a:ext cx="9042480" cy="48578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62000"/>
              </a:lnSpc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62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62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62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62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62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62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04720" y="6888240"/>
            <a:ext cx="23227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4" name=""/>
          <p:cNvSpPr/>
          <p:nvPr/>
        </p:nvSpPr>
        <p:spPr>
          <a:xfrm>
            <a:off x="3444840" y="6888240"/>
            <a:ext cx="31622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24480" y="6887880"/>
            <a:ext cx="2322360" cy="484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100" spc="-1" strike="noStrike">
                <a:solidFill>
                  <a:srgbClr val="000000"/>
                </a:solidFill>
                <a:latin typeface="Arial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0875D8-154E-499F-BED6-F6B098AF73D3}" type="slidenum">
              <a:rPr b="0" lang="en-GB" sz="1100" spc="-1" strike="noStrike">
                <a:solidFill>
                  <a:srgbClr val="000000"/>
                </a:solidFill>
                <a:latin typeface="Arial"/>
                <a:ea typeface="Bitstream Vera San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Bitstream Vera Sans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988480" y="168120"/>
            <a:ext cx="871560" cy="1425600"/>
            <a:chOff x="8988480" y="168120"/>
            <a:chExt cx="871560" cy="1425600"/>
          </a:xfrm>
        </p:grpSpPr>
        <p:sp>
          <p:nvSpPr>
            <p:cNvPr id="7" name=""/>
            <p:cNvSpPr/>
            <p:nvPr/>
          </p:nvSpPr>
          <p:spPr>
            <a:xfrm>
              <a:off x="8988480" y="168120"/>
              <a:ext cx="131760" cy="131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9174240" y="168120"/>
              <a:ext cx="131760" cy="131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356760" y="168120"/>
              <a:ext cx="131760" cy="131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988480" y="352440"/>
              <a:ext cx="131760" cy="131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9174240" y="352440"/>
              <a:ext cx="131760" cy="131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9356760" y="352440"/>
              <a:ext cx="131760" cy="131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9542520" y="352440"/>
              <a:ext cx="131760" cy="131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88480" y="538200"/>
              <a:ext cx="131760" cy="131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174240" y="538200"/>
              <a:ext cx="131760" cy="131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356760" y="538200"/>
              <a:ext cx="131760" cy="131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9542520" y="538200"/>
              <a:ext cx="131760" cy="131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9728280" y="538200"/>
              <a:ext cx="131760" cy="131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88480" y="723960"/>
              <a:ext cx="131760" cy="1317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9174240" y="723960"/>
              <a:ext cx="131760" cy="131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9356760" y="723960"/>
              <a:ext cx="131760" cy="131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542520" y="723960"/>
              <a:ext cx="131760" cy="131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988480" y="906480"/>
              <a:ext cx="131760" cy="131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174240" y="906480"/>
              <a:ext cx="131760" cy="131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56760" y="906480"/>
              <a:ext cx="131760" cy="131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542520" y="906480"/>
              <a:ext cx="131760" cy="131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9728280" y="906480"/>
              <a:ext cx="131760" cy="131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988480" y="1092240"/>
              <a:ext cx="131760" cy="1317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9174240" y="1092240"/>
              <a:ext cx="131760" cy="131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9356760" y="1092240"/>
              <a:ext cx="131760" cy="131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9542520" y="1092240"/>
              <a:ext cx="131760" cy="131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988480" y="1276200"/>
              <a:ext cx="131760" cy="131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9174240" y="1276200"/>
              <a:ext cx="131760" cy="1317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9356760" y="1276200"/>
              <a:ext cx="131760" cy="131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9542520" y="1276200"/>
              <a:ext cx="131760" cy="131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9174240" y="1461960"/>
              <a:ext cx="131760" cy="131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9542520" y="1461960"/>
              <a:ext cx="131760" cy="1317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Bitstream Vera Sans"/>
              </a:endParaRPr>
            </a:p>
          </p:txBody>
        </p:sp>
      </p:grpSp>
      <p:pic>
        <p:nvPicPr>
          <p:cNvPr id="38" name="" descr=""/>
          <p:cNvPicPr/>
          <p:nvPr/>
        </p:nvPicPr>
        <p:blipFill>
          <a:blip r:embed="rId2"/>
          <a:stretch/>
        </p:blipFill>
        <p:spPr>
          <a:xfrm>
            <a:off x="8053560" y="473040"/>
            <a:ext cx="649080" cy="1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57200" y="550800"/>
            <a:ext cx="9072720" cy="50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5300" spc="-1" strike="noStrike">
                <a:solidFill>
                  <a:srgbClr val="330066"/>
                </a:solidFill>
                <a:latin typeface="Arial"/>
              </a:rPr>
              <a:t>KENET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 u="sng">
                <a:solidFill>
                  <a:srgbClr val="330066"/>
                </a:solidFill>
                <a:uFillTx/>
                <a:latin typeface="Arial"/>
              </a:rPr>
              <a:t>Kenya Education Network  </a:t>
            </a: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330066"/>
                </a:solidFill>
                <a:latin typeface="Arial"/>
              </a:rPr>
              <a:t>National Research and Education Network for Kenya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200" spc="-1" strike="noStrike">
                <a:solidFill>
                  <a:srgbClr val="330066"/>
                </a:solidFill>
                <a:latin typeface="Arial"/>
              </a:rPr>
              <a:t>Kevin G. Chege</a:t>
            </a:r>
            <a:br>
              <a:rPr sz="2200"/>
            </a:br>
            <a:r>
              <a:rPr b="1" lang="en-GB" sz="2200" spc="-1" strike="noStrike">
                <a:solidFill>
                  <a:srgbClr val="330066"/>
                </a:solidFill>
                <a:latin typeface="Arial"/>
              </a:rPr>
              <a:t>kchege@kenet.or.ke</a:t>
            </a: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03" name=""/>
          <p:cNvSpPr/>
          <p:nvPr/>
        </p:nvSpPr>
        <p:spPr>
          <a:xfrm>
            <a:off x="1008000" y="3822840"/>
            <a:ext cx="907272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520200"/>
                <a:tab algn="l" pos="9977400"/>
                <a:tab algn="l" pos="10058400"/>
                <a:tab algn="l" pos="10515600"/>
              </a:tabLst>
            </a:pPr>
            <a:endParaRPr b="0" lang="en-US" sz="3300" spc="-1" strike="noStrike">
              <a:solidFill>
                <a:srgbClr val="ffffff"/>
              </a:solidFill>
              <a:latin typeface="Bitstream Vera Sans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520200"/>
                <a:tab algn="l" pos="9977400"/>
                <a:tab algn="l" pos="10058400"/>
                <a:tab algn="l" pos="10515600"/>
              </a:tabLst>
            </a:pPr>
            <a:endParaRPr b="0" lang="en-US" sz="3300" spc="-1" strike="noStrike">
              <a:solidFill>
                <a:srgbClr val="ffffff"/>
              </a:solidFill>
              <a:latin typeface="Bitstream Vera Sans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520200"/>
                <a:tab algn="l" pos="9977400"/>
                <a:tab algn="l" pos="10058400"/>
                <a:tab algn="l" pos="10515600"/>
              </a:tabLst>
            </a:pPr>
            <a:endParaRPr b="0" lang="en-US" sz="3300" spc="-1" strike="noStrike">
              <a:solidFill>
                <a:srgbClr val="ffffff"/>
              </a:solidFill>
              <a:latin typeface="Bitstream Vera Sans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520200"/>
                <a:tab algn="l" pos="9977400"/>
                <a:tab algn="l" pos="10058400"/>
                <a:tab algn="l" pos="10515600"/>
              </a:tabLst>
            </a:pPr>
            <a:endParaRPr b="0" lang="en-US" sz="3300" spc="-1" strike="noStrike">
              <a:solidFill>
                <a:srgbClr val="ffffff"/>
              </a:solidFill>
              <a:latin typeface="Bitstream Vera Sans"/>
            </a:endParaRPr>
          </a:p>
          <a:p>
            <a:pPr algn="ctr">
              <a:lnSpc>
                <a:spcPct val="98000"/>
              </a:lnSpc>
              <a:tabLst>
                <a:tab algn="l" pos="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520200"/>
                <a:tab algn="l" pos="9977400"/>
                <a:tab algn="l" pos="10058400"/>
                <a:tab algn="l" pos="10515600"/>
              </a:tabLst>
            </a:pPr>
            <a:endParaRPr b="0" lang="en-US" sz="3300" spc="-1" strike="noStrike">
              <a:solidFill>
                <a:srgbClr val="ffffff"/>
              </a:solidFill>
              <a:latin typeface="Bitstream Vera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360" y="179280"/>
            <a:ext cx="8309160" cy="13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300" spc="-1" strike="noStrike">
                <a:solidFill>
                  <a:srgbClr val="330066"/>
                </a:solidFill>
                <a:latin typeface="Arial"/>
              </a:rPr>
              <a:t>Previous Bandwidth capacity at KENET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4720" y="1895400"/>
            <a:ext cx="906624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9200" indent="-349200">
              <a:lnSpc>
                <a:spcPct val="86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Uplink - 1Mb via Intelsat and 3Mb via Jambonet (Local Telco)</a:t>
            </a: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6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Downlink – 3Mb via Jambonet and 1.8Mb via Intelsat burstible to 2.4M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6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Larger Universities have their own VSAT downlinks via Intels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6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7Mb downlink shared from Intelsat to different geographic locations – Nairobi, Eldoret, Nakur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6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Those outside Nairobi uplink via Jambon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6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The dedicated Intelsat bandwidth is 5.7Mb and the rest is a shared bur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8305920" cy="13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300" spc="-1" strike="noStrike">
                <a:solidFill>
                  <a:srgbClr val="330066"/>
                </a:solidFill>
                <a:latin typeface="Arial"/>
              </a:rPr>
              <a:t>Old Bandwidth Costs at KENET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4360" y="1895400"/>
            <a:ext cx="9063000" cy="477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9200" indent="-349200">
              <a:lnSpc>
                <a:spcPct val="8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VSAT – Intelsat </a:t>
            </a: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Bandwidth costs about $1 for 2.3Kbps or $2,330 for 1Mb/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Commercial rate for that would be $3,000 for 1Mb/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Lease line via Jambonet– Approximately $6 per kilobit or $1 for 170b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Negotiated from commercial rate of $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Not 1:1 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Bitstream Vera Sans"/>
              </a:rPr>
              <a:t>Bandwidth savings all gained by member institu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4720" y="179280"/>
            <a:ext cx="8305920" cy="13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300" spc="-1" strike="noStrike">
                <a:solidFill>
                  <a:srgbClr val="330066"/>
                </a:solidFill>
                <a:latin typeface="Arial"/>
              </a:rPr>
              <a:t>Early problems at KENET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9063000" cy="62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9200" indent="-349200">
              <a:lnSpc>
                <a:spcPct val="8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ack of policy both at KENET and at member institutions to govern I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ack of own infrastructure hence relying on other provid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ack of qualified technical staff at several member institution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igh cost of bandwidth and bandwidth mis-managemen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98000"/>
              </a:lnSpc>
              <a:spcBef>
                <a:spcPts val="6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s a result of lack of trained staff some networks were/are poorly set up eg no proxy server for 20+ machines and IP addresses sometimes get black listed for spamming, viru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98000"/>
              </a:lnSpc>
              <a:spcBef>
                <a:spcPts val="6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 2005-2006, complaints were made to KENET concerning poor service. The already low capacity bandwidth were unusable for most institutions due to clogged networ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98000"/>
              </a:lnSpc>
              <a:spcBef>
                <a:spcPts val="67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heck out case study solutions at: http://wiki.bwmo.n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04720" y="135000"/>
            <a:ext cx="849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b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300" spc="-1" strike="noStrike">
                <a:solidFill>
                  <a:srgbClr val="330066"/>
                </a:solidFill>
                <a:latin typeface="Arial"/>
              </a:rPr>
              <a:t>KENET Membership</a:t>
            </a:r>
            <a:endParaRPr b="0" lang="en-US" sz="4300" spc="-1" strike="noStrike">
              <a:solidFill>
                <a:srgbClr val="ffffff"/>
              </a:solidFill>
              <a:latin typeface="Bitstream Vera Sans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92040" y="1112760"/>
          <a:ext cx="8820360" cy="6091200"/>
        </p:xfrm>
        <a:graphic>
          <a:graphicData uri="http://schemas.openxmlformats.org/drawingml/2006/table">
            <a:tbl>
              <a:tblPr/>
              <a:tblGrid>
                <a:gridCol w="3529080"/>
                <a:gridCol w="880920"/>
                <a:gridCol w="2814840"/>
                <a:gridCol w="1595520"/>
              </a:tblGrid>
              <a:tr h="72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stitution typ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mbership stat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 enrollment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72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blic Universit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 members and ac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72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vate Universiti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 and active membe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72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ytechnic University Colleg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 and active membe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72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Degree Tertiary Colleg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 and active membe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72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ional and International research institu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 and active membe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72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active full membe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 members but inac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1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ntial member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ends of KENE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72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NET consortium  Membe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out 200,00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Bitstream Vera Sans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04720" y="135000"/>
            <a:ext cx="828828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31" name=""/>
          <p:cNvSpPr/>
          <p:nvPr/>
        </p:nvSpPr>
        <p:spPr>
          <a:xfrm>
            <a:off x="504720" y="1940040"/>
            <a:ext cx="9045720" cy="47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1680" y="0"/>
            <a:ext cx="1007928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71400" y="1857240"/>
            <a:ext cx="470556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b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300" spc="-1" strike="noStrike">
                <a:solidFill>
                  <a:srgbClr val="330066"/>
                </a:solidFill>
                <a:latin typeface="Arial"/>
              </a:rPr>
              <a:t>Google partnership</a:t>
            </a:r>
            <a:endParaRPr b="0" lang="en-US" sz="43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34" name=""/>
          <p:cNvSpPr/>
          <p:nvPr/>
        </p:nvSpPr>
        <p:spPr>
          <a:xfrm>
            <a:off x="7224840" y="6888240"/>
            <a:ext cx="2323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1190E3-017D-40CE-B838-4D4AC353E312}" type="slidenum">
              <a:rPr b="0" lang="en-US" sz="1100" spc="-1" strike="noStrike">
                <a:solidFill>
                  <a:srgbClr val="000000"/>
                </a:solidFill>
                <a:latin typeface="Arial"/>
                <a:ea typeface="Bitstream Vera San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Bitstream Vera Sans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72960" y="1440000"/>
            <a:ext cx="9239400" cy="54003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064880" y="1427040"/>
            <a:ext cx="3369240" cy="2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itstream Vera Sans"/>
              </a:rPr>
              <a:t>KENET / Google Partnership</a:t>
            </a:r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03280" y="7007400"/>
            <a:ext cx="23526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eoli Kashorda</a:t>
            </a:r>
            <a:endParaRPr b="0" lang="en-US" sz="12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38" name=""/>
          <p:cNvSpPr/>
          <p:nvPr/>
        </p:nvSpPr>
        <p:spPr>
          <a:xfrm>
            <a:off x="3443400" y="7007400"/>
            <a:ext cx="31924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CT Directors Forum</a:t>
            </a:r>
            <a:endParaRPr b="0" lang="en-US" sz="12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39" name=""/>
          <p:cNvSpPr/>
          <p:nvPr/>
        </p:nvSpPr>
        <p:spPr>
          <a:xfrm>
            <a:off x="7223040" y="7007400"/>
            <a:ext cx="23526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A8E9D4-0F43-4D5B-896C-985C163430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40" name=""/>
          <p:cNvSpPr/>
          <p:nvPr/>
        </p:nvSpPr>
        <p:spPr>
          <a:xfrm>
            <a:off x="503280" y="301680"/>
            <a:ext cx="907236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Value Proposition of KENET</a:t>
            </a:r>
            <a:endParaRPr b="0" lang="en-US" sz="40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41" name=""/>
          <p:cNvSpPr/>
          <p:nvPr/>
        </p:nvSpPr>
        <p:spPr>
          <a:xfrm>
            <a:off x="755640" y="1595520"/>
            <a:ext cx="8988480" cy="56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7760" indent="-347760">
              <a:lnSpc>
                <a:spcPct val="62000"/>
              </a:lnSpc>
              <a:spcBef>
                <a:spcPts val="700"/>
              </a:spcBef>
              <a:spcAft>
                <a:spcPts val="2276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ap Bandwidth and leased lines? </a:t>
            </a:r>
            <a:endParaRPr b="0" lang="en-US" sz="2800" spc="-1" strike="noStrike">
              <a:solidFill>
                <a:srgbClr val="ffffff"/>
              </a:solidFill>
              <a:latin typeface="Bitstream Vera Sans"/>
            </a:endParaRPr>
          </a:p>
          <a:p>
            <a:pPr lvl="1" marL="733320" indent="-365040">
              <a:lnSpc>
                <a:spcPct val="62000"/>
              </a:lnSpc>
              <a:spcBef>
                <a:spcPts val="499"/>
              </a:spcBef>
              <a:spcAft>
                <a:spcPts val="1624"/>
              </a:spcAft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gothic"/>
              </a:rPr>
              <a:t>1:1 ratio, best price</a:t>
            </a:r>
            <a:endParaRPr b="0" lang="en-US" sz="2000" spc="-1" strike="noStrike">
              <a:solidFill>
                <a:srgbClr val="ffffff"/>
              </a:solidFill>
              <a:latin typeface="Bitstream Vera Sans"/>
            </a:endParaRPr>
          </a:p>
          <a:p>
            <a:pPr lvl="1" marL="733320" indent="-365040">
              <a:lnSpc>
                <a:spcPct val="62000"/>
              </a:lnSpc>
              <a:spcBef>
                <a:spcPts val="499"/>
              </a:spcBef>
              <a:spcAft>
                <a:spcPts val="1624"/>
              </a:spcAft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gothic"/>
              </a:rPr>
              <a:t>Consortium power in bandwidth and computer purchases? </a:t>
            </a:r>
            <a:endParaRPr b="0" lang="en-US" sz="20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62000"/>
              </a:lnSpc>
              <a:spcBef>
                <a:spcPts val="700"/>
              </a:spcBef>
              <a:spcAft>
                <a:spcPts val="2276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gateways and connections to other RENs  and partnerships</a:t>
            </a:r>
            <a:endParaRPr b="0" lang="en-US" sz="2800" spc="-1" strike="noStrike">
              <a:solidFill>
                <a:srgbClr val="ffffff"/>
              </a:solidFill>
              <a:latin typeface="Bitstream Vera Sans"/>
            </a:endParaRPr>
          </a:p>
          <a:p>
            <a:pPr lvl="1" marL="733320" indent="-365040">
              <a:lnSpc>
                <a:spcPct val="62000"/>
              </a:lnSpc>
              <a:spcBef>
                <a:spcPts val="601"/>
              </a:spcBef>
              <a:spcAft>
                <a:spcPts val="1950"/>
              </a:spcAft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gothic"/>
              </a:rPr>
              <a:t>Autonomous System Number as an NREN, IP address block , routing and layer 3 services ; Google partnership, Ubuntunet Alliance etc</a:t>
            </a:r>
            <a:endParaRPr b="0" lang="en-US" sz="24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62000"/>
              </a:lnSpc>
              <a:spcBef>
                <a:spcPts val="7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Bitstream Vera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503280" y="7007400"/>
            <a:ext cx="23526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eoli Kashorda</a:t>
            </a:r>
            <a:endParaRPr b="0" lang="en-US" sz="12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43" name=""/>
          <p:cNvSpPr/>
          <p:nvPr/>
        </p:nvSpPr>
        <p:spPr>
          <a:xfrm>
            <a:off x="3443400" y="7007400"/>
            <a:ext cx="31924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CT Directors Forum</a:t>
            </a:r>
            <a:endParaRPr b="0" lang="en-US" sz="12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44" name=""/>
          <p:cNvSpPr/>
          <p:nvPr/>
        </p:nvSpPr>
        <p:spPr>
          <a:xfrm>
            <a:off x="7223040" y="7007400"/>
            <a:ext cx="23526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609FBB-2E66-4FC0-8888-BF760B30B3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itstream Vera Sans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500200" y="1319040"/>
            <a:ext cx="5029200" cy="5526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73200" y="217440"/>
            <a:ext cx="8567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330066"/>
                </a:solidFill>
                <a:latin typeface="Arial"/>
              </a:rPr>
              <a:t>UbuntuNet Alliance – A regional REN</a:t>
            </a:r>
            <a:endParaRPr b="0" lang="en-US" sz="4000" spc="-1" strike="noStrike">
              <a:solidFill>
                <a:srgbClr val="ffffff"/>
              </a:solidFill>
              <a:latin typeface="Bitstream Vera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03280" y="7007400"/>
            <a:ext cx="23526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eoli Kashorda</a:t>
            </a:r>
            <a:endParaRPr b="0" lang="en-US" sz="12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48" name=""/>
          <p:cNvSpPr/>
          <p:nvPr/>
        </p:nvSpPr>
        <p:spPr>
          <a:xfrm>
            <a:off x="3443400" y="7007400"/>
            <a:ext cx="319248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49" name=""/>
          <p:cNvSpPr/>
          <p:nvPr/>
        </p:nvSpPr>
        <p:spPr>
          <a:xfrm>
            <a:off x="7223040" y="7007400"/>
            <a:ext cx="23526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AABD00-D0AA-46EA-8DC1-36830DC278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50" name=""/>
          <p:cNvSpPr/>
          <p:nvPr/>
        </p:nvSpPr>
        <p:spPr>
          <a:xfrm>
            <a:off x="595440" y="285840"/>
            <a:ext cx="8567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300" spc="-1" strike="noStrike">
                <a:solidFill>
                  <a:srgbClr val="330066"/>
                </a:solidFill>
                <a:latin typeface="Arial"/>
              </a:rPr>
              <a:t>Example: UbuntuNet today</a:t>
            </a:r>
            <a:endParaRPr b="0" lang="en-US" sz="43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51" name=""/>
          <p:cNvSpPr/>
          <p:nvPr/>
        </p:nvSpPr>
        <p:spPr>
          <a:xfrm>
            <a:off x="1944720" y="2668680"/>
            <a:ext cx="2539800" cy="873000"/>
          </a:xfrm>
          <a:prstGeom prst="rect">
            <a:avLst/>
          </a:prstGeom>
          <a:solidFill>
            <a:srgbClr val="0000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52" name=""/>
          <p:cNvSpPr/>
          <p:nvPr/>
        </p:nvSpPr>
        <p:spPr>
          <a:xfrm>
            <a:off x="434880" y="1081080"/>
            <a:ext cx="5160960" cy="1432080"/>
          </a:xfrm>
          <a:prstGeom prst="pie">
            <a:avLst/>
          </a:prstGeom>
          <a:solidFill>
            <a:srgbClr val="0000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90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itstream Vera Sans"/>
              </a:rPr>
              <a:t>Internet</a:t>
            </a:r>
            <a:endParaRPr b="0" lang="en-US" sz="16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53" name=""/>
          <p:cNvSpPr/>
          <p:nvPr/>
        </p:nvSpPr>
        <p:spPr>
          <a:xfrm>
            <a:off x="196920" y="3859200"/>
            <a:ext cx="1724040" cy="793800"/>
          </a:xfrm>
          <a:prstGeom prst="wedgeRoundRectCallout">
            <a:avLst>
              <a:gd name="adj1" fmla="val 69453"/>
              <a:gd name="adj2" fmla="val -42347"/>
              <a:gd name="adj3" fmla="val 16667"/>
            </a:avLst>
          </a:prstGeom>
          <a:solidFill>
            <a:srgbClr val="ffffff"/>
          </a:solidFill>
          <a:ln w="28440">
            <a:solidFill>
              <a:srgbClr val="e717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Vera Sans"/>
              </a:rPr>
              <a:t>Submarine cable circuts</a:t>
            </a:r>
            <a:endParaRPr b="0" lang="en-US" sz="16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2657520" y="2031480"/>
            <a:ext cx="476280" cy="87660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1703520" y="2111400"/>
            <a:ext cx="637920" cy="79704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56" name=""/>
          <p:cNvSpPr/>
          <p:nvPr/>
        </p:nvSpPr>
        <p:spPr>
          <a:xfrm>
            <a:off x="2141640" y="1509840"/>
            <a:ext cx="1724040" cy="587160"/>
          </a:xfrm>
          <a:prstGeom prst="pie">
            <a:avLst/>
          </a:prstGeom>
          <a:solidFill>
            <a:srgbClr val="3366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itstream Vera Sans"/>
              </a:rPr>
              <a:t>Géant</a:t>
            </a:r>
            <a:endParaRPr b="0" lang="en-US" sz="16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57" name=""/>
          <p:cNvSpPr/>
          <p:nvPr/>
        </p:nvSpPr>
        <p:spPr>
          <a:xfrm>
            <a:off x="2976480" y="4970520"/>
            <a:ext cx="2063880" cy="1270080"/>
          </a:xfrm>
          <a:prstGeom prst="rect">
            <a:avLst/>
          </a:prstGeom>
          <a:solidFill>
            <a:srgbClr val="ccff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58" name=""/>
          <p:cNvSpPr/>
          <p:nvPr/>
        </p:nvSpPr>
        <p:spPr>
          <a:xfrm>
            <a:off x="3929040" y="5049720"/>
            <a:ext cx="432000" cy="430200"/>
          </a:xfrm>
          <a:prstGeom prst="flowChartSummingJunction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59" name=""/>
          <p:cNvSpPr/>
          <p:nvPr/>
        </p:nvSpPr>
        <p:spPr>
          <a:xfrm>
            <a:off x="2500200" y="3224160"/>
            <a:ext cx="1428840" cy="1984320"/>
          </a:xfrm>
          <a:prstGeom prst="pie">
            <a:avLst/>
          </a:prstGeom>
          <a:noFill/>
          <a:ln w="57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60" name=""/>
          <p:cNvSpPr/>
          <p:nvPr/>
        </p:nvSpPr>
        <p:spPr>
          <a:xfrm>
            <a:off x="2260440" y="2827440"/>
            <a:ext cx="433440" cy="430200"/>
          </a:xfrm>
          <a:prstGeom prst="flowChartSummingJunction">
            <a:avLst/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61" name=""/>
          <p:cNvSpPr/>
          <p:nvPr/>
        </p:nvSpPr>
        <p:spPr>
          <a:xfrm>
            <a:off x="5118120" y="2906640"/>
            <a:ext cx="2222640" cy="1111320"/>
          </a:xfrm>
          <a:prstGeom prst="wedgeRoundRectCallout">
            <a:avLst>
              <a:gd name="adj1" fmla="val 74921"/>
              <a:gd name="adj2" fmla="val -186342"/>
              <a:gd name="adj3" fmla="val 16667"/>
            </a:avLst>
          </a:prstGeom>
          <a:solidFill>
            <a:srgbClr val="ffffff"/>
          </a:solidFill>
          <a:ln w="28440">
            <a:solidFill>
              <a:srgbClr val="e717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Vera Sans"/>
              </a:rPr>
              <a:t>VSAT connection.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Bitstream Vera Sans"/>
              </a:rPr>
              <a:t>GRE tunnel to UbuntuNet</a:t>
            </a:r>
            <a:endParaRPr b="0" lang="en-US" sz="16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62" name=""/>
          <p:cNvSpPr/>
          <p:nvPr/>
        </p:nvSpPr>
        <p:spPr>
          <a:xfrm>
            <a:off x="2895480" y="2746440"/>
            <a:ext cx="1668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itstream Vera Sans"/>
              </a:rPr>
              <a:t>UbuntuNet, London</a:t>
            </a:r>
            <a:endParaRPr b="0" lang="en-US" sz="20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63" name=""/>
          <p:cNvSpPr/>
          <p:nvPr/>
        </p:nvSpPr>
        <p:spPr>
          <a:xfrm>
            <a:off x="3036960" y="5448240"/>
            <a:ext cx="198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itstream Vera Sans"/>
              </a:rPr>
              <a:t>UbuntuNet, Johannesburg</a:t>
            </a:r>
            <a:endParaRPr b="0" lang="en-US" sz="20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64" name=""/>
          <p:cNvSpPr/>
          <p:nvPr/>
        </p:nvSpPr>
        <p:spPr>
          <a:xfrm>
            <a:off x="276120" y="4890960"/>
            <a:ext cx="1903680" cy="1349640"/>
          </a:xfrm>
          <a:prstGeom prst="pie">
            <a:avLst/>
          </a:prstGeom>
          <a:solidFill>
            <a:srgbClr val="ff33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90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Vera Sans"/>
              </a:rPr>
              <a:t>TENET/ SANReN</a:t>
            </a:r>
            <a:endParaRPr b="0" lang="en-US" sz="20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65" name=""/>
          <p:cNvSpPr/>
          <p:nvPr/>
        </p:nvSpPr>
        <p:spPr>
          <a:xfrm>
            <a:off x="5675400" y="5764320"/>
            <a:ext cx="1903320" cy="873000"/>
          </a:xfrm>
          <a:prstGeom prst="pie">
            <a:avLst/>
          </a:prstGeom>
          <a:solidFill>
            <a:srgbClr val="0000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90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Vera Sans"/>
              </a:rPr>
              <a:t>Lesotho</a:t>
            </a:r>
            <a:endParaRPr b="0" lang="en-US" sz="20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66" name=""/>
          <p:cNvSpPr/>
          <p:nvPr/>
        </p:nvSpPr>
        <p:spPr>
          <a:xfrm>
            <a:off x="7340760" y="4494240"/>
            <a:ext cx="2303280" cy="873000"/>
          </a:xfrm>
          <a:prstGeom prst="pie">
            <a:avLst/>
          </a:prstGeom>
          <a:solidFill>
            <a:srgbClr val="0000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90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Vera Sans"/>
              </a:rPr>
              <a:t>Swaziland</a:t>
            </a:r>
            <a:endParaRPr b="0" lang="en-US" sz="20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67" name=""/>
          <p:cNvSpPr/>
          <p:nvPr/>
        </p:nvSpPr>
        <p:spPr>
          <a:xfrm>
            <a:off x="2103480" y="5288040"/>
            <a:ext cx="1825560" cy="23796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68" name=""/>
          <p:cNvSpPr/>
          <p:nvPr/>
        </p:nvSpPr>
        <p:spPr>
          <a:xfrm>
            <a:off x="4325760" y="4772160"/>
            <a:ext cx="3015000" cy="357120"/>
          </a:xfrm>
          <a:prstGeom prst="pie">
            <a:avLst/>
          </a:prstGeom>
          <a:noFill/>
          <a:ln w="5724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69" name=""/>
          <p:cNvSpPr/>
          <p:nvPr/>
        </p:nvSpPr>
        <p:spPr>
          <a:xfrm>
            <a:off x="7818480" y="5605560"/>
            <a:ext cx="1982880" cy="873000"/>
          </a:xfrm>
          <a:prstGeom prst="pie">
            <a:avLst/>
          </a:prstGeom>
          <a:solidFill>
            <a:srgbClr val="0000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90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Vera Sans"/>
              </a:rPr>
              <a:t>MoRENet</a:t>
            </a:r>
            <a:endParaRPr b="0" lang="en-US" sz="20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70" name=""/>
          <p:cNvSpPr/>
          <p:nvPr/>
        </p:nvSpPr>
        <p:spPr>
          <a:xfrm>
            <a:off x="4325760" y="5129280"/>
            <a:ext cx="3730680" cy="714240"/>
          </a:xfrm>
          <a:prstGeom prst="pie">
            <a:avLst/>
          </a:prstGeom>
          <a:noFill/>
          <a:ln w="57240">
            <a:solidFill>
              <a:srgbClr val="800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71" name=""/>
          <p:cNvSpPr/>
          <p:nvPr/>
        </p:nvSpPr>
        <p:spPr>
          <a:xfrm>
            <a:off x="4325760" y="5288040"/>
            <a:ext cx="1587600" cy="635040"/>
          </a:xfrm>
          <a:prstGeom prst="pie">
            <a:avLst/>
          </a:prstGeom>
          <a:noFill/>
          <a:ln w="5724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72" name=""/>
          <p:cNvSpPr/>
          <p:nvPr/>
        </p:nvSpPr>
        <p:spPr>
          <a:xfrm>
            <a:off x="515880" y="6399360"/>
            <a:ext cx="1903320" cy="873000"/>
          </a:xfrm>
          <a:prstGeom prst="pie">
            <a:avLst/>
          </a:prstGeom>
          <a:solidFill>
            <a:srgbClr val="0000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90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Vera Sans"/>
              </a:rPr>
              <a:t>Namibia</a:t>
            </a:r>
            <a:endParaRPr b="0" lang="en-US" sz="20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73" name=""/>
          <p:cNvSpPr/>
          <p:nvPr/>
        </p:nvSpPr>
        <p:spPr>
          <a:xfrm>
            <a:off x="1944720" y="5367240"/>
            <a:ext cx="1984320" cy="1111320"/>
          </a:xfrm>
          <a:prstGeom prst="pie">
            <a:avLst/>
          </a:prstGeom>
          <a:noFill/>
          <a:ln w="57240">
            <a:solidFill>
              <a:srgbClr val="80008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8370360" y="1158480"/>
            <a:ext cx="241560" cy="16700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437080" y="1158480"/>
            <a:ext cx="2936880" cy="3999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76" name=""/>
          <p:cNvSpPr/>
          <p:nvPr/>
        </p:nvSpPr>
        <p:spPr>
          <a:xfrm>
            <a:off x="8213760" y="1081080"/>
            <a:ext cx="318960" cy="1587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77" name=""/>
          <p:cNvSpPr/>
          <p:nvPr/>
        </p:nvSpPr>
        <p:spPr>
          <a:xfrm>
            <a:off x="7781760" y="2746440"/>
            <a:ext cx="1746360" cy="1031760"/>
          </a:xfrm>
          <a:prstGeom prst="pie">
            <a:avLst/>
          </a:prstGeom>
          <a:solidFill>
            <a:srgbClr val="ff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90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Vera Sans"/>
              </a:rPr>
              <a:t>KENET</a:t>
            </a:r>
            <a:endParaRPr b="0" lang="en-US" sz="20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78" name=""/>
          <p:cNvSpPr/>
          <p:nvPr/>
        </p:nvSpPr>
        <p:spPr>
          <a:xfrm>
            <a:off x="1414440" y="1279440"/>
            <a:ext cx="4022640" cy="833400"/>
          </a:xfrm>
          <a:prstGeom prst="pie">
            <a:avLst/>
          </a:prstGeom>
          <a:noFill/>
          <a:ln w="57240">
            <a:solidFill>
              <a:srgbClr val="ff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116320" y="1557360"/>
            <a:ext cx="322200" cy="2379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itstream Vera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04720" y="135000"/>
            <a:ext cx="828828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300" spc="-1" strike="noStrike">
                <a:solidFill>
                  <a:srgbClr val="330066"/>
                </a:solidFill>
                <a:latin typeface="Arial"/>
              </a:rPr>
              <a:t>KTCIP Project</a:t>
            </a:r>
            <a:endParaRPr b="0" lang="en-US" sz="43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1600200"/>
            <a:ext cx="904572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roject to improve bandwidth access for Higher Education Institutions in Kenya</a:t>
            </a:r>
            <a:endParaRPr b="0" lang="en-US" sz="26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100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ill upgrade Number of POPs to six across Kenya</a:t>
            </a:r>
            <a:endParaRPr b="0" lang="en-US" sz="26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100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crease total bandwidth to 200Mbps</a:t>
            </a:r>
            <a:endParaRPr b="0" lang="en-US" sz="26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100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mprove local infrastructure to leased fiber to at least half of 62 participating institutions</a:t>
            </a:r>
            <a:endParaRPr b="0" lang="en-US" sz="26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100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mprove all POPs to high standards</a:t>
            </a:r>
            <a:endParaRPr b="0" lang="en-US" sz="26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100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stall a main Data Center in Nairobi to provide top IT services</a:t>
            </a:r>
            <a:endParaRPr b="0" lang="en-US" sz="26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100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ll POPs will be ready to receive Fiber when Kenya's fiber network will be complete</a:t>
            </a:r>
            <a:endParaRPr b="0" lang="en-US" sz="26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100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ines will be leased but provider will be tied to hard SLA</a:t>
            </a:r>
            <a:endParaRPr b="0" lang="en-US" sz="2600" spc="-1" strike="noStrike">
              <a:solidFill>
                <a:srgbClr val="ffffff"/>
              </a:solidFill>
              <a:latin typeface="Bitstream Vera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773360" y="270000"/>
            <a:ext cx="7022880" cy="666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4360" y="133200"/>
            <a:ext cx="8286840" cy="14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300" spc="-1" strike="noStrike">
                <a:solidFill>
                  <a:srgbClr val="330066"/>
                </a:solidFill>
                <a:latin typeface="Arial"/>
              </a:rPr>
              <a:t>The project so far.....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504720" y="1940040"/>
            <a:ext cx="9043920" cy="47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57200" y="1943280"/>
            <a:ext cx="8686800" cy="53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4360" y="133200"/>
            <a:ext cx="8286840" cy="142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504720" y="1940040"/>
            <a:ext cx="9043920" cy="47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915400" cy="708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4360" y="87480"/>
            <a:ext cx="828684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300" spc="-1" strike="noStrike">
                <a:solidFill>
                  <a:srgbClr val="330066"/>
                </a:solidFill>
                <a:latin typeface="Arial"/>
              </a:rPr>
              <a:t>Changes?</a:t>
            </a:r>
            <a:endParaRPr b="1" lang="en-US" sz="43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4720" y="1895400"/>
            <a:ext cx="9043920" cy="4859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7760" indent="-347760">
              <a:lnSpc>
                <a:spcPct val="6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Need to change the IGP and improve the BGP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6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alk to the Universities and get help them organise their networks, some still have daisy chain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6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alk to the Layer 1 provider, current fiber is dropping packets, jitter. Might not be well don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6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Get STP running on the switch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62000"/>
              </a:lnSpc>
              <a:spcBef>
                <a:spcPts val="8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493720"/>
            <a:ext cx="8315280" cy="27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300" spc="-1" strike="noStrike">
                <a:solidFill>
                  <a:srgbClr val="330066"/>
                </a:solidFill>
                <a:latin typeface="Arial"/>
              </a:rPr>
              <a:t>Thank you!</a:t>
            </a:r>
            <a:br>
              <a:rPr sz="4300"/>
            </a:br>
            <a:br>
              <a:rPr sz="4300"/>
            </a:br>
            <a:r>
              <a:rPr b="1" lang="en-GB" sz="2400" spc="-1" strike="noStrike">
                <a:solidFill>
                  <a:srgbClr val="330066"/>
                </a:solidFill>
                <a:latin typeface="Arial"/>
              </a:rPr>
              <a:t>http://www.kenet.or.ke</a:t>
            </a:r>
            <a:br>
              <a:rPr sz="2400"/>
            </a:br>
            <a:br>
              <a:rPr sz="2400"/>
            </a:br>
            <a:r>
              <a:rPr b="1" lang="en-GB" sz="3200" spc="-1" strike="noStrike">
                <a:solidFill>
                  <a:srgbClr val="330066"/>
                </a:solidFill>
                <a:latin typeface="Arial"/>
              </a:rPr>
              <a:t>Questions, Comments...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04720" y="135000"/>
            <a:ext cx="8286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b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300" spc="-1" strike="noStrike">
                <a:solidFill>
                  <a:srgbClr val="330066"/>
                </a:solidFill>
                <a:latin typeface="Arial"/>
              </a:rPr>
              <a:t>Governance and Operations</a:t>
            </a:r>
            <a:endParaRPr b="0" lang="en-US" sz="43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06" name=""/>
          <p:cNvSpPr/>
          <p:nvPr/>
        </p:nvSpPr>
        <p:spPr>
          <a:xfrm>
            <a:off x="336600" y="1679400"/>
            <a:ext cx="9504360" cy="55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347760" indent="-347760">
              <a:lnSpc>
                <a:spcPct val="5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Kenya Education Network Trust (KENET)</a:t>
            </a:r>
            <a:endParaRPr b="0" lang="en-US" sz="3300" spc="-1" strike="noStrike">
              <a:solidFill>
                <a:srgbClr val="ffffff"/>
              </a:solidFill>
              <a:latin typeface="Bitstream Vera Sans"/>
            </a:endParaRPr>
          </a:p>
          <a:p>
            <a:pPr lvl="1" marL="733320" indent="-365040">
              <a:lnSpc>
                <a:spcPct val="52000"/>
              </a:lnSpc>
              <a:spcBef>
                <a:spcPts val="726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Bitstream Vera Sans"/>
            </a:endParaRPr>
          </a:p>
          <a:p>
            <a:pPr lvl="1" marL="733320" indent="-365040">
              <a:lnSpc>
                <a:spcPct val="52000"/>
              </a:lnSpc>
              <a:spcBef>
                <a:spcPts val="726"/>
              </a:spcBef>
              <a:buClr>
                <a:srgbClr val="669999"/>
              </a:buClr>
              <a:buSzPct val="70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msgothic"/>
              </a:rPr>
              <a:t>Trustees -  5 VCs, MD of Telkom Kenya, DG of CCK, PS, Education</a:t>
            </a:r>
            <a:endParaRPr b="0" lang="en-US" sz="2200" spc="-1" strike="noStrike">
              <a:solidFill>
                <a:srgbClr val="ffffff"/>
              </a:solidFill>
              <a:latin typeface="Bitstream Vera Sans"/>
            </a:endParaRPr>
          </a:p>
          <a:p>
            <a:pPr lvl="1" marL="733320" indent="-365040">
              <a:lnSpc>
                <a:spcPct val="52000"/>
              </a:lnSpc>
              <a:spcBef>
                <a:spcPts val="726"/>
              </a:spcBef>
              <a:buClr>
                <a:srgbClr val="669999"/>
              </a:buClr>
              <a:buSzPct val="70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msgothic"/>
              </a:rPr>
              <a:t>Management Board representing Trustee VCs and research institutions </a:t>
            </a:r>
            <a:endParaRPr b="0" lang="en-US" sz="2200" spc="-1" strike="noStrike">
              <a:solidFill>
                <a:srgbClr val="ffffff"/>
              </a:solidFill>
              <a:latin typeface="Bitstream Vera Sans"/>
            </a:endParaRPr>
          </a:p>
          <a:p>
            <a:pPr lvl="1" marL="733320" indent="-365040">
              <a:lnSpc>
                <a:spcPct val="52000"/>
              </a:lnSpc>
              <a:spcBef>
                <a:spcPts val="726"/>
              </a:spcBef>
              <a:buClr>
                <a:srgbClr val="669999"/>
              </a:buClr>
              <a:buSzPct val="70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msgothic"/>
              </a:rPr>
              <a:t>(ICT directors or senior ICT faculty)</a:t>
            </a:r>
            <a:endParaRPr b="0" lang="en-US" sz="2200" spc="-1" strike="noStrike">
              <a:solidFill>
                <a:srgbClr val="ffffff"/>
              </a:solidFill>
              <a:latin typeface="Bitstream Vera Sans"/>
            </a:endParaRPr>
          </a:p>
          <a:p>
            <a:pPr lvl="1" marL="733320" indent="-365040">
              <a:lnSpc>
                <a:spcPct val="52000"/>
              </a:lnSpc>
              <a:spcBef>
                <a:spcPts val="726"/>
              </a:spcBef>
              <a:buClr>
                <a:srgbClr val="669999"/>
              </a:buClr>
              <a:buSzPct val="70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msgothic"/>
              </a:rPr>
              <a:t>Secretariat with a CEO “donated” by a member university (USIU)</a:t>
            </a:r>
            <a:endParaRPr b="0" lang="en-US" sz="22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5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Licensed as Alternative Networks Operator by CCK</a:t>
            </a:r>
            <a:endParaRPr b="0" lang="en-US" sz="3300" spc="-1" strike="noStrike">
              <a:solidFill>
                <a:srgbClr val="ffffff"/>
              </a:solidFill>
              <a:latin typeface="Bitstream Vera Sans"/>
            </a:endParaRPr>
          </a:p>
          <a:p>
            <a:pPr lvl="1" marL="733320" indent="-365040">
              <a:lnSpc>
                <a:spcPct val="52000"/>
              </a:lnSpc>
              <a:spcBef>
                <a:spcPts val="726"/>
              </a:spcBef>
              <a:buClr>
                <a:srgbClr val="669999"/>
              </a:buClr>
              <a:buSzPct val="70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gothic"/>
              </a:rPr>
              <a:t>All license fees waived by the regulator since inception</a:t>
            </a:r>
            <a:endParaRPr b="0" lang="en-US" sz="2400" spc="-1" strike="noStrike">
              <a:solidFill>
                <a:srgbClr val="ffffff"/>
              </a:solidFill>
              <a:latin typeface="Bitstream Vera Sans"/>
            </a:endParaRPr>
          </a:p>
          <a:p>
            <a:pPr lvl="1" marL="733320" indent="-365040">
              <a:lnSpc>
                <a:spcPct val="52000"/>
              </a:lnSpc>
              <a:spcBef>
                <a:spcPts val="726"/>
              </a:spcBef>
              <a:buClr>
                <a:srgbClr val="669999"/>
              </a:buClr>
              <a:buSzPct val="70000"/>
              <a:buFont typeface="Arial"/>
              <a:buChar char="–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gothic"/>
              </a:rPr>
              <a:t>International gateway license </a:t>
            </a:r>
            <a:endParaRPr b="0" lang="en-US" sz="24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52000"/>
              </a:lnSpc>
              <a:spcBef>
                <a:spcPts val="825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3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5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Provides Internet services in partnership with commercial operators</a:t>
            </a:r>
            <a:endParaRPr b="0" lang="en-US" sz="33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52000"/>
              </a:lnSpc>
              <a:spcBef>
                <a:spcPts val="825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3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5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42 member institutions; 130,000 students + 17,000 staff members</a:t>
            </a:r>
            <a:endParaRPr b="0" lang="en-US" sz="33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52000"/>
              </a:lnSpc>
              <a:spcBef>
                <a:spcPts val="825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33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07" name=""/>
          <p:cNvSpPr/>
          <p:nvPr/>
        </p:nvSpPr>
        <p:spPr>
          <a:xfrm>
            <a:off x="504720" y="6888240"/>
            <a:ext cx="23227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Bitstream Vera Sans"/>
              </a:rPr>
              <a:t>Meoli Kashorda</a:t>
            </a:r>
            <a:endParaRPr b="0" lang="en-US" sz="11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08" name=""/>
          <p:cNvSpPr/>
          <p:nvPr/>
        </p:nvSpPr>
        <p:spPr>
          <a:xfrm>
            <a:off x="7224840" y="6888240"/>
            <a:ext cx="2323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CC5F9B-BD13-40AF-B541-2798F26FA88D}" type="slidenum">
              <a:rPr b="0" lang="en-US" sz="1100" spc="-1" strike="noStrike">
                <a:solidFill>
                  <a:srgbClr val="000000"/>
                </a:solidFill>
                <a:latin typeface="Arial"/>
                <a:ea typeface="Bitstream Vera Sans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09" name=""/>
          <p:cNvSpPr/>
          <p:nvPr/>
        </p:nvSpPr>
        <p:spPr>
          <a:xfrm>
            <a:off x="3444840" y="6888240"/>
            <a:ext cx="31622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Bitstream Vera Sans"/>
              </a:rPr>
              <a:t>EA Accession Project</a:t>
            </a:r>
            <a:endParaRPr b="0" lang="en-US" sz="1100" spc="-1" strike="noStrike">
              <a:solidFill>
                <a:srgbClr val="ffffff"/>
              </a:solidFill>
              <a:latin typeface="Bitstream Ver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04720" y="179280"/>
            <a:ext cx="830592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300" spc="-1" strike="noStrike">
                <a:solidFill>
                  <a:srgbClr val="330066"/>
                </a:solidFill>
                <a:latin typeface="Arial"/>
              </a:rPr>
              <a:t>KENET Secretariat</a:t>
            </a:r>
            <a:endParaRPr b="0" lang="en-US" sz="43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11" name=""/>
          <p:cNvSpPr/>
          <p:nvPr/>
        </p:nvSpPr>
        <p:spPr>
          <a:xfrm>
            <a:off x="504720" y="1895400"/>
            <a:ext cx="9063000" cy="47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7760" indent="-347760">
              <a:lnSpc>
                <a:spcPct val="8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8 IT professionals permanent staff</a:t>
            </a:r>
            <a:endParaRPr b="0" lang="en-US" sz="2600" spc="-1" strike="noStrike">
              <a:solidFill>
                <a:srgbClr val="ffffff"/>
              </a:solidFill>
              <a:latin typeface="Bitstream Vera Sans"/>
            </a:endParaRPr>
          </a:p>
          <a:p>
            <a:pPr lvl="1" marL="733320" indent="-365040">
              <a:lnSpc>
                <a:spcPct val="82000"/>
              </a:lnSpc>
              <a:spcBef>
                <a:spcPts val="72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gothic"/>
              </a:rPr>
              <a:t>2 to 3 IT Interns at any one time from member universities</a:t>
            </a:r>
            <a:endParaRPr b="0" lang="en-US" sz="22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8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ne accountant and one administrator </a:t>
            </a:r>
            <a:endParaRPr b="0" lang="en-US" sz="26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8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ne CEO </a:t>
            </a:r>
            <a:endParaRPr b="0" lang="en-US" sz="26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8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hysically hosted by the University of Nairobi in the Jomo Kenyatta Memorial Library</a:t>
            </a:r>
            <a:endParaRPr b="0" lang="en-US" sz="26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8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oving to USIU</a:t>
            </a:r>
            <a:endParaRPr b="0" lang="en-US" sz="2600" spc="-1" strike="noStrike">
              <a:solidFill>
                <a:srgbClr val="ffffff"/>
              </a:solidFill>
              <a:latin typeface="Bitstream Vera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04720" y="179280"/>
            <a:ext cx="830916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300" spc="-1" strike="noStrike">
                <a:solidFill>
                  <a:srgbClr val="330066"/>
                </a:solidFill>
                <a:latin typeface="Arial"/>
              </a:rPr>
              <a:t>What KENET offers to members</a:t>
            </a:r>
            <a:endParaRPr b="0" lang="en-US" sz="43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13" name=""/>
          <p:cNvSpPr/>
          <p:nvPr/>
        </p:nvSpPr>
        <p:spPr>
          <a:xfrm>
            <a:off x="504720" y="1895400"/>
            <a:ext cx="9066240" cy="47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7760" indent="-347760">
              <a:lnSpc>
                <a:spcPct val="84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andwidth services</a:t>
            </a:r>
            <a:endParaRPr b="0" lang="en-US" sz="2600" spc="-1" strike="noStrike">
              <a:solidFill>
                <a:srgbClr val="ffffff"/>
              </a:solidFill>
              <a:latin typeface="Bitstream Vera Sans"/>
            </a:endParaRPr>
          </a:p>
          <a:p>
            <a:pPr lvl="1" marL="733320" indent="-365040">
              <a:lnSpc>
                <a:spcPct val="84000"/>
              </a:lnSpc>
              <a:spcBef>
                <a:spcPts val="72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gothic"/>
              </a:rPr>
              <a:t>At negotiated prices</a:t>
            </a:r>
            <a:endParaRPr b="0" lang="en-US" sz="22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 algn="just">
              <a:lnSpc>
                <a:spcPct val="98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ervices – mail hosting, backup, web hosting, setting up of custom servers, DNS Record hosting, monitoring for all connected hosts</a:t>
            </a:r>
            <a:endParaRPr b="0" lang="en-US" sz="26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 algn="just">
              <a:lnSpc>
                <a:spcPct val="98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erver co-location</a:t>
            </a:r>
            <a:endParaRPr b="0" lang="en-US" sz="26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 algn="just">
              <a:lnSpc>
                <a:spcPct val="98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echnical training of member technical staff</a:t>
            </a:r>
            <a:endParaRPr b="0" lang="en-US" sz="2600" spc="-1" strike="noStrike">
              <a:solidFill>
                <a:srgbClr val="ffffff"/>
              </a:solidFill>
              <a:latin typeface="Bitstream Vera Sans"/>
            </a:endParaRPr>
          </a:p>
          <a:p>
            <a:pPr lvl="1" marL="733320" indent="-365040" algn="just">
              <a:lnSpc>
                <a:spcPct val="98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gothic"/>
              </a:rPr>
              <a:t>Bandwidth management training </a:t>
            </a:r>
            <a:endParaRPr b="0" lang="en-US" sz="22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 algn="just">
              <a:lnSpc>
                <a:spcPct val="98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etwork support and design</a:t>
            </a:r>
            <a:endParaRPr b="0" lang="en-US" sz="2600" spc="-1" strike="noStrike">
              <a:solidFill>
                <a:srgbClr val="ffffff"/>
              </a:solidFill>
              <a:latin typeface="Bitstream Vera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04720" y="179280"/>
            <a:ext cx="830592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300" spc="-1" strike="noStrike">
                <a:solidFill>
                  <a:srgbClr val="330066"/>
                </a:solidFill>
                <a:latin typeface="Arial"/>
              </a:rPr>
              <a:t>Current KENET NoC </a:t>
            </a:r>
            <a:endParaRPr b="0" lang="en-US" sz="43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1170000"/>
            <a:ext cx="9063000" cy="47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7760" indent="-347760">
              <a:lnSpc>
                <a:spcPct val="84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One NoC in Nairobi</a:t>
            </a:r>
            <a:endParaRPr b="0" lang="en-US" sz="24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84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All services running on open source   </a:t>
            </a:r>
            <a:endParaRPr b="0" lang="en-US" sz="24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84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Cisco routers used for routing, BGP sessions with both uplink providers </a:t>
            </a:r>
            <a:endParaRPr b="0" lang="en-US" sz="24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84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Colocates some elearning servers</a:t>
            </a:r>
            <a:endParaRPr b="0" lang="en-US" sz="2400" spc="-1" strike="noStrike">
              <a:solidFill>
                <a:srgbClr val="ffffff"/>
              </a:solidFill>
              <a:latin typeface="Bitstream Vera Sans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600200" y="3174840"/>
            <a:ext cx="662940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04720" y="179280"/>
            <a:ext cx="830592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300" spc="-1" strike="noStrike">
                <a:solidFill>
                  <a:srgbClr val="330066"/>
                </a:solidFill>
                <a:latin typeface="Arial"/>
              </a:rPr>
              <a:t>KENET NoC cont'd</a:t>
            </a:r>
            <a:endParaRPr b="0" lang="en-US" sz="43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18" name=""/>
          <p:cNvSpPr/>
          <p:nvPr/>
        </p:nvSpPr>
        <p:spPr>
          <a:xfrm>
            <a:off x="309600" y="1600200"/>
            <a:ext cx="9063000" cy="47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7760" indent="-347760">
              <a:lnSpc>
                <a:spcPct val="84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Hosting the mirror.ac.ke  which contains FOSS software available for free download</a:t>
            </a:r>
            <a:endParaRPr b="0" lang="en-US" sz="24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84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Recognised by OpenOffice.org as the mirror for Kenya</a:t>
            </a:r>
            <a:endParaRPr b="0" lang="en-US" sz="24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84000"/>
              </a:lnSpc>
              <a:spcBef>
                <a:spcPts val="825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84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Provides link to KIXP to improve access to local sites (18 Mb/s)</a:t>
            </a:r>
            <a:endParaRPr b="0" lang="en-US" sz="24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84000"/>
              </a:lnSpc>
              <a:spcBef>
                <a:spcPts val="825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84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This link to KIXP also provides access to Google Apps Gmail accounts for Universities</a:t>
            </a:r>
            <a:endParaRPr b="0" lang="en-US" sz="24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84000"/>
              </a:lnSpc>
              <a:spcBef>
                <a:spcPts val="825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84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itstream Vera Sans"/>
              </a:rPr>
              <a:t>Web hosting and Email hosting for several Universities and institutions</a:t>
            </a:r>
            <a:endParaRPr b="0" lang="en-US" sz="2400" spc="-1" strike="noStrike">
              <a:solidFill>
                <a:srgbClr val="ffffff"/>
              </a:solidFill>
              <a:latin typeface="Bitstream Vera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41320" y="2971800"/>
            <a:ext cx="830268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7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300" spc="-1" strike="noStrike">
                <a:solidFill>
                  <a:srgbClr val="330066"/>
                </a:solidFill>
                <a:latin typeface="Arial"/>
              </a:rPr>
              <a:t>KENET Early Network</a:t>
            </a:r>
            <a:endParaRPr b="0" lang="en-US" sz="4300" spc="-1" strike="noStrike">
              <a:solidFill>
                <a:srgbClr val="ffffff"/>
              </a:solidFill>
              <a:latin typeface="Bitstream Vera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504720" y="179280"/>
            <a:ext cx="830592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300" spc="-1" strike="noStrike">
                <a:solidFill>
                  <a:srgbClr val="330066"/>
                </a:solidFill>
                <a:latin typeface="Arial"/>
              </a:rPr>
              <a:t>Old Infrastructure</a:t>
            </a:r>
            <a:endParaRPr b="0" lang="en-US" sz="4300" spc="-1" strike="noStrike">
              <a:solidFill>
                <a:srgbClr val="ffffff"/>
              </a:solidFill>
              <a:latin typeface="Bitstream Vera Sans"/>
            </a:endParaRPr>
          </a:p>
        </p:txBody>
      </p:sp>
      <p:sp>
        <p:nvSpPr>
          <p:cNvPr id="121" name=""/>
          <p:cNvSpPr/>
          <p:nvPr/>
        </p:nvSpPr>
        <p:spPr>
          <a:xfrm>
            <a:off x="392040" y="1417680"/>
            <a:ext cx="9063000" cy="49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7760" indent="-347760">
              <a:lnSpc>
                <a:spcPct val="8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ternational Satellite bandwidth </a:t>
            </a:r>
            <a:endParaRPr b="0" lang="en-US" sz="2600" spc="-1" strike="noStrike">
              <a:solidFill>
                <a:srgbClr val="ffffff"/>
              </a:solidFill>
              <a:latin typeface="Bitstream Vera Sans"/>
            </a:endParaRPr>
          </a:p>
          <a:p>
            <a:pPr lvl="1" marL="733320" indent="-365040">
              <a:lnSpc>
                <a:spcPct val="82000"/>
              </a:lnSpc>
              <a:spcBef>
                <a:spcPts val="72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gothic"/>
              </a:rPr>
              <a:t>Access via local leased lines connected directly to Jambonet (Internet services operator)</a:t>
            </a:r>
            <a:endParaRPr b="0" lang="en-US" sz="2200" spc="-1" strike="noStrike">
              <a:solidFill>
                <a:srgbClr val="ffffff"/>
              </a:solidFill>
              <a:latin typeface="Bitstream Vera Sans"/>
            </a:endParaRPr>
          </a:p>
          <a:p>
            <a:pPr lvl="1" marL="733320" indent="-365040">
              <a:lnSpc>
                <a:spcPct val="82000"/>
              </a:lnSpc>
              <a:spcBef>
                <a:spcPts val="72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gothic"/>
              </a:rPr>
              <a:t>In some case DVB satellite with uplink via KENET POPs or Jambonet POPs</a:t>
            </a:r>
            <a:endParaRPr b="0" lang="en-US" sz="22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8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istribution Infrastructure used local leased lines</a:t>
            </a:r>
            <a:endParaRPr b="0" lang="en-US" sz="2600" spc="-1" strike="noStrike">
              <a:solidFill>
                <a:srgbClr val="ffffff"/>
              </a:solidFill>
              <a:latin typeface="Bitstream Vera Sans"/>
            </a:endParaRPr>
          </a:p>
          <a:p>
            <a:pPr lvl="1" marL="733320" indent="-365040">
              <a:lnSpc>
                <a:spcPct val="82000"/>
              </a:lnSpc>
              <a:spcBef>
                <a:spcPts val="72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gothic"/>
              </a:rPr>
              <a:t>No control – network owned by the Telcom and they offer no SLA</a:t>
            </a:r>
            <a:endParaRPr b="0" lang="en-US" sz="22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8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KIXP and some campuses connected using wireless links</a:t>
            </a:r>
            <a:endParaRPr b="0" lang="en-US" sz="2600" spc="-1" strike="noStrike">
              <a:solidFill>
                <a:srgbClr val="ffffff"/>
              </a:solidFill>
              <a:latin typeface="Bitstream Vera Sans"/>
            </a:endParaRPr>
          </a:p>
          <a:p>
            <a:pPr lvl="1" marL="733320" indent="-365040">
              <a:lnSpc>
                <a:spcPct val="82000"/>
              </a:lnSpc>
              <a:spcBef>
                <a:spcPts val="72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gothic"/>
              </a:rPr>
              <a:t>Not viable for far away institutions</a:t>
            </a:r>
            <a:endParaRPr b="0" lang="en-US" sz="22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8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ast mile for 4 member institutions via digital microwave radio installed in Telkom network in year 2002</a:t>
            </a:r>
            <a:endParaRPr b="0" lang="en-US" sz="2600" spc="-1" strike="noStrike">
              <a:solidFill>
                <a:srgbClr val="ffffff"/>
              </a:solidFill>
              <a:latin typeface="Bitstream Vera Sans"/>
            </a:endParaRPr>
          </a:p>
          <a:p>
            <a:pPr lvl="1" marL="733320" indent="-365040">
              <a:lnSpc>
                <a:spcPct val="82000"/>
              </a:lnSpc>
              <a:spcBef>
                <a:spcPts val="72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msgothic"/>
              </a:rPr>
              <a:t>Moi, JKUAT, ANU, Baraton, </a:t>
            </a:r>
            <a:endParaRPr b="0" lang="en-US" sz="2200" spc="-1" strike="noStrike">
              <a:solidFill>
                <a:srgbClr val="ffffff"/>
              </a:solidFill>
              <a:latin typeface="Bitstream Vera Sans"/>
            </a:endParaRPr>
          </a:p>
          <a:p>
            <a:pPr marL="347760" indent="-347760">
              <a:lnSpc>
                <a:spcPct val="82000"/>
              </a:lnSpc>
              <a:spcBef>
                <a:spcPts val="8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ree PoPs with VSAT nodes in Nairobi, Nakuru, Eldoret </a:t>
            </a:r>
            <a:endParaRPr b="0" lang="en-US" sz="2600" spc="-1" strike="noStrike">
              <a:solidFill>
                <a:srgbClr val="ffffff"/>
              </a:solidFill>
              <a:latin typeface="Bitstream Ver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8-10-05T14:44:33Z</dcterms:modified>
  <cp:revision>16</cp:revision>
  <dc:subject/>
  <dc:title>Bandwidth Optimisation in Low Capacity Networks  Case studies o</dc:title>
</cp:coreProperties>
</file>