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BC39-C005-4B80-BC13-A1705F94F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357A-9256-4B64-8557-680D3F012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3AD5-A6F3-4C84-9D76-190D58A67C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AB08-59D3-42B3-AA02-92F46BDAF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AB2C-22FE-4878-B9FA-2E5DA98D23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281D-9947-4446-8959-00E53AF9C7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CA53D-0B58-4951-A58B-6DEEBD5356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FDC8-6555-49E6-8C47-DA59B60E3A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BF8FB-32B3-451B-9775-9497D010DC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92A3-1E68-479C-B0E3-BA26931011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AD64F-F0CA-4D06-8082-461DD15F81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BAE7-DC7C-444C-A561-9FEBFF5C68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1FCFD-825E-4820-9259-90811CA769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593F-1332-4BFF-AD0E-CB34D8C4A5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1F33-83D7-4740-A0DE-4381A568A4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C205-1E4C-4391-AE86-BC587F93F6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691B-A5D4-43BC-ACD8-6D7E486D48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5C9-4712-4218-8F30-61C355C41A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A9B-0BE5-43CA-86A3-C3EE62C1EF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E7EE-F646-4FF8-B67D-CEC670685F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112-1CB9-4627-AC48-F4CFF6C95D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D04B-2CC2-43F0-BF74-3837AFB5C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3F9B8-9CCF-459B-AAD2-484984EA5E2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8F8-22F1-4BC4-BFB4-70F068D63A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9A9B-0883-4993-8D23-B3C248532E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217-9EAB-4CEE-BDF2-0CB563B910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1E4D-345F-4B50-BCDC-E25C80A3E2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E73-7653-4C6F-B616-87703665A0A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19C5-3766-4753-99DD-138C079AE53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0C6-B720-4D99-9FF8-F79EA49E4F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71DDE-1B3F-4F6F-813E-20EBC43DCDB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D014C-653D-4909-AFD9-7456556CE88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C31D3-890D-4B38-8C7A-607E1D8BA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CAAD-D158-46EC-9F04-30DEB7D7FE8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4DA6F-1281-4EFD-8B89-4CE6F9D0B6C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5E3D3-5F07-4569-A166-7CFCEC01682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5C55D-FD2F-44FA-A232-24E7366296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9E42D-6B4D-4735-8D00-A8834304D12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8A9D5-31F7-4500-9CFB-1FD2B19CAB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B3258-6F3B-455A-9DE8-66D2D908164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01148-2096-4F4C-8CF2-C294E8B3BA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968AD-7D4B-4715-831C-6788C610FD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C439F-CF5E-4530-A83A-97340B6F3B9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DE58B-D9FE-4C04-B0DC-B6D2A5D83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8E6B-FFDB-4B5E-9023-8070AC20475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18092-074E-4D8E-964C-3CC1ED15BC6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6BF29-4AB8-4E2F-81C3-709201647E9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83B72-BB6E-4015-9263-C5591230F2C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CA485-E857-4121-9AF5-C1102404772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218C4-3DCF-45A0-8DFB-9955C9110AC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942E1-0793-494B-8B6E-CF046648FA9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80FC9-4428-494A-B0A6-26D3782771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39924-46E2-4305-A3E8-AF04D7B9A61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E3930C-56A5-4004-81CF-C86942ED8B8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AAAA3-981E-4286-965E-A83E9E30C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E5A2-0726-4B43-BDEC-CB449767DF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089F8-6FBA-45D7-927F-1950CEEE678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0EF7-B90D-4159-8D5E-02A3AED1EC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F8006-8EE9-4462-A656-902D596103D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20AF-FF33-408C-91B0-BB2CDA4D026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DBD9-0482-4C55-9859-1EF2F13D840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CD2E-2B06-42CB-8D74-FA69132B920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16F1-A372-44BF-B5A3-B1A19513C71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2FC7-B390-4B91-9B78-4E1EA1FF70F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552F-F6BF-432F-885C-24FB92EE5FA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8B0E-9E85-4614-B8F8-56FFD71295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6383-BBB2-4C74-A101-0BCD88350C0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2DFB-C18E-4BB2-95DC-A498734638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7C2E-9A9B-4A55-8BAF-7C3C79F2326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21EC-0887-4A5D-A54A-66A7282520E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D24C7-1110-4B1C-8301-1A018F23C96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F69C77-F3C3-4923-8D01-CB1269A120E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5BA4C4-AB8A-4883-81E5-8418800D159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44049-1E1F-44BE-9179-410E2D73C6C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CDD08-96B3-4B0F-9F30-819E7FC024E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144360"/>
            <a:ext cx="749160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05D43-16AF-4502-AA37-F85B2FBA6B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FDBF5-8EB3-4DE2-B8B5-6E6491037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3871-4130-43F5-B44B-BA5A2AE56FA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063B2-66CA-44B8-8793-87B182B91F0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016868-7642-403A-A8E3-1A3A4EFE7E3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960148-2879-4F19-AABF-0E0D4CA8316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4000" y="395100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66A49-6C73-49BF-A130-7D4D4A0FD5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792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0880" y="144756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792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0880" y="3951000"/>
            <a:ext cx="241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C5EFD-5F7A-41FF-B691-3C2DE4780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4000" y="1447560"/>
            <a:ext cx="3655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1000"/>
            <a:ext cx="7491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5BA4-2A65-4413-9C59-5D7112F5C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55320" y="120960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D3BF45-BBB0-4D95-8498-E7377A89C07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2556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55320" y="120960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1840"/>
            <a:ext cx="223920" cy="230040"/>
            <a:chOff x="914400" y="1401840"/>
            <a:chExt cx="223920" cy="23004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1840"/>
              <a:ext cx="22392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1709A-593E-42FA-A9F1-DF5CD71CAD9C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3680"/>
            <a:ext cx="223920" cy="230040"/>
            <a:chOff x="2163600" y="2803680"/>
            <a:chExt cx="223920" cy="23004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3680"/>
              <a:ext cx="22392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8C96A7-1A91-43E8-AEDD-DFE0724CEDFE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8A5105-C9C7-4C54-B53D-5D46786330C3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5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CEE5B-D52B-4A48-93D8-97BE0E9B6FC6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15FD2-4341-476D-809A-07D405DB011A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795920" cy="4795920"/>
            <a:chOff x="646200" y="969840"/>
            <a:chExt cx="4795920" cy="479592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5920" cy="47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4464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160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1600" cy="47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"/>
          <p:cNvSpPr/>
          <p:nvPr/>
        </p:nvSpPr>
        <p:spPr>
          <a:xfrm>
            <a:off x="3581280" y="6303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7"/>
          </p:nvPr>
        </p:nvSpPr>
        <p:spPr>
          <a:xfrm>
            <a:off x="8613720" y="6303600"/>
            <a:ext cx="449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4B5995-9709-4D8A-9CAD-015C5907F98D}" type="slidenum">
              <a:rPr b="0" lang="en-US" sz="1200" spc="-1" strike="noStrike">
                <a:solidFill>
                  <a:srgbClr val="b5a788"/>
                </a:solidFill>
                <a:latin typeface="Times New Roman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14400" y="838080"/>
            <a:ext cx="8001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hana Academic and Research Network (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ARNET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00200" y="3429000"/>
            <a:ext cx="64008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enjamin A. Eshu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beshun@garnet.edu.g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July 24, 200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3600" y="3324240"/>
            <a:ext cx="121140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03600" y="1143000"/>
            <a:ext cx="3954600" cy="24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838080"/>
            <a:ext cx="8001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Ghana Academic and Research Network (</a:t>
            </a: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GARNET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)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300" spc="-1" strike="noStrike">
                <a:solidFill>
                  <a:srgbClr val="572314"/>
                </a:solidFill>
                <a:latin typeface="Gill Sans MT"/>
              </a:rPr>
              <a:t>Key Network features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The use of BGP implementation (with OSPF as the IGP) for optimum routing among the various campus  communities for the necessary inter-routing informa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IP addressing to cater for the right number of hosts and subnets required by each institution and grou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572314"/>
                </a:solidFill>
                <a:latin typeface="Gill Sans MT"/>
              </a:rPr>
              <a:t>Sufficient interconnection inform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Setting up of exchange points for internal traffic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Peering with other RREN’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72314"/>
                </a:solidFill>
                <a:latin typeface="Gill Sans MT"/>
              </a:rPr>
              <a:t>A clear defined routing policy will be enforced with the use of tagging and filtering at route redistribution poi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572314"/>
                </a:solidFill>
                <a:latin typeface="Gill Sans MT"/>
              </a:rPr>
              <a:t>Additional Per-site filtering may be required for security on aggregator rou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572314"/>
                </a:solidFill>
                <a:latin typeface="Gill Sans MT"/>
                <a:ea typeface="ＭＳ Ｐゴシック"/>
              </a:rPr>
              <a:t>This will ensure only allowed specific routes or traffic is shared according to pre-arranged agreements with the participating institu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8920"/>
                <a:tab algn="l" pos="816120"/>
                <a:tab algn="l" pos="1273320"/>
                <a:tab algn="l" pos="1730520"/>
                <a:tab algn="l" pos="2187720"/>
                <a:tab algn="l" pos="2644920"/>
                <a:tab algn="l" pos="3102120"/>
                <a:tab algn="l" pos="3559320"/>
                <a:tab algn="l" pos="4016520"/>
                <a:tab algn="l" pos="4473720"/>
                <a:tab algn="l" pos="4930920"/>
                <a:tab algn="l" pos="5388120"/>
                <a:tab algn="l" pos="5845320"/>
                <a:tab algn="l" pos="6302520"/>
                <a:tab algn="l" pos="6759720"/>
                <a:tab algn="l" pos="7216920"/>
                <a:tab algn="l" pos="7674120"/>
                <a:tab algn="l" pos="8131320"/>
                <a:tab algn="l" pos="8588520"/>
                <a:tab algn="l" pos="9045720"/>
                <a:tab algn="l" pos="9502920"/>
                <a:tab algn="l" pos="9601200"/>
                <a:tab algn="l" pos="10058400"/>
                <a:tab algn="l" pos="105156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 and Discussion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43208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hank You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32080" y="1849320"/>
            <a:ext cx="7407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Background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Ghana Academic and Research Network (GARNET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aunched in 2006 AAU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riginal idea to get VCG to act as governing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hallenges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VCG did not sign 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llective purchase of bandwid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haring of research fin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ollaboration between researchers from different institu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inimum human network between “member” institutio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ecent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914400" y="1371600"/>
            <a:ext cx="784872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T managers met at University of Legon to start the human network despite the fact that VCs had not signed the Mo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Meeting to elect interim execu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P Presenc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arnet.edu.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orum@garnet.edu.g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etwork Startup Resource Center (NSRC) donate HP4000 managed swit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anned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 the Governance Structures of 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sure the registration of GARNET as a legal entity in accordance with the Laws of Gh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ablish GARNET Secretariat to manage the day- to-day activities of the Ghanaian National Research and Education Network (N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and membership of GARNET to include all other tertiary and research instit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Planned Activities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ology of the physical connections of the various institutions in GA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itiate discussions with VODAPONE on how the National Backbone may be used for the purpose of creating the physical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ARNET to become a Local Internet Registry (LIR), or at least get all members to subscribe to AfriNIC IP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712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Font typeface="Wingdings 2" charset="2"/>
              <a:buChar char=""/>
              <a:tabLst>
                <a:tab algn="l" pos="357120"/>
                <a:tab algn="l" pos="814320"/>
                <a:tab algn="l" pos="1271520"/>
                <a:tab algn="l" pos="1728720"/>
                <a:tab algn="l" pos="2185920"/>
                <a:tab algn="l" pos="2643120"/>
                <a:tab algn="l" pos="3100320"/>
                <a:tab algn="l" pos="3557520"/>
                <a:tab algn="l" pos="4014720"/>
                <a:tab algn="l" pos="4471920"/>
                <a:tab algn="l" pos="4929120"/>
                <a:tab algn="l" pos="5386320"/>
                <a:tab algn="l" pos="5843520"/>
                <a:tab algn="l" pos="6300720"/>
                <a:tab algn="l" pos="6757920"/>
                <a:tab algn="l" pos="7215120"/>
                <a:tab algn="l" pos="7672320"/>
                <a:tab algn="l" pos="8129520"/>
                <a:tab algn="l" pos="8586720"/>
                <a:tab algn="l" pos="9043920"/>
                <a:tab algn="l" pos="95011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te and run at least one workshop for Campus Network Administrators in collaboration with the Network Startup Resource Center (nsrc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838080" y="250920"/>
            <a:ext cx="8096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State of National Backbone Infra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523880" y="6095880"/>
            <a:ext cx="68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ource : National Communications Backbone Company 200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5257800" cy="38862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3"/>
          <a:stretch/>
        </p:blipFill>
        <p:spPr>
          <a:xfrm>
            <a:off x="5943600" y="4114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4"/>
          <a:stretch/>
        </p:blipFill>
        <p:spPr>
          <a:xfrm>
            <a:off x="6734160" y="1143000"/>
            <a:ext cx="21812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work Proposal One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1905120" y="1600200"/>
            <a:ext cx="5600520" cy="469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Network Proposal Two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251480" cy="38098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4:53:38Z</dcterms:created>
  <dc:creator>tech</dc:creator>
  <dc:description/>
  <dc:language>en-US</dc:language>
  <cp:lastModifiedBy>Bejamin Eshun</cp:lastModifiedBy>
  <dcterms:modified xsi:type="dcterms:W3CDTF">2009-07-24T21:00:17Z</dcterms:modified>
  <cp:revision>25</cp:revision>
  <dc:subject/>
  <dc:title>Update on GHARNET</dc:title>
</cp:coreProperties>
</file>