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5DE-6A04-497D-BC3B-FE6AB70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B97-2968-4D77-B67C-5EBD7306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20E-191D-4254-81F5-0F9A223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A2A-5F17-46AE-962F-8AC04B43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79F-77E7-44AF-9DBD-C024D64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2884-3BCE-44A3-B1E1-A81A54B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0A5-1772-43AC-B5B5-A32BFD6D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28B-252A-48CB-BE2B-D02130E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5C30-ECB4-40CB-ACE5-B812E76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0CE-1732-4204-A963-D1EE530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305-1730-4251-A4B7-BFA8380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30D-02FC-4403-9059-E0AA80A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F5D9-5095-46C1-9584-7B06370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28C-8633-41D7-9E58-4BBCF20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7C4-03D6-4467-AA18-AACC391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062-2EAE-4A34-B9EC-F0DEDDA1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2822-DDFB-4FC0-A649-CA7A698A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BB8-9B78-4557-AA87-F97DC13B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912-5E4A-4F8A-B12E-939D2A4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252-E7BF-4BFF-A880-F0EE9BE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317-350C-41E2-B556-8D4656A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85F-2BDE-4FB0-BFCC-685C964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3A-17F1-48C1-86B9-9F58079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3F8-3ABA-4A24-9405-A48C30D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6F7F-EA1D-4191-9236-4C286FEDF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FCB-1977-4158-9F15-1FAACD7CAAB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800"/>
            <a:ext cx="795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Sm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NOG 7, Pago Pago, American Sam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th June - 3rd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4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g Basic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Routing Protocol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v3”, “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: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: Lab Module 1 – IPv6 OSPF and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: 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: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&amp;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  Lab Module 6 – IPv6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GP Best Current Practic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 and Advanced 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07-02T02:42:58Z</dcterms:modified>
  <cp:revision>62</cp:revision>
  <dc:subject>ISP/IXP Workshops Asia Pacific</dc:subject>
  <dc:title>ISP/IXP Workshop Agenda</dc:title>
</cp:coreProperties>
</file>