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47B05-346A-44C3-A71F-477ABD94D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C4F0B-3615-42CF-BFDD-818192BC1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B3BB4-D0B4-4BB7-8E17-0B5DE5055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48F87-6F22-4478-A264-224E537A6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A05E4-8C96-47C4-A266-C944952A8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42AED-7004-4DAF-BDCD-C431C8BE2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BBA1F-C80D-4560-8617-6BD6B546A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3CA4B-3316-4E05-8BF7-D66F223D8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58CF6-DA28-4B84-81B1-EDB8EC6E5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ECECD-9CC3-48FC-A45C-81778A343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5DC16-CD40-49C7-8146-507312B0F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0BDF1-6F38-4BFB-97AC-E71527BFD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1939C-1918-4640-BBAE-2541CF404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3F18-EC39-4BAB-A298-C04586C68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F9C81-D36D-4B1C-AF24-EB4246E11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ED9A2-7389-4DA4-870C-1BF09C3C1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09C2B-EE20-4AD9-B3D6-B8298B055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E7436-EF16-4503-9EC7-784781EE3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6DB78-D815-4563-8B19-EB5703624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0CC26-AAA0-4490-A60F-0EE0657E4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CF9E4-E570-49F3-AA3F-FF66A3134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FCFB3-D3E3-427A-B558-4D7AF449E6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91634-7304-40BB-B004-2D9917BD6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C9196-D34C-447A-B448-0C715EE95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737EB-974F-4CAF-9AAB-339B2FCA2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C0B8F-6999-44C0-AC24-FE4B6A674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21692-BA0A-4174-9698-9969745AF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EA04C-1774-4DE9-AFC6-C0364F606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24FE8-8DFF-4BC5-9CB3-CA5590C90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02916-DCCC-425E-B21D-9CB845D05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07A5D-00D5-43FB-AA58-6BC531854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D1ABB-7C91-460B-A6EF-5B68E55B0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A06B7-F70F-42AD-AB74-426DF4979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65108-64B0-43FD-B135-9BB1AE56C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25220-55E1-4383-B1A0-DA8C7396E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B9534-6254-4760-A4D6-15BD6AD3D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A3969-8EF9-4CFD-8BA1-09D1EA24E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DD743-64F9-4144-9BE2-2A2383A99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5258C-9231-496D-9ECC-4300F9462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82498-E2C0-4EDC-BC96-00853879E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FC12D-02E6-4562-9029-E9F57EB9C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F8607-F520-4866-9609-C88A4B38B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71514-71EC-4738-BCED-A004BE4F6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E1D2E-0BB0-495E-A94C-6E05EE00B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04087-2D1F-4E8A-A112-B60024711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4912C-FBA1-49C6-A3EA-B04D101BD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5B32F-1E55-4707-A48E-7597A1A51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10/28/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FC46E-8DD2-473F-AEFD-0284B1238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A0450-2BFF-4D17-8F86-E6C864C79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312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216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08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6312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216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03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312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216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408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312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216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723A-2E5D-414E-AC64-C4F8DEEC0C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E776-9171-4A7F-A85A-47FA4B56C1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7C9D-D456-4E81-B49C-370FE5CA17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6EAD-578C-44A1-B640-59DD137221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ADDE-126C-49DF-AAA8-1CF146B7CD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03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AEF5-E53C-4F78-9979-E5E6B67730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D731-A38D-469B-A2B9-5845B077CD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A1868-A53E-42EC-A988-D2DEB0532E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DD4C-9086-435C-A4CF-8A52AA4A73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432E-F533-4792-B35D-9F9DC88FF0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FE2A-AD38-48F5-9DE0-B415FD654E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6312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12160" y="140328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408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6312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12160" y="4131360"/>
            <a:ext cx="271296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CB1A-C433-438A-838F-EE308E47C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6120"/>
            <a:ext cx="86803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31920" y="413136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08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31920" y="1403280"/>
            <a:ext cx="41119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080" y="4131360"/>
            <a:ext cx="8426520" cy="24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1f497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1f497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6480" y="-12600"/>
            <a:ext cx="9156960" cy="68770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4"/>
          <p:cNvSpPr/>
          <p:nvPr/>
        </p:nvSpPr>
        <p:spPr>
          <a:xfrm>
            <a:off x="1465200" y="6400800"/>
            <a:ext cx="73198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se materials are licensed under the Creative Commons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ttribution-Noncommercial 3.0 Unported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license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http://creativecommons.org/licenses/by-nc/3.0/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tretch/>
        </p:blipFill>
        <p:spPr>
          <a:xfrm>
            <a:off x="642960" y="6459480"/>
            <a:ext cx="914400" cy="322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nsrc-main-large.png"/>
          <p:cNvPicPr/>
          <p:nvPr/>
        </p:nvPicPr>
        <p:blipFill>
          <a:blip r:embed="rId4"/>
          <a:stretch/>
        </p:blipFill>
        <p:spPr>
          <a:xfrm>
            <a:off x="3309840" y="609480"/>
            <a:ext cx="2408400" cy="23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 rot="16200000">
            <a:off x="-3200040" y="3200400"/>
            <a:ext cx="6858000" cy="457200"/>
          </a:xfrm>
          <a:prstGeom prst="rect">
            <a:avLst/>
          </a:prstGeom>
          <a:gradFill rotWithShape="0">
            <a:gsLst>
              <a:gs pos="0">
                <a:srgbClr val="1f497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680320" cy="1136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14080" y="1403280"/>
            <a:ext cx="8426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5720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12732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1"/>
          </p:nvPr>
        </p:nvSpPr>
        <p:spPr>
          <a:xfrm>
            <a:off x="655488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F8CFE-A849-474E-A18F-A19BA48429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685800" y="3951360"/>
            <a:ext cx="7921800" cy="146988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fS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1371600" y="2405160"/>
            <a:ext cx="64008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twork Management &amp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762120" y="5029200"/>
            <a:ext cx="91440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uters being monito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Straight Arrow Connector 7"/>
          <p:cNvCxnSpPr>
            <a:stCxn id="176" idx="0"/>
          </p:cNvCxnSpPr>
          <p:nvPr/>
        </p:nvCxnSpPr>
        <p:spPr>
          <a:xfrm flipV="1">
            <a:off x="1219320" y="4571640"/>
            <a:ext cx="419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Rectangle 10"/>
          <p:cNvSpPr/>
          <p:nvPr/>
        </p:nvSpPr>
        <p:spPr>
          <a:xfrm>
            <a:off x="609480" y="2743200"/>
            <a:ext cx="1067040" cy="8380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of Netflow traffic for all Protoc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7391520" y="1981080"/>
            <a:ext cx="121896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eriod for flows being ob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Straight Arrow Connector 12"/>
          <p:cNvCxnSpPr/>
          <p:nvPr/>
        </p:nvCxnSpPr>
        <p:spPr>
          <a:xfrm flipH="1" flipV="1">
            <a:off x="7314840" y="1828080"/>
            <a:ext cx="5342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Straight Arrow Connector 16"/>
          <p:cNvCxnSpPr/>
          <p:nvPr/>
        </p:nvCxnSpPr>
        <p:spPr>
          <a:xfrm flipV="1">
            <a:off x="1218960" y="2361960"/>
            <a:ext cx="5338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Rectangle 20"/>
          <p:cNvSpPr/>
          <p:nvPr/>
        </p:nvSpPr>
        <p:spPr>
          <a:xfrm>
            <a:off x="6400800" y="228600"/>
            <a:ext cx="1600200" cy="609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flow traffic graphs organized by Protoc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3" name="Straight Arrow Connector 21"/>
          <p:cNvCxnSpPr/>
          <p:nvPr/>
        </p:nvCxnSpPr>
        <p:spPr>
          <a:xfrm flipH="1">
            <a:off x="2437560" y="608400"/>
            <a:ext cx="12963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Straight Arrow Connector 24"/>
          <p:cNvCxnSpPr/>
          <p:nvPr/>
        </p:nvCxnSpPr>
        <p:spPr>
          <a:xfrm flipH="1">
            <a:off x="3198600" y="608400"/>
            <a:ext cx="53568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Straight Arrow Connector 26"/>
          <p:cNvCxnSpPr/>
          <p:nvPr/>
        </p:nvCxnSpPr>
        <p:spPr>
          <a:xfrm>
            <a:off x="3732840" y="609120"/>
            <a:ext cx="1530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6" name="Straight Arrow Connector 30"/>
          <p:cNvCxnSpPr/>
          <p:nvPr/>
        </p:nvCxnSpPr>
        <p:spPr>
          <a:xfrm>
            <a:off x="3809880" y="609120"/>
            <a:ext cx="1067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Straight Connector 35"/>
          <p:cNvSpPr/>
          <p:nvPr/>
        </p:nvSpPr>
        <p:spPr>
          <a:xfrm flipV="1">
            <a:off x="3733920" y="533160"/>
            <a:ext cx="2666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7543800" y="5257800"/>
            <a:ext cx="1447920" cy="6094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Netflow processing op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Straight Arrow Connector 46"/>
          <p:cNvCxnSpPr>
            <a:stCxn id="188" idx="1"/>
          </p:cNvCxnSpPr>
          <p:nvPr/>
        </p:nvCxnSpPr>
        <p:spPr>
          <a:xfrm flipH="1">
            <a:off x="6400080" y="5561640"/>
            <a:ext cx="11437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ype of traffic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HTTP, HTTPS, SMTP traffic (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to and from the Science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f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channels which can be shown together i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4 TCP, v6 TCP, v4 UDP, v6 UDP,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eate your own profiles and channels, and hence grap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fine a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 out the flow data you are interested in from the data files that contain all the flo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92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rofiles and Channe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l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r1, expr2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3, expr4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5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expr6, ( expr7 )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( expr8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specify things 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version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et, ipv4, inet6, ipv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I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proto} tcp, udp, icmp, gre, </a:t>
            </a:r>
            <a:r>
              <a:rPr b="0" lang="mr-IN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ip 10.10.10.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ip in &lt;addr1&gt; &lt;addr2&gt; &lt;addr3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96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Filter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Network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net 172.16/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port 8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port &gt; 10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Flag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ags 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lags S and not flags AFP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S: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os 8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00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Filters (ctd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s &gt; 102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ytes = 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per second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ps &gt;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s per second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ps &gt; 10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s per packet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pp &gt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flow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uration &gt; 36000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Number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src|dst] 234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umbers can have scaling factor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k, m, g, 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24 as 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04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Filters (ctd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o tcp and ( port 80 or port 4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o tcp and ( src ip 172.16.17.18 or dst ip 172.16.17.1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oto tcp and ( net 172.16/16 and src port &gt; 1024 and dst port 80 ) and bytes &gt; 20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pv6 and proto tcp and ( port 80 or port 44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08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xample filter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f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ll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n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aphed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12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rofiles and Channe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808200" y="2819520"/>
            <a:ext cx="7981920" cy="32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611280" y="1371600"/>
            <a:ext cx="822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erts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alerts based on set thresholds eg, increase or decrease of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s can be sent once alarm is trigg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s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graphs based on specific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541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541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/Destination IPs/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541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/Out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54160">
              <a:spcBef>
                <a:spcPts val="6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17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lerts and Stat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611280" y="1371600"/>
            <a:ext cx="85294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lugins avail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Tracker tracks the top 10 most active  ports and displays a gra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buClr>
                <a:srgbClr val="ffffff"/>
              </a:buClr>
              <a:buSzPct val="45000"/>
              <a:buFont typeface="Arial"/>
              <a:buChar char="•"/>
              <a:tabLst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map displays country based traffic based on a Geo-Loc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lugins available here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sourceforge.net/projects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fsen-plugins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21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lugin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24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ortTracker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Picture 5" descr="Screen Shot 2016-02-17 at 11.40.24 AM.png"/>
          <p:cNvPicPr/>
          <p:nvPr/>
        </p:nvPicPr>
        <p:blipFill>
          <a:blip r:embed="rId2"/>
          <a:stretch/>
        </p:blipFill>
        <p:spPr>
          <a:xfrm>
            <a:off x="1147680" y="1236600"/>
            <a:ext cx="7310520" cy="54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533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on to NfDump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Dump tools collect netflow data and store them in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netflow data with NfDump tools can only be done on the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en is a graphical (Web Based) front end to NfDu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RRD graphs based on stor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ins extend the functionality of base (e.g. PortTracker and SURFma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40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5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at is NfSe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28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URFMap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0" name="Picture 5" descr="surfmap.png"/>
          <p:cNvPicPr/>
          <p:nvPr/>
        </p:nvPicPr>
        <p:blipFill>
          <a:blip r:embed="rId2"/>
          <a:stretch/>
        </p:blipFill>
        <p:spPr>
          <a:xfrm>
            <a:off x="609480" y="1220760"/>
            <a:ext cx="8229600" cy="55609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609480" y="1219320"/>
            <a:ext cx="8228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ensic work: which hosts were active at a specific tim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ewing src/dst AS traffic, src/dst port/IP traffic among many other optio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ing most active IPs or Protoco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tool to complement your NMS so that you can have more detailed info regarding the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information, you can make an informed decision e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have a high amount of SMTP traffic, some machines could be sending out spa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0% of your traffic is to ASN X. Perhaps its wise to connect directly with that network and save cos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33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en to use NfSe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533520" y="914400"/>
            <a:ext cx="822780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0" anchor="ctr">
            <a:normAutofit/>
          </a:bodyPr>
          <a:p>
            <a:pPr marL="343080" indent="-304920" algn="ctr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directional vs Unidirectional traffic as seen via Nf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1604880"/>
            <a:ext cx="83818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shows flows from host A to B and then host B to host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irectional shows flows between Host A and B comb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with any of the other filters (src port, src host plus many mo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filters can be found he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spcBef>
                <a:spcPts val="700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nfsen.sourceforge.net/#mozTocId652064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38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Unidirectional and Bidirectional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41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Bidirectional (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Detail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 tab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Box 3"/>
          <p:cNvSpPr/>
          <p:nvPr/>
        </p:nvSpPr>
        <p:spPr>
          <a:xfrm>
            <a:off x="588960" y="1295280"/>
            <a:ext cx="82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to select either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nge Timesl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 Windo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netflow-bidirectional.png"/>
          <p:cNvPicPr/>
          <p:nvPr/>
        </p:nvPicPr>
        <p:blipFill>
          <a:blip r:embed="rId2"/>
          <a:stretch/>
        </p:blipFill>
        <p:spPr>
          <a:xfrm>
            <a:off x="496800" y="2209680"/>
            <a:ext cx="864720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46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Unidirectional (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Detail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 tab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8" name="Picture 1" descr="netflow-unidirectional.png"/>
          <p:cNvPicPr/>
          <p:nvPr/>
        </p:nvPicPr>
        <p:blipFill>
          <a:blip r:embed="rId2"/>
          <a:stretch/>
        </p:blipFill>
        <p:spPr>
          <a:xfrm>
            <a:off x="493560" y="1805040"/>
            <a:ext cx="865044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533520" y="1646280"/>
            <a:ext cx="822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f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87640">
              <a:spcBef>
                <a:spcPts val="700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nfsen.sourceforge.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fDu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87640">
              <a:spcBef>
                <a:spcPts val="700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nfdump.sourceforge.net/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is a good read to better understand NfSen, NfDump and nfcap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251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eference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457200" y="2057400"/>
            <a:ext cx="8708760" cy="1162080"/>
            <a:chOff x="457200" y="2057400"/>
            <a:chExt cx="8708760" cy="1162080"/>
          </a:xfrm>
        </p:grpSpPr>
        <p:pic>
          <p:nvPicPr>
            <p:cNvPr id="254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20574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4"/>
            <p:cNvSpPr/>
            <p:nvPr/>
          </p:nvSpPr>
          <p:spPr>
            <a:xfrm>
              <a:off x="469800" y="207000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xercise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33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lnSpc>
                <a:spcPts val="3325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Sen allows you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ly navigate through the netflow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e netflow data within the specified time s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history as well as continuous pro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lerts, based on various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6160" indent="-290520">
              <a:lnSpc>
                <a:spcPts val="3325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your own plugins to process netflow data on a regular inter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45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5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at can you do with NfSe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49" name="Picture 4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5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fSen Architectur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227160" y="1295280"/>
            <a:ext cx="914400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3"/>
          <p:cNvGrpSpPr/>
          <p:nvPr/>
        </p:nvGrpSpPr>
        <p:grpSpPr>
          <a:xfrm>
            <a:off x="457200" y="0"/>
            <a:ext cx="8708760" cy="1216080"/>
            <a:chOff x="457200" y="0"/>
            <a:chExt cx="8708760" cy="1216080"/>
          </a:xfrm>
        </p:grpSpPr>
        <p:pic>
          <p:nvPicPr>
            <p:cNvPr id="153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5"/>
            <p:cNvSpPr/>
            <p:nvPr/>
          </p:nvSpPr>
          <p:spPr>
            <a:xfrm>
              <a:off x="482400" y="7632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fSen: Points to not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Text Box 1"/>
          <p:cNvSpPr/>
          <p:nvPr/>
        </p:nvSpPr>
        <p:spPr>
          <a:xfrm>
            <a:off x="611280" y="1447920"/>
            <a:ext cx="822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5 minut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fcap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rts a new file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fs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the previous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ce each graph point covers 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ph shows you the total of selected traffic in that 5-minut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more detailed information on the individual flows in that period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fs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ts you drill down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fdum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back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3"/>
          <p:cNvGrpSpPr/>
          <p:nvPr/>
        </p:nvGrpSpPr>
        <p:grpSpPr>
          <a:xfrm>
            <a:off x="457200" y="0"/>
            <a:ext cx="8708760" cy="1216080"/>
            <a:chOff x="457200" y="0"/>
            <a:chExt cx="8708760" cy="121608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482400" y="7632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fSen structur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1"/>
          <p:cNvSpPr/>
          <p:nvPr/>
        </p:nvSpPr>
        <p:spPr>
          <a:xfrm>
            <a:off x="611280" y="1447920"/>
            <a:ext cx="822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file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fsen.con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Dump files – Netflow files containing collected flows stored in the director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var/nfsen/profiles-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spcBef>
                <a:spcPts val="799"/>
              </a:spcBef>
              <a:buClr>
                <a:srgbClr val="000000"/>
              </a:buClr>
              <a:buSzPct val="60000"/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It is possible for other programs to read NFDump files but don’t store them for too long as they can fill up your dr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graphs – stored in the directory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/var/nfsen/profiles-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27160" indent="-290520">
              <a:lnSpc>
                <a:spcPts val="3197"/>
              </a:lnSpc>
              <a:spcBef>
                <a:spcPts val="799"/>
              </a:spcBef>
              <a:tabLst>
                <a:tab algn="l" pos="0"/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4120" indent="-2905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533520" y="1630440"/>
            <a:ext cx="8610480" cy="52275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63" name="Picture 3" descr=""/>
            <p:cNvPicPr/>
            <p:nvPr/>
          </p:nvPicPr>
          <p:blipFill>
            <a:blip r:embed="rId2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NfSen Home Scree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457200" y="1295280"/>
            <a:ext cx="8228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s of flows, packets and traffic based on interface with NetFlow activ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800" indent="-288720">
              <a:spcBef>
                <a:spcPts val="799"/>
              </a:spcBef>
              <a:tabLst>
                <a:tab algn="l" pos="0"/>
                <a:tab algn="l" pos="388800"/>
                <a:tab algn="l" pos="846000"/>
                <a:tab algn="l" pos="1303200"/>
                <a:tab algn="l" pos="1760400"/>
                <a:tab algn="l" pos="2217600"/>
                <a:tab algn="l" pos="2674800"/>
                <a:tab algn="l" pos="3132000"/>
                <a:tab algn="l" pos="3589200"/>
                <a:tab algn="l" pos="4046400"/>
                <a:tab algn="l" pos="4503600"/>
                <a:tab algn="l" pos="4960800"/>
                <a:tab algn="l" pos="5418000"/>
                <a:tab algn="l" pos="5875200"/>
                <a:tab algn="l" pos="6332400"/>
                <a:tab algn="l" pos="6789600"/>
                <a:tab algn="l" pos="7246800"/>
                <a:tab algn="l" pos="7704000"/>
                <a:tab algn="l" pos="8161200"/>
                <a:tab algn="l" pos="8618400"/>
                <a:tab algn="l" pos="9075600"/>
                <a:tab algn="l" pos="9532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What is seen under Traffic should closely match what your NMS shows for the same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457200" y="6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68" name="Picture 5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6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Graphs Ta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Picture 1" descr=""/>
          <p:cNvPicPr/>
          <p:nvPr/>
        </p:nvPicPr>
        <p:blipFill>
          <a:blip r:embed="rId2"/>
          <a:stretch/>
        </p:blipFill>
        <p:spPr>
          <a:xfrm>
            <a:off x="965160" y="2971800"/>
            <a:ext cx="596916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611280" y="1295280"/>
            <a:ext cx="8227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72240" indent="-28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interesting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240" indent="-28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view present flow information or stored flow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2240" indent="-28152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view detailed NetFlow information such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Numbers (more useful if you have full routing table exported on your rou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c hosts/ports, destination hosts and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irectional or Bi-directional 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s on specific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2760" indent="-281520">
              <a:lnSpc>
                <a:spcPts val="29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-"/>
              <a:tabLst>
                <a:tab algn="l" pos="384120"/>
                <a:tab algn="l" pos="841320"/>
                <a:tab algn="l" pos="1298520"/>
                <a:tab algn="l" pos="1755720"/>
                <a:tab algn="l" pos="2212920"/>
                <a:tab algn="l" pos="2670120"/>
                <a:tab algn="l" pos="3127320"/>
                <a:tab algn="l" pos="3584520"/>
                <a:tab algn="l" pos="4041720"/>
                <a:tab algn="l" pos="4498920"/>
                <a:tab algn="l" pos="4956120"/>
                <a:tab algn="l" pos="5413320"/>
                <a:tab algn="l" pos="5870520"/>
                <a:tab algn="l" pos="6327720"/>
                <a:tab algn="l" pos="6784920"/>
                <a:tab algn="l" pos="7242120"/>
                <a:tab algn="l" pos="7699320"/>
                <a:tab algn="l" pos="8156520"/>
                <a:tab algn="l" pos="8613720"/>
                <a:tab algn="l" pos="9070920"/>
                <a:tab algn="l" pos="9528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s and 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444600" y="-12600"/>
            <a:ext cx="8708760" cy="1162080"/>
            <a:chOff x="444600" y="-12600"/>
            <a:chExt cx="8708760" cy="1162080"/>
          </a:xfrm>
        </p:grpSpPr>
        <p:pic>
          <p:nvPicPr>
            <p:cNvPr id="173" name="Picture 3" descr=""/>
            <p:cNvPicPr/>
            <p:nvPr/>
          </p:nvPicPr>
          <p:blipFill>
            <a:blip r:embed="rId1"/>
            <a:stretch/>
          </p:blipFill>
          <p:spPr>
            <a:xfrm>
              <a:off x="444600" y="-12600"/>
              <a:ext cx="870876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4"/>
            <p:cNvSpPr/>
            <p:nvPr/>
          </p:nvSpPr>
          <p:spPr>
            <a:xfrm>
              <a:off x="457200" y="0"/>
              <a:ext cx="8683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46800" bIns="46800" anchor="ctr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etails Pag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1:26:36Z</dcterms:created>
  <dc:creator>Hervey Allen</dc:creator>
  <dc:description/>
  <dc:language>en-US</dc:language>
  <cp:lastModifiedBy>Hervey Allen</cp:lastModifiedBy>
  <dcterms:modified xsi:type="dcterms:W3CDTF">2017-02-23T07:25:49Z</dcterms:modified>
  <cp:revision>172</cp:revision>
  <dc:subject/>
  <dc:title>Slide 1</dc:title>
</cp:coreProperties>
</file>