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3B70-CD7D-4484-A1AD-1E120F56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9BA-BEFC-40DF-9D58-761B1DF0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ACF3-033E-40BB-AFC3-1A78BD3C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D69-25B5-4C28-9BFE-1EE7EDFE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F1BC-55E5-464D-8C9C-0F94200F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4116-22F0-414F-88CD-F70775DE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4DC0-1804-4C61-BDF5-964B5C4D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934F-6ADE-4B45-B812-1DBD9611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A1B0-0238-4CA2-8FCA-C54C2DA6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1B58-3ECA-4930-816D-39E7CE9B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C89A-FC4E-448E-AB0C-990B62DD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D370-ABED-476D-A05D-4026F24E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722C-01BB-4CFF-8407-112A99DE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BE89-6B12-4CA0-AC4C-4424F21D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8E3B-AF7D-4715-A08F-C09C3AA0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9712-F575-440E-B93B-049875AA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9C98-7875-43B1-82A1-B694E08C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5B9-BDD4-41B4-BFC5-B5BF76AB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E085-5041-4349-88C9-68EE48FB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2C6C-C3A3-4ECE-92DC-3CB1BFD7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062D-CEBD-408B-A9D8-5A212954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8025-9343-4097-8A94-5221A3D1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1781-BA71-48F8-9871-58F9B844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59D2-6EF6-416A-B88B-92923DD5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CB90-B7DC-4E76-9583-9CB153187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C0C0-A356-408B-901F-9E0BC6EBDF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19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9.xml"/><Relationship Id="rId3" Type="http://schemas.openxmlformats.org/officeDocument/2006/relationships/slide" Target="slide51.xml"/><Relationship Id="rId4" Type="http://schemas.openxmlformats.org/officeDocument/2006/relationships/slide" Target="slide57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" Target="slide30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35.xml"/><Relationship Id="rId7" Type="http://schemas.openxmlformats.org/officeDocument/2006/relationships/slide" Target="slide18.xm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slide27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1.xml"/><Relationship Id="rId3" Type="http://schemas.openxmlformats.org/officeDocument/2006/relationships/slide" Target="slide18.xml"/><Relationship Id="rId4" Type="http://schemas.openxmlformats.org/officeDocument/2006/relationships/slide" Target="slide36.xml"/><Relationship Id="rId5" Type="http://schemas.openxmlformats.org/officeDocument/2006/relationships/slide" Target="slide37.xml"/><Relationship Id="rId6" Type="http://schemas.openxmlformats.org/officeDocument/2006/relationships/slide" Target="slide42.xml"/><Relationship Id="rId7" Type="http://schemas.openxmlformats.org/officeDocument/2006/relationships/slide" Target="slide2.xml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4.xml"/><Relationship Id="rId3" Type="http://schemas.openxmlformats.org/officeDocument/2006/relationships/slide" Target="slide46.xml"/><Relationship Id="rId4" Type="http://schemas.openxmlformats.org/officeDocument/2006/relationships/slide" Target="slide47.xml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The Domain Name Syste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603A-CCA9-4791-ACE8-627A3014A7D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Other information mapped to domain name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lmost any systematic namespace could be mapped to the domain name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eed an algorithm agreed to by all people who will use the mapp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8656560" y="0"/>
            <a:ext cx="48600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74AA-1DB6-46F6-8C67-C265C018CDD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Different people responsible for diff. part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ministrator responsible for a domain may delegate authority for a subdo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ach part that is administered independently is called a z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omain or zone administrator may choose to put subdomains in same zone as parent domain, or in different zone, depending on policy and conven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7790-A100-4DF5-BDBB-D94346B05E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What is a zone? (1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ink of the namespace as a tree or graph of nodes joined by ar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ach node represents a domain n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8B49-01EA-47AE-88D4-FB82A119C97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What is a zone? (diagram 1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326088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00760" y="150480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34440" y="293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50120" y="2895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60280" y="373392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X.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22400" y="38098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Y.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83440" y="373392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Z.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29360" y="38512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.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08040" y="388620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.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74000" y="3886200"/>
            <a:ext cx="6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.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5760" y="510552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T.K.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55760" y="514656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OG.K.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3352320" y="2438280"/>
            <a:ext cx="76212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43400" y="2438280"/>
            <a:ext cx="3808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00400" y="3352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438280" y="3352680"/>
            <a:ext cx="6098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52680" y="335268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647960" y="3276720"/>
            <a:ext cx="1522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4876560" y="3276360"/>
            <a:ext cx="5331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029200" y="3276360"/>
            <a:ext cx="12952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5486400" y="4343400"/>
            <a:ext cx="83808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724280" y="4343040"/>
            <a:ext cx="60984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EA7F-2F96-413C-A075-C8DB434D133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What is a zone? (2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ink of the namespace as a tree or graph of nodes joined by ar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ach node represents a domain n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ow cut some of the ar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ach cut represents a delegation of administrative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6C54-8134-4CE1-ACF8-2C9104C3F00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What is a zone? (diagram 2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326088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00760" y="150480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34440" y="293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50120" y="2895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60280" y="373392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X.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22400" y="38098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Y.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83440" y="373392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Z.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29360" y="38512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.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08040" y="388620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.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74000" y="3886200"/>
            <a:ext cx="6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.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65760" y="510552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T.K.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55760" y="514656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OG.K.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352320" y="2438280"/>
            <a:ext cx="76212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2438280"/>
            <a:ext cx="3808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00400" y="3352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2438280" y="3352680"/>
            <a:ext cx="6098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35268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647960" y="3276720"/>
            <a:ext cx="1522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76560" y="3276360"/>
            <a:ext cx="5331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5029200" y="3276360"/>
            <a:ext cx="12952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486400" y="4343400"/>
            <a:ext cx="83808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2743200"/>
            <a:ext cx="15264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419720" y="2590560"/>
            <a:ext cx="22860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791320" y="4647960"/>
            <a:ext cx="22860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5715000"/>
            <a:ext cx="3812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51200" y="552780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Zone c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724280" y="4343040"/>
            <a:ext cx="60984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518A-8637-42EC-83EA-654734E97BF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What is a zone? (3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ach zone consists of a set of nodes that are still joined to each other through paths that do not involve arcs that have been c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name “CAT.K.B” is in the “B” z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name “DOG.K.B” is in the “DOG.K.B” z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“DOG.K.B” zone is a child of the “B” z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2193-3FE9-4F1B-9B88-28F89F44D6C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What is a zone? (diagram 3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"/>
          <p:cNvSpPr/>
          <p:nvPr/>
        </p:nvSpPr>
        <p:spPr>
          <a:xfrm>
            <a:off x="326088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00760" y="150480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34440" y="293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50120" y="2895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60280" y="373392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X.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22400" y="38098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Y.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83440" y="373392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Z.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29360" y="38512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.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08040" y="388620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.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74000" y="3886200"/>
            <a:ext cx="6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.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65760" y="510552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T.K.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55760" y="514656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OG.K.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352320" y="2438280"/>
            <a:ext cx="76212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43400" y="2438280"/>
            <a:ext cx="3808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3352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438280" y="3352680"/>
            <a:ext cx="6098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352680" y="335268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4647960" y="3276720"/>
            <a:ext cx="1522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flipV="1">
            <a:off x="4876560" y="3276360"/>
            <a:ext cx="5331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029200" y="3276360"/>
            <a:ext cx="12952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5486400" y="4343400"/>
            <a:ext cx="83808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81280" y="2743200"/>
            <a:ext cx="15264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419720" y="2590560"/>
            <a:ext cx="22860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791320" y="4647960"/>
            <a:ext cx="22860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73600" y="2577960"/>
            <a:ext cx="3467160" cy="3498840"/>
          </a:xfrm>
          <a:custGeom>
            <a:avLst/>
            <a:gdLst/>
            <a:ahLst/>
            <a:rect l="l" t="t" r="r" b="b"/>
            <a:pathLst>
              <a:path w="2184" h="2204">
                <a:moveTo>
                  <a:pt x="363" y="93"/>
                </a:moveTo>
                <a:cubicBezTo>
                  <a:pt x="309" y="106"/>
                  <a:pt x="255" y="135"/>
                  <a:pt x="208" y="165"/>
                </a:cubicBezTo>
                <a:cubicBezTo>
                  <a:pt x="161" y="236"/>
                  <a:pt x="175" y="204"/>
                  <a:pt x="156" y="258"/>
                </a:cubicBezTo>
                <a:cubicBezTo>
                  <a:pt x="165" y="315"/>
                  <a:pt x="166" y="356"/>
                  <a:pt x="198" y="403"/>
                </a:cubicBezTo>
                <a:cubicBezTo>
                  <a:pt x="211" y="460"/>
                  <a:pt x="238" y="465"/>
                  <a:pt x="260" y="517"/>
                </a:cubicBezTo>
                <a:cubicBezTo>
                  <a:pt x="276" y="553"/>
                  <a:pt x="279" y="586"/>
                  <a:pt x="301" y="620"/>
                </a:cubicBezTo>
                <a:cubicBezTo>
                  <a:pt x="296" y="783"/>
                  <a:pt x="335" y="966"/>
                  <a:pt x="239" y="1107"/>
                </a:cubicBezTo>
                <a:cubicBezTo>
                  <a:pt x="220" y="1165"/>
                  <a:pt x="204" y="1224"/>
                  <a:pt x="187" y="1282"/>
                </a:cubicBezTo>
                <a:cubicBezTo>
                  <a:pt x="180" y="1306"/>
                  <a:pt x="180" y="1334"/>
                  <a:pt x="167" y="1355"/>
                </a:cubicBezTo>
                <a:cubicBezTo>
                  <a:pt x="157" y="1372"/>
                  <a:pt x="137" y="1381"/>
                  <a:pt x="125" y="1396"/>
                </a:cubicBezTo>
                <a:cubicBezTo>
                  <a:pt x="109" y="1415"/>
                  <a:pt x="98" y="1437"/>
                  <a:pt x="84" y="1458"/>
                </a:cubicBezTo>
                <a:cubicBezTo>
                  <a:pt x="70" y="1500"/>
                  <a:pt x="45" y="1534"/>
                  <a:pt x="22" y="1572"/>
                </a:cubicBezTo>
                <a:cubicBezTo>
                  <a:pt x="19" y="1589"/>
                  <a:pt x="12" y="1606"/>
                  <a:pt x="12" y="1624"/>
                </a:cubicBezTo>
                <a:cubicBezTo>
                  <a:pt x="12" y="1694"/>
                  <a:pt x="0" y="1945"/>
                  <a:pt x="115" y="1986"/>
                </a:cubicBezTo>
                <a:cubicBezTo>
                  <a:pt x="175" y="2046"/>
                  <a:pt x="114" y="1995"/>
                  <a:pt x="187" y="2027"/>
                </a:cubicBezTo>
                <a:cubicBezTo>
                  <a:pt x="236" y="2048"/>
                  <a:pt x="203" y="2049"/>
                  <a:pt x="249" y="2079"/>
                </a:cubicBezTo>
                <a:cubicBezTo>
                  <a:pt x="274" y="2096"/>
                  <a:pt x="324" y="2103"/>
                  <a:pt x="353" y="2110"/>
                </a:cubicBezTo>
                <a:cubicBezTo>
                  <a:pt x="406" y="2141"/>
                  <a:pt x="450" y="2153"/>
                  <a:pt x="508" y="2172"/>
                </a:cubicBezTo>
                <a:cubicBezTo>
                  <a:pt x="518" y="2175"/>
                  <a:pt x="529" y="2179"/>
                  <a:pt x="539" y="2182"/>
                </a:cubicBezTo>
                <a:cubicBezTo>
                  <a:pt x="549" y="2186"/>
                  <a:pt x="560" y="2189"/>
                  <a:pt x="570" y="2193"/>
                </a:cubicBezTo>
                <a:cubicBezTo>
                  <a:pt x="580" y="2196"/>
                  <a:pt x="601" y="2203"/>
                  <a:pt x="601" y="2203"/>
                </a:cubicBezTo>
                <a:cubicBezTo>
                  <a:pt x="632" y="2200"/>
                  <a:pt x="665" y="2204"/>
                  <a:pt x="694" y="2193"/>
                </a:cubicBezTo>
                <a:cubicBezTo>
                  <a:pt x="712" y="2186"/>
                  <a:pt x="717" y="2156"/>
                  <a:pt x="736" y="2151"/>
                </a:cubicBezTo>
                <a:cubicBezTo>
                  <a:pt x="782" y="2138"/>
                  <a:pt x="832" y="2144"/>
                  <a:pt x="880" y="2141"/>
                </a:cubicBezTo>
                <a:cubicBezTo>
                  <a:pt x="952" y="2124"/>
                  <a:pt x="994" y="2100"/>
                  <a:pt x="1036" y="2037"/>
                </a:cubicBezTo>
                <a:cubicBezTo>
                  <a:pt x="1045" y="1992"/>
                  <a:pt x="1055" y="1948"/>
                  <a:pt x="1067" y="1903"/>
                </a:cubicBezTo>
                <a:cubicBezTo>
                  <a:pt x="1074" y="1730"/>
                  <a:pt x="1045" y="1657"/>
                  <a:pt x="1149" y="1551"/>
                </a:cubicBezTo>
                <a:cubicBezTo>
                  <a:pt x="1164" y="1510"/>
                  <a:pt x="1175" y="1492"/>
                  <a:pt x="1212" y="1469"/>
                </a:cubicBezTo>
                <a:cubicBezTo>
                  <a:pt x="1265" y="1387"/>
                  <a:pt x="1351" y="1339"/>
                  <a:pt x="1418" y="1272"/>
                </a:cubicBezTo>
                <a:cubicBezTo>
                  <a:pt x="1430" y="1260"/>
                  <a:pt x="1438" y="1244"/>
                  <a:pt x="1449" y="1231"/>
                </a:cubicBezTo>
                <a:cubicBezTo>
                  <a:pt x="1469" y="1209"/>
                  <a:pt x="1511" y="1169"/>
                  <a:pt x="1511" y="1169"/>
                </a:cubicBezTo>
                <a:cubicBezTo>
                  <a:pt x="1554" y="1196"/>
                  <a:pt x="1596" y="1200"/>
                  <a:pt x="1646" y="1210"/>
                </a:cubicBezTo>
                <a:cubicBezTo>
                  <a:pt x="1759" y="1201"/>
                  <a:pt x="1853" y="1177"/>
                  <a:pt x="1967" y="1169"/>
                </a:cubicBezTo>
                <a:cubicBezTo>
                  <a:pt x="2054" y="1156"/>
                  <a:pt x="2133" y="1130"/>
                  <a:pt x="2184" y="1055"/>
                </a:cubicBezTo>
                <a:cubicBezTo>
                  <a:pt x="2181" y="1024"/>
                  <a:pt x="2179" y="993"/>
                  <a:pt x="2174" y="962"/>
                </a:cubicBezTo>
                <a:cubicBezTo>
                  <a:pt x="2165" y="911"/>
                  <a:pt x="2132" y="875"/>
                  <a:pt x="2101" y="838"/>
                </a:cubicBezTo>
                <a:cubicBezTo>
                  <a:pt x="2080" y="813"/>
                  <a:pt x="2071" y="779"/>
                  <a:pt x="2049" y="755"/>
                </a:cubicBezTo>
                <a:cubicBezTo>
                  <a:pt x="2009" y="710"/>
                  <a:pt x="2004" y="724"/>
                  <a:pt x="1967" y="693"/>
                </a:cubicBezTo>
                <a:cubicBezTo>
                  <a:pt x="1920" y="653"/>
                  <a:pt x="1874" y="614"/>
                  <a:pt x="1822" y="579"/>
                </a:cubicBezTo>
                <a:cubicBezTo>
                  <a:pt x="1799" y="515"/>
                  <a:pt x="1831" y="579"/>
                  <a:pt x="1760" y="527"/>
                </a:cubicBezTo>
                <a:cubicBezTo>
                  <a:pt x="1661" y="454"/>
                  <a:pt x="1734" y="482"/>
                  <a:pt x="1667" y="445"/>
                </a:cubicBezTo>
                <a:cubicBezTo>
                  <a:pt x="1529" y="370"/>
                  <a:pt x="1378" y="325"/>
                  <a:pt x="1232" y="269"/>
                </a:cubicBezTo>
                <a:cubicBezTo>
                  <a:pt x="1201" y="238"/>
                  <a:pt x="1180" y="220"/>
                  <a:pt x="1139" y="207"/>
                </a:cubicBezTo>
                <a:cubicBezTo>
                  <a:pt x="1096" y="164"/>
                  <a:pt x="1051" y="152"/>
                  <a:pt x="994" y="124"/>
                </a:cubicBezTo>
                <a:cubicBezTo>
                  <a:pt x="974" y="114"/>
                  <a:pt x="932" y="103"/>
                  <a:pt x="932" y="103"/>
                </a:cubicBezTo>
                <a:cubicBezTo>
                  <a:pt x="849" y="40"/>
                  <a:pt x="939" y="101"/>
                  <a:pt x="829" y="52"/>
                </a:cubicBezTo>
                <a:cubicBezTo>
                  <a:pt x="811" y="44"/>
                  <a:pt x="795" y="29"/>
                  <a:pt x="777" y="21"/>
                </a:cubicBezTo>
                <a:cubicBezTo>
                  <a:pt x="757" y="12"/>
                  <a:pt x="715" y="0"/>
                  <a:pt x="715" y="0"/>
                </a:cubicBezTo>
                <a:cubicBezTo>
                  <a:pt x="629" y="8"/>
                  <a:pt x="540" y="1"/>
                  <a:pt x="456" y="21"/>
                </a:cubicBezTo>
                <a:cubicBezTo>
                  <a:pt x="444" y="24"/>
                  <a:pt x="436" y="52"/>
                  <a:pt x="436" y="52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1440" y="4933800"/>
            <a:ext cx="447480" cy="481320"/>
          </a:xfrm>
          <a:custGeom>
            <a:avLst/>
            <a:gdLst/>
            <a:ahLst/>
            <a:rect l="l" t="t" r="r" b="b"/>
            <a:pathLst>
              <a:path w="282" h="303">
                <a:moveTo>
                  <a:pt x="11" y="78"/>
                </a:moveTo>
                <a:cubicBezTo>
                  <a:pt x="21" y="68"/>
                  <a:pt x="33" y="58"/>
                  <a:pt x="42" y="47"/>
                </a:cubicBezTo>
                <a:cubicBezTo>
                  <a:pt x="53" y="34"/>
                  <a:pt x="56" y="8"/>
                  <a:pt x="73" y="5"/>
                </a:cubicBezTo>
                <a:cubicBezTo>
                  <a:pt x="87" y="2"/>
                  <a:pt x="93" y="27"/>
                  <a:pt x="104" y="36"/>
                </a:cubicBezTo>
                <a:cubicBezTo>
                  <a:pt x="114" y="44"/>
                  <a:pt x="125" y="50"/>
                  <a:pt x="135" y="57"/>
                </a:cubicBezTo>
                <a:cubicBezTo>
                  <a:pt x="147" y="94"/>
                  <a:pt x="128" y="144"/>
                  <a:pt x="156" y="171"/>
                </a:cubicBezTo>
                <a:cubicBezTo>
                  <a:pt x="171" y="186"/>
                  <a:pt x="197" y="164"/>
                  <a:pt x="218" y="160"/>
                </a:cubicBezTo>
                <a:cubicBezTo>
                  <a:pt x="244" y="167"/>
                  <a:pt x="275" y="166"/>
                  <a:pt x="280" y="202"/>
                </a:cubicBezTo>
                <a:cubicBezTo>
                  <a:pt x="282" y="216"/>
                  <a:pt x="278" y="232"/>
                  <a:pt x="269" y="243"/>
                </a:cubicBezTo>
                <a:cubicBezTo>
                  <a:pt x="253" y="262"/>
                  <a:pt x="207" y="285"/>
                  <a:pt x="207" y="285"/>
                </a:cubicBezTo>
                <a:cubicBezTo>
                  <a:pt x="137" y="279"/>
                  <a:pt x="56" y="303"/>
                  <a:pt x="31" y="233"/>
                </a:cubicBezTo>
                <a:cubicBezTo>
                  <a:pt x="28" y="212"/>
                  <a:pt x="26" y="191"/>
                  <a:pt x="21" y="171"/>
                </a:cubicBezTo>
                <a:cubicBezTo>
                  <a:pt x="16" y="150"/>
                  <a:pt x="0" y="109"/>
                  <a:pt x="0" y="109"/>
                </a:cubicBezTo>
                <a:cubicBezTo>
                  <a:pt x="11" y="98"/>
                  <a:pt x="89" y="0"/>
                  <a:pt x="11" y="78"/>
                </a:cubicBezTo>
                <a:close/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75960" y="49179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Z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5715000"/>
            <a:ext cx="3812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51200" y="552780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Zone c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97360" y="4680000"/>
            <a:ext cx="1648080" cy="1542960"/>
          </a:xfrm>
          <a:custGeom>
            <a:avLst/>
            <a:gdLst/>
            <a:ahLst/>
            <a:rect l="l" t="t" r="r" b="b"/>
            <a:pathLst>
              <a:path w="1038" h="972">
                <a:moveTo>
                  <a:pt x="125" y="103"/>
                </a:moveTo>
                <a:cubicBezTo>
                  <a:pt x="97" y="120"/>
                  <a:pt x="63" y="130"/>
                  <a:pt x="42" y="155"/>
                </a:cubicBezTo>
                <a:cubicBezTo>
                  <a:pt x="17" y="184"/>
                  <a:pt x="9" y="233"/>
                  <a:pt x="0" y="269"/>
                </a:cubicBezTo>
                <a:cubicBezTo>
                  <a:pt x="12" y="451"/>
                  <a:pt x="27" y="558"/>
                  <a:pt x="114" y="713"/>
                </a:cubicBezTo>
                <a:cubicBezTo>
                  <a:pt x="131" y="743"/>
                  <a:pt x="134" y="760"/>
                  <a:pt x="156" y="786"/>
                </a:cubicBezTo>
                <a:cubicBezTo>
                  <a:pt x="194" y="830"/>
                  <a:pt x="242" y="858"/>
                  <a:pt x="290" y="889"/>
                </a:cubicBezTo>
                <a:cubicBezTo>
                  <a:pt x="319" y="908"/>
                  <a:pt x="339" y="945"/>
                  <a:pt x="373" y="951"/>
                </a:cubicBezTo>
                <a:cubicBezTo>
                  <a:pt x="459" y="966"/>
                  <a:pt x="414" y="959"/>
                  <a:pt x="507" y="972"/>
                </a:cubicBezTo>
                <a:cubicBezTo>
                  <a:pt x="604" y="962"/>
                  <a:pt x="701" y="959"/>
                  <a:pt x="797" y="941"/>
                </a:cubicBezTo>
                <a:cubicBezTo>
                  <a:pt x="833" y="934"/>
                  <a:pt x="951" y="829"/>
                  <a:pt x="973" y="807"/>
                </a:cubicBezTo>
                <a:cubicBezTo>
                  <a:pt x="996" y="759"/>
                  <a:pt x="1018" y="723"/>
                  <a:pt x="1035" y="672"/>
                </a:cubicBezTo>
                <a:cubicBezTo>
                  <a:pt x="1026" y="564"/>
                  <a:pt x="1038" y="549"/>
                  <a:pt x="983" y="476"/>
                </a:cubicBezTo>
                <a:cubicBezTo>
                  <a:pt x="962" y="410"/>
                  <a:pt x="916" y="367"/>
                  <a:pt x="869" y="320"/>
                </a:cubicBezTo>
                <a:cubicBezTo>
                  <a:pt x="814" y="208"/>
                  <a:pt x="721" y="225"/>
                  <a:pt x="631" y="165"/>
                </a:cubicBezTo>
                <a:cubicBezTo>
                  <a:pt x="582" y="132"/>
                  <a:pt x="544" y="92"/>
                  <a:pt x="487" y="72"/>
                </a:cubicBezTo>
                <a:cubicBezTo>
                  <a:pt x="480" y="62"/>
                  <a:pt x="477" y="47"/>
                  <a:pt x="466" y="41"/>
                </a:cubicBezTo>
                <a:cubicBezTo>
                  <a:pt x="423" y="19"/>
                  <a:pt x="359" y="16"/>
                  <a:pt x="311" y="0"/>
                </a:cubicBezTo>
                <a:cubicBezTo>
                  <a:pt x="276" y="3"/>
                  <a:pt x="207" y="10"/>
                  <a:pt x="207" y="10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03240" y="2709720"/>
            <a:ext cx="2416320" cy="2151360"/>
          </a:xfrm>
          <a:custGeom>
            <a:avLst/>
            <a:gdLst/>
            <a:ahLst/>
            <a:rect l="l" t="t" r="r" b="b"/>
            <a:pathLst>
              <a:path w="1522" h="1355">
                <a:moveTo>
                  <a:pt x="1171" y="62"/>
                </a:moveTo>
                <a:cubicBezTo>
                  <a:pt x="1135" y="38"/>
                  <a:pt x="1057" y="0"/>
                  <a:pt x="1057" y="0"/>
                </a:cubicBezTo>
                <a:cubicBezTo>
                  <a:pt x="932" y="11"/>
                  <a:pt x="811" y="32"/>
                  <a:pt x="685" y="41"/>
                </a:cubicBezTo>
                <a:cubicBezTo>
                  <a:pt x="584" y="73"/>
                  <a:pt x="489" y="93"/>
                  <a:pt x="405" y="165"/>
                </a:cubicBezTo>
                <a:cubicBezTo>
                  <a:pt x="322" y="236"/>
                  <a:pt x="260" y="325"/>
                  <a:pt x="198" y="413"/>
                </a:cubicBezTo>
                <a:cubicBezTo>
                  <a:pt x="188" y="428"/>
                  <a:pt x="157" y="467"/>
                  <a:pt x="147" y="486"/>
                </a:cubicBezTo>
                <a:cubicBezTo>
                  <a:pt x="93" y="594"/>
                  <a:pt x="71" y="714"/>
                  <a:pt x="33" y="827"/>
                </a:cubicBezTo>
                <a:cubicBezTo>
                  <a:pt x="23" y="1000"/>
                  <a:pt x="0" y="1157"/>
                  <a:pt x="198" y="1210"/>
                </a:cubicBezTo>
                <a:cubicBezTo>
                  <a:pt x="308" y="1291"/>
                  <a:pt x="508" y="1337"/>
                  <a:pt x="643" y="1355"/>
                </a:cubicBezTo>
                <a:cubicBezTo>
                  <a:pt x="750" y="1345"/>
                  <a:pt x="847" y="1322"/>
                  <a:pt x="954" y="1313"/>
                </a:cubicBezTo>
                <a:cubicBezTo>
                  <a:pt x="1004" y="1301"/>
                  <a:pt x="1047" y="1290"/>
                  <a:pt x="1098" y="1282"/>
                </a:cubicBezTo>
                <a:cubicBezTo>
                  <a:pt x="1112" y="1275"/>
                  <a:pt x="1125" y="1266"/>
                  <a:pt x="1140" y="1261"/>
                </a:cubicBezTo>
                <a:cubicBezTo>
                  <a:pt x="1153" y="1256"/>
                  <a:pt x="1168" y="1257"/>
                  <a:pt x="1181" y="1251"/>
                </a:cubicBezTo>
                <a:cubicBezTo>
                  <a:pt x="1192" y="1246"/>
                  <a:pt x="1201" y="1236"/>
                  <a:pt x="1212" y="1230"/>
                </a:cubicBezTo>
                <a:cubicBezTo>
                  <a:pt x="1222" y="1225"/>
                  <a:pt x="1233" y="1223"/>
                  <a:pt x="1243" y="1220"/>
                </a:cubicBezTo>
                <a:cubicBezTo>
                  <a:pt x="1277" y="1186"/>
                  <a:pt x="1308" y="1177"/>
                  <a:pt x="1347" y="1148"/>
                </a:cubicBezTo>
                <a:cubicBezTo>
                  <a:pt x="1369" y="1078"/>
                  <a:pt x="1337" y="1159"/>
                  <a:pt x="1398" y="1086"/>
                </a:cubicBezTo>
                <a:cubicBezTo>
                  <a:pt x="1405" y="1078"/>
                  <a:pt x="1404" y="1065"/>
                  <a:pt x="1409" y="1055"/>
                </a:cubicBezTo>
                <a:cubicBezTo>
                  <a:pt x="1418" y="1040"/>
                  <a:pt x="1430" y="1027"/>
                  <a:pt x="1440" y="1013"/>
                </a:cubicBezTo>
                <a:cubicBezTo>
                  <a:pt x="1464" y="939"/>
                  <a:pt x="1430" y="1028"/>
                  <a:pt x="1481" y="951"/>
                </a:cubicBezTo>
                <a:cubicBezTo>
                  <a:pt x="1521" y="890"/>
                  <a:pt x="1452" y="947"/>
                  <a:pt x="1522" y="899"/>
                </a:cubicBezTo>
                <a:cubicBezTo>
                  <a:pt x="1519" y="868"/>
                  <a:pt x="1519" y="836"/>
                  <a:pt x="1512" y="806"/>
                </a:cubicBezTo>
                <a:cubicBezTo>
                  <a:pt x="1506" y="781"/>
                  <a:pt x="1487" y="759"/>
                  <a:pt x="1481" y="734"/>
                </a:cubicBezTo>
                <a:cubicBezTo>
                  <a:pt x="1469" y="686"/>
                  <a:pt x="1467" y="652"/>
                  <a:pt x="1440" y="610"/>
                </a:cubicBezTo>
                <a:cubicBezTo>
                  <a:pt x="1429" y="525"/>
                  <a:pt x="1412" y="431"/>
                  <a:pt x="1378" y="351"/>
                </a:cubicBezTo>
                <a:cubicBezTo>
                  <a:pt x="1364" y="317"/>
                  <a:pt x="1348" y="318"/>
                  <a:pt x="1326" y="289"/>
                </a:cubicBezTo>
                <a:cubicBezTo>
                  <a:pt x="1261" y="205"/>
                  <a:pt x="1314" y="247"/>
                  <a:pt x="1254" y="206"/>
                </a:cubicBezTo>
                <a:cubicBezTo>
                  <a:pt x="1157" y="63"/>
                  <a:pt x="1258" y="210"/>
                  <a:pt x="1181" y="103"/>
                </a:cubicBezTo>
                <a:cubicBezTo>
                  <a:pt x="1174" y="93"/>
                  <a:pt x="1163" y="84"/>
                  <a:pt x="1160" y="72"/>
                </a:cubicBezTo>
                <a:cubicBezTo>
                  <a:pt x="1159" y="67"/>
                  <a:pt x="1167" y="65"/>
                  <a:pt x="1171" y="62"/>
                </a:cubicBezTo>
                <a:close/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30520" y="1954080"/>
            <a:ext cx="1233720" cy="984240"/>
          </a:xfrm>
          <a:custGeom>
            <a:avLst/>
            <a:gdLst/>
            <a:ahLst/>
            <a:rect l="l" t="t" r="r" b="b"/>
            <a:pathLst>
              <a:path w="777" h="620">
                <a:moveTo>
                  <a:pt x="693" y="403"/>
                </a:moveTo>
                <a:cubicBezTo>
                  <a:pt x="705" y="342"/>
                  <a:pt x="777" y="247"/>
                  <a:pt x="683" y="217"/>
                </a:cubicBezTo>
                <a:cubicBezTo>
                  <a:pt x="676" y="207"/>
                  <a:pt x="671" y="195"/>
                  <a:pt x="662" y="186"/>
                </a:cubicBezTo>
                <a:cubicBezTo>
                  <a:pt x="653" y="177"/>
                  <a:pt x="639" y="174"/>
                  <a:pt x="631" y="165"/>
                </a:cubicBezTo>
                <a:cubicBezTo>
                  <a:pt x="488" y="0"/>
                  <a:pt x="675" y="180"/>
                  <a:pt x="548" y="72"/>
                </a:cubicBezTo>
                <a:cubicBezTo>
                  <a:pt x="537" y="63"/>
                  <a:pt x="530" y="47"/>
                  <a:pt x="517" y="41"/>
                </a:cubicBezTo>
                <a:cubicBezTo>
                  <a:pt x="491" y="28"/>
                  <a:pt x="461" y="30"/>
                  <a:pt x="434" y="21"/>
                </a:cubicBezTo>
                <a:cubicBezTo>
                  <a:pt x="349" y="28"/>
                  <a:pt x="277" y="36"/>
                  <a:pt x="197" y="62"/>
                </a:cubicBezTo>
                <a:cubicBezTo>
                  <a:pt x="180" y="76"/>
                  <a:pt x="164" y="91"/>
                  <a:pt x="145" y="103"/>
                </a:cubicBezTo>
                <a:cubicBezTo>
                  <a:pt x="136" y="109"/>
                  <a:pt x="123" y="108"/>
                  <a:pt x="114" y="114"/>
                </a:cubicBezTo>
                <a:cubicBezTo>
                  <a:pt x="102" y="122"/>
                  <a:pt x="94" y="136"/>
                  <a:pt x="83" y="145"/>
                </a:cubicBezTo>
                <a:cubicBezTo>
                  <a:pt x="74" y="153"/>
                  <a:pt x="62" y="158"/>
                  <a:pt x="52" y="165"/>
                </a:cubicBezTo>
                <a:cubicBezTo>
                  <a:pt x="42" y="179"/>
                  <a:pt x="29" y="191"/>
                  <a:pt x="21" y="207"/>
                </a:cubicBezTo>
                <a:cubicBezTo>
                  <a:pt x="11" y="227"/>
                  <a:pt x="0" y="269"/>
                  <a:pt x="0" y="269"/>
                </a:cubicBezTo>
                <a:cubicBezTo>
                  <a:pt x="3" y="303"/>
                  <a:pt x="3" y="338"/>
                  <a:pt x="10" y="372"/>
                </a:cubicBezTo>
                <a:cubicBezTo>
                  <a:pt x="13" y="387"/>
                  <a:pt x="25" y="400"/>
                  <a:pt x="31" y="414"/>
                </a:cubicBezTo>
                <a:cubicBezTo>
                  <a:pt x="41" y="437"/>
                  <a:pt x="41" y="464"/>
                  <a:pt x="52" y="486"/>
                </a:cubicBezTo>
                <a:cubicBezTo>
                  <a:pt x="74" y="529"/>
                  <a:pt x="127" y="594"/>
                  <a:pt x="176" y="610"/>
                </a:cubicBezTo>
                <a:cubicBezTo>
                  <a:pt x="196" y="617"/>
                  <a:pt x="217" y="617"/>
                  <a:pt x="238" y="620"/>
                </a:cubicBezTo>
                <a:cubicBezTo>
                  <a:pt x="276" y="617"/>
                  <a:pt x="315" y="620"/>
                  <a:pt x="352" y="610"/>
                </a:cubicBezTo>
                <a:cubicBezTo>
                  <a:pt x="366" y="606"/>
                  <a:pt x="371" y="588"/>
                  <a:pt x="383" y="579"/>
                </a:cubicBezTo>
                <a:cubicBezTo>
                  <a:pt x="444" y="532"/>
                  <a:pt x="482" y="507"/>
                  <a:pt x="559" y="507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4724280" y="4343040"/>
            <a:ext cx="60984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03680" y="182880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t z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67920" y="25909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z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65640" y="26668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 z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04000" y="457200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G.K.B z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2C7A-D984-4E0C-83CC-27A394F8B4E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Information is associated with each domain nam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ccff"/>
                </a:solidFill>
                <a:uFillTx/>
                <a:latin typeface="Tahoma"/>
                <a:hlinkClick r:id="rId1" action="ppaction://hlinksldjump"/>
              </a:rPr>
              <a:t>Several types of record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(Resource Records, RRs), </a:t>
            </a:r>
            <a:r>
              <a:rPr b="0" lang="en-GB" sz="3200" spc="-1" strike="noStrike" u="sng">
                <a:solidFill>
                  <a:srgbClr val="ffccff"/>
                </a:solidFill>
                <a:uFillTx/>
                <a:latin typeface="Tahoma"/>
                <a:hlinkClick r:id="rId2" action="ppaction://hlinksldjump"/>
              </a:rPr>
              <a:t>all with a similar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ach RR contains some information that is associated with a specific domain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ach domain name can have several RRs of the same type or of different ty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FB3B-9188-4CBA-8CFE-CFA756A3B64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General format of RR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wner name  - the domain name that this record belongs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TL - how long copies of this RR may be cached (measured in secon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lass - almost always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ccff"/>
                </a:solidFill>
                <a:uFillTx/>
                <a:latin typeface="Tahoma"/>
                <a:hlinkClick r:id="rId1" action="ppaction://hlinksldjump"/>
              </a:rPr>
              <a:t>Type - there are many ty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ata - different RR types have different data forma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">
            <a:hlinkClick r:id="rId2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5305-8E09-4925-BEF2-FDB8B977E3D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Some DNS topic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ccff"/>
                </a:solidFill>
                <a:uFillTx/>
                <a:latin typeface="Tahoma"/>
                <a:hlinkClick r:id="rId1" action="ppaction://hlinksldjump"/>
              </a:rPr>
              <a:t>What the Internet’s DNS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ccff"/>
                </a:solidFill>
                <a:uFillTx/>
                <a:latin typeface="Tahoma"/>
                <a:hlinkClick r:id="rId2" action="ppaction://hlinksldjump"/>
              </a:rPr>
              <a:t>Configuring a resolver on a Unix-like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ccff"/>
                </a:solidFill>
                <a:uFillTx/>
                <a:latin typeface="Tahoma"/>
                <a:hlinkClick r:id="rId3" action="ppaction://hlinksldjump"/>
              </a:rPr>
              <a:t>Configuring a nameserver on a Unix-like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ccff"/>
                </a:solidFill>
                <a:uFillTx/>
                <a:latin typeface="Tahoma"/>
                <a:hlinkClick r:id="rId4" action="ppaction://hlinksldjump"/>
              </a:rPr>
              <a:t>Exercise: Create and install a simple z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89A4-8875-47D8-B33A-58076F32F46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Several types of RR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ccff"/>
                </a:solidFill>
                <a:uFillTx/>
                <a:latin typeface="Tahoma"/>
                <a:hlinkClick r:id="rId1" action="ppaction://hlinksldjump"/>
              </a:rPr>
              <a:t>IP address for a h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ccff"/>
                </a:solidFill>
                <a:uFillTx/>
                <a:latin typeface="Tahoma"/>
                <a:hlinkClick r:id="rId2" action="ppaction://hlinksldjump"/>
              </a:rPr>
              <a:t>Information needed by the DNS infrastructure it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ccff"/>
                </a:solidFill>
                <a:uFillTx/>
                <a:latin typeface="Tahoma"/>
                <a:hlinkClick r:id="rId3" action="ppaction://hlinksldjump"/>
              </a:rPr>
              <a:t>Hostname for an IP add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ccff"/>
                </a:solidFill>
                <a:uFillTx/>
                <a:latin typeface="Tahoma"/>
                <a:hlinkClick r:id="rId4" action="ppaction://hlinksldjump"/>
              </a:rPr>
              <a:t>Information about mail rou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ccff"/>
                </a:solidFill>
                <a:uFillTx/>
                <a:latin typeface="Tahoma"/>
                <a:hlinkClick r:id="rId5" action="ppaction://hlinksldjump"/>
              </a:rPr>
              <a:t>Free form t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ccff"/>
                </a:solidFill>
                <a:uFillTx/>
                <a:latin typeface="Tahoma"/>
                <a:hlinkClick r:id="rId6" action="ppaction://hlinksldjump"/>
              </a:rPr>
              <a:t>Alias to canonical name mapp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any more (but less commonly us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">
            <a:hlinkClick r:id="rId7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A5EA-A9CB-4FD0-9238-DF1F5B19DAD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IP address for a hos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rec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wner is host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ata is IP add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; IP address of austin.gh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ustin.ghana.com. 86400  IN  A  196.3.64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0643-0D29-43F6-A3E7-D87D9A185BA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Information needed by the DNS infrastructure itself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ccff"/>
                </a:solidFill>
                <a:uFillTx/>
                <a:latin typeface="Tahoma"/>
                <a:hlinkClick r:id="rId1" action="ppaction://hlinksldjump"/>
              </a:rPr>
              <a:t>SOA</a:t>
            </a:r>
            <a:r>
              <a:rPr b="0" lang="en-GB" sz="3200" spc="-1" strike="noStrike" u="sng">
                <a:solidFill>
                  <a:srgbClr val="ffccff"/>
                </a:solidFill>
                <a:uFillTx/>
                <a:latin typeface="Tahoma"/>
                <a:hlinkClick r:id="rId2" action="ppaction://hlinksldjump"/>
              </a:rPr>
              <a:t> rec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ach zone has exactly one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SO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rec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ccff"/>
                </a:solidFill>
                <a:uFillTx/>
                <a:latin typeface="Tahoma"/>
                <a:hlinkClick r:id="rId3" action="ppaction://hlinksldjump"/>
              </a:rPr>
              <a:t>NS</a:t>
            </a:r>
            <a:r>
              <a:rPr b="0" lang="en-GB" sz="3200" spc="-1" strike="noStrike" u="sng">
                <a:solidFill>
                  <a:srgbClr val="ffccff"/>
                </a:solidFill>
                <a:uFillTx/>
                <a:latin typeface="Tahoma"/>
                <a:hlinkClick r:id="rId4" action="ppaction://hlinksldjump"/>
              </a:rPr>
              <a:t> rec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ach zone has several nameservers that are listed as having authoritative information about domains in the z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ne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N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record for each such nameser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ccff"/>
                </a:solidFill>
                <a:uFillTx/>
                <a:latin typeface="Tahoma"/>
                <a:hlinkClick r:id="rId5" action="ppaction://hlinksldjump"/>
              </a:rPr>
              <a:t>Zone cuts are marked by these R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">
            <a:hlinkClick r:id="rId6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FF94-ACB0-4F1E-8218-DD3583BE741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00"/>
                </a:solidFill>
                <a:latin typeface="Arial Black"/>
              </a:rPr>
              <a:t>SOA</a:t>
            </a: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 recor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very zone has exactly one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OA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rec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domain name at the top of the zone owns the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OA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rec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ata portion of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OA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record contai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NAME - name of master nameser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NAME - email address of zone administr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RIAL - serial nu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FRESH RETRY EXPIRE MINIMUM - timing paramet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9C9C-37EF-4205-A59F-B6C285A08A0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NS recor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ach zone has several listed nameser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ne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record for each listed nameser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aster/primary and slaves/seconda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data portion of each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record contains the domain name of a nameser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oes not contain IP add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Get that from an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record for the nameser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EAE7-89E8-46F0-9BE2-9432CE59352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SOA and NS record exampl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; owner    TTL     class  type 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ghana.com.   86400  IN     SOA  austin.gh.com.  support.gh.com. (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99710161 ; ser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21600        ; refres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3600          ; ret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2600000     ; expi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900      )     ; minim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ghana.com.   86400  IN     NS    ns1.ghana.co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ghana.com.   86400  IN     NS    ns2.ghana.co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ghana.com.   86400  IN     NS    server.elsewhere.examp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EABB-7E26-429E-8786-895AD96224C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SOA and NS example using some shortcut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$ORIGIN ghana.co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$TTL 864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; owner    TTL     class  type 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@                       IN     SOA  austin.gh.com.  Support.gh.com. (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99710161 ; ser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21600        ; refres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3600          ; ret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2600000     ; expi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900      )     ; minim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S    ns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S    ns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S    server.elsewhere.examp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947-0823-40F4-80FB-72FDCC3EC9A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More about RRs above and below zone cut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Rs in the child zone (below the cu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SO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N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records (authoritativ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Rs in the parent zone (above the cu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N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records (should be identical to those in the child zo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lue rec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hild zone’s nameservers sometimes need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records in the parent z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B7DB-33FD-4EBD-867A-D09D502A430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Zone cut example - RRs in the child zon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arent is COM zone; child is GHANA.COM z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hild zone has SOA and NS records, and A records for ho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ghana.com.              IN     SOA  xxx xxx xxx xxx xxx xxx xx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S    ns1.ghana.co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S    another.elsewhere.ed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s1.ghana.com.                A      192.0.2.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; the ghana.com zone does not have an A reco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; for another.elsewhere.edu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2012-50F9-4A3D-90AC-B994476EED3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Zone cut example - RRs in the parent zon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arent is COM zone; child is XYZ.COM z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arent zone has its own SOA and NS records, plus copies of child zone’s NS records, plus glue rec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M.                    IN    SOA xxx xxx xxx xxx xxx xxx xx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S   xxxxxx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S  yyyyyy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ghana.com.                      NS   ns1.ghana.co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S   another.elsewhere.ed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s1.ghana.com.                 A     192.0.2.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; the com zone does not have an A reco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; for another.elsewhere.ed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4267-53F8-4167-8FB1-62795222CC3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What the Internet’s DNS i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ccff"/>
                </a:solidFill>
                <a:uFillTx/>
                <a:latin typeface="Tahoma"/>
                <a:hlinkClick r:id="rId1" action="ppaction://hlinksldjump"/>
              </a:rPr>
              <a:t>A systematic namespace called the domain name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ccff"/>
                </a:solidFill>
                <a:uFillTx/>
                <a:latin typeface="Tahoma"/>
                <a:hlinkClick r:id="rId2" action="ppaction://hlinksldjump"/>
              </a:rPr>
              <a:t>Different people or organisations are responsible for different parts of the name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ccff"/>
                </a:solidFill>
                <a:uFillTx/>
                <a:latin typeface="Tahoma"/>
                <a:hlinkClick r:id="rId3" action="ppaction://hlinksldjump"/>
              </a:rPr>
              <a:t>Information is associated with each n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ccff"/>
                </a:solidFill>
                <a:uFillTx/>
                <a:latin typeface="Tahoma"/>
                <a:hlinkClick r:id="rId4" action="ppaction://hlinksldjump"/>
              </a:rPr>
              <a:t>A set of conventions for using the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ccff"/>
                </a:solidFill>
                <a:uFillTx/>
                <a:latin typeface="Tahoma"/>
                <a:hlinkClick r:id="rId5" action="ppaction://hlinksldjump"/>
              </a:rPr>
              <a:t>A distributed database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ccff"/>
                </a:solidFill>
                <a:uFillTx/>
                <a:latin typeface="Tahoma"/>
                <a:hlinkClick r:id="rId6" action="ppaction://hlinksldjump"/>
              </a:rPr>
              <a:t>Protocols that allow retrieval of information, and synchronisation between serv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18B5-2B84-4025-BA1F-CE9E8F9D43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Hostname for an IP addres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TR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rec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wner is IP address, mapped into the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n-addr.arpa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do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ata is name of host with that IP add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; host name for IP address 196.3.64.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1.64.3.196.in-addr.arpa.  PTR  austin.ghana.co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654-F359-48CA-A842-FE097F15728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40644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verse Look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160020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a source host establishes a connection to a destination host, the TCP/IP packets carry out only IP addresses of the source hos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uthentication, access rights or accounting information, the destination host wants to know the name of the source hos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this purpose, a special domain “in-addr.arpa” is use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verse name is obtained by reversing the IP number and adding the name “in-addr.arpa”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: 130.65.240.25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erse name: 254.240.65.130.in-addr.ar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erse domains form a hierarchical tree and are treated as any other Internet domai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fc2317 Classless In-ADDR.ARPA deleg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0080-7028-4C14-AEF2-C76B10F7D800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40644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verse Domain Hierarch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68640" y="2444760"/>
            <a:ext cx="97812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495680" y="2749680"/>
            <a:ext cx="0" cy="6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02160" y="2819520"/>
            <a:ext cx="4178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68240" y="2819520"/>
            <a:ext cx="387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1040" y="3282840"/>
            <a:ext cx="520920" cy="2923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" y="28256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90520" y="318600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28256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09680" y="28256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95480" y="28256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28256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52880" y="28256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715000" y="28256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324480" y="28256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686800" y="28256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49480" y="3282840"/>
            <a:ext cx="520560" cy="2923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87560" y="3282840"/>
            <a:ext cx="520560" cy="2923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73360" y="3282840"/>
            <a:ext cx="520560" cy="2923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59160" y="3282840"/>
            <a:ext cx="520560" cy="2923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044960" y="3282840"/>
            <a:ext cx="520560" cy="2923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30760" y="3282840"/>
            <a:ext cx="520560" cy="2923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16560" y="3282840"/>
            <a:ext cx="520560" cy="2923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02360" y="3282840"/>
            <a:ext cx="520560" cy="2923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388360" y="3282840"/>
            <a:ext cx="520560" cy="2923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267080" y="28256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27160" y="3184560"/>
            <a:ext cx="70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26800" y="3232080"/>
            <a:ext cx="565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8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65240" y="3232080"/>
            <a:ext cx="565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651040" y="3232080"/>
            <a:ext cx="565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336840" y="3232080"/>
            <a:ext cx="565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022640" y="3232080"/>
            <a:ext cx="565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708080" y="3232080"/>
            <a:ext cx="629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70200" y="3232080"/>
            <a:ext cx="565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56000" y="3232080"/>
            <a:ext cx="565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15600" y="3156120"/>
            <a:ext cx="1205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  .  .  .  . 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442360" y="3230640"/>
            <a:ext cx="380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73160" y="4038480"/>
            <a:ext cx="387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9360" y="4038480"/>
            <a:ext cx="1206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66680" y="4044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752480" y="4044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14600" y="4044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044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4044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267080" y="4044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876920" y="4044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8240" y="4502160"/>
            <a:ext cx="52092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454040" y="4502160"/>
            <a:ext cx="52092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39840" y="4502160"/>
            <a:ext cx="52092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45920" y="4451400"/>
            <a:ext cx="565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5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31720" y="4451400"/>
            <a:ext cx="565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5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25640" y="4502160"/>
            <a:ext cx="52092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35480" y="450216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044960" y="450216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54440" y="4502160"/>
            <a:ext cx="44460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17520" y="4451400"/>
            <a:ext cx="565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5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03320" y="4451400"/>
            <a:ext cx="565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343400" y="4807080"/>
            <a:ext cx="0" cy="21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15960" y="5029200"/>
            <a:ext cx="806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343400" y="5035680"/>
            <a:ext cx="0" cy="291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87560" y="5340240"/>
            <a:ext cx="520560" cy="2923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673360" y="5340240"/>
            <a:ext cx="520560" cy="2923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21280" y="5340240"/>
            <a:ext cx="520560" cy="2923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43400" y="5645160"/>
            <a:ext cx="0" cy="291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102360" y="4038480"/>
            <a:ext cx="257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5880" y="4044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781680" y="4044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43800" y="4044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53280" y="4044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97440" y="4502160"/>
            <a:ext cx="52092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559560" y="450216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321680" y="450216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007480" y="450216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851440" y="4451400"/>
            <a:ext cx="565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6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613200" y="4451400"/>
            <a:ext cx="565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6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75320" y="4451400"/>
            <a:ext cx="565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6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982640" y="4451400"/>
            <a:ext cx="114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68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686800" y="4044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50840" y="3687840"/>
            <a:ext cx="2554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944880" y="2394000"/>
            <a:ext cx="983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in-add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8640" y="1987560"/>
            <a:ext cx="97812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495680" y="2279160"/>
            <a:ext cx="0" cy="165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46320" y="1936800"/>
            <a:ext cx="74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ar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267080" y="35877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022640" y="4451400"/>
            <a:ext cx="565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6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412800" y="4451400"/>
            <a:ext cx="565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6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632120" y="4451400"/>
            <a:ext cx="565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6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410080" y="4044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87960" y="450216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65640" y="4451400"/>
            <a:ext cx="565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21280" y="595008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657600" y="5035680"/>
            <a:ext cx="0" cy="291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9160" y="5340240"/>
            <a:ext cx="520560" cy="2923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95480" y="5035680"/>
            <a:ext cx="0" cy="291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0" y="5035680"/>
            <a:ext cx="0" cy="291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05520" y="5035680"/>
            <a:ext cx="0" cy="291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7080" y="5340240"/>
            <a:ext cx="520560" cy="2923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92280" y="5791320"/>
            <a:ext cx="806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91320" y="5035680"/>
            <a:ext cx="0" cy="291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324480" y="5035680"/>
            <a:ext cx="0" cy="291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934320" y="5035680"/>
            <a:ext cx="0" cy="291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772400" y="5035680"/>
            <a:ext cx="0" cy="291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92880" y="5340240"/>
            <a:ext cx="520560" cy="2923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02360" y="5340240"/>
            <a:ext cx="520560" cy="2923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88160" y="5340240"/>
            <a:ext cx="520560" cy="2923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473960" y="5340240"/>
            <a:ext cx="520560" cy="2923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47920" y="5035680"/>
            <a:ext cx="0" cy="291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25440" y="5340240"/>
            <a:ext cx="520920" cy="2923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098960" y="5289480"/>
            <a:ext cx="50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413520" y="528948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651760" y="528948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65600" y="5289480"/>
            <a:ext cx="50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80160" y="528948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861440" y="528948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47240" y="528948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56720" y="528948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42520" y="528948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528320" y="528948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099320" y="5899320"/>
            <a:ext cx="373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645160" y="595008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5105520" y="5784480"/>
            <a:ext cx="0" cy="165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3429000" y="5784480"/>
            <a:ext cx="0" cy="165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2590920" y="5784480"/>
            <a:ext cx="0" cy="165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06880" y="595008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68440" y="5950080"/>
            <a:ext cx="52092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23520" y="589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261600" y="589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867280" y="5784480"/>
            <a:ext cx="0" cy="165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807080" y="595008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938120" y="589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99880" y="589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6327-CDE9-4FEA-AA4B-E40A353EF639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Information about mail routing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X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rec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wner is name of email do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ata contains preference value, and name of host that receives incoming ema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; send ghana.com’s email to mailserver or backupser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hana.com.    MX       0  mail.ghana.co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hana.com.    MX       10 backupmail.ghana.co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5ED7-5E98-4BC7-A312-E98FF49A099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Free form tex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X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rec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wner is any domain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ata is any text associated with the domain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ery few conventions about how to use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et.ghana.com.           TXT      “NETWORKS R U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">
            <a:hlinkClick r:id="rId1" action="ppaction://hlinksldjump"/>
          </p:cNvPr>
          <p:cNvSpPr/>
          <p:nvPr/>
        </p:nvSpPr>
        <p:spPr>
          <a:xfrm>
            <a:off x="8659800" y="-111240"/>
            <a:ext cx="482760" cy="628920"/>
          </a:xfrm>
          <a:prstGeom prst="upArrow">
            <a:avLst>
              <a:gd name="adj1" fmla="val 42481"/>
              <a:gd name="adj2" fmla="val 9408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4506-1F53-4520-BB3B-02111735152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Alias to canonical name mapping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NAME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rec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wner is non-canonical domain name (ali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ata is canonical domain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; ftp.xyz.com is an al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; ftp.ghana.com is the canonical n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tp.ghana.com.    CNAME  austin.ghana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6479-DD74-4E5C-BCC1-1E35985E07A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A set of conventions for using the informatio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ow to represent the relationship between host names and IP addres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 records are used to control mail routing, and how the mail system should use those rec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ow to use the DNS to store IP netmask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ny other th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4125-1542-4B33-8650-AB11EC0D47E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The DNS is a distributed database syste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ccff"/>
                </a:solidFill>
                <a:uFillTx/>
                <a:latin typeface="Tahoma"/>
                <a:hlinkClick r:id="rId1" action="ppaction://hlinksldjump"/>
              </a:rPr>
              <a:t>What makes it a distributed databas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ccff"/>
                </a:solidFill>
                <a:uFillTx/>
                <a:latin typeface="Tahoma"/>
                <a:hlinkClick r:id="rId2" action="ppaction://hlinksldjump"/>
              </a:rPr>
              <a:t>How is data partitioned amongst the server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ccff"/>
                </a:solidFill>
                <a:uFillTx/>
                <a:latin typeface="Tahoma"/>
                <a:hlinkClick r:id="rId3" action="ppaction://hlinksldjump"/>
              </a:rPr>
              <a:t>What about reliabilit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">
            <a:hlinkClick r:id="rId4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556C-623D-49D0-97FD-6CF8FF5AC88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What makes it a distributed database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ousands of servers around the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ach server has authoritative information about some subset of the name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re is no central server that has information about the whole name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f a question gets sent to a server that does not know the answer, that is not a prob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AD9-078D-49F1-B870-1F15C9E6FCE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40644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quirements for a nameserv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" y="1981080"/>
            <a:ext cx="8686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query should be resolved as fast as possibl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be available 24 hours a day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be reachable via fast communication lin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be located in the central in the network topology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run robust, without errors and interrup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5371-E820-4654-A3AB-DBDD324633AB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A systematic namespace - the domain name sp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everal components (called label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ritten separated by do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ften written terminated by a d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ierarchical stru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eftmost label has most local 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ightmost label has global 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erminal dot represents root of the hierarc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omain names are case indepen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1563-3B9B-4741-979C-A6DD9C4E04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How is data partitioned amongst the servers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namespace is divided into z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ach zone has two or more authoritative nameser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ne primary or m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ne or more secondaries or sla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laves periodically update from m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ach server is authoritative for any number of zones (zero or mo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F18-0441-4E1C-AEA6-AD28E93F561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What about reliability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f one server does not reply, clients will ask another ser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at’s why there are several servers for each z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Zone administrators should choose servers that are not all subject to a single point of fail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E0AD-A227-4E8B-8F35-9B46D623776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DNS Protocol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lient/server question/ans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ccff"/>
                </a:solidFill>
                <a:uFillTx/>
                <a:latin typeface="Tahoma"/>
                <a:hlinkClick r:id="rId1" action="ppaction://hlinksldjump"/>
              </a:rPr>
              <a:t>What kinds of questions can clients ask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ccff"/>
                </a:solidFill>
                <a:uFillTx/>
                <a:latin typeface="Tahoma"/>
                <a:hlinkClick r:id="rId2" action="ppaction://hlinksldjump"/>
              </a:rPr>
              <a:t>The resolver/server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ccff"/>
                </a:solidFill>
                <a:uFillTx/>
                <a:latin typeface="Tahoma"/>
                <a:hlinkClick r:id="rId3" action="ppaction://hlinksldjump"/>
              </a:rPr>
              <a:t>What if the server does not know the answ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ccff"/>
                </a:solidFill>
                <a:uFillTx/>
                <a:latin typeface="Tahoma"/>
                <a:hlinkClick r:id="rId4" action="ppaction://hlinksldjump"/>
              </a:rPr>
              <a:t>Master and slave ser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figuration by zone administr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eriodic update of slaves from m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">
            <a:hlinkClick r:id="rId5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B37F-5595-4295-9706-2F2046B2B01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What kinds of questions can clients ask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ll the records of a particular type for a particular domain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l the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records, or all the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X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rec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ll records of any type for a particular domain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 complete zone transfer of all records in a particular z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sed to synchronise slave with master ser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7AA2-6358-4701-A63C-6EC87065DC8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The resolver/server model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ser software asks resolver a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solver asks ser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erver gives answer, error, or referral to a set of other ser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erver may recurse, or expect resolver to recur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uthoritative/non-authoritative ans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41F1-5213-4558-AC70-B78FBFA3EB1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The resolver/server model (diagram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"/>
          <p:cNvSpPr/>
          <p:nvPr/>
        </p:nvSpPr>
        <p:spPr>
          <a:xfrm>
            <a:off x="5720040" y="1905120"/>
            <a:ext cx="20505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uthorit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ame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670840" y="3505320"/>
            <a:ext cx="33948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cursive Name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25760" y="5334120"/>
            <a:ext cx="14061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sol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288480" y="5334120"/>
            <a:ext cx="14061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sol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371600" y="4038480"/>
            <a:ext cx="1371600" cy="1295640"/>
          </a:xfrm>
          <a:custGeom>
            <a:avLst/>
            <a:gdLst/>
            <a:ahLst/>
            <a:rect l="l" t="t" r="r" b="b"/>
            <a:pathLst>
              <a:path w="864" h="816">
                <a:moveTo>
                  <a:pt x="0" y="816"/>
                </a:moveTo>
                <a:cubicBezTo>
                  <a:pt x="16" y="656"/>
                  <a:pt x="32" y="496"/>
                  <a:pt x="96" y="384"/>
                </a:cubicBezTo>
                <a:cubicBezTo>
                  <a:pt x="160" y="272"/>
                  <a:pt x="256" y="208"/>
                  <a:pt x="384" y="144"/>
                </a:cubicBezTo>
                <a:cubicBezTo>
                  <a:pt x="512" y="80"/>
                  <a:pt x="776" y="64"/>
                  <a:pt x="864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971800" y="2286000"/>
            <a:ext cx="2819520" cy="1752480"/>
          </a:xfrm>
          <a:custGeom>
            <a:avLst/>
            <a:gdLst/>
            <a:ahLst/>
            <a:rect l="l" t="t" r="r" b="b"/>
            <a:pathLst>
              <a:path w="1776" h="1104">
                <a:moveTo>
                  <a:pt x="0" y="1104"/>
                </a:moveTo>
                <a:cubicBezTo>
                  <a:pt x="57" y="1082"/>
                  <a:pt x="206" y="1066"/>
                  <a:pt x="342" y="970"/>
                </a:cubicBezTo>
                <a:cubicBezTo>
                  <a:pt x="478" y="874"/>
                  <a:pt x="657" y="674"/>
                  <a:pt x="816" y="528"/>
                </a:cubicBezTo>
                <a:cubicBezTo>
                  <a:pt x="975" y="382"/>
                  <a:pt x="1136" y="184"/>
                  <a:pt x="1296" y="96"/>
                </a:cubicBezTo>
                <a:cubicBezTo>
                  <a:pt x="1456" y="8"/>
                  <a:pt x="1664" y="16"/>
                  <a:pt x="1776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915080" y="2502000"/>
            <a:ext cx="952200" cy="1003320"/>
          </a:xfrm>
          <a:custGeom>
            <a:avLst/>
            <a:gdLst/>
            <a:ahLst/>
            <a:rect l="l" t="t" r="r" b="b"/>
            <a:pathLst>
              <a:path w="600" h="632">
                <a:moveTo>
                  <a:pt x="600" y="8"/>
                </a:moveTo>
                <a:cubicBezTo>
                  <a:pt x="456" y="4"/>
                  <a:pt x="312" y="0"/>
                  <a:pt x="216" y="104"/>
                </a:cubicBezTo>
                <a:cubicBezTo>
                  <a:pt x="120" y="208"/>
                  <a:pt x="0" y="512"/>
                  <a:pt x="24" y="632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648320" y="3581280"/>
            <a:ext cx="30456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0"/>
                </a:moveTo>
                <a:cubicBezTo>
                  <a:pt x="184" y="49"/>
                  <a:pt x="174" y="212"/>
                  <a:pt x="142" y="292"/>
                </a:cubicBezTo>
                <a:cubicBezTo>
                  <a:pt x="110" y="372"/>
                  <a:pt x="30" y="441"/>
                  <a:pt x="0" y="48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76520" y="4033800"/>
            <a:ext cx="3160440" cy="1300320"/>
          </a:xfrm>
          <a:custGeom>
            <a:avLst/>
            <a:gdLst/>
            <a:ahLst/>
            <a:rect l="l" t="t" r="r" b="b"/>
            <a:pathLst>
              <a:path w="1991" h="819">
                <a:moveTo>
                  <a:pt x="1991" y="0"/>
                </a:moveTo>
                <a:cubicBezTo>
                  <a:pt x="1771" y="26"/>
                  <a:pt x="1004" y="11"/>
                  <a:pt x="672" y="147"/>
                </a:cubicBezTo>
                <a:cubicBezTo>
                  <a:pt x="340" y="283"/>
                  <a:pt x="128" y="747"/>
                  <a:pt x="0" y="819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516640" y="4700520"/>
            <a:ext cx="965160" cy="631800"/>
          </a:xfrm>
          <a:custGeom>
            <a:avLst/>
            <a:gdLst/>
            <a:ahLst/>
            <a:rect l="l" t="t" r="r" b="b"/>
            <a:pathLst>
              <a:path w="608" h="398">
                <a:moveTo>
                  <a:pt x="608" y="398"/>
                </a:moveTo>
                <a:cubicBezTo>
                  <a:pt x="535" y="362"/>
                  <a:pt x="273" y="246"/>
                  <a:pt x="172" y="180"/>
                </a:cubicBezTo>
                <a:cubicBezTo>
                  <a:pt x="71" y="114"/>
                  <a:pt x="36" y="37"/>
                  <a:pt x="0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876920" y="4124160"/>
            <a:ext cx="2260440" cy="1159200"/>
          </a:xfrm>
          <a:custGeom>
            <a:avLst/>
            <a:gdLst/>
            <a:ahLst/>
            <a:rect l="l" t="t" r="r" b="b"/>
            <a:pathLst>
              <a:path w="1424" h="730">
                <a:moveTo>
                  <a:pt x="0" y="234"/>
                </a:moveTo>
                <a:cubicBezTo>
                  <a:pt x="179" y="209"/>
                  <a:pt x="837" y="0"/>
                  <a:pt x="1074" y="83"/>
                </a:cubicBezTo>
                <a:cubicBezTo>
                  <a:pt x="1311" y="166"/>
                  <a:pt x="1351" y="595"/>
                  <a:pt x="1424" y="73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-75960" y="3276720"/>
            <a:ext cx="28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rst query is forwarde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d reply is cach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415560" y="3276720"/>
            <a:ext cx="27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 query is answe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ca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7D9E-F065-4DAC-A6A6-DBF62333115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What if the server does not know the answer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ervers that receive queries for which they have no information can return a referral to another ser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ferral may include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OA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records and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rec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lient can recursively follow the refer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erver may recurse on behalf of client, if client so requests and server is wil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7EC-B1AD-4BC3-9021-6CBA5789863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Master and slave server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.k.a. primary and second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zone administrator sets up primary/ma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sks friends or ISPs to set up slaves/seconda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lave periodically checks with master to see if data has chang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ransfers new zone if necess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erial number in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OA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record in each z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8F5-B113-4BFD-B442-47E132415C3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Location of server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ne master and at least one sla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n different networ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void having a single point of fail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FC 2182- SELECTION AND OPERATION OF  SECONDARY DNS SER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FC2181- CLARIFICATIONS TO THE DNS SPEC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3372-051C-4981-9515-65680F7CCBF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Configuring a resolver on a Unix-like syste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nix-like systems use /etc/resolv.conf f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solver is part of libc or libresolv, compiled into application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solv.conf says which nameservers should be used by the resol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solv.conf also has other functions, see the resolver or resolv.conf man p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3AF2-2E91-4A07-A4B6-92E625884D2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Why use hierarchical names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ernet hosts and other resources need globally unique na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ifficult to keep unstructured names un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ould require a single list of all names in 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ierarchical names are much easier to make un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t.abc.at. is different from cat.abc.a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0D92-0E75-4C67-8BEE-29E7590B3D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resolv.conf exampl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/etc/resolv.conf file contains the following l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main  ghana.co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ameserver 196.3.64.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ameserver 192.168.3.5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79AD-C7B0-4CE0-9C3C-EB9A6D0B89B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Configuring a nameserver on a Unix-like syste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IND is the most common imple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p to version 4.9.* use /etc/named.boot f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rom version 8.* use /etc/named.conf f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che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imary/master zone name and file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econdary/slave zone name, master IP address, backup file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0471-2045-4869-9F37-D3EAF76B1C7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named.boot exampl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/etc/named.boot contains the following l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rectory /etc/named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; type       zone            master      file n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che       .                                  root.cac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imary    t1.ws.afnog.org             afnog.or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condary gh.com  196.3.64.1 sec/gh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B5F-20CC-4EAB-8808-B7522A462CA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named.conf exampl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/etc/named.conf contains the following l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ptions { directory "/etc/namedb"; }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zone "." { type ; file "root.cache"; }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zone ”t1.ws.afnog.org" { type master; file ”afnog.org"; }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zone ”gh.com" { type slave; masters { 196.3.64.1; }; file "sec/gh.com"; }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DB4-81F5-42D2-AB66-342CA366E02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53352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hecking DNS using nslook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3240" y="1828800"/>
            <a:ext cx="777240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lookup comman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rver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&lt;nameserver&gt;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 set the server to be querie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t type = N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queries NS resourc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t type = SO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queries SOA resourc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t type = 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queries A resourc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t type = MX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queries MX resourc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t type = CNA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queries CNAME resourc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t type = PT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queries PTR resourc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t type = ANY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queries ANY resourc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s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&lt;domain&gt;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lists the &lt;domain&gt;  zon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s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&lt;domain&gt;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&gt;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&lt;file-name&gt;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gets the zone &lt;domain&gt;  into t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le&lt;file-name&gt;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0385-1931-4A61-88B8-FF0E44435F73}" type="slidenum">
              <a:t>5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53352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hecking DNS using di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3240" y="1828800"/>
            <a:ext cx="777240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l to manage DNS set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tax 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g [domain] @nameserver [query-type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7C80-1441-48FE-ADE3-A5C1BD4B75DB}" type="slidenum">
              <a:t>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40644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Ques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3570120" y="1676520"/>
          <a:ext cx="195120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0120" y="1676520"/>
                    <a:ext cx="195120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DF3-03B8-415A-BDA3-2D85B0157C85}" type="slidenum">
              <a:t>5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Exercis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ach student choose a domain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ake it a subdomain of t1.ws.afnog.or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oose two nameser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reate a zone master f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OA, NS and A rec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dit named.conf appropriat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eck that resolv.conf is sen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est using nslookup or d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9270-C630-442E-9568-2065E20E9BB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Exercis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ach row choose a domain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ake it a subdomain of t1.ws.afnog.or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y reasonable n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ust be uni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8560-9086-4558-9D97-9DA40A3CE6D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Exercis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oose two nameser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ne in your 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ne in another 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Get the other cell’s per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gister with administrator of parent do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eed to get nameservers working before registration is finish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8BB5-3BE2-4321-97DD-635437B64DC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What are domain names used for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identify computers (hosts) on the 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ustin.ghana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identify organis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fnog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map other information to a form that is usable with the DNS infrastru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P addresses, Telephone numbers, AS nu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B456-6B34-4566-9DBF-5F842DB502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Exercis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reate a zone master f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/etc/namedb/your-file-n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OA rec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S rec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glue” A records if necess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records for your ho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y other records you w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D732-4F39-4FBF-96FE-2AD0DDACCF8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Exercis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dit named.conf appropriat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/etc/named.con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a section for your master z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sections for any slave zones, if another cell asks you to be a secondary for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art your nameser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dc rest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r run named by h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1DA-71AA-4E06-A0A9-E6CF5AE743D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Exercis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nable named in freebs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dit /etc/rc.con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a section for na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AMED_ENABLE= “YE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AMED_PROGRAM=“/USR/SBIN/NAMED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art your nameser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dc rest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r run named by hand/usr/sbin/na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"/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47B7-D14B-4B49-88DE-A9103CDA22D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Exercis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eck that resolv.conf is sen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ameserver xxx.xxx.xxx.xx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is allows applications on your host to do DNS look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0DD1-D382-4958-8F17-8D18BF44CC9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Exercis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est with nslookup or d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g  @your.ip.addr.ess  yourdomain.t1.ws.afnog.org. SO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heck for sensible answer with AA fl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so dig @ your secondary ser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so dig for NS rec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EECD-DAB3-4FA7-AC60-E9FABD23DE8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80880" y="533520"/>
            <a:ext cx="8417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Exercise  Checking DNS using  di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3352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g command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#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[zone] @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meserver [query-type]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# dig @t1-dns.t1.ws.afnog.org t1.ws.afnog.org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# dig @t1-dns.t1.ws.afnog.org t1.ws.afnog.org 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# dig @t1-dns.t1.ws.afnog.org t1.ws.afnog.org M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information does this give you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You can check other domains, known to yo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CFBB-6778-47A9-A685-AE65D11538EB}" type="slidenum">
              <a:t>6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Examples of domain name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.Z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ww.afnog.or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-addr.arp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D379-BD91-49AA-BBC8-B82F614D1C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0644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main Name Hierarch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8640" y="2063880"/>
            <a:ext cx="673200" cy="36828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24080" y="2043000"/>
            <a:ext cx="41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24447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9880" y="2666880"/>
            <a:ext cx="4178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2666880"/>
            <a:ext cx="387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8760" y="313056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26733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880" y="3033720"/>
            <a:ext cx="621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26733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6733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26733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6733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6733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26733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26733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534520" y="26733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6840" y="3130560"/>
            <a:ext cx="52092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313056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21080" y="313056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6880" y="313056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92680" y="313056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8480" y="313056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64280" y="313056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50080" y="313056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36080" y="313056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26733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65080" y="1585800"/>
            <a:ext cx="176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ot 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74880" y="3032280"/>
            <a:ext cx="70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4880" y="3079800"/>
            <a:ext cx="620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12600" y="3079800"/>
            <a:ext cx="565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99120" y="3079800"/>
            <a:ext cx="519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85280" y="3079800"/>
            <a:ext cx="49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70000" y="3079800"/>
            <a:ext cx="522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56160" y="3079800"/>
            <a:ext cx="45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18280" y="3079800"/>
            <a:ext cx="352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05160" y="3079800"/>
            <a:ext cx="364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63320" y="3003480"/>
            <a:ext cx="1205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  .  .  .  . 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90800" y="3079800"/>
            <a:ext cx="379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3435480"/>
            <a:ext cx="0" cy="44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20880" y="3886200"/>
            <a:ext cx="387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7080" y="3886200"/>
            <a:ext cx="291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892680"/>
            <a:ext cx="0" cy="44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3892680"/>
            <a:ext cx="0" cy="44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892680"/>
            <a:ext cx="0" cy="44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3892680"/>
            <a:ext cx="0" cy="44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3892680"/>
            <a:ext cx="0" cy="44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3892680"/>
            <a:ext cx="0" cy="44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3892680"/>
            <a:ext cx="0" cy="44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5960" y="434988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01760" y="434988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7560" y="434988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5080" y="4299120"/>
            <a:ext cx="434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79800" y="429912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n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73360" y="434988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35480" y="434988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21280" y="434988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30760" y="4349880"/>
            <a:ext cx="67320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66320" y="4299120"/>
            <a:ext cx="506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51040" y="4299120"/>
            <a:ext cx="565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13880" y="4299120"/>
            <a:ext cx="449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t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99320" y="4299120"/>
            <a:ext cx="59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s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61080" y="4297320"/>
            <a:ext cx="733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46544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20880" y="5105520"/>
            <a:ext cx="977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5960" y="5105520"/>
            <a:ext cx="291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51116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51116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51116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720" y="5518080"/>
            <a:ext cx="2126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earn     ns      st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46544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73360" y="5105520"/>
            <a:ext cx="291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8280" y="5105520"/>
            <a:ext cx="1130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6880" y="51116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51116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14800" y="51116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44760" y="5568840"/>
            <a:ext cx="520560" cy="2923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30560" y="5568840"/>
            <a:ext cx="520560" cy="2923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16360" y="5568840"/>
            <a:ext cx="520560" cy="2923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23520" y="5518080"/>
            <a:ext cx="457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5873760"/>
            <a:ext cx="0" cy="291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52680" y="5873760"/>
            <a:ext cx="0" cy="291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14800" y="5873760"/>
            <a:ext cx="0" cy="291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08600" y="5518080"/>
            <a:ext cx="57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m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94400" y="5518080"/>
            <a:ext cx="53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s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41800" y="6051600"/>
            <a:ext cx="206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lise               pa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3435480"/>
            <a:ext cx="0" cy="44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50080" y="3886200"/>
            <a:ext cx="257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43600" y="3892680"/>
            <a:ext cx="0" cy="44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3892680"/>
            <a:ext cx="0" cy="44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91520" y="3892680"/>
            <a:ext cx="0" cy="44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01000" y="3892680"/>
            <a:ext cx="0" cy="44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45160" y="434988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7280" y="434988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9040" y="4349880"/>
            <a:ext cx="52092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54840" y="4349880"/>
            <a:ext cx="52092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00240" y="4299120"/>
            <a:ext cx="407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62000" y="4299120"/>
            <a:ext cx="422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23760" y="429912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30360" y="4299120"/>
            <a:ext cx="1035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534520" y="3892680"/>
            <a:ext cx="0" cy="44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465444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7080" y="487692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488304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1640" y="5873760"/>
            <a:ext cx="52092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67280" y="488304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92880" y="5111640"/>
            <a:ext cx="901440" cy="2923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10280" y="488304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35880" y="5111640"/>
            <a:ext cx="825480" cy="2923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69480" y="5060880"/>
            <a:ext cx="97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i-lin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13560" y="5060880"/>
            <a:ext cx="87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uwi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924680" y="488304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534520" y="488304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78440" y="5060880"/>
            <a:ext cx="1013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 . . . . .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08800" y="4299120"/>
            <a:ext cx="73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u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54165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30760" y="5638680"/>
            <a:ext cx="3797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56451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8480" y="5873760"/>
            <a:ext cx="36828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57240" y="5823000"/>
            <a:ext cx="407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02160" y="5111640"/>
            <a:ext cx="749160" cy="2923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79480" y="506088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iv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90400" y="5823000"/>
            <a:ext cx="56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10080" y="56451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56451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97440" y="5873760"/>
            <a:ext cx="52092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10280" y="56451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72400" y="56451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534520" y="56451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75840" y="5823000"/>
            <a:ext cx="5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88160" y="5873760"/>
            <a:ext cx="520560" cy="2919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67280" y="5823000"/>
            <a:ext cx="434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48760" y="5823000"/>
            <a:ext cx="126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  .  .  .  . 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6178680"/>
            <a:ext cx="0" cy="21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6178680"/>
            <a:ext cx="0" cy="21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19920" y="6178680"/>
            <a:ext cx="0" cy="21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10280" y="6178680"/>
            <a:ext cx="0" cy="21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48960" y="6280200"/>
            <a:ext cx="2825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hytia alpha              chr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38360" y="2241720"/>
            <a:ext cx="2263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p-Level-Doma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94600" y="3537000"/>
            <a:ext cx="256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Level Doma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A895-1497-4449-B7F2-F27834ECA4D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Different uses of the term “domain”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ometimes, the term “domain” is used to refer to a single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uch as www.afnog.or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ometimes, the term “domain” is used to refer to all the names (subdomains) that are hierarchically below a particular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this usage, the afnog.org domain includes www.afnog.org, ws.afnog.org, t1.ws.afnog.org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8658360" y="0"/>
            <a:ext cx="485640" cy="457200"/>
          </a:xfrm>
          <a:prstGeom prst="upArrow">
            <a:avLst>
              <a:gd name="adj1" fmla="val 42481"/>
              <a:gd name="adj2" fmla="val 72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Domain Name 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115-1680-486B-B1A5-6AA9A9AD13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FNOG NTW 2000 - T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5T14:38:16Z</dcterms:created>
  <dc:creator>A P Barrett</dc:creator>
  <dc:description/>
  <dc:language>en-US</dc:language>
  <cp:lastModifiedBy>Microcomputer Services</cp:lastModifiedBy>
  <cp:lastPrinted>2000-05-01T15:48:42Z</cp:lastPrinted>
  <dcterms:modified xsi:type="dcterms:W3CDTF">2000-05-04T22:35:35Z</dcterms:modified>
  <cp:revision>43</cp:revision>
  <dc:subject/>
  <dc:title>NTW 1999 -T2 - D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s.afnog.org</vt:lpwstr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INDOWS\Desktop\services\dns\slid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