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CEC-A882-444B-800D-941B5665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4320" y="42739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7705-BD8B-413D-BFA2-878BC80E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240" y="14479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4320" y="42739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7240" y="42739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A735-2488-4570-A96D-3F98DA74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70080" y="14479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55480" y="14479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4320" y="42739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70080" y="42739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55480" y="42739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565-32C6-4A6B-B0A3-A31CA535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9A6-F873-4CC7-ADF2-6F430D79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AF1-7C22-4580-A75D-3EE926F7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4164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7240" y="1447920"/>
            <a:ext cx="4164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397-5430-4844-BB23-4F5DDF05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5AE-8714-49B8-8D6D-AD4CD8D8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2286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61A-7EE4-4F42-AAA0-633E4739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7240" y="1447920"/>
            <a:ext cx="4164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4320" y="42739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ECA9-1EE1-40F2-8736-F44A34B3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4164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7240" y="14479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7240" y="42739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A909-B054-41E0-B284-1F8D039E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7240" y="14479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4320" y="42739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07A8-ECE3-4589-83A8-BD9D3FBF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a50021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50021"/>
              </a:buClr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1219320"/>
            <a:ext cx="89154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08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4784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8BC3-9FDF-497B-A600-E2D3B1168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0840" y="6127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Network Manag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Network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a network, now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des based on work by Abha Ahu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ahuja@merit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me slides based on the netmgt talk in T4-98 by Scott Brad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6394-513E-4A6F-9055-61C2B2C2BAE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Fault Detection Example - 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Using Rover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ver = network monitor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merit.edu/internet.tools/rover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i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nodes and tests to host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Display to see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C notices alert on board for failed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s ti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A64-5AA0-46CD-A274-8637057055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The Alert Display Program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9600" y="1814400"/>
            <a:ext cx="6986520" cy="4726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7680" y="5108400"/>
            <a:ext cx="31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Alert that fa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085760" y="3257280"/>
            <a:ext cx="24768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15760" y="4365720"/>
            <a:ext cx="25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as in hos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1961640" y="3276720"/>
            <a:ext cx="95400" cy="10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64440" y="387036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Address as in hos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933640" y="3257280"/>
            <a:ext cx="171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4240" y="35654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of Test that fa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619440" y="3257640"/>
            <a:ext cx="7632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96440" y="318456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for status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19680" y="3067200"/>
            <a:ext cx="2247840" cy="20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18520" y="554688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 line: ‘Help’ Problem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E68-266E-4A47-A2FE-A5F5538973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hostfil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79360" y="1133640"/>
            <a:ext cx="846144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8DD-7CDB-4FC8-9A8A-500AA56F71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InetRover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9760" y="1891800"/>
            <a:ext cx="7440840" cy="40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n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xie-X.500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TP(),FTP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D(),TROUBL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DF0E-181F-4D1E-8580-89BAC8FC99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InetRover (cont’d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3200" y="2114280"/>
            <a:ext cx="7440480" cy="40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tRove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ex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# of Dis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net/web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, rig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flow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135320" cy="4714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0" y="2819520"/>
            <a:ext cx="1143000" cy="457200"/>
          </a:xfrm>
          <a:prstGeom prst="rect">
            <a:avLst/>
          </a:prstGeom>
          <a:solidFill>
            <a:srgbClr val="f57b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g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2362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1447920"/>
            <a:ext cx="14479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265640" y="1308240"/>
            <a:ext cx="1295280" cy="885600"/>
            <a:chOff x="4265640" y="1308240"/>
            <a:chExt cx="1295280" cy="885600"/>
          </a:xfrm>
        </p:grpSpPr>
        <p:graphicFrame>
          <p:nvGraphicFramePr>
            <p:cNvPr id="87" name=""/>
            <p:cNvGraphicFramePr/>
            <p:nvPr/>
          </p:nvGraphicFramePr>
          <p:xfrm>
            <a:off x="4646520" y="1814400"/>
            <a:ext cx="379440" cy="379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46520" y="1814400"/>
                      <a:ext cx="37944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/>
            <p:nvPr/>
          </p:nvSpPr>
          <p:spPr>
            <a:xfrm>
              <a:off x="4265640" y="130824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neric test scri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99160" y="1509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560920" y="1079640"/>
            <a:ext cx="1295280" cy="885600"/>
            <a:chOff x="5560920" y="1079640"/>
            <a:chExt cx="1295280" cy="885600"/>
          </a:xfrm>
        </p:grpSpPr>
        <p:graphicFrame>
          <p:nvGraphicFramePr>
            <p:cNvPr id="92" name=""/>
            <p:cNvGraphicFramePr/>
            <p:nvPr/>
          </p:nvGraphicFramePr>
          <p:xfrm>
            <a:off x="5941800" y="1585800"/>
            <a:ext cx="379440" cy="379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41800" y="1585800"/>
                      <a:ext cx="37944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5560920" y="107964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neric test scri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4440" y="12812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321600" y="1814400"/>
            <a:ext cx="307800" cy="15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5960" y="1965240"/>
            <a:ext cx="160344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A57-C0CD-467A-ADAB-3C94FFD939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52344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Fault Management -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 Ticket System (Why all the fuss?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Importa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mechanism to tra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us of ou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r ticket #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55F-0B8F-4FB7-837C-761A9B2E420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525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Fault Management -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 Ticket Systems (Why all the fuss?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2680" y="191304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provide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term memory &amp;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and work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rals and dispa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erm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571-01B1-44AC-B73D-61138C6819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511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Fault Management -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 Ticket Systems (Why all the fuss?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680" y="19782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make your NOC the communication and coordination cent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repository for al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ubleshoo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ineers can coordinate their work through the N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481-E88A-47AD-AD5E-2E57A03415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Fault Management - Ticket Usag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ticket on ALL c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ticket on AL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ticket for ALL scheduled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 of ticket mailed to reporter and mailing lis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ilestones in resolution of problem create a new ticket entry with reference to ori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ket stays "open" until problem resolved according to problem repo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9CF-62B3-4264-9419-ADC8FD42201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Fault Management - Ticket Exampl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opening ti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8400" y="1889280"/>
            <a:ext cx="554976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T0000033975 has been OPENED.  Here is the trouble ticket 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reate-date                  : 06/09/99 12:46: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icket ID                    : TT00000339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ode +                       : rs2.mae-west.rsng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pment Type               : h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OC Customer                 : 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rouble Reported             : Unreach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ext Action                  : Investig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ext Action Date             : 06/09/99 12:46: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utage type                  : unschedu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urce of Report             : Noc/roverStatus                       : Assig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ssigned-to                  : N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tact Name                 : rs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roup Member                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tact pager#/email address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tact Phone                :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rrier Ticket History      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rrier                     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rrier Phone               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icket information log      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6/09/99 12:46:42     noc-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ppingb@facesofdeath.ns.itd.umich.edu said 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1 Wed12:23 rs2MW_O/C 198.32.136.2 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C6F-0493-45EE-B526-3E91FC92488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network manag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ul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 detection and t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Network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ypical network probl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parts of network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641-C960-4F64-9FF4-F808CD4CC6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Fault Management - Ticket Exampl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progress ti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14560" y="2444760"/>
            <a:ext cx="6987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T0000033975 has been MODIFIED.  Here are the fields that have been chang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pyOfTime             :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TC Temp               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cket information log : toppingb@facesofdeath.ns.itd.umich.edu sai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 I was investigating this, Debbie from UUNet called (via Merit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ber) to tell us they were seeing it down.  She can be reach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xx-xxxx.  The UUNet ticket is xxxxx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9E1-6EAF-4C48-8CA3-239FD2F99D2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Fault Management - Ticket Exampl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closing tick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previous ticket contents plus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8080" y="2554200"/>
            <a:ext cx="521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0000033975 has been CLOSED.  Here is the trouble ticket 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6440" y="2978280"/>
            <a:ext cx="5972040" cy="34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1/15/99 12:50:06     noc-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gf@wonka.ns.itd.umich.edu said 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mail response from Abha suggesting contacting peers directly -- s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ernal lo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1/15/99 14:25:22     noc-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ubinc@augustus2.ns.itd.umich.edu said 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alerts cleared shortly before 14:00.  I called MCI/Worldcom for 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, and found out their ticket was closed.  According to them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utage was due solely to a power proble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los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st-modified-by             : noc-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odified-date                : 01/15/99 14:25: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ubmitter                    : btra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686-2119-46B1-A99F-ACD81845481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Fault Management - typical failure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 unping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p connectivity to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le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 link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Monotype Sorts" charset="2"/>
              <a:buChar char="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tel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 down/hardwar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Monotype Sorts" charset="2"/>
              <a:buChar char="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engine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Monotype Sorts" charset="2"/>
              <a:buChar char="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oubleshoot with trace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Monotype Sorts" charset="2"/>
              <a:buChar char="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views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C0F-48E1-4C2E-8A5C-EBD537F5C7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Performance Managemen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the behavior of network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used in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2D26-475C-4129-B2D8-CA81114D87B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ecurity Managemen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s to be host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 your stats, data and NOC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 other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required to operate network and protect manage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GP key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C64-D7C2-4788-A167-4248962926F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ecurity Management (con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s - host configuration checker (www.cert.o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tch - email reports of activity on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wrap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h/s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w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 securit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 advis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uder ale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70F2-3E09-4597-97B5-132073B489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ecurity Management (con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ing procedure for security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break-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use email address for customers to report complaints (abuse@your-isp.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internal and external gate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firewalls (external and inter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cy issues a confl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CCB-8CC5-483B-95F2-295359E11D7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ecurity Managemen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based secu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 - Denial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Monotype Sorts" charset="2"/>
              <a:buChar char="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ng fl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Monotype Sorts" charset="2"/>
              <a:buChar char="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u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Monotype Sorts" charset="2"/>
              <a:buChar char="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acks that make your network unus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o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Monotype Sorts" charset="2"/>
              <a:buChar char="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with “spoofed” source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C821-8D23-4BF3-8815-E87B0D53B5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What types of problems?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locking and tracing denial of service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cing incoming forged packets back to their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locking outgoing forged pa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st other security problems are not specific to backbone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al with compl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CC48-C432-4F13-AEB3-A1F87BB496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smurf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tacker sends many ping request pack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forged (victim) sourc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broadcast address on “amplifier”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y ping responses from systems on amplifier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tacker on dialup modem can saturate victim’s T1 using a T3-connected ampl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users.quadrunner.com/chuegen/smurf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332-DA25-4508-9F71-425C3EFD931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Outline (con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Management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I ne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vail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 and Cons of various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D990-556F-4747-8744-9280B5272D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Protection against smurf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figure “no directed-broadcast” on all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 you can’t be used as an amp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ce forged packets back, hop by 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lock outgoing forged packets from your cust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it the bandwidth that can be used by ICMP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64C7-E906-4711-B997-8251D80AA69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murf Attack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2590920"/>
            <a:ext cx="1218960" cy="761760"/>
          </a:xfrm>
          <a:prstGeom prst="rect">
            <a:avLst/>
          </a:prstGeom>
          <a:solidFill>
            <a:srgbClr val="f57b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5029200"/>
            <a:ext cx="990360" cy="685800"/>
          </a:xfrm>
          <a:prstGeom prst="rect">
            <a:avLst/>
          </a:prstGeom>
          <a:solidFill>
            <a:srgbClr val="f57b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4876920"/>
            <a:ext cx="1143000" cy="609480"/>
          </a:xfrm>
          <a:prstGeom prst="rect">
            <a:avLst/>
          </a:prstGeom>
          <a:solidFill>
            <a:srgbClr val="f57b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5867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010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6019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5.23.16.0/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4038480"/>
            <a:ext cx="297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rc IP=132.34.6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st IP= 215.23.16.2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*100 byte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54100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2057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2.34.6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400800" y="3352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629400" y="3352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858000" y="3352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010280" y="3352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553080" y="3352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086600" y="3352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162920" y="3352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705720" y="3352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934320" y="3352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.3.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3962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3*5*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5B4-9C74-44B8-B043-CB55560194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tacker sends many TCP SYN packet from forged source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ctim sends SYN+ACK packets to invalid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ts no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nection hangs in half open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astes OS resources, possibly crash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A06-EC8D-42A8-86DA-8C9FF029B4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Protection against SYN flooding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ke operating system more rob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a backbone problem, except on ro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ce and block forged pa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it bandwidth that can be used by TCP SYN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DCB-B2A1-4474-B188-3C8C4A5B3F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yn attack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3352680"/>
            <a:ext cx="1219320" cy="762120"/>
          </a:xfrm>
          <a:prstGeom prst="rect">
            <a:avLst/>
          </a:prstGeom>
          <a:solidFill>
            <a:srgbClr val="f57b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29400" y="3352680"/>
            <a:ext cx="1295280" cy="762120"/>
          </a:xfrm>
          <a:prstGeom prst="rect">
            <a:avLst/>
          </a:prstGeom>
          <a:solidFill>
            <a:srgbClr val="f57b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37339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4267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.13.5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4267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2.16.1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2209680"/>
            <a:ext cx="3200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rc IP=230.55.6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st IP=132.16.1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 request pack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 syn pack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1676520"/>
            <a:ext cx="1219320" cy="609480"/>
          </a:xfrm>
          <a:prstGeom prst="rect">
            <a:avLst/>
          </a:prstGeom>
          <a:solidFill>
            <a:srgbClr val="f57b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1295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0.55.6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162920" y="22856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2666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ies go to spoofed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25B-B567-4E01-B4AE-F42B319DE9D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Notice a pattern?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ged pa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ed a way of preventing customers from sending forged pa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ed a way of tracing where forged packets really come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742-B038-4C40-9514-337B65A3D2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Tracing forged packet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rt on router near vict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nd how packets get to that ro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eat on next ro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inue until edge of your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k next AS to trace fur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ed co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ORTANT - Should have a 24hour security contac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EBC3-CB88-4B74-986C-27378E4132D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ecurity Managemen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ing your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ffic shap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R to limit ICMP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-spoofing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C 2267 (Network Ingress Filt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ingly-homed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a50021"/>
              </a:buClr>
              <a:buFont typeface="Monotype Sorts" charset="2"/>
              <a:buChar char="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   packet's source address from within your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a50021"/>
              </a:buClr>
              <a:buFont typeface="Monotype Sorts" charset="2"/>
              <a:buChar char="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N  forward as appropr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a50021"/>
              </a:buClr>
              <a:buFont typeface="Monotype Sorts" charset="2"/>
              <a:buChar char="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   packet's source address is anything 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a50021"/>
              </a:buClr>
              <a:buFont typeface="Monotype Sorts" charset="2"/>
              <a:buChar char="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N  deny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on the out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B5D-45E7-411C-B29F-BF63DA60984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55404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Preventing forged packets from customer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cket filte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know what IP addresses are used (at least for dialup and statically routed custom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ke a filter for each customer that denies other source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y recent cisco code has “ip verify source-addres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6D7-FABC-445E-AA5D-42F66A406BC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488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Preventing forged packets from you to outside world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might know all the IP addresses that are used in your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your connections to the outside world and your transit arrangements are not too compli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ke a filter that denies other source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ply that filter to all links from you to other 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137-B1FD-4B3E-8793-3C93FCC7BDD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etwork Management - What is it?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ing sure the network is up, running and performing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s of Network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uble t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s and 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5D92-2CF1-4532-A8F5-563A8EDAB5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onfiguration and Name Managemen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k network v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addresses, interfaces, console phone number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C needs valid contact info for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stat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 status of network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ing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element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369-5B85-4B19-813A-0AB9914D2A5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onfiguration and Name Management 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ntory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of network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of changes &amp;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ory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hosts &amp;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erver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 and service naming coord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Information is not information if you can't find it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379-9F1C-4ECF-B840-FB5498800E6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onfig. Mgmt. - Network State Info.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SNMP driven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98600" y="2171880"/>
            <a:ext cx="2034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98600" y="2476440"/>
            <a:ext cx="2034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98600" y="2781360"/>
            <a:ext cx="2034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98600" y="3086280"/>
            <a:ext cx="2034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98600" y="3390840"/>
            <a:ext cx="2034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98600" y="3695760"/>
            <a:ext cx="2034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513160" y="1994040"/>
            <a:ext cx="1440" cy="24904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550600" y="1994040"/>
            <a:ext cx="1800" cy="24904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2549520" y="2920680"/>
            <a:ext cx="574560" cy="32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741840" y="2927520"/>
            <a:ext cx="58896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341960" y="1994040"/>
            <a:ext cx="1440" cy="33940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379400" y="1994040"/>
            <a:ext cx="1800" cy="3403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94040" y="4219560"/>
            <a:ext cx="50796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1022400" y="4218120"/>
            <a:ext cx="349200" cy="1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040" y="4049640"/>
            <a:ext cx="584280" cy="3556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7040" y="4097160"/>
            <a:ext cx="599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nhv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37240" y="1994040"/>
            <a:ext cx="888840" cy="2030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7200" y="1965240"/>
            <a:ext cx="59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c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4389480" y="2090520"/>
            <a:ext cx="334800" cy="46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37240" y="2374920"/>
            <a:ext cx="888840" cy="2030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69720" y="2346480"/>
            <a:ext cx="699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389480" y="2471400"/>
            <a:ext cx="334800" cy="46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389480" y="3533760"/>
            <a:ext cx="3348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331960" y="3533760"/>
            <a:ext cx="33516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37240" y="3355920"/>
            <a:ext cx="583920" cy="3556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1240" y="3403440"/>
            <a:ext cx="437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389480" y="4600440"/>
            <a:ext cx="3348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37240" y="4422600"/>
            <a:ext cx="583920" cy="3556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6800" y="4470480"/>
            <a:ext cx="623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tgw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37040" y="1974960"/>
            <a:ext cx="583920" cy="35532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16160" y="2022480"/>
            <a:ext cx="673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h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29000" y="2365200"/>
            <a:ext cx="0" cy="3556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5339880" y="4610160"/>
            <a:ext cx="1530360" cy="1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80320" y="4422600"/>
            <a:ext cx="584280" cy="3556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62320" y="447048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gw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553080" y="5499000"/>
            <a:ext cx="457200" cy="5842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2920" y="5499000"/>
            <a:ext cx="0" cy="5842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27800" y="5499000"/>
            <a:ext cx="584280" cy="5842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191360" y="4791240"/>
            <a:ext cx="0" cy="3045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37040" y="2746440"/>
            <a:ext cx="583920" cy="3556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1920" y="2793960"/>
            <a:ext cx="69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jhgw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84200" y="2070000"/>
            <a:ext cx="889200" cy="2034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19200" y="204156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jh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84200" y="2374920"/>
            <a:ext cx="889200" cy="2030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6840" y="2346480"/>
            <a:ext cx="72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84200" y="2679840"/>
            <a:ext cx="889200" cy="2030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08400" y="2651040"/>
            <a:ext cx="59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o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84200" y="2984400"/>
            <a:ext cx="889200" cy="2034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15600" y="295596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vi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84200" y="3289320"/>
            <a:ext cx="889200" cy="2030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6480" y="3260880"/>
            <a:ext cx="751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el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84200" y="3594240"/>
            <a:ext cx="889200" cy="2030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18120" y="3565440"/>
            <a:ext cx="67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i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84200" y="4041720"/>
            <a:ext cx="584280" cy="3556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21640" y="4089240"/>
            <a:ext cx="54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n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0320" y="5108400"/>
            <a:ext cx="584280" cy="3556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63040" y="5156280"/>
            <a:ext cx="707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magw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8200" y="6099120"/>
            <a:ext cx="584280" cy="3556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68600" y="6146640"/>
            <a:ext cx="470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f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80320" y="6099120"/>
            <a:ext cx="584280" cy="3556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04880" y="6146640"/>
            <a:ext cx="385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42080" y="6099120"/>
            <a:ext cx="584280" cy="3556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67000" y="6146640"/>
            <a:ext cx="385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550-3372-4213-8E62-CA8899D4153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etwork Management Tool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use S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ro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 - http://www.kernel.org/software/mon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Col - ftp://ftp.navya.com/pub/vikas/nocol.tar.gz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mon - ftp://puck.nether.net/pub/ja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ver - http://www.merit.edu/~r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ord - http://www.concord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13D-AC20-4C45-81E4-9E3A4B24EBE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What is SNMP?  (the quick version...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Network Managemen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- respons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btain status from a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prise 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database defined in M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544-E28D-42EA-9CAE-6E6AF225C87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What do we use SNMP for?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router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d out byt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U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GP peer session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host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4C6-EA04-4521-BB0D-E530D7ADB2B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240" y="285840"/>
            <a:ext cx="8915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NMP Network Management Tool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473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g (http//:www.ee.ethz.ch/~oetiker/webtools/mrt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we lik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to use and con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ly determine spikes/drops in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ng fl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/out 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ement to monitoring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32C5-20C1-4B13-A0CD-12CB42EB627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RTG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14440" y="1387440"/>
          <a:ext cx="8157960" cy="238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1387440"/>
                    <a:ext cx="815796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3" name="hssi1-0-0_msu_mich_net-day" descr=""/>
          <p:cNvPicPr/>
          <p:nvPr/>
        </p:nvPicPr>
        <p:blipFill>
          <a:blip r:embed="rId3"/>
          <a:stretch/>
        </p:blipFill>
        <p:spPr>
          <a:xfrm>
            <a:off x="412920" y="3905280"/>
            <a:ext cx="822960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BE9-2772-4EF1-A546-62106E82563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etscarf/Scion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mp collector and analyzer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s snmp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on 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merit.net/~netsca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387-E990-48B7-A204-40DB00C6C14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Other Network Tool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lowd (http://www.caida.org/Tools/Cflow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s flow information from cisco ro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o AS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c and destination ip and por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for accounting and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of my traffic is port 80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of my traffic goes to AS237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036A-0A17-4FED-BBE7-AEEA0D795D4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Fault Managemen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most important parts of network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t network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ent/per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/over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router down, serial link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t server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ing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B82-01EF-477E-A670-2B6E7EA03318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etflow example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ten lists (or top fiv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7520" y="1892160"/>
            <a:ext cx="6373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#### Top 5 AS's based on number of bytes ######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rcAS  dstAS               pkts              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461  237              4473872         38085727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7  237             22977795         3180337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549  237              6457673         28160090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48  237              5215912         245751531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24440" y="3156120"/>
            <a:ext cx="58500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#### Top 5 Nets based on number of bytes #####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ber of net entries: 9317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RCNET/MASK  DSTNET/MASK               PKTS       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65.123.0.0/16  35.8.0.0/13             745858  10362960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7.126.96.0/19  198.108.98.0/24         708205   9075778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6.183.224.0/19  198.108.16.0/22         740218   8615387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5.8.0.0/13  128.32.0.0/16           671980   4672748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#### Top 10 Ports ######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                 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rt     packets     bytes         packets     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19      10863322  2808194019     5712783   4273045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0       36073210   862839291    17312202  13878170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        1079075  1100961902      614910    627542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648      1146864   419882753     1147081   414663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        1532439    97294492     2158042   7225847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75F-EAF8-46BD-B066-95B5D190D22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re Tools!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caida.org/Tool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3Mon/C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merit.edu/~ip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eTr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R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Explo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geektools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merit.edu/ipma/tools/other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BFC9-7381-490E-87A8-8725B5B4CA4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Sexplorer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75" name="asexplorer" descr=""/>
          <p:cNvPicPr/>
          <p:nvPr/>
        </p:nvPicPr>
        <p:blipFill>
          <a:blip r:embed="rId1"/>
          <a:stretch/>
        </p:blipFill>
        <p:spPr>
          <a:xfrm>
            <a:off x="858960" y="1308240"/>
            <a:ext cx="7429320" cy="53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1A5-D13C-4872-844D-A04F003B2ED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Route Flap Stat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77" name="rflap" descr=""/>
          <p:cNvPicPr/>
          <p:nvPr/>
        </p:nvPicPr>
        <p:blipFill>
          <a:blip r:embed="rId1"/>
          <a:stretch/>
        </p:blipFill>
        <p:spPr>
          <a:xfrm>
            <a:off x="1438200" y="1814400"/>
            <a:ext cx="600084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DCB-9F93-441E-894A-01D257A85A4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Looking Glass Tool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38160" y="2347920"/>
            <a:ext cx="692784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ute-views.oregon-ix.net&gt;show ip bgp 35.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GP routing table entry for 35.0.0.0/8, version 561355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ths: (17 available, best #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1537 2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98.32.8.252 from 198.32.8.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rigin incomplete, localpref 100, valid,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munity: 11537:900 11537:9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14 5696 2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29.250.0.3 (inaccessible) from 129.250.0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rigin IGP, metric 0, localpref 100, valid,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munity: 2914:4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914 5696 2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29.250.0.1 (inaccessible) from 129.250.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rigin IGP, metric 0, localpref 100, valid,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munity: 2914:4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561 237 237 2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4.70.4.89 from 204.70.4.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rigin IGP, localpref 100, valid,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67 1225 2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4.42.253.253 from 204.42.253.2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rigin IGP, localpref 100, valid,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munity: 267:1225 1225:2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merit.edu/~ipma/tools/lookingglas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3A0-E714-43BD-9108-8BBD8FCBE00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re Looking Glass Tool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route 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merit.edu/ipma/tools/trace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2160" y="2695680"/>
            <a:ext cx="76788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y: tr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dr: www.isoc.o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ranslating "www.isoc.org"...domain server (206.205.242.132) [OK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ype escape sequence to ab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racing the route to info.isoc.org (198.6.250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iad1-core2-fa5-0-0.atlas.digex.net (165.117.129.2) 0 msec 0 msec 4 m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 dca5-core2-s5-0-0.atlas.digex.net (165.117.53.41) 0 msec 4 msec 0 m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 dca5-core1-fa5-1-0.atlas.digex.net (165.117.56.117) 4 msec 0 msec 4 m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 Hssi3-1-0.BR1.DCA1.ALTER.NET (209.116.159.98) 0 msec 0 msec 4 m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 101.ATM2-0.XR1.DCA1.ALTER.NET (146.188.160.226) [AS 701] 4 msec 0 msec 4 m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 195.ATM7-0.XR1.TCO1.ALTER.NET (146.188.160.102) [AS 701] 4 msec 0 msec 0 m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 193.ATM8-0-0.GW1.TCO1.ALTER.NET (146.188.160.33) [AS 701] 4 msec 4 msec 4 m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 charlie.isoc.org (198.6.250.1) [AS 701] 8 msec 8 msec 8 m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9 info.isoc.org (198.6.250.9) [AS 701] 8 msec *  12 m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459-40BA-44E0-B658-2546E4D8F0C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ccounting Managemen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account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count packets 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 inhibit anonymous ftp &amp; web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oS differences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t to charge "user"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dependent determination of "use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ount h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PC equal to a mainfr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ge-based billing may become common as telcos take over Internet service provi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528-4E18-491C-9CFE-677EBFFE83C5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getoctet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traffic stats col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n-driven shell proced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-octets router1 router2 route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gures out interface list for each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ge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InOctets, ifOutOctets, ifInUcastPkts, ifOutUcastPk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InNUcastPkts, ifOutNUcastPkts, system.sysUp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tp://ndtl.harvard.edu/pub/SNMPoll/octets.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cmu snmp 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847-D09B-407E-9D4A-202DCD34195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getoctets, contd.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separate stats file for each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filename: 128.103.1.2.WJHgw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7,06,23,160,09,1,00,02,37,EDT,1764089502,1045789221,99138769,92200835,10,628226,758006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7,06,23,160,09,1,00,22,37,EDT,1766362487,1047093977,99151676,92213338,10,628281,7581268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7,06,23,160,09,1,00,42,36,EDT,1768439726,1048266407,99163118,92224546,10,628342,7582467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ing a bit 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deal with counter wrap &amp; router reb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period must be &lt; 59 min for an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utilization calculation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include link encapsulation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FDC-F20E-4815-90F0-FA143E059EE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getoctets, processing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rou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in 32 bit versions of perl (gives bad resu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eek          millions of bits per second           millions of oct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nding      peak in  peak out  95% in  95% out     in       out     to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1997.06.01   5.0976   0.9330   1.3389   0.4104    18782    13752    3253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748-532E-4917-9832-37D948B8D072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Fault Management (con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ing mech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to help de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y on-call perso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up &amp; control alarm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ir/recovery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ke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B95-E477-4F7B-BEAE-45F9DE9AFF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ccounting, Cont.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do settlements based in routing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minimize size of routing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co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one shares in reve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an 800 number from a pay 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0 destinations pays pay phone 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 a long distance call to your own 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get free for local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A741-3194-4606-86FE-93EBB18A9E6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Importance of Network Statistic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ublesho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-term tren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y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Tools have statistical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DC09-4D8F-421C-B2B6-0405F28667A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anagement for Real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tools should I use?  What do I really ne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t si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consider engineers working remo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want to spend too much time maintaining the tool (it should be helping you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tools for NOC and engin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tools for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ABILI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B63C-F6A6-4508-8A82-40584769F3C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nitoring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monitoring tools do 95% of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://ndtl.harvard.edu/pub/SNMP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ttp://www.merit.edu/internet.tools/rover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 should be both poll &amp; trap based for        best 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just polling will do better than just tr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will work fine other than response la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, terse, messages on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B07B-244B-4D77-B412-B983A4092AB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 Day in the Life of Merit’s NOC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ning r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fer because easy to tell when change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ly can determine type of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fting through G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screen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ert appears on sc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 Wed02:07 MCH_MSU:S6/1/7.6--&gt;STOCKBRIDG 198.109.177.41 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 Tue16:00 MCH_STOCKBRIDGE:S0.2--&gt;JACKSO 198.109.177.46 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9 Tue16:00 MCH_STOCKBRIDGE:E0-GW 207.74.125.129 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 Tue16:00 MCH_STOCKBRIDGE:S0.1--&gt;MSU 198.109.177.42 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609-3B22-412F-922F-83EDF8042170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 Day in the Life of Merit’s NOC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i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wo most importan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p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trace to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to the the node from somewhere else in the net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l-in to the rou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 line problem?  call tel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escalate to engin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EEA6-5E71-44E1-9A5A-A74948621D2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nother example - Sluggishnes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calls NOC - reports sluggish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i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mr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raffic now than norm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netflow to determine what type of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denial of service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it probl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elco to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call customer back to get okay to c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D0F-1EA8-4B9B-BA3D-599C9219FC8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nother example - DO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reports possible Denial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i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 a large amount of packets from one destin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 onto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ccou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 ip route cache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 packet fi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to offending 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FD9-3649-4E91-A193-5FC78FADA90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4237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Tracing packets on cisco - interface access-group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isco access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mit everything, but log packets from 10.2.3.4 to 195.176.0.0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ess-list 199 permit ip 10.2.3.4 0.0.0.0 195.176.0.0 0.0.255.255 log-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ess-list 199 permit ip 0.0.0.0 255.255.255.255 0.0.0.0 255.255.255.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ply access-list to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face seria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p access-group 199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B0A-4A81-4B01-8A2D-1A0018F1631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Tracing packets on cisco - debug ip packe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isco access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mit packets from 10.2.3.4 to 195.176.0.0/16, deny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ess-list 199 permit ip 10.2.3.4 0.0.0.0 195.176.0.0 0.0.255.255 log-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ess-list 199 deny ip 0.0.0.0 255.255.255.255 0.0.0.0 255.255.255.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access-list with “debug ip packe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bug ip packet 1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3C28-3817-4185-8A1D-A782C2088FB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Fault Management - Fault Detection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notices a problem with the net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Operations Center w/ 24x7 operations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trouble ticket to track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liminary troublesho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te to engineer or call c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708-5E72-4DDE-906D-35DE610BA1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early in the internet management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still a lot to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s still high for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new NMSs will be on the market soon, will help lower price and expand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networks are not "plug and play" with large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9D8-3BF5-4C90-836A-8FA80D15A0B8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so good at provoking simple, easy to understand, warning to non-gu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have database &amp; logic about when to cry wo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vs, noncritical device, access restrictions, who to call w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s to be usable by "normal"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s to say when users will compl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1A9-DCED-4855-8C35-CD007CC5BA88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ven more Problem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your Network Operations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ing your database up-to-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er confi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the tel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E49-FB7F-41F7-B25D-26172609E59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re things you can do!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your ro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ca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 login and snmp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 syslog lo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E2A-8881-4982-9FB5-A8D9DCD2F5A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re things you can do!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e your N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dequate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lation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 your routers in D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eroutes easier to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1560" y="4300560"/>
            <a:ext cx="75708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olbeans% traceroute www.above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raceroute to www.above.net (207.126.96.163), 30 hops max, 40 byte 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eth0-2.michnet1.mich.net (198.108.61.1)  1.074 ms  0.888 ms  0.696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  hssi1-0-0.msu.mich.net (198.108.22.102)  77.602 ms  75.356 ms  12.437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  aads.above.net (198.32.130.71)  9.981 ms  15.098 ms  11.342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  chicago-core1.ord.above.net (209.249.0.129)  9.634 ms  9.834 ms  9.590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  sjc-chicago-oc3.above.net (209.249.0.125)  71.261 ms  71.232 ms  71.305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  main2-core1-oc3-3.sjc.above.net (209.133.31.97)  123.499 ms  71.512 ms  71.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  www.above.net (207.126.96.163)  72.861 ms  72.624 ms  74.529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5E9-BC17-4FC4-9AC9-E4DFC4C9442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re things you can do!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843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 excessive route-fl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 route-flap damp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ID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70C1-2E58-4EB6-A0E1-83B31E491C0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40840" y="115416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merit.edu/ipma/docs/isp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nanog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caida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nlanr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cisco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mazing.com/inter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isp-resource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merit.edu/ip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rip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FD8C-9CF0-4912-AFC7-2E5A1F4198A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Fault Management -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 Fault Detection (con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you tell if there is a problem with the net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Monitoring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ut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e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state or unreach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 node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AA9-AB65-4A48-B018-4E359C38AE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Fault Management -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 Fault Detection (con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ert” shows up for N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 Open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a5002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complaint via phone/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a50021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ISP notices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Management and Network Oper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591-66CF-4380-AF27-A5EAB44C43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21:49:24Z</dcterms:created>
  <dc:creator>Abha Ahuja (ahuja@merit.edu)</dc:creator>
  <dc:description/>
  <dc:language>en-US</dc:language>
  <cp:lastModifiedBy>ymbk</cp:lastModifiedBy>
  <cp:lastPrinted>1999-06-17T01:02:12Z</cp:lastPrinted>
  <dcterms:modified xsi:type="dcterms:W3CDTF">2000-05-06T20:43:28Z</dcterms:modified>
  <cp:revision>93</cp:revision>
  <dc:subject/>
  <dc:title>Network Operation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ws.afnog.org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\\Noc\inst\www\routing\7-no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