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A41-D208-4C9E-9346-63646F3F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F0E-E23F-427D-A277-B100AE41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6BC-E40A-44F3-8A98-783D899F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D58-8DE5-4C1D-B8AB-12417120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A844-685A-4873-B659-BEB1BEC4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9A1-C520-458B-8E5D-6D6C971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8D3-C33F-4A06-BC8A-3F3B499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D9CB-C64C-4603-B45A-A3D8026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1DB-C043-48B8-8354-813A599A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EB4-93FA-442D-A8DD-9B07D87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AE27-40B1-48DE-9E3A-6A6E259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9CC-3486-48B5-9CCA-72E9690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003B-9A51-42D3-8651-B53EA21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A91D-371B-48E5-B939-F150010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554-7396-4190-9464-06EA20C3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96F6-F48B-4CD3-9EE4-B34E5B0F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1E67-B8C0-4B76-AABE-5BBE6E0C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94A-879B-430D-8EDA-2136192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4DC-D212-44CE-9A17-0BF17F28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BC2-C0EB-4810-B95A-68F9D281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BC7-2631-403E-9337-DFFA0C9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90D-3A5B-433B-A5D4-B82A43F0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AC4-D15C-4E84-A7C7-6E8A225A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25D-01CF-431D-858C-1D083AD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FA01-6F5D-45F9-A34A-AEC84FE38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327-5996-4C1C-BA5C-09B8F6E29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NOG 2000 Worksho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to Track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alable Interne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1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Desk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 Creation/SSH Inst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S Lecture and L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 and SMTP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vey Allen, Joel Jaeggli, William Tevi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ip Haz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ating Your Help De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ting talent - What’s the dr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g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road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Instal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CD-R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, Document,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ating Your Help Desk Cont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E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From:”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ed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base of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able index (Mhonar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Desk track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ating Your Help Desk Cont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n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a hold queue or not - I say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users leave voice mai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your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high over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ne trees - Good and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ne traffic flow (Reception, hardware, network group, consulting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eating Your Help Desk Cont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other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Q - Watch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te Control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ing and scheduling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active Ste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 your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free or fee-based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your documentation. This is critic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your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 your staff and train them some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staff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up-to-date with what you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Com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specific client issues such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x version specif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NT and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d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Coming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-ROM with installation scripts creation specifics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tools and tricks for CD-ROM cre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installation scripts using Wise InstallMas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e Excel schedule with mac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in-depth discussion of some of the topics mentioned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has been a quick overview of issues related to scaling Help Desk services as your organization g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Friday you can see the detailed Help Desk document(s)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noc.ws.afnog.org/services/help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Help Desk Services</a:t>
            </a:r>
            <a:br>
              <a:rPr sz="5400"/>
            </a:br>
            <a:br>
              <a:rPr sz="36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rvey Allen</a:t>
            </a:r>
            <a:br>
              <a:rPr sz="5400"/>
            </a:b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Oreg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NOG 2000 Workshop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esentation and related materials will be available a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afnog.org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64008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2000 © University of Oreg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’m He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discuss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al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networks grow so does your user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users means more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need to scale your support operations to deal with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ll give you some ideas how, and maybe you will give us ideas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tart the workshop with this topic so that you will keep it in mind during the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ical Scen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the technici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ou are doing Help Desk sup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is does not scale well - but, there are no absolutes in this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some of the first questions to answ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going to offer suppo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f you don’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business does this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to or need to suppo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al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r tools scale? If not, design them so they wi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hat’s eas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“fixes” = Big overhead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rting from Scr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traffic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vailable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b - Us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ypical 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ll probably need more than you can g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will you get these resour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resour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ey, space, staffing, talent, administrative support, phones, networks, class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ome efficient and prioriti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Your Gro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up your consul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own your poli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line of def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able Use Policies (AU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you can’t reso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09:37:44Z</dcterms:created>
  <dc:creator>Hervey Allen</dc:creator>
  <dc:description/>
  <dc:language>en-US</dc:language>
  <cp:lastModifiedBy>Microcomputer Services</cp:lastModifiedBy>
  <dcterms:modified xsi:type="dcterms:W3CDTF">2000-04-30T16:12:07Z</dcterms:modified>
  <cp:revision>122</cp:revision>
  <dc:subject/>
  <dc:title>Servicios de Sopor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src.org/helpdesk</vt:lpwstr>
  </property>
  <property fmtid="{D5CDD505-2E9C-101B-9397-08002B2CF9AE}" pid="9" name="LinkColor">
    <vt:r8>16711782</vt:r8>
  </property>
  <property fmtid="{D5CDD505-2E9C-101B-9397-08002B2CF9AE}" pid="10" name="MailAddress">
    <vt:lpwstr>hervey@nsrc.org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Noc\inst\www\services\helpdesk\slid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