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446838" cy="9828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447600" cy="98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793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652560" y="-360"/>
            <a:ext cx="2793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766800" y="7362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858960" y="4667040"/>
            <a:ext cx="47289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9336240"/>
            <a:ext cx="27939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652560" y="9336240"/>
            <a:ext cx="27939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0159-8159-4615-AD11-DE5B889530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76680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858960" y="4667040"/>
            <a:ext cx="47289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formation about APNIC Training courses can be found a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ttp://www.apnic.net/traini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3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68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540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044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36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540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044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360" y="380880"/>
            <a:ext cx="74674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68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903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68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540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044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9036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540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044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380880"/>
            <a:ext cx="74674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68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9f5e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9f5e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0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5e1"/>
                </a:solidFill>
                <a:latin typeface="Arial"/>
              </a:rPr>
              <a:t>Welcome!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PNIC DNS Worksho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57120" y="3638160"/>
            <a:ext cx="683892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f5e1"/>
              </a:solidFill>
              <a:latin typeface="Arial"/>
            </a:endParaRPr>
          </a:p>
          <a:p>
            <a:pPr lvl="4" marL="1828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f5e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5-18 January 2004, Bangalore, India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In conjunction with the SANOG III and the South Asian IPv6 Summi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ames and addresses in gener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f5e1"/>
                </a:solidFill>
                <a:latin typeface="Arial"/>
              </a:rPr>
              <a:t>Typically, hierarchical (for scaling):</a:t>
            </a:r>
            <a:endParaRPr b="0" lang="en-US" sz="26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950 Charter Street, Redwood City CA, 94063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204.152.187.11, +1-650-381-6003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f5e1"/>
                </a:solidFill>
                <a:latin typeface="Arial"/>
              </a:rPr>
              <a:t>Typically, no structurally significant hierarchy</a:t>
            </a:r>
            <a:endParaRPr b="0" lang="en-US" sz="26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David”, “Tokyo”, “itu.int”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aming Hist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Host.txt maintained by the SRI-NIC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pulled from a single machin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Problem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traffic and load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Name collision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Consistency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DNS c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9f5e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f5e1"/>
                </a:solidFill>
                <a:latin typeface="Arial"/>
              </a:rPr>
              <a:t>A “name space”</a:t>
            </a:r>
            <a:endParaRPr b="0" lang="en-US" sz="26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9f5e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f5e1"/>
                </a:solidFill>
                <a:latin typeface="Arial"/>
              </a:rPr>
              <a:t>Servers making that name space available</a:t>
            </a:r>
            <a:endParaRPr b="0" lang="en-US" sz="26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9f5e1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f5e1"/>
                </a:solidFill>
                <a:latin typeface="Arial"/>
              </a:rPr>
              <a:t>Resolvers (clients) which query the servers about the name space</a:t>
            </a:r>
            <a:endParaRPr b="0" lang="en-US" sz="26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Features: Global Distrib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Data is maintained locally, but retrievable globally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No single computer has all DNS data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DNS lookups can be performed by any devic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Remote DNS data is locally cachable to improve performanc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NS Features: Loose Coheren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he database is always internally consisten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Each version of a subset of the database (a zone) has a serial numbe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ached data expires according to timeout set by zone administrator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NS Features: Scalabil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No limit to the size of the databas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One server has over 20,000,000 nam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No limit to the number of queri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24,000 queries per second handled easil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Queries distributed among masters, slaves, and cach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NS Features: Reliabil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Data is replicate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ata from master is copied to multiple slav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lients can query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Master server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ny of the copies at slave server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lients will typically query local cach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NS Features: Dynamic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Database can be updated dynamically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dd/delete/modify of any recor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Modification of the master database triggers replicati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Only master can be dynamically update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ept: DNS Nam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he namespace needs to be made hierarchical to be able to scale.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he idea is to name objects based on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location (within country, set  of organizations, set of companies, etc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unit within that location (company within set of company, etc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object within unit (name of person in company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ept: DNS Names    contd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How names appear in the DNS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WWW.APNIC.NET.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DNS provides a mapping from FQDNs to resources of several typ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Names are used as a key when fetching data in the DN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7518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f5e1"/>
                </a:solidFill>
                <a:latin typeface="Arial"/>
              </a:rPr>
              <a:t>Presenters</a:t>
            </a:r>
            <a:endParaRPr b="0" lang="en-US" sz="36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hampika Wijayatunga &lt;champika@apnic.net&gt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Senior Training Specialist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Arth Paulite &lt;arth@apnic.net&gt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Internet Resource Analyst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rinivas Chendi &lt;sunny@apnic.net&gt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Internet Resource Analyst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&lt;training@apnic.net&gt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ept: DNS Names   contd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Domain names can be mapped to a tre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New branches at the ‘dots’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63720" y="4403880"/>
            <a:ext cx="0" cy="447480"/>
          </a:xfrm>
          <a:prstGeom prst="line">
            <a:avLst/>
          </a:prstGeom>
          <a:ln w="38160">
            <a:solidFill>
              <a:srgbClr val="b9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63720" y="5219640"/>
            <a:ext cx="0" cy="447840"/>
          </a:xfrm>
          <a:prstGeom prst="line">
            <a:avLst/>
          </a:prstGeom>
          <a:ln w="38160">
            <a:solidFill>
              <a:srgbClr val="b9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43800" y="55069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whois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9840" y="3030480"/>
            <a:ext cx="20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Root DNS</a:t>
            </a: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295880" y="3673440"/>
            <a:ext cx="1234800" cy="436680"/>
          </a:xfrm>
          <a:prstGeom prst="line">
            <a:avLst/>
          </a:prstGeom>
          <a:ln w="38160">
            <a:solidFill>
              <a:srgbClr val="b9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54800" y="3686040"/>
            <a:ext cx="0" cy="400320"/>
          </a:xfrm>
          <a:prstGeom prst="line">
            <a:avLst/>
          </a:prstGeom>
          <a:ln w="38160">
            <a:solidFill>
              <a:srgbClr val="b9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65600" y="3699000"/>
            <a:ext cx="1355760" cy="398160"/>
          </a:xfrm>
          <a:prstGeom prst="line">
            <a:avLst/>
          </a:prstGeom>
          <a:ln w="38160">
            <a:solidFill>
              <a:srgbClr val="b9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720880" y="3678120"/>
            <a:ext cx="2828880" cy="373320"/>
          </a:xfrm>
          <a:prstGeom prst="line">
            <a:avLst/>
          </a:prstGeom>
          <a:ln w="38160">
            <a:solidFill>
              <a:srgbClr val="b9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92680" y="3490920"/>
            <a:ext cx="0" cy="0"/>
          </a:xfrm>
          <a:prstGeom prst="line">
            <a:avLst/>
          </a:prstGeom>
          <a:ln w="936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16160" y="3978360"/>
            <a:ext cx="1233360" cy="536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38560" y="4046400"/>
            <a:ext cx="1233720" cy="5367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7840" y="4006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04160" y="40482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25520" y="5541840"/>
            <a:ext cx="1233720" cy="5367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86800" y="5572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hois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25520" y="4757760"/>
            <a:ext cx="1233720" cy="536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25680" y="47862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pnic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928520" y="5297400"/>
            <a:ext cx="871560" cy="465120"/>
          </a:xfrm>
          <a:prstGeom prst="line">
            <a:avLst/>
          </a:prstGeom>
          <a:ln w="38160">
            <a:solidFill>
              <a:srgbClr val="b9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62280" y="5308560"/>
            <a:ext cx="1181160" cy="398520"/>
          </a:xfrm>
          <a:prstGeom prst="line">
            <a:avLst/>
          </a:prstGeom>
          <a:ln w="38160">
            <a:solidFill>
              <a:srgbClr val="b9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41680" y="5554800"/>
            <a:ext cx="1233360" cy="536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06200" y="55562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6840" y="5524560"/>
            <a:ext cx="1233720" cy="536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60640" y="552600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41800" y="4341960"/>
            <a:ext cx="0" cy="447480"/>
          </a:xfrm>
          <a:prstGeom prst="line">
            <a:avLst/>
          </a:prstGeom>
          <a:ln w="38160">
            <a:solidFill>
              <a:srgbClr val="b9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03600" y="4695840"/>
            <a:ext cx="1233360" cy="536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8600" y="471024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si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16200" y="3998880"/>
            <a:ext cx="1233720" cy="5367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61000" y="40212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du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2840" y="30844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ots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39800" y="3483000"/>
            <a:ext cx="944640" cy="696960"/>
          </a:xfrm>
          <a:prstGeom prst="line">
            <a:avLst/>
          </a:prstGeom>
          <a:ln w="3816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11360" y="3468600"/>
            <a:ext cx="1015920" cy="1379520"/>
          </a:xfrm>
          <a:prstGeom prst="line">
            <a:avLst/>
          </a:prstGeom>
          <a:ln w="3816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96960" y="3483000"/>
            <a:ext cx="2583000" cy="639720"/>
          </a:xfrm>
          <a:prstGeom prst="line">
            <a:avLst/>
          </a:prstGeom>
          <a:ln w="3816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ept: Resource Recor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he DNS maps names into data using Resource Records.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More detail later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f9f5e1"/>
          </a:solidFill>
          <a:ln w="936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39280" y="3581280"/>
            <a:ext cx="72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urier New"/>
              </a:rPr>
              <a:t>www.apnic.net.  …    A 10.10.10.2</a:t>
            </a:r>
            <a:endParaRPr b="0" lang="en-US" sz="2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3255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60680" y="274176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ept: Domai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Domains are “namespaces”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Everything below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.com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is in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domai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Everything below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pnic.net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is in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pnic.net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domain and in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t 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domai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ept: Domai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26480" y="2523960"/>
            <a:ext cx="4791600" cy="2970360"/>
            <a:chOff x="726480" y="2523960"/>
            <a:chExt cx="4791600" cy="2970360"/>
          </a:xfrm>
        </p:grpSpPr>
        <p:sp>
          <p:nvSpPr>
            <p:cNvPr id="176" name=""/>
            <p:cNvSpPr/>
            <p:nvPr/>
          </p:nvSpPr>
          <p:spPr>
            <a:xfrm>
              <a:off x="2610000" y="2523960"/>
              <a:ext cx="2908080" cy="276552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f9f5e1"/>
            </a:solidFill>
            <a:ln w="9360">
              <a:solidFill>
                <a:srgbClr val="3255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521000" y="4341960"/>
              <a:ext cx="1120680" cy="452160"/>
            </a:xfrm>
            <a:prstGeom prst="line">
              <a:avLst/>
            </a:prstGeom>
            <a:ln w="284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6480" y="4668840"/>
              <a:ext cx="1264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net 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domain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011560" y="2063880"/>
            <a:ext cx="3973320" cy="2808000"/>
            <a:chOff x="5011560" y="2063880"/>
            <a:chExt cx="3973320" cy="2808000"/>
          </a:xfrm>
        </p:grpSpPr>
        <p:sp>
          <p:nvSpPr>
            <p:cNvPr id="180" name=""/>
            <p:cNvSpPr/>
            <p:nvPr/>
          </p:nvSpPr>
          <p:spPr>
            <a:xfrm>
              <a:off x="5011560" y="245268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f9f5e1"/>
            </a:solidFill>
            <a:ln w="9360">
              <a:solidFill>
                <a:srgbClr val="3255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6337440" y="2404800"/>
              <a:ext cx="609480" cy="228600"/>
            </a:xfrm>
            <a:prstGeom prst="line">
              <a:avLst/>
            </a:prstGeom>
            <a:ln w="28440">
              <a:solidFill>
                <a:srgbClr val="cc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08840" y="206388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991080" y="2600280"/>
            <a:ext cx="4399920" cy="2490840"/>
            <a:chOff x="991080" y="2600280"/>
            <a:chExt cx="4399920" cy="2490840"/>
          </a:xfrm>
        </p:grpSpPr>
        <p:sp>
          <p:nvSpPr>
            <p:cNvPr id="184" name=""/>
            <p:cNvSpPr/>
            <p:nvPr/>
          </p:nvSpPr>
          <p:spPr>
            <a:xfrm>
              <a:off x="2717640" y="321156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3255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1798200" y="3444480"/>
              <a:ext cx="1376280" cy="668520"/>
            </a:xfrm>
            <a:prstGeom prst="line">
              <a:avLst/>
            </a:prstGeom>
            <a:ln w="28440">
              <a:solidFill>
                <a:srgbClr val="cc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91080" y="2600280"/>
              <a:ext cx="1604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apnic.net 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domain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925800" y="2378160"/>
            <a:ext cx="7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urier New"/>
              </a:rPr>
              <a:t>net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73720" y="2301840"/>
            <a:ext cx="7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urier New"/>
              </a:rPr>
              <a:t>com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82840" y="313992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urier New"/>
              </a:rPr>
              <a:t>apnic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06840" y="3978360"/>
            <a:ext cx="7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urier New"/>
              </a:rPr>
              <a:t>www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07240" y="4130640"/>
            <a:ext cx="7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urier New"/>
              </a:rPr>
              <a:t>www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87920" y="2378160"/>
            <a:ext cx="7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urier New"/>
              </a:rPr>
              <a:t>edu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59320" y="3216240"/>
            <a:ext cx="7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urier New"/>
              </a:rPr>
              <a:t>isi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30920" y="3139920"/>
            <a:ext cx="14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urier New"/>
              </a:rPr>
              <a:t>tislabs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322880" y="420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urier New"/>
              </a:rPr>
              <a:t>•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97200" y="390204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urier New"/>
              </a:rPr>
              <a:t>whois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18160" y="4511520"/>
            <a:ext cx="7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urier New"/>
              </a:rPr>
              <a:t>ws1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02120" y="4511520"/>
            <a:ext cx="7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urier New"/>
              </a:rPr>
              <a:t>ws2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332160" y="351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urier New"/>
              </a:rPr>
              <a:t>•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65680" y="2756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urier New"/>
              </a:rPr>
              <a:t>•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770800" y="2679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urier New"/>
              </a:rPr>
              <a:t>•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137280" y="3670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urier New"/>
              </a:rPr>
              <a:t>•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775320" y="2756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urier New"/>
              </a:rPr>
              <a:t>•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316320" y="2225520"/>
            <a:ext cx="2971800" cy="2438640"/>
            <a:chOff x="3316320" y="2225520"/>
            <a:chExt cx="2971800" cy="2438640"/>
          </a:xfrm>
        </p:grpSpPr>
        <p:sp>
          <p:nvSpPr>
            <p:cNvPr id="205" name=""/>
            <p:cNvSpPr/>
            <p:nvPr/>
          </p:nvSpPr>
          <p:spPr>
            <a:xfrm flipH="1">
              <a:off x="6180120" y="3978360"/>
              <a:ext cx="108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343040" y="2225520"/>
              <a:ext cx="485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37040" y="230184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45040" y="2225520"/>
              <a:ext cx="3240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017960" y="2759040"/>
              <a:ext cx="109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3801960" y="3063960"/>
              <a:ext cx="108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3585960" y="3521160"/>
              <a:ext cx="107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3316320" y="3902040"/>
              <a:ext cx="108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86320" y="3825720"/>
              <a:ext cx="2696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81400" y="4206960"/>
              <a:ext cx="270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4343400" y="4511520"/>
              <a:ext cx="1080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13400" y="4511520"/>
              <a:ext cx="1616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91040" y="2835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829040" y="3139920"/>
              <a:ext cx="1080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40480" y="2682720"/>
              <a:ext cx="2156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64120" y="2987640"/>
              <a:ext cx="1080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80120" y="3597120"/>
              <a:ext cx="1080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32320" y="39020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164040" y="4206960"/>
            <a:ext cx="7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urier New"/>
              </a:rPr>
              <a:t>ftp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11920" y="2911320"/>
            <a:ext cx="5331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30680" y="298728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683320" y="2987280"/>
            <a:ext cx="1522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99320" y="3063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urier New"/>
              </a:rPr>
              <a:t>sun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75280" y="3521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urier New"/>
              </a:rPr>
              <a:t>moon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70560" y="2759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urier New"/>
              </a:rPr>
              <a:t>google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735440" y="1868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urier New"/>
              </a:rPr>
              <a:t>•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leg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According to geography, organizational affiliation or any other criterion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But this isn’t required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The parent domain “remembers” who it delegated the subdomain to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ept: Zones and Deleg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Zones are “administrative spaces”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Zone administrators are responsible for portion of a domain’s name spac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uthority is delegated from a parent and to a chil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ept: Zones and Deleg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4600" y="2427120"/>
            <a:ext cx="2819160" cy="2818080"/>
          </a:xfrm>
          <a:custGeom>
            <a:avLst/>
            <a:gdLst/>
            <a:ahLst/>
            <a:rect l="l" t="t" r="r" b="b"/>
            <a:pathLst>
              <a:path w="1776" h="1775">
                <a:moveTo>
                  <a:pt x="1268" y="50"/>
                </a:moveTo>
                <a:cubicBezTo>
                  <a:pt x="1220" y="35"/>
                  <a:pt x="1176" y="30"/>
                  <a:pt x="1126" y="25"/>
                </a:cubicBezTo>
                <a:cubicBezTo>
                  <a:pt x="1101" y="17"/>
                  <a:pt x="1076" y="8"/>
                  <a:pt x="1051" y="0"/>
                </a:cubicBezTo>
                <a:cubicBezTo>
                  <a:pt x="979" y="6"/>
                  <a:pt x="958" y="7"/>
                  <a:pt x="901" y="25"/>
                </a:cubicBezTo>
                <a:cubicBezTo>
                  <a:pt x="841" y="64"/>
                  <a:pt x="870" y="53"/>
                  <a:pt x="818" y="67"/>
                </a:cubicBezTo>
                <a:cubicBezTo>
                  <a:pt x="774" y="95"/>
                  <a:pt x="722" y="94"/>
                  <a:pt x="676" y="117"/>
                </a:cubicBezTo>
                <a:cubicBezTo>
                  <a:pt x="646" y="132"/>
                  <a:pt x="601" y="183"/>
                  <a:pt x="601" y="183"/>
                </a:cubicBezTo>
                <a:cubicBezTo>
                  <a:pt x="588" y="225"/>
                  <a:pt x="550" y="247"/>
                  <a:pt x="526" y="283"/>
                </a:cubicBezTo>
                <a:cubicBezTo>
                  <a:pt x="519" y="306"/>
                  <a:pt x="512" y="342"/>
                  <a:pt x="493" y="358"/>
                </a:cubicBezTo>
                <a:cubicBezTo>
                  <a:pt x="486" y="364"/>
                  <a:pt x="476" y="363"/>
                  <a:pt x="468" y="367"/>
                </a:cubicBezTo>
                <a:cubicBezTo>
                  <a:pt x="428" y="389"/>
                  <a:pt x="403" y="411"/>
                  <a:pt x="359" y="425"/>
                </a:cubicBezTo>
                <a:cubicBezTo>
                  <a:pt x="353" y="458"/>
                  <a:pt x="350" y="491"/>
                  <a:pt x="326" y="517"/>
                </a:cubicBezTo>
                <a:cubicBezTo>
                  <a:pt x="302" y="543"/>
                  <a:pt x="251" y="592"/>
                  <a:pt x="251" y="592"/>
                </a:cubicBezTo>
                <a:cubicBezTo>
                  <a:pt x="248" y="603"/>
                  <a:pt x="232" y="661"/>
                  <a:pt x="226" y="667"/>
                </a:cubicBezTo>
                <a:cubicBezTo>
                  <a:pt x="220" y="673"/>
                  <a:pt x="209" y="672"/>
                  <a:pt x="201" y="675"/>
                </a:cubicBezTo>
                <a:cubicBezTo>
                  <a:pt x="186" y="685"/>
                  <a:pt x="166" y="689"/>
                  <a:pt x="151" y="700"/>
                </a:cubicBezTo>
                <a:cubicBezTo>
                  <a:pt x="138" y="709"/>
                  <a:pt x="130" y="723"/>
                  <a:pt x="118" y="733"/>
                </a:cubicBezTo>
                <a:cubicBezTo>
                  <a:pt x="19" y="813"/>
                  <a:pt x="105" y="730"/>
                  <a:pt x="43" y="792"/>
                </a:cubicBezTo>
                <a:cubicBezTo>
                  <a:pt x="2" y="907"/>
                  <a:pt x="25" y="1046"/>
                  <a:pt x="9" y="1167"/>
                </a:cubicBezTo>
                <a:cubicBezTo>
                  <a:pt x="13" y="1225"/>
                  <a:pt x="0" y="1289"/>
                  <a:pt x="26" y="1342"/>
                </a:cubicBezTo>
                <a:cubicBezTo>
                  <a:pt x="43" y="1377"/>
                  <a:pt x="126" y="1493"/>
                  <a:pt x="159" y="1517"/>
                </a:cubicBezTo>
                <a:cubicBezTo>
                  <a:pt x="183" y="1534"/>
                  <a:pt x="198" y="1535"/>
                  <a:pt x="226" y="1542"/>
                </a:cubicBezTo>
                <a:cubicBezTo>
                  <a:pt x="256" y="1563"/>
                  <a:pt x="387" y="1614"/>
                  <a:pt x="426" y="1617"/>
                </a:cubicBezTo>
                <a:cubicBezTo>
                  <a:pt x="479" y="1622"/>
                  <a:pt x="531" y="1622"/>
                  <a:pt x="584" y="1625"/>
                </a:cubicBezTo>
                <a:cubicBezTo>
                  <a:pt x="637" y="1639"/>
                  <a:pt x="608" y="1628"/>
                  <a:pt x="668" y="1667"/>
                </a:cubicBezTo>
                <a:cubicBezTo>
                  <a:pt x="688" y="1680"/>
                  <a:pt x="728" y="1686"/>
                  <a:pt x="751" y="1692"/>
                </a:cubicBezTo>
                <a:cubicBezTo>
                  <a:pt x="847" y="1758"/>
                  <a:pt x="974" y="1730"/>
                  <a:pt x="1084" y="1734"/>
                </a:cubicBezTo>
                <a:cubicBezTo>
                  <a:pt x="1168" y="1741"/>
                  <a:pt x="1244" y="1762"/>
                  <a:pt x="1326" y="1775"/>
                </a:cubicBezTo>
                <a:cubicBezTo>
                  <a:pt x="1426" y="1767"/>
                  <a:pt x="1492" y="1747"/>
                  <a:pt x="1584" y="1717"/>
                </a:cubicBezTo>
                <a:cubicBezTo>
                  <a:pt x="1617" y="1695"/>
                  <a:pt x="1655" y="1679"/>
                  <a:pt x="1693" y="1667"/>
                </a:cubicBezTo>
                <a:cubicBezTo>
                  <a:pt x="1717" y="1630"/>
                  <a:pt x="1714" y="1600"/>
                  <a:pt x="1751" y="1575"/>
                </a:cubicBezTo>
                <a:cubicBezTo>
                  <a:pt x="1760" y="1562"/>
                  <a:pt x="1776" y="1543"/>
                  <a:pt x="1776" y="1525"/>
                </a:cubicBezTo>
                <a:cubicBezTo>
                  <a:pt x="1776" y="1494"/>
                  <a:pt x="1772" y="1463"/>
                  <a:pt x="1768" y="1433"/>
                </a:cubicBezTo>
                <a:cubicBezTo>
                  <a:pt x="1763" y="1400"/>
                  <a:pt x="1738" y="1382"/>
                  <a:pt x="1718" y="1358"/>
                </a:cubicBezTo>
                <a:cubicBezTo>
                  <a:pt x="1675" y="1307"/>
                  <a:pt x="1624" y="1289"/>
                  <a:pt x="1568" y="1258"/>
                </a:cubicBezTo>
                <a:cubicBezTo>
                  <a:pt x="1487" y="1213"/>
                  <a:pt x="1547" y="1234"/>
                  <a:pt x="1493" y="1217"/>
                </a:cubicBezTo>
                <a:cubicBezTo>
                  <a:pt x="1423" y="1169"/>
                  <a:pt x="1374" y="1087"/>
                  <a:pt x="1293" y="1058"/>
                </a:cubicBezTo>
                <a:cubicBezTo>
                  <a:pt x="1254" y="1029"/>
                  <a:pt x="1223" y="996"/>
                  <a:pt x="1193" y="958"/>
                </a:cubicBezTo>
                <a:cubicBezTo>
                  <a:pt x="1181" y="942"/>
                  <a:pt x="1170" y="925"/>
                  <a:pt x="1159" y="908"/>
                </a:cubicBezTo>
                <a:cubicBezTo>
                  <a:pt x="1154" y="900"/>
                  <a:pt x="1143" y="883"/>
                  <a:pt x="1143" y="883"/>
                </a:cubicBezTo>
                <a:cubicBezTo>
                  <a:pt x="1134" y="843"/>
                  <a:pt x="1123" y="805"/>
                  <a:pt x="1109" y="767"/>
                </a:cubicBezTo>
                <a:cubicBezTo>
                  <a:pt x="1115" y="637"/>
                  <a:pt x="1068" y="517"/>
                  <a:pt x="1201" y="475"/>
                </a:cubicBezTo>
                <a:cubicBezTo>
                  <a:pt x="1209" y="469"/>
                  <a:pt x="1217" y="463"/>
                  <a:pt x="1226" y="458"/>
                </a:cubicBezTo>
                <a:cubicBezTo>
                  <a:pt x="1234" y="454"/>
                  <a:pt x="1244" y="455"/>
                  <a:pt x="1251" y="450"/>
                </a:cubicBezTo>
                <a:cubicBezTo>
                  <a:pt x="1294" y="422"/>
                  <a:pt x="1311" y="371"/>
                  <a:pt x="1326" y="325"/>
                </a:cubicBezTo>
                <a:cubicBezTo>
                  <a:pt x="1334" y="265"/>
                  <a:pt x="1341" y="189"/>
                  <a:pt x="1309" y="133"/>
                </a:cubicBezTo>
                <a:cubicBezTo>
                  <a:pt x="1265" y="55"/>
                  <a:pt x="1283" y="113"/>
                  <a:pt x="1268" y="50"/>
                </a:cubicBezTo>
                <a:close/>
              </a:path>
            </a:pathLst>
          </a:custGeom>
          <a:solidFill>
            <a:srgbClr val="f9f5e1"/>
          </a:solidFill>
          <a:ln w="9360">
            <a:solidFill>
              <a:srgbClr val="3255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514600" y="2781360"/>
            <a:ext cx="2362320" cy="0"/>
          </a:xfrm>
          <a:prstGeom prst="line">
            <a:avLst/>
          </a:prstGeom>
          <a:ln w="28440">
            <a:solidFill>
              <a:srgbClr val="cc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64920" y="198108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t 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255680" y="2982960"/>
            <a:ext cx="4367160" cy="1919160"/>
            <a:chOff x="1255680" y="2982960"/>
            <a:chExt cx="4367160" cy="1919160"/>
          </a:xfrm>
        </p:grpSpPr>
        <p:sp>
          <p:nvSpPr>
            <p:cNvPr id="241" name=""/>
            <p:cNvSpPr/>
            <p:nvPr/>
          </p:nvSpPr>
          <p:spPr>
            <a:xfrm>
              <a:off x="4075200" y="29829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3255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81080" y="3619440"/>
              <a:ext cx="2286000" cy="381240"/>
            </a:xfrm>
            <a:prstGeom prst="line">
              <a:avLst/>
            </a:prstGeom>
            <a:ln w="284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55680" y="3164040"/>
              <a:ext cx="2298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apnic.net 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zone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431160" y="2019240"/>
            <a:ext cx="2501280" cy="990720"/>
            <a:chOff x="3431160" y="2019240"/>
            <a:chExt cx="2501280" cy="990720"/>
          </a:xfrm>
        </p:grpSpPr>
        <p:sp>
          <p:nvSpPr>
            <p:cNvPr id="245" name=""/>
            <p:cNvSpPr/>
            <p:nvPr/>
          </p:nvSpPr>
          <p:spPr>
            <a:xfrm>
              <a:off x="4664160" y="2359080"/>
              <a:ext cx="609480" cy="304920"/>
            </a:xfrm>
            <a:prstGeom prst="line">
              <a:avLst/>
            </a:prstGeom>
            <a:ln w="284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31160" y="20192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92640" y="24480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3255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972000" y="3970440"/>
            <a:ext cx="5873400" cy="1182600"/>
            <a:chOff x="972000" y="3970440"/>
            <a:chExt cx="5873400" cy="1182600"/>
          </a:xfrm>
        </p:grpSpPr>
        <p:sp>
          <p:nvSpPr>
            <p:cNvPr id="249" name=""/>
            <p:cNvSpPr/>
            <p:nvPr/>
          </p:nvSpPr>
          <p:spPr>
            <a:xfrm>
              <a:off x="5075280" y="3970440"/>
              <a:ext cx="177012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3255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38280" y="4610160"/>
              <a:ext cx="2743200" cy="152280"/>
            </a:xfrm>
            <a:prstGeom prst="line">
              <a:avLst/>
            </a:prstGeom>
            <a:ln w="284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72000" y="4241880"/>
              <a:ext cx="2553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whois.apnic.net 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zone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218200" y="2409840"/>
            <a:ext cx="73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ourier New"/>
              </a:rPr>
              <a:t>net</a:t>
            </a: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65760" y="2333520"/>
            <a:ext cx="73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ourier New"/>
              </a:rPr>
              <a:t>com</a:t>
            </a: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46520" y="3171960"/>
            <a:ext cx="102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ourier New"/>
              </a:rPr>
              <a:t>apnic</a:t>
            </a: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8880" y="4010040"/>
            <a:ext cx="73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ourier New"/>
              </a:rPr>
              <a:t>www</a:t>
            </a: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99280" y="4162320"/>
            <a:ext cx="73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ourier New"/>
              </a:rPr>
              <a:t>www</a:t>
            </a: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79960" y="2409840"/>
            <a:ext cx="73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ourier New"/>
              </a:rPr>
              <a:t>edu</a:t>
            </a: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51360" y="3247920"/>
            <a:ext cx="73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ourier New"/>
              </a:rPr>
              <a:t>isi</a:t>
            </a: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122960" y="3171960"/>
            <a:ext cx="1462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ourier New"/>
              </a:rPr>
              <a:t>tislabs</a:t>
            </a: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629680" y="424440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ourier New"/>
              </a:rPr>
              <a:t>•</a:t>
            </a: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62520" y="3903840"/>
            <a:ext cx="122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ourier New"/>
              </a:rPr>
              <a:t>whois</a:t>
            </a: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0200" y="4543560"/>
            <a:ext cx="73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ourier New"/>
              </a:rPr>
              <a:t>ws1</a:t>
            </a: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94160" y="4543560"/>
            <a:ext cx="73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ourier New"/>
              </a:rPr>
              <a:t>ws2</a:t>
            </a: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639320" y="355860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ourier New"/>
              </a:rPr>
              <a:t>•</a:t>
            </a: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6072840" y="279648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ourier New"/>
              </a:rPr>
              <a:t>•</a:t>
            </a: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7077600" y="272052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ourier New"/>
              </a:rPr>
              <a:t>•</a:t>
            </a: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7444440" y="371088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ourier New"/>
              </a:rPr>
              <a:t>•</a:t>
            </a: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082120" y="279648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ourier New"/>
              </a:rPr>
              <a:t>•</a:t>
            </a: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072840" y="195840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ourier New"/>
              </a:rPr>
              <a:t>•</a:t>
            </a: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608360" y="2257560"/>
            <a:ext cx="2971800" cy="2438280"/>
            <a:chOff x="4608360" y="2257560"/>
            <a:chExt cx="2971800" cy="2438280"/>
          </a:xfrm>
        </p:grpSpPr>
        <p:sp>
          <p:nvSpPr>
            <p:cNvPr id="271" name=""/>
            <p:cNvSpPr/>
            <p:nvPr/>
          </p:nvSpPr>
          <p:spPr>
            <a:xfrm flipH="1">
              <a:off x="7472160" y="4010040"/>
              <a:ext cx="107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635440" y="2257560"/>
              <a:ext cx="485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29440" y="233352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37440" y="2257560"/>
              <a:ext cx="323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310360" y="2790720"/>
              <a:ext cx="109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5094360" y="3095640"/>
              <a:ext cx="108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4878360" y="3552840"/>
              <a:ext cx="108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4608360" y="3933720"/>
              <a:ext cx="1080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78360" y="3857760"/>
              <a:ext cx="270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73800" y="4238640"/>
              <a:ext cx="269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635440" y="4543560"/>
              <a:ext cx="1076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905440" y="4543560"/>
              <a:ext cx="162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83440" y="286704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121440" y="3171960"/>
              <a:ext cx="108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932520" y="2714760"/>
              <a:ext cx="216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56520" y="3019320"/>
              <a:ext cx="1080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72520" y="3629160"/>
              <a:ext cx="107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24360" y="393372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4456080" y="4238640"/>
            <a:ext cx="73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ourier New"/>
              </a:rPr>
              <a:t>ftp</a:t>
            </a: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15200" y="3009960"/>
            <a:ext cx="5335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934320" y="3085920"/>
            <a:ext cx="3045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7086600" y="3085920"/>
            <a:ext cx="1522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02600" y="318456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ourier New"/>
              </a:rPr>
              <a:t>sun</a:t>
            </a: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80000" y="364176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ourier New"/>
              </a:rPr>
              <a:t>moon</a:t>
            </a: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776000" y="2879640"/>
            <a:ext cx="118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ourier New"/>
              </a:rPr>
              <a:t>google</a:t>
            </a: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ept: Name Serv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916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Name servers answer ‘DNS’ questions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veral types of name server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uthoritative server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(Caching) recursive server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Mixture of functionalit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ept: Name Servers   contd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uthoritative name server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Give authoritative answers for one or more zon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ept: Name Servers   contd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70080" y="3672000"/>
            <a:ext cx="457200" cy="761760"/>
          </a:xfrm>
          <a:prstGeom prst="can">
            <a:avLst>
              <a:gd name="adj" fmla="val 25000"/>
            </a:avLst>
          </a:prstGeom>
          <a:solidFill>
            <a:srgbClr val="f9f5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79560" y="40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336760" y="3443400"/>
            <a:ext cx="609480" cy="1371600"/>
            <a:chOff x="2336760" y="3443400"/>
            <a:chExt cx="609480" cy="1371600"/>
          </a:xfrm>
        </p:grpSpPr>
        <p:sp>
          <p:nvSpPr>
            <p:cNvPr id="305" name=""/>
            <p:cNvSpPr/>
            <p:nvPr/>
          </p:nvSpPr>
          <p:spPr>
            <a:xfrm>
              <a:off x="2336760" y="3443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f9f5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12720" y="3824280"/>
              <a:ext cx="304920" cy="76320"/>
            </a:xfrm>
            <a:prstGeom prst="rect">
              <a:avLst/>
            </a:prstGeom>
            <a:solidFill>
              <a:srgbClr val="f9f5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41320" y="3976560"/>
              <a:ext cx="76320" cy="533520"/>
            </a:xfrm>
            <a:prstGeom prst="rect">
              <a:avLst/>
            </a:prstGeom>
            <a:solidFill>
              <a:srgbClr val="f9f5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832440" y="2909880"/>
            <a:ext cx="609480" cy="1371600"/>
            <a:chOff x="6832440" y="2909880"/>
            <a:chExt cx="609480" cy="1371600"/>
          </a:xfrm>
        </p:grpSpPr>
        <p:sp>
          <p:nvSpPr>
            <p:cNvPr id="309" name=""/>
            <p:cNvSpPr/>
            <p:nvPr/>
          </p:nvSpPr>
          <p:spPr>
            <a:xfrm>
              <a:off x="6832440" y="290988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f9f5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08400" y="3290760"/>
              <a:ext cx="304920" cy="76320"/>
            </a:xfrm>
            <a:prstGeom prst="rect">
              <a:avLst/>
            </a:prstGeom>
            <a:solidFill>
              <a:srgbClr val="f9f5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37000" y="3443040"/>
              <a:ext cx="76320" cy="533520"/>
            </a:xfrm>
            <a:prstGeom prst="rect">
              <a:avLst/>
            </a:prstGeom>
            <a:solidFill>
              <a:srgbClr val="f9f5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3708360" y="3443400"/>
            <a:ext cx="198108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f9f5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98880" y="3976560"/>
            <a:ext cx="83808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5308560" y="3367080"/>
            <a:ext cx="15238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070680" y="4281480"/>
            <a:ext cx="609480" cy="1371600"/>
            <a:chOff x="6070680" y="4281480"/>
            <a:chExt cx="609480" cy="1371600"/>
          </a:xfrm>
        </p:grpSpPr>
        <p:sp>
          <p:nvSpPr>
            <p:cNvPr id="316" name=""/>
            <p:cNvSpPr/>
            <p:nvPr/>
          </p:nvSpPr>
          <p:spPr>
            <a:xfrm>
              <a:off x="6070680" y="428148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f9f5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46640" y="4662360"/>
              <a:ext cx="304920" cy="76320"/>
            </a:xfrm>
            <a:prstGeom prst="rect">
              <a:avLst/>
            </a:prstGeom>
            <a:solidFill>
              <a:srgbClr val="f9f5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75240" y="4814640"/>
              <a:ext cx="76320" cy="533520"/>
            </a:xfrm>
            <a:prstGeom prst="rect">
              <a:avLst/>
            </a:prstGeom>
            <a:solidFill>
              <a:srgbClr val="f9f5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5460840" y="458640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41120" y="48546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master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45160" y="37465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slave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683040" y="51944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slave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79480" y="1328760"/>
            <a:ext cx="53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tative name server</a:t>
            </a: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3657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Bill Manning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Olaf M. Kolkma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Ed Lewi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Joe Able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44440" y="5187960"/>
            <a:ext cx="1155960" cy="770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243400" y="5057640"/>
            <a:ext cx="843120" cy="941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894040" y="5216400"/>
            <a:ext cx="1620720" cy="657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970680" y="5119560"/>
            <a:ext cx="101592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ept: Name Servers   contd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Recursive server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o the actual lookups; ask questions to the DNS on behalf of the clients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ept: Resolv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Resolvers ask the questions to the DNS system on behalf of the application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Normally implemented in a system library (e.g, libc)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pt: Resolving process &amp; Cach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f9f5e1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 Unicode MS"/>
              </a:rPr>
              <a:t>Resolver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90720" y="16765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Unicode MS"/>
              </a:rPr>
              <a:t>Question: www.apnic.net A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97080" y="2666880"/>
            <a:ext cx="15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Unicode MS"/>
              </a:rPr>
              <a:t>www.apnic.net A ?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f9f5e1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 Unicode MS"/>
              </a:rPr>
              <a:t>Caching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 Unicode MS"/>
              </a:rPr>
              <a:t>forwarder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 Unicode MS"/>
              </a:rPr>
              <a:t>(recursive)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31120" y="1876320"/>
            <a:ext cx="2100240" cy="457200"/>
          </a:xfrm>
          <a:prstGeom prst="rect">
            <a:avLst/>
          </a:prstGeom>
          <a:solidFill>
            <a:srgbClr val="f9f5e1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 Unicode MS"/>
              </a:rPr>
              <a:t>root-server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629240" y="2057400"/>
            <a:ext cx="15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Unicode MS"/>
              </a:rPr>
              <a:t>www.apnic.net A ?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54720" y="2590920"/>
            <a:ext cx="344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 Unicode MS"/>
              </a:rPr>
              <a:t>Ask net server @ X.gtld-servers.net (+ glue)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88280" y="3429000"/>
            <a:ext cx="2144520" cy="457200"/>
          </a:xfrm>
          <a:prstGeom prst="rect">
            <a:avLst/>
          </a:prstGeom>
          <a:solidFill>
            <a:srgbClr val="f9f5e1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 Unicode MS"/>
              </a:rPr>
              <a:t>gtld-server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02320" y="3306600"/>
            <a:ext cx="15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Unicode MS"/>
              </a:rPr>
              <a:t>www.apnic.net A ?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10880" y="3962520"/>
            <a:ext cx="31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 Unicode MS"/>
              </a:rPr>
              <a:t>Ask apnic server @ ns.apnic.net (+ glue)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37160" y="5407200"/>
            <a:ext cx="2232000" cy="460080"/>
          </a:xfrm>
          <a:prstGeom prst="rect">
            <a:avLst/>
          </a:prstGeom>
          <a:solidFill>
            <a:srgbClr val="f9f5e1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 Unicode MS"/>
              </a:rPr>
              <a:t>apnic-server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59520" y="4572000"/>
            <a:ext cx="15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Unicode MS"/>
              </a:rPr>
              <a:t>www.apnic.net A ?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64280" y="48769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 Unicode MS"/>
              </a:rPr>
              <a:t>192.168.5.10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68440" y="32004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 Unicode MS"/>
              </a:rPr>
              <a:t>192.168.5.10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09560" y="4495680"/>
            <a:ext cx="11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ff"/>
                </a:solidFill>
                <a:latin typeface="Arial Unicode MS"/>
              </a:rPr>
              <a:t>Add to cache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ept: Resource Recor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235480" y="5170320"/>
            <a:ext cx="738360" cy="532080"/>
          </a:xfrm>
          <a:prstGeom prst="rect">
            <a:avLst/>
          </a:prstGeom>
          <a:solidFill>
            <a:srgbClr val="f9f5e1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49880" y="5170320"/>
            <a:ext cx="381240" cy="532080"/>
          </a:xfrm>
          <a:prstGeom prst="rect">
            <a:avLst/>
          </a:prstGeom>
          <a:solidFill>
            <a:srgbClr val="f9f5e1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51680" y="5170320"/>
            <a:ext cx="1874880" cy="532080"/>
          </a:xfrm>
          <a:prstGeom prst="rect">
            <a:avLst/>
          </a:prstGeom>
          <a:solidFill>
            <a:srgbClr val="f9f5e1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92480" y="5170320"/>
            <a:ext cx="843120" cy="532080"/>
          </a:xfrm>
          <a:prstGeom prst="rect">
            <a:avLst/>
          </a:prstGeom>
          <a:solidFill>
            <a:srgbClr val="f9f5e1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1120" y="5159520"/>
            <a:ext cx="2952720" cy="531720"/>
          </a:xfrm>
          <a:prstGeom prst="rect">
            <a:avLst/>
          </a:prstGeom>
          <a:solidFill>
            <a:srgbClr val="f9f5e1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83120" y="603576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Label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06480" y="5703480"/>
            <a:ext cx="492120" cy="30492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559320" y="5932440"/>
            <a:ext cx="6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tl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91200" y="626436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lass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482160" y="60357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217360" y="604836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data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4092480" y="5703480"/>
            <a:ext cx="316080" cy="26532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5540400" y="5627520"/>
            <a:ext cx="0" cy="5320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6302520" y="5627160"/>
            <a:ext cx="317520" cy="39852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8423280" y="5568840"/>
            <a:ext cx="85680" cy="48600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6680" y="5232240"/>
            <a:ext cx="81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www.apnic.net.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3600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IN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10.10.10.2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ample: RRs in a zone fi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74440" y="1523520"/>
            <a:ext cx="8047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apnic.net. 7200 IN      SOA     ns.apnic.net. admin.apnic.net. 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                        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2001061501     ; Serial 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                        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43200  ; Refresh 12 hours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                        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14400  ; Retry 4 hours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                        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345600 ; Expire 4 days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                        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7200 ; Negative cache 2 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hours    )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apnic.net. 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7200  IN    NS      ns.apnic.net.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apnic.net. 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7200  IN    NS      ns.eu.net.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whois.apnic.net. 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3600  IN    A       193.0.1.162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639360" y="5037120"/>
            <a:ext cx="8149320" cy="718200"/>
            <a:chOff x="639360" y="5037120"/>
            <a:chExt cx="8149320" cy="718200"/>
          </a:xfrm>
        </p:grpSpPr>
        <p:sp>
          <p:nvSpPr>
            <p:cNvPr id="375" name=""/>
            <p:cNvSpPr/>
            <p:nvPr/>
          </p:nvSpPr>
          <p:spPr>
            <a:xfrm>
              <a:off x="4305240" y="5037120"/>
              <a:ext cx="638640" cy="304920"/>
            </a:xfrm>
            <a:prstGeom prst="rect">
              <a:avLst/>
            </a:prstGeom>
            <a:solidFill>
              <a:srgbClr val="f9f5e1"/>
            </a:soli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26040" y="5037120"/>
              <a:ext cx="638640" cy="304920"/>
            </a:xfrm>
            <a:prstGeom prst="rect">
              <a:avLst/>
            </a:prstGeom>
            <a:solidFill>
              <a:srgbClr val="f9f5e1"/>
            </a:soli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12240" y="5037120"/>
              <a:ext cx="2097720" cy="304920"/>
            </a:xfrm>
            <a:prstGeom prst="rect">
              <a:avLst/>
            </a:prstGeom>
            <a:solidFill>
              <a:srgbClr val="f9f5e1"/>
            </a:soli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84440" y="5037120"/>
              <a:ext cx="729720" cy="304920"/>
            </a:xfrm>
            <a:prstGeom prst="rect">
              <a:avLst/>
            </a:prstGeom>
            <a:solidFill>
              <a:srgbClr val="f9f5e1"/>
            </a:soli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30600" y="5037120"/>
              <a:ext cx="2371320" cy="304920"/>
            </a:xfrm>
            <a:prstGeom prst="rect">
              <a:avLst/>
            </a:prstGeom>
            <a:solidFill>
              <a:srgbClr val="f9f5e1"/>
            </a:soli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9360" y="5418000"/>
              <a:ext cx="709560" cy="337320"/>
            </a:xfrm>
            <a:prstGeom prst="rect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839160" y="5265360"/>
              <a:ext cx="820800" cy="1522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19760" y="5418000"/>
              <a:ext cx="565920" cy="337320"/>
            </a:xfrm>
            <a:prstGeom prst="rect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91840" y="5418000"/>
              <a:ext cx="688320" cy="337320"/>
            </a:xfrm>
            <a:prstGeom prst="rect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59400" y="5418000"/>
              <a:ext cx="596880" cy="337320"/>
            </a:xfrm>
            <a:prstGeom prst="rect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112600" y="5418000"/>
              <a:ext cx="676080" cy="337320"/>
            </a:xfrm>
            <a:prstGeom prst="rect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484440" y="5265360"/>
              <a:ext cx="273600" cy="1522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4578840" y="5189040"/>
              <a:ext cx="0" cy="3049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5400000" y="5265360"/>
              <a:ext cx="273600" cy="2286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7498080" y="5265360"/>
              <a:ext cx="637920" cy="2286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860760" y="5052960"/>
            <a:ext cx="7038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ost25.apnic.net.  2600   IN    A       193.0.3.25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ource Record: SOA and 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he SOA and NS records are used to provide information about the DNS itself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he NS indicates where information about a given zone can be foun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he SOA record provides information about the start of authority, i.e. the top of the zone, also called the APEX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ource Record: SO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940280" y="3873600"/>
            <a:ext cx="4020120" cy="2482200"/>
            <a:chOff x="4940280" y="3873600"/>
            <a:chExt cx="4020120" cy="2482200"/>
          </a:xfrm>
        </p:grpSpPr>
        <p:sp>
          <p:nvSpPr>
            <p:cNvPr id="396" name=""/>
            <p:cNvSpPr/>
            <p:nvPr/>
          </p:nvSpPr>
          <p:spPr>
            <a:xfrm>
              <a:off x="4940280" y="3873600"/>
              <a:ext cx="3809880" cy="1143000"/>
            </a:xfrm>
            <a:prstGeom prst="rect">
              <a:avLst/>
            </a:prstGeom>
            <a:solidFill>
              <a:srgbClr val="f9f5e1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6692400" y="4787640"/>
              <a:ext cx="228600" cy="10666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20800" y="5896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882880" y="2084400"/>
            <a:ext cx="3141720" cy="1484280"/>
            <a:chOff x="2882880" y="2084400"/>
            <a:chExt cx="3141720" cy="1484280"/>
          </a:xfrm>
        </p:grpSpPr>
        <p:sp>
          <p:nvSpPr>
            <p:cNvPr id="400" name=""/>
            <p:cNvSpPr/>
            <p:nvPr/>
          </p:nvSpPr>
          <p:spPr>
            <a:xfrm>
              <a:off x="2882880" y="3263760"/>
              <a:ext cx="2819520" cy="304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61000" y="2084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4406760" y="2654280"/>
              <a:ext cx="76320" cy="6094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702400" y="1639800"/>
            <a:ext cx="3276360" cy="1928880"/>
            <a:chOff x="5702400" y="1639800"/>
            <a:chExt cx="3276360" cy="1928880"/>
          </a:xfrm>
        </p:grpSpPr>
        <p:sp>
          <p:nvSpPr>
            <p:cNvPr id="404" name=""/>
            <p:cNvSpPr/>
            <p:nvPr/>
          </p:nvSpPr>
          <p:spPr>
            <a:xfrm>
              <a:off x="5702400" y="3263760"/>
              <a:ext cx="3276360" cy="304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52840" y="163980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7225920" y="2073240"/>
              <a:ext cx="374760" cy="119052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039680" y="3568680"/>
            <a:ext cx="7710120" cy="1337760"/>
            <a:chOff x="1039680" y="3568680"/>
            <a:chExt cx="7710120" cy="1337760"/>
          </a:xfrm>
        </p:grpSpPr>
        <p:sp>
          <p:nvSpPr>
            <p:cNvPr id="408" name=""/>
            <p:cNvSpPr/>
            <p:nvPr/>
          </p:nvSpPr>
          <p:spPr>
            <a:xfrm>
              <a:off x="4939920" y="3568680"/>
              <a:ext cx="380988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39680" y="4446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3644640" y="3721320"/>
              <a:ext cx="1447560" cy="838080"/>
            </a:xfrm>
            <a:prstGeom prst="line">
              <a:avLst/>
            </a:prstGeom>
            <a:ln w="57240">
              <a:solidFill>
                <a:srgbClr val="32559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533160" y="3284640"/>
            <a:ext cx="8471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Courier New"/>
              </a:rPr>
              <a:t>net. 3600 IN SOA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.GTLD-SERVERS.net.   nstld.verisign-grs.com. (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5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D 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neg.answ.ttl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505720" y="20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ept: TTL and other Tim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TL is a timer used in cach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n indication for how long the data may be reuse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ata that is expected to be ‘stable’ can have high TTL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laces where DNS data l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hanges do not propagate instantly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281720" y="4448160"/>
            <a:ext cx="18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001000" y="5257800"/>
            <a:ext cx="642960" cy="17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0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f9f5e1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f9f5e1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f9f5e1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4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f9f5e1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f9f5e1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f9f5e1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28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f9f5e1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f9f5e1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f9f5e1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965160" y="5159520"/>
            <a:ext cx="609480" cy="8380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90760" y="59976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8360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2768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8400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616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8458200" y="5083200"/>
            <a:ext cx="685440" cy="609480"/>
            <a:chOff x="8458200" y="5083200"/>
            <a:chExt cx="685440" cy="609480"/>
          </a:xfrm>
        </p:grpSpPr>
        <p:sp>
          <p:nvSpPr>
            <p:cNvPr id="443" name=""/>
            <p:cNvSpPr/>
            <p:nvPr/>
          </p:nvSpPr>
          <p:spPr>
            <a:xfrm>
              <a:off x="8458200" y="54896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58200" y="50832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616240" y="56520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510760" y="51238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159240" y="314640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0608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66720" y="4121280"/>
            <a:ext cx="2043000" cy="1142640"/>
            <a:chOff x="666720" y="4121280"/>
            <a:chExt cx="2043000" cy="1142640"/>
          </a:xfrm>
        </p:grpSpPr>
        <p:sp>
          <p:nvSpPr>
            <p:cNvPr id="452" name=""/>
            <p:cNvSpPr/>
            <p:nvPr/>
          </p:nvSpPr>
          <p:spPr>
            <a:xfrm flipV="1">
              <a:off x="1636560" y="4882680"/>
              <a:ext cx="62352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6720" y="4121280"/>
              <a:ext cx="2043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99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cc99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 flipH="1" flipV="1">
            <a:off x="7967160" y="444816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7814880" y="460044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7662960" y="460044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43480" y="437184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891560" y="45244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1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f9f5e1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f9f5e1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f9f5e1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remember..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Put your name servers apart from each othe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15 Jan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9.30am - Star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DNS concepts I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TEA BREAK (10.30am - 11.00am)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DNS concepts II 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BIND installation</a:t>
            </a: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LUNCH (12:30pm – 2:00pm)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Lab 1 – BIND Installation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Recursive Server</a:t>
            </a: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TEA BREAK (3:00pm – 3:30pm)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Lab 2 – Recursive Server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have we learned so fa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We learned about the architectures of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esolvers,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aching forwarders,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uthoritative servers,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iming parameter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We continue writing a zone fil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riting a zone fi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7295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Because of timing issues it might take some time before the data is actually visible at the client sid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rst attemp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he ‘header’ of the zone fil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tart with a SOA recor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nclude authoritative name servers and, if needed, glu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dd other inform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dd other RR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Delegate to other zon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SOA recor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apnic.net. 3600 IN SOA ns.apnic.net. admin\.email.apnic.net. (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2002021301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; serial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1h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; refresh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30M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; retry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1W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; expiry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3600 )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; neg. answ. ttl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dmin.email@apnic.net </a:t>
            </a:r>
            <a:r>
              <a:rPr b="0" lang="en-US" sz="2800" spc="-1" strike="noStrike">
                <a:solidFill>
                  <a:srgbClr val="f9f5e1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 admin\.email.apnic.ne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People often use date forma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o be increased after editing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5724000" y="701640"/>
            <a:ext cx="2913120" cy="1569600"/>
            <a:chOff x="5724000" y="701640"/>
            <a:chExt cx="2913120" cy="1569600"/>
          </a:xfrm>
        </p:grpSpPr>
        <p:sp>
          <p:nvSpPr>
            <p:cNvPr id="477" name=""/>
            <p:cNvSpPr/>
            <p:nvPr/>
          </p:nvSpPr>
          <p:spPr>
            <a:xfrm>
              <a:off x="5934240" y="701640"/>
              <a:ext cx="270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724000" y="1201680"/>
              <a:ext cx="701640" cy="1069560"/>
            </a:xfrm>
            <a:prstGeom prst="line">
              <a:avLst/>
            </a:prstGeom>
            <a:ln w="284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tative NS records and related A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NS record for all the authoritative server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hey need to carry the zone at the moment you publish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 records only for “in-zone” name server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Delegating NS records might have glue associate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84160" y="1757520"/>
            <a:ext cx="807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sanog.org.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3600 IN NS  NS1.sanog.org.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sanog.org.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3600 IN NS  NS2.sanog.org.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NS1.sanog.org.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3600 IN A  203.0.0.4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NS2.sanog.org.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her data in the zo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dd all the other data to your zone fil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ome notes on notati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Note the fully qualified domain name including trailing do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Note TTL and CLAS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46200" y="16207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localhost.sanog.org. 3600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IN 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A 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127.0.0.1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NS1.sanog.org.  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 4500 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IN 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A 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203.0.0.4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www.sanog.org.   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IN 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CNAME  IN.sanog.org.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sanog.org.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3600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IN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MX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50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mail.sanog.org.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one file format short cut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ice format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62120" y="1657440"/>
            <a:ext cx="8148600" cy="3981960"/>
          </a:xfrm>
          <a:prstGeom prst="rect">
            <a:avLst/>
          </a:prstGeom>
          <a:solidFill>
            <a:srgbClr val="325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sanog.org.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  3600  IN SOA NS1.sanog.org. admin\.email.sanog.org. (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sanog.org.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600 IN NS   NS1.sanog.org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sanog.org.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600 IN NS   NS2.sanog.org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sanog.org.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600 IN MX   50   mail.sanog.org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sanog.org.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600 IN MX   150 mailhost2.sanog.org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sanog.org.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NS1.sanog.org.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4500 IN A    203.0.0.4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NS2.sanog.org.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600 IN A    193.0.0.202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localhost.sanog.org. 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600 IN A    127.0.0.1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NS1.sanog.org.    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600 IN A     193.0.0.4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www.sanog.org. 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600 IN CNAME IN.sanog.org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one file short cuts: repeating last na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26920" y="1646280"/>
            <a:ext cx="8089920" cy="3981960"/>
          </a:xfrm>
          <a:prstGeom prst="rect">
            <a:avLst/>
          </a:prstGeom>
          <a:solidFill>
            <a:srgbClr val="325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sanog.org.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  3600  IN SOA NS1.sanog.org. admin\.email.sanog.org. (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600 IN NS   NS1.sanog.org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600 IN NS   NS2.sanog.org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600 IN MX   50   mail.sanog.org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600 IN MX   150 mailhost2.sanog.org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NS1.sanog.org.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600 IN A    203.0.0.4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NS2.sanog.org.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600 IN A    193.0.0.202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localhost.sanog.org.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4500 IN A    127.0.0.1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NS1.sanog.org.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600 IN A    203.0.0.4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www.sanog.org.  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600 IN CNAME IN.sanog.org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one file short cuts: default TT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1603440"/>
            <a:ext cx="8032680" cy="3981960"/>
          </a:xfrm>
          <a:prstGeom prst="rect">
            <a:avLst/>
          </a:prstGeom>
          <a:solidFill>
            <a:srgbClr val="325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sanog.org.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IN SOA NS1.sanog.org. admin\.email.sanog.org. ( 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IN NS   NS1.sanog.org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IN NS   NS2.sanog.org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IN MX   50 mail.sanog.org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IN MX   150 mailhost2.sanog.org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NS1.sanog.org.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IN A   203.0.0.4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NS2.sanog.org.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IN A   193.0.0.202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localhost.sanog.org. 4500 IN A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127.0.0.1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NS1.sanog.org.   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IN A 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203.0.0.4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www.sanog.org.  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IN CNAME NS1.sanog.org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one file short cuts: ORI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1603440"/>
            <a:ext cx="7916760" cy="4370760"/>
          </a:xfrm>
          <a:prstGeom prst="rect">
            <a:avLst/>
          </a:prstGeom>
          <a:solidFill>
            <a:srgbClr val="325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$ORIGIN sanog.org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IN SOA NS1 admin\.email.sanog.org. (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IN NS   NS1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IN MX   50  mailhost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NS1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IN A    203.0.0.4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localhost 4500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NS1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IN A    203.0.0.4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IN CNAME NS1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16 Jan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9.30am - Star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Lab 3 – Configuring Domains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TEA BREAK (10.30am - 11.00am)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DNS Registries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LUNCH (12:30pm – 2:00pm)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Troubleshooting I (dig, traceroutes, nslookup, ethereal)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Reverse DNS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TEA BREAK (3:00pm – 3:30pm)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Configuring the Reverse domain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Lab 4 – Reverse DNS</a:t>
            </a: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IPv6 reverse DNS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one file short cuts: Eliminate 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914400" y="1603440"/>
            <a:ext cx="7916760" cy="4370760"/>
          </a:xfrm>
          <a:prstGeom prst="rect">
            <a:avLst/>
          </a:prstGeom>
          <a:solidFill>
            <a:srgbClr val="325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$ORIGIN sanog.org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SOA NS1 admin\.email.sanog.org. (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NS   NS1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NS   NS2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MX   50  mailhost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MX   150 mailhost2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TXT  “Demonstration and test zone”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NS1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A    203.0.0.4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A    193.0.0.202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localhost 4500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A    127.0.0.1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NS1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A    203.0.0.4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9f5e1"/>
                </a:solidFill>
                <a:latin typeface="Courier New"/>
              </a:rPr>
              <a:t> CNAME NS1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egating a zone (becoming a paren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Delegate authority for a sub domain to another party (splitting of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whois.apnic.net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from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apnic.net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364320" y="4371840"/>
            <a:ext cx="6272640" cy="1925640"/>
            <a:chOff x="364320" y="4371840"/>
            <a:chExt cx="6272640" cy="1925640"/>
          </a:xfrm>
        </p:grpSpPr>
        <p:sp>
          <p:nvSpPr>
            <p:cNvPr id="503" name=""/>
            <p:cNvSpPr/>
            <p:nvPr/>
          </p:nvSpPr>
          <p:spPr>
            <a:xfrm>
              <a:off x="1888920" y="4754160"/>
              <a:ext cx="2286000" cy="38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64320" y="4371840"/>
              <a:ext cx="177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apnic.net 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zone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943080" y="481464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3255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208800" y="5135400"/>
            <a:ext cx="6544440" cy="1182600"/>
            <a:chOff x="208800" y="5135400"/>
            <a:chExt cx="6544440" cy="1182600"/>
          </a:xfrm>
        </p:grpSpPr>
        <p:sp>
          <p:nvSpPr>
            <p:cNvPr id="507" name=""/>
            <p:cNvSpPr/>
            <p:nvPr/>
          </p:nvSpPr>
          <p:spPr>
            <a:xfrm>
              <a:off x="4983480" y="513540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3255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46480" y="5775120"/>
              <a:ext cx="2743200" cy="152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8800" y="5392440"/>
              <a:ext cx="298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whois.apnic.net 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zone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5165640" y="3611520"/>
            <a:ext cx="7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net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13560" y="3535200"/>
            <a:ext cx="7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com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613400" y="4373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apnic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946680" y="5211720"/>
            <a:ext cx="7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www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147080" y="5364000"/>
            <a:ext cx="7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www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927760" y="3611520"/>
            <a:ext cx="7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edu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99160" y="4449600"/>
            <a:ext cx="7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isi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070760" y="4373640"/>
            <a:ext cx="14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tislabs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562720" y="5437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•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937040" y="5135400"/>
            <a:ext cx="11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whois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958000" y="5745240"/>
            <a:ext cx="7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ns1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41960" y="5745240"/>
            <a:ext cx="7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ns2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4572000" y="4751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•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005520" y="398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•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7010640" y="3913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•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7377120" y="4903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•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015160" y="398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•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6005520" y="3151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•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555800" y="3459240"/>
            <a:ext cx="2971800" cy="2438280"/>
            <a:chOff x="4555800" y="3459240"/>
            <a:chExt cx="2971800" cy="2438280"/>
          </a:xfrm>
        </p:grpSpPr>
        <p:sp>
          <p:nvSpPr>
            <p:cNvPr id="529" name=""/>
            <p:cNvSpPr/>
            <p:nvPr/>
          </p:nvSpPr>
          <p:spPr>
            <a:xfrm flipH="1">
              <a:off x="7419600" y="5211720"/>
              <a:ext cx="108000" cy="1522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5582520" y="3459240"/>
              <a:ext cx="486000" cy="22860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76880" y="3534840"/>
              <a:ext cx="0" cy="763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284880" y="3459240"/>
              <a:ext cx="324000" cy="22860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5258160" y="3992040"/>
              <a:ext cx="107640" cy="1526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5041800" y="4297320"/>
              <a:ext cx="107640" cy="1522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4826160" y="4754520"/>
              <a:ext cx="108000" cy="1522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4555800" y="5135040"/>
              <a:ext cx="107640" cy="1526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826160" y="5059440"/>
              <a:ext cx="270000" cy="1522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20520" y="5440320"/>
              <a:ext cx="270000" cy="1522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5582160" y="5745240"/>
              <a:ext cx="107640" cy="1522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52880" y="5745240"/>
              <a:ext cx="162000" cy="1522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31240" y="4068360"/>
              <a:ext cx="0" cy="763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6068520" y="4373640"/>
              <a:ext cx="107640" cy="1522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79600" y="3916440"/>
              <a:ext cx="215640" cy="1522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03600" y="4221000"/>
              <a:ext cx="107640" cy="22860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419600" y="4830840"/>
              <a:ext cx="108000" cy="22860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772160" y="5135400"/>
              <a:ext cx="0" cy="3812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4403880" y="5440320"/>
            <a:ext cx="7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ftp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223040" y="4145040"/>
            <a:ext cx="533520" cy="7596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6842160" y="4221000"/>
            <a:ext cx="30492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994440" y="4221000"/>
            <a:ext cx="152640" cy="6098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309720" y="4297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sun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86040" y="4754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moon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680960" y="3992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google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ept: Glu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699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whois.apnic.net. 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NS ns1.whois.apnic.net.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whois.apnic.net. 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NS ns2.whois.apnic.net.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How to get to ns1 and ns2… We need the address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dd glue records to so that resolvers can reach ns1 and ns2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9f5e1"/>
                </a:solidFill>
                <a:latin typeface="Courier New"/>
              </a:rPr>
              <a:t>ns1.whois.apnic.net. A 10.0.0.1</a:t>
            </a:r>
            <a:endParaRPr b="0" lang="en-US" sz="2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9f5e1"/>
                </a:solidFill>
                <a:latin typeface="Courier New"/>
              </a:rPr>
              <a:t>ns2.whois.apnic.net. A 10.0.0.2</a:t>
            </a:r>
            <a:endParaRPr b="0" lang="en-US" sz="2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ept: Glue    contd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Glue is ‘non-authoritative’ data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Don’t include glue for servers that are not in sub zon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529360" y="3340080"/>
            <a:ext cx="6417720" cy="2861640"/>
            <a:chOff x="2529360" y="3340080"/>
            <a:chExt cx="6417720" cy="2861640"/>
          </a:xfrm>
        </p:grpSpPr>
        <p:sp>
          <p:nvSpPr>
            <p:cNvPr id="559" name=""/>
            <p:cNvSpPr/>
            <p:nvPr/>
          </p:nvSpPr>
          <p:spPr>
            <a:xfrm>
              <a:off x="5365800" y="3340080"/>
              <a:ext cx="3581280" cy="60984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3460320" y="3797280"/>
              <a:ext cx="2133720" cy="19051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29360" y="5742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802080" y="3492360"/>
            <a:ext cx="856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9f5e1"/>
                </a:solidFill>
                <a:latin typeface="Courier New"/>
              </a:rPr>
              <a:t>whois.apnic.net. </a:t>
            </a:r>
            <a:r>
              <a:rPr b="1" lang="en-US" sz="22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f9f5e1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f9f5e1"/>
                </a:solidFill>
                <a:latin typeface="Courier New"/>
              </a:rPr>
              <a:t>ns1.whois.apnic.net.</a:t>
            </a: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9f5e1"/>
                </a:solidFill>
                <a:latin typeface="Courier New"/>
              </a:rPr>
              <a:t>whois.apnic.net. </a:t>
            </a:r>
            <a:r>
              <a:rPr b="1" lang="en-US" sz="22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f9f5e1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f9f5e1"/>
                </a:solidFill>
                <a:latin typeface="Courier New"/>
              </a:rPr>
              <a:t>ns2.apnic.net.</a:t>
            </a: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9f5e1"/>
                </a:solidFill>
                <a:latin typeface="Courier New"/>
              </a:rPr>
              <a:t>whois.apnic.net. </a:t>
            </a:r>
            <a:r>
              <a:rPr b="1" lang="en-US" sz="22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f9f5e1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f9f5e1"/>
                </a:solidFill>
                <a:latin typeface="Courier New"/>
              </a:rPr>
              <a:t>ns1.apnic.net.</a:t>
            </a: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98120" y="4559400"/>
            <a:ext cx="65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9f5e1"/>
                </a:solidFill>
                <a:latin typeface="Courier New"/>
              </a:rPr>
              <a:t>ns1.whois.apnic.net. A </a:t>
            </a:r>
            <a:r>
              <a:rPr b="1" lang="en-US" sz="22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f9f5e1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egating whois.apnic.net. from apnic.ne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946080" y="1647720"/>
            <a:ext cx="3564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whois.apnic.net</a:t>
            </a: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tup minimum two servers</a:t>
            </a: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reate zone file with NS records</a:t>
            </a: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dd all whois.apnic.net data</a:t>
            </a: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70520" y="1646280"/>
            <a:ext cx="4173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pnic.net</a:t>
            </a: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dd NS records and glue</a:t>
            </a: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Make sure there is no other data from the whois.apnic.net. zone in the zone file</a:t>
            </a: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17 Ja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9.30am - start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RNDC &amp; TSIG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TEA BREAK (10.30am - 11.00am)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ab 5 - RNDC &amp; TSIG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LUNCH (12:30pm – 2:00pm)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DNSSEC Presentation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TEA BREAK (3:00pm – 3:30pm)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ab 6 - Troubleshooting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18 Ja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9.30am - start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Secured Dynamic Updates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TEA BREAK (10.30am - 11.00am)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ab 7 – Secured Dynamic Updates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LUNCH (12:30pm – 2:00pm)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Creating the whole DNS hierarchy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TEA BREAK (3:00pm – 3:30pm)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ab 8 - Creating the whole DNS hierarchy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roduction to D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urpose of nam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f5e1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07:55:26Z</dcterms:created>
  <dc:creator>APNIC Training</dc:creator>
  <dc:description/>
  <dc:language>en-US</dc:language>
  <cp:lastModifiedBy>APNIC Pty Ltd</cp:lastModifiedBy>
  <cp:lastPrinted>2000-10-26T12:33:24Z</cp:lastPrinted>
  <dcterms:modified xsi:type="dcterms:W3CDTF">2004-01-17T07:42:11Z</dcterms:modified>
  <cp:revision>344</cp:revision>
  <dc:subject/>
  <dc:title>Welcome! APNIC Members Training Course </dc:title>
</cp:coreProperties>
</file>