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rin.net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sc.org/products/BIND/bind9.html" TargetMode="External"/><Relationship Id="rId3" Type="http://schemas.openxmlformats.org/officeDocument/2006/relationships/hyperlink" Target="http://www.isc.org/products/BIND/bind9-beta.html" TargetMode="External"/><Relationship Id="rId4" Type="http://schemas.openxmlformats.org/officeDocument/2006/relationships/hyperlink" Target="ftp://ftp.isc.org/" TargetMode="External"/><Relationship Id="rId5" Type="http://schemas.openxmlformats.org/officeDocument/2006/relationships/hyperlink" Target="http://www.isc.org/services/public/lists/bind-lists.html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Instal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happ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ecutab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/usr/local/sb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/usr/local/b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d libraries includ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ke sure right version is now install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Courier New"/>
              </a:rPr>
              <a:t>&gt; named –v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&gt;  BIND 9.2.3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69600"/>
            <a:ext cx="7467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triev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, Install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9 Mailing Li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Joining mail li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sc.org/services/public/lists/bind-lists.htm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ind9-users, bind-announ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(bind-users is for bind8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rchiv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ttp://www.isc.org/ml-archives/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669600"/>
            <a:ext cx="7467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triev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uilding and Install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rieving BI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HTTP, FTP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ttp://www.isc.or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package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ill be needed for DNSSE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net Software Consorti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urce for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ther Software: DHCP, NNTP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nder Development: OpenReg (EPP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N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Version 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 use, available, obsole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n't start to use i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igrate to Version 9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(Okay, BIND 8 is faster than BIND 9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Version 9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urrent version (9.2.3 as of Jan 2004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ver Use Snapshot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ting BIND 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sc.org/products/BIND/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isc.org/products/BIND/bind9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IND 9.2.3  toda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isc.org/products/BIND/bind9-beta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IND 9.2.3.rc4 toda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ftp.isc.org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- anonymou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hange Directory to /isc/bind9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d 9.2.3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d 9.2.3rc4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tp://ftp.isc.org/isc/bind9/9.2.3rc4/bind-9.2.3rc4.tar.gz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669600"/>
            <a:ext cx="7467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triev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uilding and Installing BI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packing BIND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ar -xzf bind-9.2.3.tar.gz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ncompresses and creates directo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ind-9.2.3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at's in there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 lot of stuff (dig, libraries etc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./configure (script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./doc/arm/Bv9ARM.htm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BIND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ust be in the BIND 9.2.3 directory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Courier New"/>
              </a:rPr>
              <a:t>&gt;./configure (options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termine the appropriate includes and compiler setting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Courier New"/>
              </a:rPr>
              <a:t>&gt; mak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uild and compi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Courier New"/>
              </a:rPr>
              <a:t>&gt; make instal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do (if not root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stall BIN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1-14T19:25:08Z</dcterms:modified>
  <cp:revision>345</cp:revision>
  <dc:subject/>
  <dc:title>Welcome! APNIC Members Training Course </dc:title>
</cp:coreProperties>
</file>