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446838" cy="9828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360" y="4111200"/>
            <a:ext cx="7467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1680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360" y="411120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16800" y="411120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5400" y="152352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40440" y="152352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360" y="411120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5400" y="411120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40440" y="411120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3643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16800" y="1523520"/>
            <a:ext cx="3643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90360" y="380880"/>
            <a:ext cx="74674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6800" y="1523520"/>
            <a:ext cx="3643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90360" y="411120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3643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680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16800" y="411120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80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360" y="4111200"/>
            <a:ext cx="7467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90360" y="4111200"/>
            <a:ext cx="7467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680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90360" y="411120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16800" y="411120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15400" y="152352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40440" y="152352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90360" y="411120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15400" y="411120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40440" y="411120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3643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16800" y="1523520"/>
            <a:ext cx="3643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360" y="380880"/>
            <a:ext cx="74674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16800" y="1523520"/>
            <a:ext cx="3643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360" y="411120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3643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680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16800" y="411120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680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360" y="4111200"/>
            <a:ext cx="7467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9f5e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255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255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88960" cy="685800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5889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889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5889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9f5e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255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255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rin.net/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cursive Serv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0.0.127.in-addr.arpa fi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2120" y="1600200"/>
            <a:ext cx="842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$ORIGIN 0.0.127.in-addr.arpa.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$TTL 86400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@        IN     SOA localhost. root.localhost. (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                        </a:t>
            </a: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1  ; serial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                     </a:t>
            </a: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1800  ; refresh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                      </a:t>
            </a: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900  ; retry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                    </a:t>
            </a: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69120  ; expir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                     </a:t>
            </a: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1080  ; negative cache ttl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                        </a:t>
            </a: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                </a:t>
            </a: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NS  </a:t>
            </a: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localhost.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1               PTR </a:t>
            </a: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localhost.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ssembling the fil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Here's my directory: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46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5e1"/>
                </a:solidFill>
                <a:latin typeface="Courier New"/>
              </a:rPr>
              <a:t>[/var/named/recursive] % l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46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5e1"/>
                </a:solidFill>
                <a:latin typeface="Courier New"/>
              </a:rPr>
              <a:t>0.0.127.in-addr.arpa   localhost             named.root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The directory name and file names will be in named.conf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Now I create a named.conf file in the same directory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amed.conf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90640" y="1673280"/>
            <a:ext cx="8655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Courier New"/>
              </a:rPr>
              <a:t>options {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f9f5e1"/>
                </a:solidFill>
                <a:latin typeface="Courier New"/>
              </a:rPr>
              <a:t>directory "/var/namedb/recursive";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f9f5e1"/>
                </a:solidFill>
                <a:latin typeface="Courier New"/>
              </a:rPr>
              <a:t>pid-file "/var/named/recursive/n.pid";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f9f5e1"/>
                </a:solidFill>
                <a:latin typeface="Courier New"/>
              </a:rPr>
              <a:t>recursion yes;   // by default recursion is on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Courier New"/>
              </a:rPr>
              <a:t>zone "." {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f9f5e1"/>
                </a:solidFill>
                <a:latin typeface="Courier New"/>
              </a:rPr>
              <a:t>type hint;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f9f5e1"/>
                </a:solidFill>
                <a:latin typeface="Courier New"/>
              </a:rPr>
              <a:t>file "named.root";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Courier New"/>
              </a:rPr>
              <a:t>zone "localhost." {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f9f5e1"/>
                </a:solidFill>
                <a:latin typeface="Courier New"/>
              </a:rPr>
              <a:t>type master;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f9f5e1"/>
                </a:solidFill>
                <a:latin typeface="Courier New"/>
              </a:rPr>
              <a:t>file "localhost";     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Courier New"/>
              </a:rPr>
              <a:t>zone "0.0.127.in-addr.arpa." {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f9f5e1"/>
                </a:solidFill>
                <a:latin typeface="Courier New"/>
              </a:rPr>
              <a:t>type master;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f9f5e1"/>
                </a:solidFill>
                <a:latin typeface="Courier New"/>
              </a:rPr>
              <a:t>file "0.0.127.in-addr.arpa";     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unning the serv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From the directory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9f5e1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sudo named -g -c named.conf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esting the serv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07880" y="1325520"/>
            <a:ext cx="849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Just to show it is alive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49"/>
              </a:spcBef>
              <a:buClr>
                <a:srgbClr val="f9f5e1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9f5e1"/>
                </a:solidFill>
                <a:latin typeface="Courier New"/>
              </a:rPr>
              <a:t>dig @127.0.0.1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Courier New"/>
                <a:hlinkClick r:id="rId2"/>
              </a:rPr>
              <a:t>www.arin.net</a:t>
            </a:r>
            <a:endParaRPr b="0" lang="en-US" sz="2600" spc="-1" strike="noStrike">
              <a:solidFill>
                <a:srgbClr val="f9f5e1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9f5e1"/>
                </a:solidFill>
                <a:latin typeface="Courier New"/>
              </a:rPr>
              <a:t>; &lt;&lt;&gt;&gt; DiG 9.2.2rc1 &lt;&lt;&gt;&gt; @127.0.0.1 www.arin.net</a:t>
            </a:r>
            <a:endParaRPr b="0" lang="en-US" sz="1500" spc="-1" strike="noStrike">
              <a:solidFill>
                <a:srgbClr val="f9f5e1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9f5e1"/>
                </a:solidFill>
                <a:latin typeface="Courier New"/>
              </a:rPr>
              <a:t>;; global options:  printcmd</a:t>
            </a:r>
            <a:endParaRPr b="0" lang="en-US" sz="1500" spc="-1" strike="noStrike">
              <a:solidFill>
                <a:srgbClr val="f9f5e1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9f5e1"/>
                </a:solidFill>
                <a:latin typeface="Courier New"/>
              </a:rPr>
              <a:t>;; Got answer:</a:t>
            </a:r>
            <a:endParaRPr b="0" lang="en-US" sz="1500" spc="-1" strike="noStrike">
              <a:solidFill>
                <a:srgbClr val="f9f5e1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9f5e1"/>
                </a:solidFill>
                <a:latin typeface="Courier New"/>
              </a:rPr>
              <a:t>;; -&gt;&gt;HEADER&lt;&lt;- opcode: QUERY, status: NOERROR, id: 16580</a:t>
            </a:r>
            <a:endParaRPr b="0" lang="en-US" sz="1500" spc="-1" strike="noStrike">
              <a:solidFill>
                <a:srgbClr val="f9f5e1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9f5e1"/>
                </a:solidFill>
                <a:latin typeface="Courier New"/>
              </a:rPr>
              <a:t>;; flags: qr rd ra; QUERY: 1, ANSWER: 2, AUTHORITY: 10, ADDITIONAL: 0</a:t>
            </a:r>
            <a:endParaRPr b="0" lang="en-US" sz="1500" spc="-1" strike="noStrike">
              <a:solidFill>
                <a:srgbClr val="f9f5e1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9f5e1"/>
                </a:solidFill>
                <a:latin typeface="Courier New"/>
              </a:rPr>
              <a:t>;; QUESTION SECTION:</a:t>
            </a:r>
            <a:endParaRPr b="0" lang="en-US" sz="1500" spc="-1" strike="noStrike">
              <a:solidFill>
                <a:srgbClr val="f9f5e1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9f5e1"/>
                </a:solidFill>
                <a:latin typeface="Courier New"/>
              </a:rPr>
              <a:t>;www.arin.net.                  IN      A</a:t>
            </a:r>
            <a:endParaRPr b="0" lang="en-US" sz="1500" spc="-1" strike="noStrike">
              <a:solidFill>
                <a:srgbClr val="f9f5e1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9f5e1"/>
                </a:solidFill>
                <a:latin typeface="Courier New"/>
              </a:rPr>
              <a:t>;; ANSWER SECTION:</a:t>
            </a:r>
            <a:endParaRPr b="0" lang="en-US" sz="1500" spc="-1" strike="noStrike">
              <a:solidFill>
                <a:srgbClr val="f9f5e1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9f5e1"/>
                </a:solidFill>
                <a:latin typeface="Courier New"/>
              </a:rPr>
              <a:t>www.arin.net.           10800   IN      A       192.149.252.17</a:t>
            </a:r>
            <a:endParaRPr b="0" lang="en-US" sz="1500" spc="-1" strike="noStrike">
              <a:solidFill>
                <a:srgbClr val="f9f5e1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9f5e1"/>
                </a:solidFill>
                <a:latin typeface="Courier New"/>
              </a:rPr>
              <a:t>www.arin.net.           10800   IN      A       192.149.252.16</a:t>
            </a:r>
            <a:endParaRPr b="0" lang="en-US" sz="1500" spc="-1" strike="noStrike">
              <a:solidFill>
                <a:srgbClr val="f9f5e1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9f5e1"/>
                </a:solidFill>
                <a:latin typeface="Courier New"/>
              </a:rPr>
              <a:t>;; AUTHORITY SECTION:</a:t>
            </a:r>
            <a:endParaRPr b="0" lang="en-US" sz="1500" spc="-1" strike="noStrike">
              <a:solidFill>
                <a:srgbClr val="f9f5e1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9f5e1"/>
                </a:solidFill>
                <a:latin typeface="Courier New"/>
              </a:rPr>
              <a:t>arin.net.               10800   IN      NS      arrowroot.arin.net.</a:t>
            </a:r>
            <a:endParaRPr b="0" lang="en-US" sz="1500" spc="-1" strike="noStrike">
              <a:solidFill>
                <a:srgbClr val="f9f5e1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9f5e1"/>
                </a:solidFill>
                <a:latin typeface="Courier New"/>
              </a:rPr>
              <a:t>(and so on)</a:t>
            </a:r>
            <a:endParaRPr b="0" lang="en-US" sz="1500" spc="-1" strike="noStrike">
              <a:solidFill>
                <a:srgbClr val="f9f5e1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9f5e1"/>
                </a:solidFill>
                <a:latin typeface="Courier New"/>
              </a:rPr>
              <a:t>;; Query time: 3066 msec</a:t>
            </a:r>
            <a:endParaRPr b="0" lang="en-US" sz="1500" spc="-1" strike="noStrike">
              <a:solidFill>
                <a:srgbClr val="f9f5e1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9f5e1"/>
                </a:solidFill>
                <a:latin typeface="Courier New"/>
              </a:rPr>
              <a:t>;; SERVER: 127.0.0.1#53(127.0.0.1)</a:t>
            </a:r>
            <a:endParaRPr b="0" lang="en-US" sz="1500" spc="-1" strike="noStrike">
              <a:solidFill>
                <a:srgbClr val="f9f5e1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9f5e1"/>
                </a:solidFill>
                <a:latin typeface="Courier New"/>
              </a:rPr>
              <a:t>;; WHEN: Wed Feb 19 11:07:05 2003</a:t>
            </a:r>
            <a:endParaRPr b="0" lang="en-US" sz="1500" spc="-1" strike="noStrike">
              <a:solidFill>
                <a:srgbClr val="f9f5e1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9f5e1"/>
                </a:solidFill>
                <a:latin typeface="Courier New"/>
              </a:rPr>
              <a:t>;; MSG SIZE  rcvd: 251</a:t>
            </a:r>
            <a:endParaRPr b="0" lang="en-US" sz="15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gratulations - Your First Server!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It's just the beginning...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Recursive Service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Root server list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localhost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0.0.127.in-addr.arpa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named.conf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cursive Serv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Used to lookup data by application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Needs to know how to reach top of DN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Also should stop some querie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localhost, 127.0.0.1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File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named.conf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root.hint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localhost zone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0.0.127.in-addr.arpa zone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We'll do named.conf last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oot server lis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List of the 13 root server record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Where to get it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ftp rs.internic.net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anonymous login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cd domain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get one of these files (they are [nearly] the same)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db.cache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named.root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named.cache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t looks lik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1640" y="11473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9f5e1"/>
                </a:solidFill>
                <a:latin typeface="Arial"/>
              </a:rPr>
              <a:t>;       This file holds the information on root name servers needed to</a:t>
            </a:r>
            <a:endParaRPr b="0" lang="en-US" sz="1600" spc="-1" strike="noStrike">
              <a:solidFill>
                <a:srgbClr val="f9f5e1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9f5e1"/>
                </a:solidFill>
                <a:latin typeface="Arial"/>
              </a:rPr>
              <a:t>;       initialize cache of Internet domain name servers</a:t>
            </a:r>
            <a:endParaRPr b="0" lang="en-US" sz="1600" spc="-1" strike="noStrike">
              <a:solidFill>
                <a:srgbClr val="f9f5e1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9f5e1"/>
                </a:solidFill>
                <a:latin typeface="Arial"/>
              </a:rPr>
              <a:t>;       (e.g. reference this file in the "cache  .  &lt;file&gt;"</a:t>
            </a:r>
            <a:endParaRPr b="0" lang="en-US" sz="1600" spc="-1" strike="noStrike">
              <a:solidFill>
                <a:srgbClr val="f9f5e1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9f5e1"/>
                </a:solidFill>
                <a:latin typeface="Arial"/>
              </a:rPr>
              <a:t>;       configuration file of BIND domain name servers).</a:t>
            </a:r>
            <a:endParaRPr b="0" lang="en-US" sz="1600" spc="-1" strike="noStrike">
              <a:solidFill>
                <a:srgbClr val="f9f5e1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9f5e1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9f5e1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9f5e1"/>
                </a:solidFill>
                <a:latin typeface="Arial"/>
              </a:rPr>
              <a:t>;       This file is made available by InterNIC </a:t>
            </a:r>
            <a:endParaRPr b="0" lang="en-US" sz="1600" spc="-1" strike="noStrike">
              <a:solidFill>
                <a:srgbClr val="f9f5e1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9f5e1"/>
                </a:solidFill>
                <a:latin typeface="Arial"/>
              </a:rPr>
              <a:t>;       under anonymous FTP as</a:t>
            </a:r>
            <a:endParaRPr b="0" lang="en-US" sz="1600" spc="-1" strike="noStrike">
              <a:solidFill>
                <a:srgbClr val="f9f5e1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9f5e1"/>
                </a:solidFill>
                <a:latin typeface="Arial"/>
              </a:rPr>
              <a:t>;           file                /domain/named.cache</a:t>
            </a:r>
            <a:endParaRPr b="0" lang="en-US" sz="1600" spc="-1" strike="noStrike">
              <a:solidFill>
                <a:srgbClr val="f9f5e1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9f5e1"/>
                </a:solidFill>
                <a:latin typeface="Arial"/>
              </a:rPr>
              <a:t>;           on server           FTP.INTERNIC.NET</a:t>
            </a:r>
            <a:endParaRPr b="0" lang="en-US" sz="1600" spc="-1" strike="noStrike">
              <a:solidFill>
                <a:srgbClr val="f9f5e1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9f5e1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9f5e1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9f5e1"/>
                </a:solidFill>
                <a:latin typeface="Arial"/>
              </a:rPr>
              <a:t>;       last update:    Nov 5, 2002</a:t>
            </a:r>
            <a:endParaRPr b="0" lang="en-US" sz="1600" spc="-1" strike="noStrike">
              <a:solidFill>
                <a:srgbClr val="f9f5e1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9f5e1"/>
                </a:solidFill>
                <a:latin typeface="Arial"/>
              </a:rPr>
              <a:t>;       related version of root zone:   2002110501</a:t>
            </a:r>
            <a:endParaRPr b="0" lang="en-US" sz="1600" spc="-1" strike="noStrike">
              <a:solidFill>
                <a:srgbClr val="f9f5e1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9f5e1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9f5e1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9f5e1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9f5e1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9f5e1"/>
                </a:solidFill>
                <a:latin typeface="Arial"/>
              </a:rPr>
              <a:t>; formerly NS.INTERNIC.NET</a:t>
            </a:r>
            <a:endParaRPr b="0" lang="en-US" sz="1600" spc="-1" strike="noStrike">
              <a:solidFill>
                <a:srgbClr val="f9f5e1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9f5e1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9f5e1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.                        3600000  IN  NS    A.ROOT-SERVERS.NET.</a:t>
            </a:r>
            <a:endParaRPr b="0" lang="en-US" sz="1600" spc="-1" strike="noStrike">
              <a:solidFill>
                <a:srgbClr val="f9f5e1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.ROOT-SERVERS.NET.      3600000      A     198.41.0.4</a:t>
            </a:r>
            <a:endParaRPr b="0" lang="en-US" sz="1600" spc="-1" strike="noStrike">
              <a:solidFill>
                <a:srgbClr val="f9f5e1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9f5e1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9f5e1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9f5e1"/>
                </a:solidFill>
                <a:latin typeface="Arial"/>
              </a:rPr>
              <a:t>.................</a:t>
            </a:r>
            <a:endParaRPr b="0" lang="en-US" sz="1600" spc="-1" strike="noStrike">
              <a:solidFill>
                <a:srgbClr val="f9f5e1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9f5e1"/>
                </a:solidFill>
                <a:latin typeface="Arial"/>
              </a:rPr>
              <a:t>; housed in Japan, operated by WIDE</a:t>
            </a:r>
            <a:endParaRPr b="0" lang="en-US" sz="1600" spc="-1" strike="noStrike">
              <a:solidFill>
                <a:srgbClr val="f9f5e1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9f5e1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9f5e1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.                        3600000      NS    M.ROOT-SERVERS.NET.</a:t>
            </a:r>
            <a:endParaRPr b="0" lang="en-US" sz="1600" spc="-1" strike="noStrike">
              <a:solidFill>
                <a:srgbClr val="f9f5e1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M.ROOT-SERVERS.NET.      3600000      A     202.12.27.33</a:t>
            </a:r>
            <a:endParaRPr b="0" lang="en-US" sz="1600" spc="-1" strike="noStrike">
              <a:solidFill>
                <a:srgbClr val="f9f5e1"/>
              </a:solidFill>
              <a:latin typeface="Arial"/>
            </a:endParaRPr>
          </a:p>
          <a:p>
            <a:pPr marL="3052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9f5e1"/>
                </a:solidFill>
                <a:latin typeface="Arial"/>
              </a:rPr>
              <a:t>; End of File</a:t>
            </a:r>
            <a:endParaRPr b="0" lang="en-US" sz="16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you do to this file (hints fil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Nothing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You will include it in named.conf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In real networks, don't change it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But for learning, we will change it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ocalhos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Loopback name in operating system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Means 127.0.0.1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Queries for this shouldn't use recursion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o we will configure a file to define the localhost. zone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Note the "."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ocalhost fi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9200" y="158544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$ORIGIN localhost.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$TTL 86400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@        IN     SOA localhost. root.localhost. (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                        </a:t>
            </a: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1  ; serial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                     </a:t>
            </a: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1800  ; refresh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                      </a:t>
            </a: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900  ; retry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                    </a:t>
            </a: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69120  ; expir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                     </a:t>
            </a: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1080  ; negative cache ttl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                        </a:t>
            </a: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                </a:t>
            </a: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NS </a:t>
            </a: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localhost.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                </a:t>
            </a: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A </a:t>
            </a: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127.0.0.1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verse for localhos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ince we want "localhost -&gt; 127.0.0.1" we want to have "127.0.0.1 -&gt; localhost"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We need a zone called 0.0.127.in-addr.arpa.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5T07:55:26Z</dcterms:created>
  <dc:creator>APNIC Training</dc:creator>
  <dc:description/>
  <dc:language>en-US</dc:language>
  <cp:lastModifiedBy>APNIC Pty Ltd</cp:lastModifiedBy>
  <cp:lastPrinted>2000-10-26T12:33:24Z</cp:lastPrinted>
  <dcterms:modified xsi:type="dcterms:W3CDTF">2004-01-14T19:26:48Z</dcterms:modified>
  <cp:revision>345</cp:revision>
  <dc:subject/>
  <dc:title>Welcome! APNIC Members Training Course </dc:title>
</cp:coreProperties>
</file>