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446838" cy="9828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447600" cy="982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7939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1"/>
          </p:nvPr>
        </p:nvSpPr>
        <p:spPr>
          <a:xfrm>
            <a:off x="3652560" y="-360"/>
            <a:ext cx="27939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766800" y="736200"/>
            <a:ext cx="4914720" cy="368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858960" y="4667040"/>
            <a:ext cx="472896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2"/>
          </p:nvPr>
        </p:nvSpPr>
        <p:spPr>
          <a:xfrm>
            <a:off x="-360" y="9336240"/>
            <a:ext cx="279396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3"/>
          </p:nvPr>
        </p:nvSpPr>
        <p:spPr>
          <a:xfrm>
            <a:off x="3652560" y="9336240"/>
            <a:ext cx="279396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7009C-68BB-40D0-AD8C-E00C00E7717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3224160" y="2579760"/>
            <a:ext cx="0" cy="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142920" y="4514400"/>
            <a:ext cx="616104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default - For categories where no configuration has been defin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general - For messages still not classifi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database- Internal database messag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security - Approval and denial of request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config - Configuration file parsing and processing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resolver - DNS resolution, such as the recursive lookup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xfer-in - Zone transfers the server is receiving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xfer-out - Zone transfers the server is sending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notify - The NOTIFY protoco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client - Processing of client request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unmatched - Messages with undetermined class or view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network - Network operation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update - Dynamic updat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queries - Query logging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dispatch - Dispatching of incoming packets to modules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dnssec - DNSSEC and TSIG protocol processing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lame-servers - misconfigurations of remote servers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46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90360" y="1523520"/>
            <a:ext cx="7467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9f5e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2559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2559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588960" cy="6858000"/>
          </a:xfrm>
          <a:prstGeom prst="rect">
            <a:avLst/>
          </a:prstGeom>
          <a:ln w="0">
            <a:noFill/>
          </a:ln>
        </p:spPr>
      </p:pic>
      <p:pic>
        <p:nvPicPr>
          <p:cNvPr id="3" name="" descr=""/>
          <p:cNvPicPr/>
          <p:nvPr/>
        </p:nvPicPr>
        <p:blipFill>
          <a:blip r:embed="rId4"/>
          <a:stretch/>
        </p:blipFill>
        <p:spPr>
          <a:xfrm>
            <a:off x="0" y="0"/>
            <a:ext cx="58896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58896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4"/>
          <a:stretch/>
        </p:blipFill>
        <p:spPr>
          <a:xfrm>
            <a:off x="0" y="0"/>
            <a:ext cx="58896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9f5e1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9f5e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9f5e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9f5e1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9f5e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9f5e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9f5e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2559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9f5e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9f5e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2559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9f5e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9f5e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roubleshooting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46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s the Server Running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33120" y="1292400"/>
            <a:ext cx="7467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Once the name server is thought to be running, make sure it is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Courier New"/>
              </a:rPr>
              <a:t>&gt; dig @127.0.0.1 version.bind chaos txt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Courier New"/>
              </a:rPr>
              <a:t>&gt; named -v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This makes the name server do the simplest lookup it can - its version string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This also confirms which version you started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Common upgrade error: running the old version, forgetting to 'make install'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46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s the Server Data Correct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90360" y="1523520"/>
            <a:ext cx="7467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Now that the server is the right one (executable)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buClr>
                <a:srgbClr val="f9f5e1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Courier New"/>
              </a:rPr>
              <a:t>dig @127.0.0.1 &lt;zone&gt; soa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Check the serial number to make sure the zone has loaded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Also test changed data in case you forgot to update the serial number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When we get to secondary servers, this check is made to see if the zone transferred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46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s the Server Reachable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75960" y="1219320"/>
            <a:ext cx="7467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If the dig tests fail, its time to test the environment (machine, network)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buClr>
                <a:srgbClr val="f9f5e1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Courier New"/>
              </a:rPr>
              <a:t>ping &lt;server machine ip address&gt;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This tests basic network flow, common errors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Network interface not UP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Routing to machine not correct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Pinging 'locally' is useful, believe it or not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Confirms that the IP address is correctly configured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46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s the Server Listening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90360" y="1523520"/>
            <a:ext cx="7467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If the server does not respond, but machine responds to ping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look at system log files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telnet server 53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firewall running?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Server will run even if it can't open the network port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logs will show this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telnet opens a TCP connection, tests whether port was opened at all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46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s the Server Logging the Right Stuff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90360" y="1523520"/>
            <a:ext cx="7467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Provoking and examining the logs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Log files only appear when needed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For example, dnssec logs will start only if 'trusted-keys' are configured and are used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Each category is triggered differently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9f5e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Triggers may not be obvious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46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Using the Tool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90360" y="1523520"/>
            <a:ext cx="7467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named itself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dig/nslookup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host diagnostics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packet sniffers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46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Built in to named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90360" y="1523520"/>
            <a:ext cx="7467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named -g to retain command line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named -g -c &lt;conf file&gt;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keeps named in foreground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named -d &lt;level&gt;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sets the debug output volume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&lt;level&gt;'s aren't strictly defined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-d 3 is popular, -d 99 gives a lot of detail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46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g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90360" y="1523520"/>
            <a:ext cx="7467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domain internet groper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already used in examples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best tool for testing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shows query and response syntax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documentation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9f5e1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Courier New"/>
              </a:rPr>
              <a:t>man dig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9f5e1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Courier New"/>
              </a:rPr>
              <a:t>dig -help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Included in named distribution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46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Non-BIND Tool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90360" y="1523520"/>
            <a:ext cx="7467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Tools to make sure environment is right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Tools to look at server machine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Tools to test network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Tools to see what messages are on the network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46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fconfig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90360" y="1523520"/>
            <a:ext cx="7467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InterFace CONFIGuration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lvl="1" marL="698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Courier New"/>
              </a:rPr>
              <a:t>&gt; ifconfig -a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shows the status of interfaces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operating system utility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Warning, during boot up, ifconfig may configure interfaces after named is started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named can't open delayed addresses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lvl="1" marL="6984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Courier New"/>
              </a:rPr>
              <a:t>&gt;man ifconfig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46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Why Troubleshoot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04760" y="1523520"/>
            <a:ext cx="74678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What Can Go Wrong?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Misconfigured zone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Misconfigured server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Misconfigured host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Misconfigured network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46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ing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90360" y="1523520"/>
            <a:ext cx="7467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Checks routing, machine health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Most useful if run from another host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Could be reason "no servers are reached"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Can be useful on local machine - to see if the interface is properly configured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46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racerout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90360" y="1523520"/>
            <a:ext cx="7467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If ping fails, traceroute can help pinpoint where trouble lies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the problem may be routing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if so - it's not named that needs fixing!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but is it important to know...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46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cpdump and ethereal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90360" y="1523520"/>
            <a:ext cx="7467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Once confident in the environment, problems with DNS setup may exist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To see what is happening in the protocol, use traffic sniffers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These tools can help debug "forwarding" of queries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ethereal can be retrived from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9f5e1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Courier New"/>
              </a:rPr>
              <a:t>http://www.ethereal.com/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30080" y="19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46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ool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90360" y="1523520"/>
            <a:ext cx="7467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BIND Logging Facility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named's built-in options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ping and traceroute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tcpdump and ethereal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dig and nslookup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46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he Best Way To Handle Mistake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90360" y="1523520"/>
            <a:ext cx="7467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Assume You Will Make Them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Prepare The Name Server via Logging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46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BIND Logging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90360" y="1523520"/>
            <a:ext cx="7467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Telling named which messages to send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category specification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Telling named where to send messages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channel specification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46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BIND Categorie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90360" y="1523520"/>
            <a:ext cx="7467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BIND has many categories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Short descriptions of each can be found in the Administrator's Reference Manual (ARM)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Section 6.2.10.2, page 49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Example: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Courier New"/>
              </a:rPr>
              <a:t>category dnssec {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f9f5e1"/>
                </a:solidFill>
                <a:latin typeface="Courier New"/>
              </a:rPr>
              <a:t>dnssec_log;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Courier New"/>
              </a:rPr>
              <a:t>};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46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BIND channel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90360" y="1523520"/>
            <a:ext cx="7467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BIND can use syslog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BIND can direct output to other files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Example: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Courier New"/>
              </a:rPr>
              <a:t>channel dnssec_log {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f9f5e1"/>
                </a:solidFill>
                <a:latin typeface="Courier New"/>
              </a:rPr>
              <a:t>file "seclog" versions 3 size 10m;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f9f5e1"/>
                </a:solidFill>
                <a:latin typeface="Courier New"/>
              </a:rPr>
              <a:t>print-time yes;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f9f5e1"/>
                </a:solidFill>
                <a:latin typeface="Courier New"/>
              </a:rPr>
              <a:t>print-category yes;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f9f5e1"/>
                </a:solidFill>
                <a:latin typeface="Courier New"/>
              </a:rPr>
              <a:t>print-severity yes;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f9f5e1"/>
                </a:solidFill>
                <a:latin typeface="Courier New"/>
              </a:rPr>
              <a:t>severity debug 3;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Courier New"/>
              </a:rPr>
              <a:t>};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46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o You've Set Up A Server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90360" y="1523520"/>
            <a:ext cx="7467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What testing should be done?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From Basic liveness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Is the (right) server running?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Is the machine set up correctly?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To data being served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Has the zone loaded?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Have zone transfers happened?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46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hecking the Configuratio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90360" y="1523520"/>
            <a:ext cx="7467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To see named start, use the -g flag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Keeps named process in the foreground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Prints some diagnostics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But does not execute logging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When satisfied with named's start, kill the process and start without –g flag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Other option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named-checkconf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checks syntax only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5T07:55:26Z</dcterms:created>
  <dc:creator>APNIC Training</dc:creator>
  <dc:description/>
  <dc:language>en-US</dc:language>
  <cp:lastModifiedBy>APNIC Pty Ltd</cp:lastModifiedBy>
  <cp:lastPrinted>2000-10-26T12:33:24Z</cp:lastPrinted>
  <dcterms:modified xsi:type="dcterms:W3CDTF">2004-01-14T19:28:07Z</dcterms:modified>
  <cp:revision>345</cp:revision>
  <dc:subject/>
  <dc:title>Welcome! APNIC Members Training Course </dc:title>
</cp:coreProperties>
</file>