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446838" cy="9828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360" y="411120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1680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540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044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36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540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044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360" y="380880"/>
            <a:ext cx="74674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680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90360" y="411120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680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540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044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9036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540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044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360" y="380880"/>
            <a:ext cx="74674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1680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9f5e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9f5e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ops.ietf.org/dns/dynupd/secure-ddns-howto.html" TargetMode="External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ured Dynamic Updat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n order to do any of this, we need tools (software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ll are part of a BIND 9 distribu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named - the server, concentrating on conf fil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dig - a query/response tool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nsupdate - issues dynamic update messag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rndc - remote name server daemon control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dnssec-keygen - makes the keys needed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static zo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f5e1"/>
                </a:solidFill>
                <a:latin typeface="Courier New"/>
              </a:rPr>
              <a:t>zone "myzone.example." {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f5e1"/>
                </a:solidFill>
                <a:latin typeface="Courier New"/>
              </a:rPr>
              <a:t>        </a:t>
            </a:r>
            <a:r>
              <a:rPr b="1" lang="en-US" sz="2800" spc="-1" strike="noStrike">
                <a:solidFill>
                  <a:srgbClr val="f9f5e1"/>
                </a:solidFill>
                <a:latin typeface="Courier New"/>
              </a:rPr>
              <a:t>type master;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f5e1"/>
                </a:solidFill>
                <a:latin typeface="Courier New"/>
              </a:rPr>
              <a:t>        </a:t>
            </a:r>
            <a:r>
              <a:rPr b="1" lang="en-US" sz="2800" spc="-1" strike="noStrike">
                <a:solidFill>
                  <a:srgbClr val="f9f5e1"/>
                </a:solidFill>
                <a:latin typeface="Courier New"/>
              </a:rPr>
              <a:t>file "myzone.example.";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f5e1"/>
                </a:solidFill>
                <a:latin typeface="Courier New"/>
              </a:rPr>
              <a:t>        </a:t>
            </a:r>
            <a:r>
              <a:rPr b="1" lang="en-US" sz="2800" spc="-1" strike="noStrike">
                <a:solidFill>
                  <a:srgbClr val="f9f5e1"/>
                </a:solidFill>
                <a:latin typeface="Courier New"/>
              </a:rPr>
              <a:t>allow-transfer { any; };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f5e1"/>
                </a:solidFill>
                <a:latin typeface="Courier New"/>
              </a:rPr>
              <a:t>};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ding a dynamic zo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zone "myzone.example." {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type master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file "myzone.example."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allow-transfer { any; }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zone "dynamic.myzone.example." {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type master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file "dynamic.myzone.example."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allow-transfer { any; }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llow-update { any; };     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//note: on-line slide is differen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ynamic.myzone.examp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&gt; cat db.dynamic.myzone.example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$ORIGIN dynamic.myzone.example.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$TTL 1d     ; 1 day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@ 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IN 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SOA     ns1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root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1     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; seria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30m 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; refresh (30 minutes)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15m 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;retry (15 minutes)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19h 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;expire (19h12m)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18min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;minimum (18min)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NS  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ns1.myzone.example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ournal Fi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Once a dynamic zone begins running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 journal file (&lt;zonefile&gt;.jnl) is created when the first dynamic update has been mad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his binary, non-text file maintains all updates in recent tim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Updates aren't immediately reflected in the original &lt;zonefile&gt;, but they are eventuall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Journal entries are written to the zone file at server shutdown (and on demand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Basic debugging aid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dig @server domain.name typ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Used to verify that change has been mad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Used to verify that SOA number increment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g examp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&gt; dig @127.0.0.1 version.bind chaos tx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&gt; dig @127.0.0.1 myzone.example. soa +multilin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&gt; dig @127.0.0.1 dynamic.myzone.example. soa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supda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Generates updates based upon user inpu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Used to make requested updat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supdate examp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50984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Courier New"/>
              </a:rPr>
              <a:t>%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nsupdate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&gt; server 127.0.0.1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&gt; zone dynamic.myzone.example.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&gt; update add alu.dynamic.myzone.example. 600 A192.168.160.1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&gt; update add dynamic.myzone.example. 600 MX 10 alu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&gt; send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&gt; quit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Just to check our work...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Courier New"/>
              </a:rPr>
              <a:t>%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ig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 @127.0.0.1 alu.dynamic.myzone.example. A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%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ig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 @127.0.0.1 dynamic.myzone.example. MX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nd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"Remote" management of server, usually across 127.0.0.1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Used to stop, reload server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Used to freeze and unfreeze dynamic zone { available in BIND 9.3 }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u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Portions of this slide set present features that do not appear in BIND until BIND 9.3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napshot code is available for thi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BIND 9.2 can perform most of the dynamic update featur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ndc examp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% rndc -c rndc.conf statu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% rndc -c rndc.conf reload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% rndc -c rndc.conf freeze dynamic.myzone.example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% rndc -c rndc.conf unfreeze dynamic.myzone.example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% rndc -c rndc.conf stop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NOTE: "freeze" and "unfreeze" are introduced in BIND 9.3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nssec-keyg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imple tool to generate key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Used for DNSSEC too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Used here to generate TSIG key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Used also to generate SIG(0) keys - in version 9.3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nssec-keygen tsig examp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% dnssec-keygen -a HMAC-MD5 -b 128 -n host sample.tsig.key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Ksample.tsig.key.+157+02308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% ls Ksample*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Ksample.tsig.key.+157+02308.key         Ksample.tsig.key.+157+02308.private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nssec-keygen sig(0) examp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% dnssec-keygen -a RSA -b 512 -n host sample.tsig.key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Ksample.tsig.key.+001+18681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% ls Ksam*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Ksample.tsig.key.+001+18681.key         Ksample.tsig.key.+157+02308.key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Ksample.tsig.key.+001+18681.private     Ksample.tsig.key.+157+02308.private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"Secured" Dynamic Upda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Limited to the security of the request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Dynamic Updates to a DNSSEC zone is a work in progres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wo step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dentify and authenticate the updater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Determine if updater is authorize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ep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reate a separate zone for dynamic updat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(Done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onfigure key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onfigure policy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figuring Key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wo styl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SIG - shared secre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SIG (0) - public key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SIG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works in 9.2, secret needed in named.conf (or “include”) and in clien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IG(0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eds 9.3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, public key listed in the zone file (not in named.conf) and private key in clien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SIG key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Issue: Naming the key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Name is arbitrary, but must be consistent between the named.conf and clien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here is an advantage to making it the same as a domain in the zon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o test the keys, turn on key-based authorization of AXFR - just for testing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king TSIG key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9f5e1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dnssec-keygen -a HMAC-MD5 -b 128 -n host \ slave1.dynamic.myzone.example.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9f5e1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dnssec-keygen -a HMAC-MD5 -b 128 -n host \ slave2.dynamic.myzone.example.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9f5e1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ls: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Kslave1.dynamic.myzone.example.+157+42488.key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Kslave1.dynamic.myzone.example.+157+42488.private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Kslave2.dynamic.myzone.example.+157+57806.key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Kslave2.dynamic.myzone.example.+157+57806.private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ding TSIG to named.conf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key “slave1.dynamic.myzone.example." {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algorithm HMAC-MD5;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secret "sd7qi6tiw+N5fK3mGNDNJU9TwIju+1ye7r2shgfkxIg=";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};      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key “slave2.dynamic.myzone.example." {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algorithm HMAC-MD5;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secret "KXMoZHZIIxVsxKp4aUp6YTy3EswUN9CeDEpneJDOgVM=";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Dynamic Update Basic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etting Up A Dynamic Zon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ecuring I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uthorization Configura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Playing with Update Command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nteractions with DHCP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figuring TSIG AXF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96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Just so we can see that the keys work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zone "dynamic.myzone.example." {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type master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file "dynamic.myzone.example."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llow-transfer {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             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key slave1.dynamic.myzone.example.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             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key slave2.dynamic.myzone.example.;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allow-update { 127.0.0.1; }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sting with di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Fails: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% dig @127.0.0.1 dynamic.myzone.example. axfr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ucceeds: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%  dig @127.0.0.1 dynamic.myzone.example. axfr -y slave1.dynamic.myzone.example.:KXMoZHZIIxVsxKp4aUp6YTy3EswUN9CeDEpneJDOgVM=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his shows that the TSIG key is properly configured in named.conf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4520" y="380880"/>
            <a:ext cx="7843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ey based dynamic updates (TSIG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zone "dynamic.myzone.example." {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type master;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file "dynamic.myzone.example.";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allow-transfer {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key slave1.dynamic.myzone.example.;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key slave2.dynamic.myzone.example.; 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allow-update {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key user1.dynamic.myzone.example.;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key user2.dynamic.myzone.example.; 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"Keying" nsupda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he next three slides show different ways to add key information to nsupdat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first hides key from "ps -aux" by entering it interactivel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econd hides it by referencing the file it is i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last puts the secret on the command lin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eyed nsupdate #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1760" y="166176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% nsupdate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&gt; zone dynamic.myzone.example.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&gt; server 127.0.0.1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&gt;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key user1.dynamic.myzone.example. sd7qi6tiw+N5fK3mGNDNJU9TwIju+1ye7r2shgfkxIg=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&gt; update add puri.dynamic.myzone.example. 600 A 192.168.50.1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&gt; send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% dig @127.0.0.1 puri.dynamic.myzone.example A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eyed nsupdate #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52120" y="161784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% nsupdat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-k Kuser1.dynamic.myzone.example.+157+57806.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&gt; zone dynamic.myzone.example.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&gt; server 127.0.0.1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&gt; update add alu.dynamic.myzone.example. 900 A 192.168.50.2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&gt; Send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% dig @127.0.0.1 alu.dynamic.myzone.example A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eyed nsupdate #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09840"/>
            <a:ext cx="8207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% nsupdat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-y Kuser1.dynamic.myzone.example.:sd7qi6tiw+N5fK3mGNDNJU9TwIju+1ye7r2shgfkxIg=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&gt; zone dynamic.myzone.example.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&gt; server 127.0.0.1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&gt; update add palak.dynamic.myzone.example. A 90 192.168.50.2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&gt; send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% dig @127.0.0.1 palak.dynamic.myzone.example. A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eraction with DHC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ee the following URL for in-depth informatio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ops.ietf.org/dns/dynupd/secure-ddns-howto.html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09480" y="4191120"/>
            <a:ext cx="8077320" cy="2133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828800"/>
            <a:ext cx="8077320" cy="2133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HCP and DynUp Loo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276720" y="1905120"/>
            <a:ext cx="609120" cy="914400"/>
            <a:chOff x="3276720" y="1905120"/>
            <a:chExt cx="609120" cy="914400"/>
          </a:xfrm>
        </p:grpSpPr>
        <p:sp>
          <p:nvSpPr>
            <p:cNvPr id="226" name=""/>
            <p:cNvSpPr/>
            <p:nvPr/>
          </p:nvSpPr>
          <p:spPr>
            <a:xfrm>
              <a:off x="3282840" y="1909800"/>
              <a:ext cx="356760" cy="90972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39600" y="1909800"/>
              <a:ext cx="246240" cy="909720"/>
            </a:xfrm>
            <a:custGeom>
              <a:avLst/>
              <a:gdLst/>
              <a:ahLst/>
              <a:rect l="l" t="t" r="r" b="b"/>
              <a:pathLst>
                <a:path w="160" h="784">
                  <a:moveTo>
                    <a:pt x="0" y="784"/>
                  </a:moveTo>
                  <a:lnTo>
                    <a:pt x="0" y="0"/>
                  </a:lnTo>
                  <a:lnTo>
                    <a:pt x="160" y="56"/>
                  </a:lnTo>
                  <a:lnTo>
                    <a:pt x="160" y="688"/>
                  </a:lnTo>
                  <a:lnTo>
                    <a:pt x="0" y="784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07320" y="1928520"/>
              <a:ext cx="295200" cy="63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76720" y="1905120"/>
              <a:ext cx="603000" cy="909720"/>
            </a:xfrm>
            <a:custGeom>
              <a:avLst/>
              <a:gdLst/>
              <a:ahLst/>
              <a:rect l="l" t="t" r="r" b="b"/>
              <a:pathLst>
                <a:path w="392" h="784">
                  <a:moveTo>
                    <a:pt x="232" y="784"/>
                  </a:moveTo>
                  <a:lnTo>
                    <a:pt x="232" y="0"/>
                  </a:lnTo>
                  <a:lnTo>
                    <a:pt x="0" y="0"/>
                  </a:lnTo>
                  <a:lnTo>
                    <a:pt x="0" y="784"/>
                  </a:lnTo>
                  <a:lnTo>
                    <a:pt x="232" y="784"/>
                  </a:lnTo>
                  <a:lnTo>
                    <a:pt x="232" y="0"/>
                  </a:lnTo>
                  <a:lnTo>
                    <a:pt x="392" y="56"/>
                  </a:lnTo>
                  <a:lnTo>
                    <a:pt x="392" y="688"/>
                  </a:lnTo>
                  <a:lnTo>
                    <a:pt x="232" y="78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01200" y="1923480"/>
              <a:ext cx="294840" cy="63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01200" y="2499120"/>
              <a:ext cx="282600" cy="5544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0"/>
                  </a:moveTo>
                  <a:lnTo>
                    <a:pt x="24" y="0"/>
                  </a:lnTo>
                  <a:lnTo>
                    <a:pt x="0" y="4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07320" y="2058480"/>
              <a:ext cx="295200" cy="46080"/>
            </a:xfrm>
            <a:custGeom>
              <a:avLst/>
              <a:gdLst/>
              <a:ahLst/>
              <a:rect l="l" t="t" r="r" b="b"/>
              <a:pathLst>
                <a:path w="192" h="40">
                  <a:moveTo>
                    <a:pt x="24" y="0"/>
                  </a:moveTo>
                  <a:lnTo>
                    <a:pt x="0" y="40"/>
                  </a:lnTo>
                  <a:lnTo>
                    <a:pt x="192" y="40"/>
                  </a:lnTo>
                  <a:lnTo>
                    <a:pt x="19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307320" y="2104560"/>
              <a:ext cx="295200" cy="9000"/>
            </a:xfrm>
            <a:custGeom>
              <a:avLst/>
              <a:gdLst/>
              <a:ahLst/>
              <a:rect l="l" t="t" r="r" b="b"/>
              <a:pathLst>
                <a:path w="192" h="8">
                  <a:moveTo>
                    <a:pt x="192" y="0"/>
                  </a:moveTo>
                  <a:lnTo>
                    <a:pt x="0" y="0"/>
                  </a:lnTo>
                  <a:lnTo>
                    <a:pt x="24" y="8"/>
                  </a:lnTo>
                  <a:lnTo>
                    <a:pt x="192" y="8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07320" y="2160360"/>
              <a:ext cx="295200" cy="46080"/>
            </a:xfrm>
            <a:custGeom>
              <a:avLst/>
              <a:gdLst/>
              <a:ahLst/>
              <a:rect l="l" t="t" r="r" b="b"/>
              <a:pathLst>
                <a:path w="192" h="40">
                  <a:moveTo>
                    <a:pt x="24" y="0"/>
                  </a:moveTo>
                  <a:lnTo>
                    <a:pt x="0" y="40"/>
                  </a:lnTo>
                  <a:lnTo>
                    <a:pt x="192" y="40"/>
                  </a:lnTo>
                  <a:lnTo>
                    <a:pt x="19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01200" y="2044440"/>
              <a:ext cx="294840" cy="5544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24" y="0"/>
                  </a:moveTo>
                  <a:lnTo>
                    <a:pt x="0" y="48"/>
                  </a:lnTo>
                  <a:lnTo>
                    <a:pt x="192" y="48"/>
                  </a:lnTo>
                  <a:lnTo>
                    <a:pt x="192" y="0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01200" y="2146680"/>
              <a:ext cx="294840" cy="5544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24" y="0"/>
                  </a:moveTo>
                  <a:lnTo>
                    <a:pt x="0" y="48"/>
                  </a:lnTo>
                  <a:lnTo>
                    <a:pt x="192" y="48"/>
                  </a:lnTo>
                  <a:lnTo>
                    <a:pt x="192" y="0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07320" y="2206800"/>
              <a:ext cx="295200" cy="9000"/>
            </a:xfrm>
            <a:custGeom>
              <a:avLst/>
              <a:gdLst/>
              <a:ahLst/>
              <a:rect l="l" t="t" r="r" b="b"/>
              <a:pathLst>
                <a:path w="192" h="8">
                  <a:moveTo>
                    <a:pt x="192" y="0"/>
                  </a:moveTo>
                  <a:lnTo>
                    <a:pt x="0" y="0"/>
                  </a:lnTo>
                  <a:lnTo>
                    <a:pt x="24" y="8"/>
                  </a:lnTo>
                  <a:lnTo>
                    <a:pt x="192" y="8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07320" y="1955880"/>
              <a:ext cx="295200" cy="46440"/>
            </a:xfrm>
            <a:custGeom>
              <a:avLst/>
              <a:gdLst/>
              <a:ahLst/>
              <a:rect l="l" t="t" r="r" b="b"/>
              <a:pathLst>
                <a:path w="192" h="40">
                  <a:moveTo>
                    <a:pt x="24" y="0"/>
                  </a:moveTo>
                  <a:lnTo>
                    <a:pt x="0" y="40"/>
                  </a:lnTo>
                  <a:lnTo>
                    <a:pt x="192" y="40"/>
                  </a:lnTo>
                  <a:lnTo>
                    <a:pt x="19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07320" y="2002680"/>
              <a:ext cx="295200" cy="9000"/>
            </a:xfrm>
            <a:custGeom>
              <a:avLst/>
              <a:gdLst/>
              <a:ahLst/>
              <a:rect l="l" t="t" r="r" b="b"/>
              <a:pathLst>
                <a:path w="192" h="8">
                  <a:moveTo>
                    <a:pt x="192" y="0"/>
                  </a:moveTo>
                  <a:lnTo>
                    <a:pt x="0" y="0"/>
                  </a:lnTo>
                  <a:lnTo>
                    <a:pt x="24" y="8"/>
                  </a:lnTo>
                  <a:lnTo>
                    <a:pt x="192" y="8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07320" y="1928520"/>
              <a:ext cx="295200" cy="27360"/>
            </a:xfrm>
            <a:custGeom>
              <a:avLst/>
              <a:gdLst/>
              <a:ahLst/>
              <a:rect l="l" t="t" r="r" b="b"/>
              <a:pathLst>
                <a:path w="192" h="24">
                  <a:moveTo>
                    <a:pt x="0" y="0"/>
                  </a:moveTo>
                  <a:lnTo>
                    <a:pt x="192" y="0"/>
                  </a:lnTo>
                  <a:lnTo>
                    <a:pt x="192" y="24"/>
                  </a:lnTo>
                  <a:lnTo>
                    <a:pt x="24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356640" y="2067480"/>
              <a:ext cx="233640" cy="27720"/>
            </a:xfrm>
            <a:custGeom>
              <a:avLst/>
              <a:gdLst/>
              <a:ahLst/>
              <a:rect l="l" t="t" r="r" b="b"/>
              <a:pathLst>
                <a:path w="152" h="24">
                  <a:moveTo>
                    <a:pt x="96" y="24"/>
                  </a:moveTo>
                  <a:lnTo>
                    <a:pt x="96" y="16"/>
                  </a:lnTo>
                  <a:lnTo>
                    <a:pt x="144" y="16"/>
                  </a:lnTo>
                  <a:lnTo>
                    <a:pt x="152" y="8"/>
                  </a:lnTo>
                  <a:lnTo>
                    <a:pt x="96" y="8"/>
                  </a:lnTo>
                  <a:lnTo>
                    <a:pt x="96" y="0"/>
                  </a:lnTo>
                  <a:lnTo>
                    <a:pt x="48" y="0"/>
                  </a:lnTo>
                  <a:lnTo>
                    <a:pt x="4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9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01200" y="1942200"/>
              <a:ext cx="294840" cy="5544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24" y="0"/>
                  </a:moveTo>
                  <a:lnTo>
                    <a:pt x="0" y="48"/>
                  </a:lnTo>
                  <a:lnTo>
                    <a:pt x="192" y="48"/>
                  </a:lnTo>
                  <a:lnTo>
                    <a:pt x="192" y="0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62760" y="2239200"/>
              <a:ext cx="209160" cy="241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307320" y="2624400"/>
              <a:ext cx="295200" cy="464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07320" y="2698920"/>
              <a:ext cx="295200" cy="460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886200" y="243828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648320" y="2057040"/>
            <a:ext cx="0" cy="16765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342900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276720" y="2971800"/>
            <a:ext cx="609120" cy="914400"/>
            <a:chOff x="3276720" y="2971800"/>
            <a:chExt cx="609120" cy="914400"/>
          </a:xfrm>
        </p:grpSpPr>
        <p:sp>
          <p:nvSpPr>
            <p:cNvPr id="250" name=""/>
            <p:cNvSpPr/>
            <p:nvPr/>
          </p:nvSpPr>
          <p:spPr>
            <a:xfrm>
              <a:off x="3282840" y="2976480"/>
              <a:ext cx="356760" cy="90972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39600" y="2976480"/>
              <a:ext cx="246240" cy="909720"/>
            </a:xfrm>
            <a:custGeom>
              <a:avLst/>
              <a:gdLst/>
              <a:ahLst/>
              <a:rect l="l" t="t" r="r" b="b"/>
              <a:pathLst>
                <a:path w="160" h="784">
                  <a:moveTo>
                    <a:pt x="0" y="784"/>
                  </a:moveTo>
                  <a:lnTo>
                    <a:pt x="0" y="0"/>
                  </a:lnTo>
                  <a:lnTo>
                    <a:pt x="160" y="56"/>
                  </a:lnTo>
                  <a:lnTo>
                    <a:pt x="160" y="688"/>
                  </a:lnTo>
                  <a:lnTo>
                    <a:pt x="0" y="784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07320" y="2995200"/>
              <a:ext cx="295200" cy="63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276720" y="2971800"/>
              <a:ext cx="603000" cy="909720"/>
            </a:xfrm>
            <a:custGeom>
              <a:avLst/>
              <a:gdLst/>
              <a:ahLst/>
              <a:rect l="l" t="t" r="r" b="b"/>
              <a:pathLst>
                <a:path w="392" h="784">
                  <a:moveTo>
                    <a:pt x="232" y="784"/>
                  </a:moveTo>
                  <a:lnTo>
                    <a:pt x="232" y="0"/>
                  </a:lnTo>
                  <a:lnTo>
                    <a:pt x="0" y="0"/>
                  </a:lnTo>
                  <a:lnTo>
                    <a:pt x="0" y="784"/>
                  </a:lnTo>
                  <a:lnTo>
                    <a:pt x="232" y="784"/>
                  </a:lnTo>
                  <a:lnTo>
                    <a:pt x="232" y="0"/>
                  </a:lnTo>
                  <a:lnTo>
                    <a:pt x="392" y="56"/>
                  </a:lnTo>
                  <a:lnTo>
                    <a:pt x="392" y="688"/>
                  </a:lnTo>
                  <a:lnTo>
                    <a:pt x="232" y="78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01200" y="2990160"/>
              <a:ext cx="294840" cy="63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01200" y="3565800"/>
              <a:ext cx="282600" cy="5544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0"/>
                  </a:moveTo>
                  <a:lnTo>
                    <a:pt x="24" y="0"/>
                  </a:lnTo>
                  <a:lnTo>
                    <a:pt x="0" y="4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07320" y="3125160"/>
              <a:ext cx="295200" cy="46080"/>
            </a:xfrm>
            <a:custGeom>
              <a:avLst/>
              <a:gdLst/>
              <a:ahLst/>
              <a:rect l="l" t="t" r="r" b="b"/>
              <a:pathLst>
                <a:path w="192" h="40">
                  <a:moveTo>
                    <a:pt x="24" y="0"/>
                  </a:moveTo>
                  <a:lnTo>
                    <a:pt x="0" y="40"/>
                  </a:lnTo>
                  <a:lnTo>
                    <a:pt x="192" y="40"/>
                  </a:lnTo>
                  <a:lnTo>
                    <a:pt x="19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07320" y="3171240"/>
              <a:ext cx="295200" cy="9000"/>
            </a:xfrm>
            <a:custGeom>
              <a:avLst/>
              <a:gdLst/>
              <a:ahLst/>
              <a:rect l="l" t="t" r="r" b="b"/>
              <a:pathLst>
                <a:path w="192" h="8">
                  <a:moveTo>
                    <a:pt x="192" y="0"/>
                  </a:moveTo>
                  <a:lnTo>
                    <a:pt x="0" y="0"/>
                  </a:lnTo>
                  <a:lnTo>
                    <a:pt x="24" y="8"/>
                  </a:lnTo>
                  <a:lnTo>
                    <a:pt x="192" y="8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07320" y="3227040"/>
              <a:ext cx="295200" cy="46080"/>
            </a:xfrm>
            <a:custGeom>
              <a:avLst/>
              <a:gdLst/>
              <a:ahLst/>
              <a:rect l="l" t="t" r="r" b="b"/>
              <a:pathLst>
                <a:path w="192" h="40">
                  <a:moveTo>
                    <a:pt x="24" y="0"/>
                  </a:moveTo>
                  <a:lnTo>
                    <a:pt x="0" y="40"/>
                  </a:lnTo>
                  <a:lnTo>
                    <a:pt x="192" y="40"/>
                  </a:lnTo>
                  <a:lnTo>
                    <a:pt x="19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01200" y="3111120"/>
              <a:ext cx="294840" cy="5544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24" y="0"/>
                  </a:moveTo>
                  <a:lnTo>
                    <a:pt x="0" y="48"/>
                  </a:lnTo>
                  <a:lnTo>
                    <a:pt x="192" y="48"/>
                  </a:lnTo>
                  <a:lnTo>
                    <a:pt x="192" y="0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01200" y="3213360"/>
              <a:ext cx="294840" cy="5544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24" y="0"/>
                  </a:moveTo>
                  <a:lnTo>
                    <a:pt x="0" y="48"/>
                  </a:lnTo>
                  <a:lnTo>
                    <a:pt x="192" y="48"/>
                  </a:lnTo>
                  <a:lnTo>
                    <a:pt x="192" y="0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07320" y="3273480"/>
              <a:ext cx="295200" cy="9000"/>
            </a:xfrm>
            <a:custGeom>
              <a:avLst/>
              <a:gdLst/>
              <a:ahLst/>
              <a:rect l="l" t="t" r="r" b="b"/>
              <a:pathLst>
                <a:path w="192" h="8">
                  <a:moveTo>
                    <a:pt x="192" y="0"/>
                  </a:moveTo>
                  <a:lnTo>
                    <a:pt x="0" y="0"/>
                  </a:lnTo>
                  <a:lnTo>
                    <a:pt x="24" y="8"/>
                  </a:lnTo>
                  <a:lnTo>
                    <a:pt x="192" y="8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07320" y="3022560"/>
              <a:ext cx="295200" cy="46440"/>
            </a:xfrm>
            <a:custGeom>
              <a:avLst/>
              <a:gdLst/>
              <a:ahLst/>
              <a:rect l="l" t="t" r="r" b="b"/>
              <a:pathLst>
                <a:path w="192" h="40">
                  <a:moveTo>
                    <a:pt x="24" y="0"/>
                  </a:moveTo>
                  <a:lnTo>
                    <a:pt x="0" y="40"/>
                  </a:lnTo>
                  <a:lnTo>
                    <a:pt x="192" y="40"/>
                  </a:lnTo>
                  <a:lnTo>
                    <a:pt x="19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07320" y="3069360"/>
              <a:ext cx="295200" cy="9000"/>
            </a:xfrm>
            <a:custGeom>
              <a:avLst/>
              <a:gdLst/>
              <a:ahLst/>
              <a:rect l="l" t="t" r="r" b="b"/>
              <a:pathLst>
                <a:path w="192" h="8">
                  <a:moveTo>
                    <a:pt x="192" y="0"/>
                  </a:moveTo>
                  <a:lnTo>
                    <a:pt x="0" y="0"/>
                  </a:lnTo>
                  <a:lnTo>
                    <a:pt x="24" y="8"/>
                  </a:lnTo>
                  <a:lnTo>
                    <a:pt x="192" y="8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307320" y="2995200"/>
              <a:ext cx="295200" cy="27360"/>
            </a:xfrm>
            <a:custGeom>
              <a:avLst/>
              <a:gdLst/>
              <a:ahLst/>
              <a:rect l="l" t="t" r="r" b="b"/>
              <a:pathLst>
                <a:path w="192" h="24">
                  <a:moveTo>
                    <a:pt x="0" y="0"/>
                  </a:moveTo>
                  <a:lnTo>
                    <a:pt x="192" y="0"/>
                  </a:lnTo>
                  <a:lnTo>
                    <a:pt x="192" y="24"/>
                  </a:lnTo>
                  <a:lnTo>
                    <a:pt x="24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356640" y="3134160"/>
              <a:ext cx="233640" cy="27720"/>
            </a:xfrm>
            <a:custGeom>
              <a:avLst/>
              <a:gdLst/>
              <a:ahLst/>
              <a:rect l="l" t="t" r="r" b="b"/>
              <a:pathLst>
                <a:path w="152" h="24">
                  <a:moveTo>
                    <a:pt x="96" y="24"/>
                  </a:moveTo>
                  <a:lnTo>
                    <a:pt x="96" y="16"/>
                  </a:lnTo>
                  <a:lnTo>
                    <a:pt x="144" y="16"/>
                  </a:lnTo>
                  <a:lnTo>
                    <a:pt x="152" y="8"/>
                  </a:lnTo>
                  <a:lnTo>
                    <a:pt x="96" y="8"/>
                  </a:lnTo>
                  <a:lnTo>
                    <a:pt x="96" y="0"/>
                  </a:lnTo>
                  <a:lnTo>
                    <a:pt x="48" y="0"/>
                  </a:lnTo>
                  <a:lnTo>
                    <a:pt x="4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9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301200" y="3008880"/>
              <a:ext cx="294840" cy="5544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24" y="0"/>
                  </a:moveTo>
                  <a:lnTo>
                    <a:pt x="0" y="48"/>
                  </a:lnTo>
                  <a:lnTo>
                    <a:pt x="192" y="48"/>
                  </a:lnTo>
                  <a:lnTo>
                    <a:pt x="192" y="0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62760" y="3305880"/>
              <a:ext cx="209160" cy="241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07320" y="3691080"/>
              <a:ext cx="295200" cy="464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07320" y="3765600"/>
              <a:ext cx="295200" cy="460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648320" y="2895480"/>
            <a:ext cx="9824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5326200" y="2514600"/>
          <a:ext cx="982440" cy="82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26200" y="2514600"/>
                    <a:ext cx="98244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609480" y="220968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 Narrow"/>
              </a:rPr>
              <a:t>Mirchi.net.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 Narrow"/>
              </a:rPr>
              <a:t>32.7.275.in-addr.arpa.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0200" y="350532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 Narrow"/>
              </a:rPr>
              <a:t>leases for 275.7.32.0-127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8360" y="205740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 Narrow"/>
              </a:rPr>
              <a:t>DNS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8000" y="304812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 Narrow"/>
              </a:rPr>
              <a:t>DHCP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276720" y="4251240"/>
            <a:ext cx="609120" cy="914400"/>
            <a:chOff x="3276720" y="4251240"/>
            <a:chExt cx="609120" cy="914400"/>
          </a:xfrm>
        </p:grpSpPr>
        <p:sp>
          <p:nvSpPr>
            <p:cNvPr id="278" name=""/>
            <p:cNvSpPr/>
            <p:nvPr/>
          </p:nvSpPr>
          <p:spPr>
            <a:xfrm>
              <a:off x="3282840" y="4255920"/>
              <a:ext cx="356760" cy="90972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39600" y="4255920"/>
              <a:ext cx="246240" cy="909720"/>
            </a:xfrm>
            <a:custGeom>
              <a:avLst/>
              <a:gdLst/>
              <a:ahLst/>
              <a:rect l="l" t="t" r="r" b="b"/>
              <a:pathLst>
                <a:path w="160" h="784">
                  <a:moveTo>
                    <a:pt x="0" y="784"/>
                  </a:moveTo>
                  <a:lnTo>
                    <a:pt x="0" y="0"/>
                  </a:lnTo>
                  <a:lnTo>
                    <a:pt x="160" y="56"/>
                  </a:lnTo>
                  <a:lnTo>
                    <a:pt x="160" y="688"/>
                  </a:lnTo>
                  <a:lnTo>
                    <a:pt x="0" y="784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07320" y="4274640"/>
              <a:ext cx="295200" cy="63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76720" y="4251240"/>
              <a:ext cx="603000" cy="909720"/>
            </a:xfrm>
            <a:custGeom>
              <a:avLst/>
              <a:gdLst/>
              <a:ahLst/>
              <a:rect l="l" t="t" r="r" b="b"/>
              <a:pathLst>
                <a:path w="392" h="784">
                  <a:moveTo>
                    <a:pt x="232" y="784"/>
                  </a:moveTo>
                  <a:lnTo>
                    <a:pt x="232" y="0"/>
                  </a:lnTo>
                  <a:lnTo>
                    <a:pt x="0" y="0"/>
                  </a:lnTo>
                  <a:lnTo>
                    <a:pt x="0" y="784"/>
                  </a:lnTo>
                  <a:lnTo>
                    <a:pt x="232" y="784"/>
                  </a:lnTo>
                  <a:lnTo>
                    <a:pt x="232" y="0"/>
                  </a:lnTo>
                  <a:lnTo>
                    <a:pt x="392" y="56"/>
                  </a:lnTo>
                  <a:lnTo>
                    <a:pt x="392" y="688"/>
                  </a:lnTo>
                  <a:lnTo>
                    <a:pt x="232" y="78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01200" y="4269600"/>
              <a:ext cx="294840" cy="63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301200" y="4845240"/>
              <a:ext cx="282600" cy="5544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0"/>
                  </a:moveTo>
                  <a:lnTo>
                    <a:pt x="24" y="0"/>
                  </a:lnTo>
                  <a:lnTo>
                    <a:pt x="0" y="4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307320" y="4404600"/>
              <a:ext cx="295200" cy="46080"/>
            </a:xfrm>
            <a:custGeom>
              <a:avLst/>
              <a:gdLst/>
              <a:ahLst/>
              <a:rect l="l" t="t" r="r" b="b"/>
              <a:pathLst>
                <a:path w="192" h="40">
                  <a:moveTo>
                    <a:pt x="24" y="0"/>
                  </a:moveTo>
                  <a:lnTo>
                    <a:pt x="0" y="40"/>
                  </a:lnTo>
                  <a:lnTo>
                    <a:pt x="192" y="40"/>
                  </a:lnTo>
                  <a:lnTo>
                    <a:pt x="19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07320" y="4450680"/>
              <a:ext cx="295200" cy="9000"/>
            </a:xfrm>
            <a:custGeom>
              <a:avLst/>
              <a:gdLst/>
              <a:ahLst/>
              <a:rect l="l" t="t" r="r" b="b"/>
              <a:pathLst>
                <a:path w="192" h="8">
                  <a:moveTo>
                    <a:pt x="192" y="0"/>
                  </a:moveTo>
                  <a:lnTo>
                    <a:pt x="0" y="0"/>
                  </a:lnTo>
                  <a:lnTo>
                    <a:pt x="24" y="8"/>
                  </a:lnTo>
                  <a:lnTo>
                    <a:pt x="192" y="8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07320" y="4506480"/>
              <a:ext cx="295200" cy="46080"/>
            </a:xfrm>
            <a:custGeom>
              <a:avLst/>
              <a:gdLst/>
              <a:ahLst/>
              <a:rect l="l" t="t" r="r" b="b"/>
              <a:pathLst>
                <a:path w="192" h="40">
                  <a:moveTo>
                    <a:pt x="24" y="0"/>
                  </a:moveTo>
                  <a:lnTo>
                    <a:pt x="0" y="40"/>
                  </a:lnTo>
                  <a:lnTo>
                    <a:pt x="192" y="40"/>
                  </a:lnTo>
                  <a:lnTo>
                    <a:pt x="19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01200" y="4390560"/>
              <a:ext cx="294840" cy="5544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24" y="0"/>
                  </a:moveTo>
                  <a:lnTo>
                    <a:pt x="0" y="48"/>
                  </a:lnTo>
                  <a:lnTo>
                    <a:pt x="192" y="48"/>
                  </a:lnTo>
                  <a:lnTo>
                    <a:pt x="192" y="0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301200" y="4492800"/>
              <a:ext cx="294840" cy="5544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24" y="0"/>
                  </a:moveTo>
                  <a:lnTo>
                    <a:pt x="0" y="48"/>
                  </a:lnTo>
                  <a:lnTo>
                    <a:pt x="192" y="48"/>
                  </a:lnTo>
                  <a:lnTo>
                    <a:pt x="192" y="0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07320" y="4552920"/>
              <a:ext cx="295200" cy="9000"/>
            </a:xfrm>
            <a:custGeom>
              <a:avLst/>
              <a:gdLst/>
              <a:ahLst/>
              <a:rect l="l" t="t" r="r" b="b"/>
              <a:pathLst>
                <a:path w="192" h="8">
                  <a:moveTo>
                    <a:pt x="192" y="0"/>
                  </a:moveTo>
                  <a:lnTo>
                    <a:pt x="0" y="0"/>
                  </a:lnTo>
                  <a:lnTo>
                    <a:pt x="24" y="8"/>
                  </a:lnTo>
                  <a:lnTo>
                    <a:pt x="192" y="8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07320" y="4302000"/>
              <a:ext cx="295200" cy="46440"/>
            </a:xfrm>
            <a:custGeom>
              <a:avLst/>
              <a:gdLst/>
              <a:ahLst/>
              <a:rect l="l" t="t" r="r" b="b"/>
              <a:pathLst>
                <a:path w="192" h="40">
                  <a:moveTo>
                    <a:pt x="24" y="0"/>
                  </a:moveTo>
                  <a:lnTo>
                    <a:pt x="0" y="40"/>
                  </a:lnTo>
                  <a:lnTo>
                    <a:pt x="192" y="40"/>
                  </a:lnTo>
                  <a:lnTo>
                    <a:pt x="19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07320" y="4348800"/>
              <a:ext cx="295200" cy="9000"/>
            </a:xfrm>
            <a:custGeom>
              <a:avLst/>
              <a:gdLst/>
              <a:ahLst/>
              <a:rect l="l" t="t" r="r" b="b"/>
              <a:pathLst>
                <a:path w="192" h="8">
                  <a:moveTo>
                    <a:pt x="192" y="0"/>
                  </a:moveTo>
                  <a:lnTo>
                    <a:pt x="0" y="0"/>
                  </a:lnTo>
                  <a:lnTo>
                    <a:pt x="24" y="8"/>
                  </a:lnTo>
                  <a:lnTo>
                    <a:pt x="192" y="8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07320" y="4274640"/>
              <a:ext cx="295200" cy="27360"/>
            </a:xfrm>
            <a:custGeom>
              <a:avLst/>
              <a:gdLst/>
              <a:ahLst/>
              <a:rect l="l" t="t" r="r" b="b"/>
              <a:pathLst>
                <a:path w="192" h="24">
                  <a:moveTo>
                    <a:pt x="0" y="0"/>
                  </a:moveTo>
                  <a:lnTo>
                    <a:pt x="192" y="0"/>
                  </a:lnTo>
                  <a:lnTo>
                    <a:pt x="192" y="24"/>
                  </a:lnTo>
                  <a:lnTo>
                    <a:pt x="24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56640" y="4413600"/>
              <a:ext cx="233640" cy="27720"/>
            </a:xfrm>
            <a:custGeom>
              <a:avLst/>
              <a:gdLst/>
              <a:ahLst/>
              <a:rect l="l" t="t" r="r" b="b"/>
              <a:pathLst>
                <a:path w="152" h="24">
                  <a:moveTo>
                    <a:pt x="96" y="24"/>
                  </a:moveTo>
                  <a:lnTo>
                    <a:pt x="96" y="16"/>
                  </a:lnTo>
                  <a:lnTo>
                    <a:pt x="144" y="16"/>
                  </a:lnTo>
                  <a:lnTo>
                    <a:pt x="152" y="8"/>
                  </a:lnTo>
                  <a:lnTo>
                    <a:pt x="96" y="8"/>
                  </a:lnTo>
                  <a:lnTo>
                    <a:pt x="96" y="0"/>
                  </a:lnTo>
                  <a:lnTo>
                    <a:pt x="48" y="0"/>
                  </a:lnTo>
                  <a:lnTo>
                    <a:pt x="4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9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01200" y="4288320"/>
              <a:ext cx="294840" cy="5544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24" y="0"/>
                  </a:moveTo>
                  <a:lnTo>
                    <a:pt x="0" y="48"/>
                  </a:lnTo>
                  <a:lnTo>
                    <a:pt x="192" y="48"/>
                  </a:lnTo>
                  <a:lnTo>
                    <a:pt x="192" y="0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62760" y="4585320"/>
              <a:ext cx="209160" cy="241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07320" y="4970520"/>
              <a:ext cx="295200" cy="464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07320" y="5045040"/>
              <a:ext cx="295200" cy="460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886200" y="478476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648320" y="4403880"/>
            <a:ext cx="0" cy="16761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577548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276720" y="5318280"/>
            <a:ext cx="609120" cy="914400"/>
            <a:chOff x="3276720" y="5318280"/>
            <a:chExt cx="609120" cy="914400"/>
          </a:xfrm>
        </p:grpSpPr>
        <p:sp>
          <p:nvSpPr>
            <p:cNvPr id="302" name=""/>
            <p:cNvSpPr/>
            <p:nvPr/>
          </p:nvSpPr>
          <p:spPr>
            <a:xfrm>
              <a:off x="3282840" y="5322960"/>
              <a:ext cx="356760" cy="90972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39600" y="5322960"/>
              <a:ext cx="246240" cy="909720"/>
            </a:xfrm>
            <a:custGeom>
              <a:avLst/>
              <a:gdLst/>
              <a:ahLst/>
              <a:rect l="l" t="t" r="r" b="b"/>
              <a:pathLst>
                <a:path w="160" h="784">
                  <a:moveTo>
                    <a:pt x="0" y="784"/>
                  </a:moveTo>
                  <a:lnTo>
                    <a:pt x="0" y="0"/>
                  </a:lnTo>
                  <a:lnTo>
                    <a:pt x="160" y="56"/>
                  </a:lnTo>
                  <a:lnTo>
                    <a:pt x="160" y="688"/>
                  </a:lnTo>
                  <a:lnTo>
                    <a:pt x="0" y="784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07320" y="5341680"/>
              <a:ext cx="295200" cy="63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5318280"/>
              <a:ext cx="603000" cy="909720"/>
            </a:xfrm>
            <a:custGeom>
              <a:avLst/>
              <a:gdLst/>
              <a:ahLst/>
              <a:rect l="l" t="t" r="r" b="b"/>
              <a:pathLst>
                <a:path w="392" h="784">
                  <a:moveTo>
                    <a:pt x="232" y="784"/>
                  </a:moveTo>
                  <a:lnTo>
                    <a:pt x="232" y="0"/>
                  </a:lnTo>
                  <a:lnTo>
                    <a:pt x="0" y="0"/>
                  </a:lnTo>
                  <a:lnTo>
                    <a:pt x="0" y="784"/>
                  </a:lnTo>
                  <a:lnTo>
                    <a:pt x="232" y="784"/>
                  </a:lnTo>
                  <a:lnTo>
                    <a:pt x="232" y="0"/>
                  </a:lnTo>
                  <a:lnTo>
                    <a:pt x="392" y="56"/>
                  </a:lnTo>
                  <a:lnTo>
                    <a:pt x="392" y="688"/>
                  </a:lnTo>
                  <a:lnTo>
                    <a:pt x="232" y="78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01200" y="5336640"/>
              <a:ext cx="294840" cy="63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01200" y="5912280"/>
              <a:ext cx="282600" cy="5544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0"/>
                  </a:moveTo>
                  <a:lnTo>
                    <a:pt x="24" y="0"/>
                  </a:lnTo>
                  <a:lnTo>
                    <a:pt x="0" y="4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07320" y="5471640"/>
              <a:ext cx="295200" cy="46080"/>
            </a:xfrm>
            <a:custGeom>
              <a:avLst/>
              <a:gdLst/>
              <a:ahLst/>
              <a:rect l="l" t="t" r="r" b="b"/>
              <a:pathLst>
                <a:path w="192" h="40">
                  <a:moveTo>
                    <a:pt x="24" y="0"/>
                  </a:moveTo>
                  <a:lnTo>
                    <a:pt x="0" y="40"/>
                  </a:lnTo>
                  <a:lnTo>
                    <a:pt x="192" y="40"/>
                  </a:lnTo>
                  <a:lnTo>
                    <a:pt x="19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07320" y="5517720"/>
              <a:ext cx="295200" cy="9000"/>
            </a:xfrm>
            <a:custGeom>
              <a:avLst/>
              <a:gdLst/>
              <a:ahLst/>
              <a:rect l="l" t="t" r="r" b="b"/>
              <a:pathLst>
                <a:path w="192" h="8">
                  <a:moveTo>
                    <a:pt x="192" y="0"/>
                  </a:moveTo>
                  <a:lnTo>
                    <a:pt x="0" y="0"/>
                  </a:lnTo>
                  <a:lnTo>
                    <a:pt x="24" y="8"/>
                  </a:lnTo>
                  <a:lnTo>
                    <a:pt x="192" y="8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07320" y="5573520"/>
              <a:ext cx="295200" cy="46080"/>
            </a:xfrm>
            <a:custGeom>
              <a:avLst/>
              <a:gdLst/>
              <a:ahLst/>
              <a:rect l="l" t="t" r="r" b="b"/>
              <a:pathLst>
                <a:path w="192" h="40">
                  <a:moveTo>
                    <a:pt x="24" y="0"/>
                  </a:moveTo>
                  <a:lnTo>
                    <a:pt x="0" y="40"/>
                  </a:lnTo>
                  <a:lnTo>
                    <a:pt x="192" y="40"/>
                  </a:lnTo>
                  <a:lnTo>
                    <a:pt x="19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01200" y="5457600"/>
              <a:ext cx="294840" cy="5544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24" y="0"/>
                  </a:moveTo>
                  <a:lnTo>
                    <a:pt x="0" y="48"/>
                  </a:lnTo>
                  <a:lnTo>
                    <a:pt x="192" y="48"/>
                  </a:lnTo>
                  <a:lnTo>
                    <a:pt x="192" y="0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301200" y="5559840"/>
              <a:ext cx="294840" cy="5544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24" y="0"/>
                  </a:moveTo>
                  <a:lnTo>
                    <a:pt x="0" y="48"/>
                  </a:lnTo>
                  <a:lnTo>
                    <a:pt x="192" y="48"/>
                  </a:lnTo>
                  <a:lnTo>
                    <a:pt x="192" y="0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07320" y="5619960"/>
              <a:ext cx="295200" cy="9000"/>
            </a:xfrm>
            <a:custGeom>
              <a:avLst/>
              <a:gdLst/>
              <a:ahLst/>
              <a:rect l="l" t="t" r="r" b="b"/>
              <a:pathLst>
                <a:path w="192" h="8">
                  <a:moveTo>
                    <a:pt x="192" y="0"/>
                  </a:moveTo>
                  <a:lnTo>
                    <a:pt x="0" y="0"/>
                  </a:lnTo>
                  <a:lnTo>
                    <a:pt x="24" y="8"/>
                  </a:lnTo>
                  <a:lnTo>
                    <a:pt x="192" y="8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07320" y="5369040"/>
              <a:ext cx="295200" cy="46440"/>
            </a:xfrm>
            <a:custGeom>
              <a:avLst/>
              <a:gdLst/>
              <a:ahLst/>
              <a:rect l="l" t="t" r="r" b="b"/>
              <a:pathLst>
                <a:path w="192" h="40">
                  <a:moveTo>
                    <a:pt x="24" y="0"/>
                  </a:moveTo>
                  <a:lnTo>
                    <a:pt x="0" y="40"/>
                  </a:lnTo>
                  <a:lnTo>
                    <a:pt x="192" y="40"/>
                  </a:lnTo>
                  <a:lnTo>
                    <a:pt x="19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07320" y="5415840"/>
              <a:ext cx="295200" cy="9000"/>
            </a:xfrm>
            <a:custGeom>
              <a:avLst/>
              <a:gdLst/>
              <a:ahLst/>
              <a:rect l="l" t="t" r="r" b="b"/>
              <a:pathLst>
                <a:path w="192" h="8">
                  <a:moveTo>
                    <a:pt x="192" y="0"/>
                  </a:moveTo>
                  <a:lnTo>
                    <a:pt x="0" y="0"/>
                  </a:lnTo>
                  <a:lnTo>
                    <a:pt x="24" y="8"/>
                  </a:lnTo>
                  <a:lnTo>
                    <a:pt x="192" y="8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07320" y="5341680"/>
              <a:ext cx="295200" cy="27360"/>
            </a:xfrm>
            <a:custGeom>
              <a:avLst/>
              <a:gdLst/>
              <a:ahLst/>
              <a:rect l="l" t="t" r="r" b="b"/>
              <a:pathLst>
                <a:path w="192" h="24">
                  <a:moveTo>
                    <a:pt x="0" y="0"/>
                  </a:moveTo>
                  <a:lnTo>
                    <a:pt x="192" y="0"/>
                  </a:lnTo>
                  <a:lnTo>
                    <a:pt x="192" y="24"/>
                  </a:lnTo>
                  <a:lnTo>
                    <a:pt x="24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56640" y="5480640"/>
              <a:ext cx="233640" cy="27720"/>
            </a:xfrm>
            <a:custGeom>
              <a:avLst/>
              <a:gdLst/>
              <a:ahLst/>
              <a:rect l="l" t="t" r="r" b="b"/>
              <a:pathLst>
                <a:path w="152" h="24">
                  <a:moveTo>
                    <a:pt x="96" y="24"/>
                  </a:moveTo>
                  <a:lnTo>
                    <a:pt x="96" y="16"/>
                  </a:lnTo>
                  <a:lnTo>
                    <a:pt x="144" y="16"/>
                  </a:lnTo>
                  <a:lnTo>
                    <a:pt x="152" y="8"/>
                  </a:lnTo>
                  <a:lnTo>
                    <a:pt x="96" y="8"/>
                  </a:lnTo>
                  <a:lnTo>
                    <a:pt x="96" y="0"/>
                  </a:lnTo>
                  <a:lnTo>
                    <a:pt x="48" y="0"/>
                  </a:lnTo>
                  <a:lnTo>
                    <a:pt x="4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9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01200" y="5355360"/>
              <a:ext cx="294840" cy="5544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24" y="0"/>
                  </a:moveTo>
                  <a:lnTo>
                    <a:pt x="0" y="48"/>
                  </a:lnTo>
                  <a:lnTo>
                    <a:pt x="192" y="48"/>
                  </a:lnTo>
                  <a:lnTo>
                    <a:pt x="192" y="0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2760" y="5652360"/>
              <a:ext cx="209160" cy="241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07320" y="6037560"/>
              <a:ext cx="295200" cy="464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307320" y="6112080"/>
              <a:ext cx="295200" cy="460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648320" y="5241960"/>
            <a:ext cx="9824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4556160"/>
            <a:ext cx="23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 Narrow"/>
              </a:rPr>
              <a:t>apnic16.apnic.net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 Narrow"/>
              </a:rPr>
              <a:t>32.43.320.in-addr.arpa.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0560" y="5851440"/>
            <a:ext cx="265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 Narrow"/>
              </a:rPr>
              <a:t>leases for 320.43.32.0-127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88360" y="440388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 Narrow"/>
              </a:rPr>
              <a:t>DNS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88000" y="539424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 Narrow"/>
              </a:rPr>
              <a:t>DHCP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91480" y="3583080"/>
            <a:ext cx="913680" cy="912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57115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571155"/>
              </a:path>
            </a:pathLst>
          </a:cu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469640" y="1935000"/>
            <a:ext cx="107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 Narrow"/>
              </a:rPr>
              <a:t>Home</a:t>
            </a: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695280" y="4267080"/>
            <a:ext cx="20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 Narrow"/>
              </a:rPr>
              <a:t>@APNIC 16</a:t>
            </a: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411880" y="3429000"/>
            <a:ext cx="17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 Narrow"/>
              </a:rPr>
              <a:t>chawla.mirchi.net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18120" y="3124080"/>
            <a:ext cx="444600" cy="1881360"/>
          </a:xfrm>
          <a:custGeom>
            <a:avLst/>
            <a:gdLst/>
            <a:ahLst/>
            <a:rect l="l" t="t" r="r" b="b"/>
            <a:pathLst>
              <a:path w="280" h="1185">
                <a:moveTo>
                  <a:pt x="80" y="0"/>
                </a:moveTo>
                <a:cubicBezTo>
                  <a:pt x="21" y="8"/>
                  <a:pt x="17" y="4"/>
                  <a:pt x="0" y="56"/>
                </a:cubicBezTo>
                <a:cubicBezTo>
                  <a:pt x="19" y="114"/>
                  <a:pt x="47" y="111"/>
                  <a:pt x="96" y="144"/>
                </a:cubicBezTo>
                <a:cubicBezTo>
                  <a:pt x="108" y="182"/>
                  <a:pt x="87" y="200"/>
                  <a:pt x="64" y="232"/>
                </a:cubicBezTo>
                <a:cubicBezTo>
                  <a:pt x="53" y="284"/>
                  <a:pt x="52" y="295"/>
                  <a:pt x="96" y="328"/>
                </a:cubicBezTo>
                <a:cubicBezTo>
                  <a:pt x="89" y="384"/>
                  <a:pt x="92" y="405"/>
                  <a:pt x="64" y="448"/>
                </a:cubicBezTo>
                <a:cubicBezTo>
                  <a:pt x="52" y="493"/>
                  <a:pt x="52" y="477"/>
                  <a:pt x="64" y="536"/>
                </a:cubicBezTo>
                <a:cubicBezTo>
                  <a:pt x="68" y="557"/>
                  <a:pt x="80" y="600"/>
                  <a:pt x="80" y="600"/>
                </a:cubicBezTo>
                <a:cubicBezTo>
                  <a:pt x="77" y="634"/>
                  <a:pt x="78" y="669"/>
                  <a:pt x="72" y="704"/>
                </a:cubicBezTo>
                <a:cubicBezTo>
                  <a:pt x="68" y="723"/>
                  <a:pt x="52" y="740"/>
                  <a:pt x="48" y="760"/>
                </a:cubicBezTo>
                <a:cubicBezTo>
                  <a:pt x="45" y="773"/>
                  <a:pt x="43" y="786"/>
                  <a:pt x="40" y="800"/>
                </a:cubicBezTo>
                <a:cubicBezTo>
                  <a:pt x="35" y="816"/>
                  <a:pt x="24" y="848"/>
                  <a:pt x="24" y="848"/>
                </a:cubicBezTo>
                <a:cubicBezTo>
                  <a:pt x="28" y="921"/>
                  <a:pt x="11" y="1040"/>
                  <a:pt x="104" y="1064"/>
                </a:cubicBezTo>
                <a:cubicBezTo>
                  <a:pt x="112" y="1072"/>
                  <a:pt x="118" y="1081"/>
                  <a:pt x="128" y="1088"/>
                </a:cubicBezTo>
                <a:cubicBezTo>
                  <a:pt x="148" y="1102"/>
                  <a:pt x="192" y="1128"/>
                  <a:pt x="192" y="1128"/>
                </a:cubicBezTo>
                <a:cubicBezTo>
                  <a:pt x="230" y="1185"/>
                  <a:pt x="176" y="1114"/>
                  <a:pt x="256" y="1168"/>
                </a:cubicBezTo>
                <a:cubicBezTo>
                  <a:pt x="264" y="1173"/>
                  <a:pt x="280" y="1184"/>
                  <a:pt x="280" y="1184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2280" y="2743200"/>
            <a:ext cx="444600" cy="2362320"/>
          </a:xfrm>
          <a:custGeom>
            <a:avLst/>
            <a:gdLst/>
            <a:ahLst/>
            <a:rect l="l" t="t" r="r" b="b"/>
            <a:pathLst>
              <a:path w="280" h="1185">
                <a:moveTo>
                  <a:pt x="80" y="0"/>
                </a:moveTo>
                <a:cubicBezTo>
                  <a:pt x="21" y="8"/>
                  <a:pt x="17" y="4"/>
                  <a:pt x="0" y="56"/>
                </a:cubicBezTo>
                <a:cubicBezTo>
                  <a:pt x="19" y="114"/>
                  <a:pt x="47" y="111"/>
                  <a:pt x="96" y="144"/>
                </a:cubicBezTo>
                <a:cubicBezTo>
                  <a:pt x="108" y="182"/>
                  <a:pt x="87" y="200"/>
                  <a:pt x="64" y="232"/>
                </a:cubicBezTo>
                <a:cubicBezTo>
                  <a:pt x="53" y="284"/>
                  <a:pt x="52" y="295"/>
                  <a:pt x="96" y="328"/>
                </a:cubicBezTo>
                <a:cubicBezTo>
                  <a:pt x="89" y="384"/>
                  <a:pt x="92" y="405"/>
                  <a:pt x="64" y="448"/>
                </a:cubicBezTo>
                <a:cubicBezTo>
                  <a:pt x="52" y="493"/>
                  <a:pt x="52" y="477"/>
                  <a:pt x="64" y="536"/>
                </a:cubicBezTo>
                <a:cubicBezTo>
                  <a:pt x="68" y="557"/>
                  <a:pt x="80" y="600"/>
                  <a:pt x="80" y="600"/>
                </a:cubicBezTo>
                <a:cubicBezTo>
                  <a:pt x="77" y="634"/>
                  <a:pt x="78" y="669"/>
                  <a:pt x="72" y="704"/>
                </a:cubicBezTo>
                <a:cubicBezTo>
                  <a:pt x="68" y="723"/>
                  <a:pt x="52" y="740"/>
                  <a:pt x="48" y="760"/>
                </a:cubicBezTo>
                <a:cubicBezTo>
                  <a:pt x="45" y="773"/>
                  <a:pt x="43" y="786"/>
                  <a:pt x="40" y="800"/>
                </a:cubicBezTo>
                <a:cubicBezTo>
                  <a:pt x="35" y="816"/>
                  <a:pt x="24" y="848"/>
                  <a:pt x="24" y="848"/>
                </a:cubicBezTo>
                <a:cubicBezTo>
                  <a:pt x="28" y="921"/>
                  <a:pt x="11" y="1040"/>
                  <a:pt x="104" y="1064"/>
                </a:cubicBezTo>
                <a:cubicBezTo>
                  <a:pt x="112" y="1072"/>
                  <a:pt x="118" y="1081"/>
                  <a:pt x="128" y="1088"/>
                </a:cubicBezTo>
                <a:cubicBezTo>
                  <a:pt x="148" y="1102"/>
                  <a:pt x="192" y="1128"/>
                  <a:pt x="192" y="1128"/>
                </a:cubicBezTo>
                <a:cubicBezTo>
                  <a:pt x="230" y="1185"/>
                  <a:pt x="176" y="1114"/>
                  <a:pt x="256" y="1168"/>
                </a:cubicBezTo>
                <a:cubicBezTo>
                  <a:pt x="264" y="1173"/>
                  <a:pt x="280" y="1184"/>
                  <a:pt x="280" y="1184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" y="274320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This Happens, part 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Host has a TSIG/SIG(0) to update the entr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chawla.mirchi.net.</a:t>
            </a: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 A 275.7.32.17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Home DHCP can change 32.7.275.in-addr.arpa. (via TSIG/SIG(0)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17.32.7.275.in-addr.arpa PTR 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chawla.mirchi.net.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PNIC16 DHCP can change 32.43.320.in-addr.arpa.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17.32.43.320.in-addr.arpa PTR 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chawla.mirchi.net</a:t>
            </a: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tting Data Into D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14760" y="3130920"/>
            <a:ext cx="3233880" cy="1824480"/>
            <a:chOff x="914760" y="3130920"/>
            <a:chExt cx="3233880" cy="1824480"/>
          </a:xfrm>
        </p:grpSpPr>
        <p:sp>
          <p:nvSpPr>
            <p:cNvPr id="88" name=""/>
            <p:cNvSpPr/>
            <p:nvPr/>
          </p:nvSpPr>
          <p:spPr>
            <a:xfrm>
              <a:off x="914760" y="4495680"/>
              <a:ext cx="244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9f5e1"/>
                  </a:solidFill>
                  <a:latin typeface="Times New Roman"/>
                </a:rPr>
                <a:t>Network Database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1828800" y="3886200"/>
              <a:ext cx="609480" cy="456840"/>
              <a:chOff x="1828800" y="3886200"/>
              <a:chExt cx="609480" cy="456840"/>
            </a:xfrm>
          </p:grpSpPr>
          <p:sp>
            <p:nvSpPr>
              <p:cNvPr id="90" name=""/>
              <p:cNvSpPr/>
              <p:nvPr/>
            </p:nvSpPr>
            <p:spPr>
              <a:xfrm>
                <a:off x="1828800" y="4089240"/>
                <a:ext cx="609480" cy="253800"/>
              </a:xfrm>
              <a:prstGeom prst="ellipse">
                <a:avLst/>
              </a:prstGeom>
              <a:solidFill>
                <a:srgbClr val="f9f5e1"/>
              </a:solidFill>
              <a:ln w="9360">
                <a:solidFill>
                  <a:srgbClr val="3255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828800" y="3987720"/>
                <a:ext cx="609480" cy="254160"/>
              </a:xfrm>
              <a:prstGeom prst="rect">
                <a:avLst/>
              </a:prstGeom>
              <a:solidFill>
                <a:srgbClr val="f9f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828800" y="3886200"/>
                <a:ext cx="609480" cy="253800"/>
              </a:xfrm>
              <a:prstGeom prst="ellipse">
                <a:avLst/>
              </a:prstGeom>
              <a:solidFill>
                <a:srgbClr val="f9f5e1"/>
              </a:solidFill>
              <a:ln w="9360">
                <a:solidFill>
                  <a:srgbClr val="3255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rot="18340200">
              <a:off x="2247840" y="331416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800000"/>
            </a:solidFill>
            <a:ln w="93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0448600">
              <a:off x="2517840" y="3605040"/>
              <a:ext cx="1600200" cy="457200"/>
            </a:xfrm>
            <a:prstGeom prst="rightArrow">
              <a:avLst>
                <a:gd name="adj1" fmla="val 50000"/>
                <a:gd name="adj2" fmla="val 87500"/>
              </a:avLst>
            </a:prstGeom>
            <a:solidFill>
              <a:srgbClr val="800000"/>
            </a:solidFill>
            <a:ln w="93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778920" y="1752480"/>
            <a:ext cx="1630080" cy="1980720"/>
            <a:chOff x="3778920" y="1752480"/>
            <a:chExt cx="1630080" cy="1980720"/>
          </a:xfrm>
        </p:grpSpPr>
        <p:grpSp>
          <p:nvGrpSpPr>
            <p:cNvPr id="96" name=""/>
            <p:cNvGrpSpPr/>
            <p:nvPr/>
          </p:nvGrpSpPr>
          <p:grpSpPr>
            <a:xfrm>
              <a:off x="4267080" y="2209680"/>
              <a:ext cx="609480" cy="1523520"/>
              <a:chOff x="4267080" y="2209680"/>
              <a:chExt cx="609480" cy="1523520"/>
            </a:xfrm>
          </p:grpSpPr>
          <p:sp>
            <p:nvSpPr>
              <p:cNvPr id="97" name=""/>
              <p:cNvSpPr/>
              <p:nvPr/>
            </p:nvSpPr>
            <p:spPr>
              <a:xfrm>
                <a:off x="4273200" y="2217240"/>
                <a:ext cx="356760" cy="151596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30320" y="2217240"/>
                <a:ext cx="246240" cy="1515960"/>
              </a:xfrm>
              <a:custGeom>
                <a:avLst/>
                <a:gdLst/>
                <a:ahLst/>
                <a:rect l="l" t="t" r="r" b="b"/>
                <a:pathLst>
                  <a:path w="160" h="784">
                    <a:moveTo>
                      <a:pt x="0" y="784"/>
                    </a:moveTo>
                    <a:lnTo>
                      <a:pt x="0" y="0"/>
                    </a:lnTo>
                    <a:lnTo>
                      <a:pt x="160" y="56"/>
                    </a:lnTo>
                    <a:lnTo>
                      <a:pt x="160" y="688"/>
                    </a:lnTo>
                    <a:lnTo>
                      <a:pt x="0" y="784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297680" y="2248560"/>
                <a:ext cx="295560" cy="10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267080" y="2209680"/>
                <a:ext cx="603360" cy="1516680"/>
              </a:xfrm>
              <a:custGeom>
                <a:avLst/>
                <a:gdLst/>
                <a:ahLst/>
                <a:rect l="l" t="t" r="r" b="b"/>
                <a:pathLst>
                  <a:path w="392" h="784">
                    <a:moveTo>
                      <a:pt x="232" y="784"/>
                    </a:moveTo>
                    <a:lnTo>
                      <a:pt x="232" y="0"/>
                    </a:lnTo>
                    <a:lnTo>
                      <a:pt x="0" y="0"/>
                    </a:lnTo>
                    <a:lnTo>
                      <a:pt x="0" y="784"/>
                    </a:lnTo>
                    <a:lnTo>
                      <a:pt x="232" y="784"/>
                    </a:lnTo>
                    <a:lnTo>
                      <a:pt x="232" y="0"/>
                    </a:lnTo>
                    <a:lnTo>
                      <a:pt x="392" y="56"/>
                    </a:lnTo>
                    <a:lnTo>
                      <a:pt x="392" y="688"/>
                    </a:lnTo>
                    <a:lnTo>
                      <a:pt x="232" y="784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291560" y="2240640"/>
                <a:ext cx="295200" cy="105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291560" y="3200040"/>
                <a:ext cx="282960" cy="92880"/>
              </a:xfrm>
              <a:custGeom>
                <a:avLst/>
                <a:gdLst/>
                <a:ahLst/>
                <a:rect l="l" t="t" r="r" b="b"/>
                <a:pathLst>
                  <a:path w="184" h="48">
                    <a:moveTo>
                      <a:pt x="184" y="0"/>
                    </a:moveTo>
                    <a:lnTo>
                      <a:pt x="24" y="0"/>
                    </a:lnTo>
                    <a:lnTo>
                      <a:pt x="0" y="4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97680" y="2465280"/>
                <a:ext cx="295560" cy="77040"/>
              </a:xfrm>
              <a:custGeom>
                <a:avLst/>
                <a:gdLst/>
                <a:ahLst/>
                <a:rect l="l" t="t" r="r" b="b"/>
                <a:pathLst>
                  <a:path w="192" h="40">
                    <a:moveTo>
                      <a:pt x="24" y="0"/>
                    </a:moveTo>
                    <a:lnTo>
                      <a:pt x="0" y="40"/>
                    </a:lnTo>
                    <a:lnTo>
                      <a:pt x="192" y="40"/>
                    </a:lnTo>
                    <a:lnTo>
                      <a:pt x="192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297680" y="2542320"/>
                <a:ext cx="295560" cy="15120"/>
              </a:xfrm>
              <a:custGeom>
                <a:avLst/>
                <a:gdLst/>
                <a:ahLst/>
                <a:rect l="l" t="t" r="r" b="b"/>
                <a:pathLst>
                  <a:path w="192" h="8">
                    <a:moveTo>
                      <a:pt x="192" y="0"/>
                    </a:moveTo>
                    <a:lnTo>
                      <a:pt x="0" y="0"/>
                    </a:lnTo>
                    <a:lnTo>
                      <a:pt x="24" y="8"/>
                    </a:lnTo>
                    <a:lnTo>
                      <a:pt x="192" y="8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297680" y="2635560"/>
                <a:ext cx="295560" cy="77040"/>
              </a:xfrm>
              <a:custGeom>
                <a:avLst/>
                <a:gdLst/>
                <a:ahLst/>
                <a:rect l="l" t="t" r="r" b="b"/>
                <a:pathLst>
                  <a:path w="192" h="40">
                    <a:moveTo>
                      <a:pt x="24" y="0"/>
                    </a:moveTo>
                    <a:lnTo>
                      <a:pt x="0" y="40"/>
                    </a:lnTo>
                    <a:lnTo>
                      <a:pt x="192" y="40"/>
                    </a:lnTo>
                    <a:lnTo>
                      <a:pt x="192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91560" y="2441880"/>
                <a:ext cx="295200" cy="92520"/>
              </a:xfrm>
              <a:custGeom>
                <a:avLst/>
                <a:gdLst/>
                <a:ahLst/>
                <a:rect l="l" t="t" r="r" b="b"/>
                <a:pathLst>
                  <a:path w="192" h="48">
                    <a:moveTo>
                      <a:pt x="24" y="0"/>
                    </a:moveTo>
                    <a:lnTo>
                      <a:pt x="0" y="48"/>
                    </a:lnTo>
                    <a:lnTo>
                      <a:pt x="192" y="48"/>
                    </a:lnTo>
                    <a:lnTo>
                      <a:pt x="192" y="0"/>
                    </a:lnTo>
                    <a:lnTo>
                      <a:pt x="24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291560" y="2612160"/>
                <a:ext cx="295200" cy="92520"/>
              </a:xfrm>
              <a:custGeom>
                <a:avLst/>
                <a:gdLst/>
                <a:ahLst/>
                <a:rect l="l" t="t" r="r" b="b"/>
                <a:pathLst>
                  <a:path w="192" h="48">
                    <a:moveTo>
                      <a:pt x="24" y="0"/>
                    </a:moveTo>
                    <a:lnTo>
                      <a:pt x="0" y="48"/>
                    </a:lnTo>
                    <a:lnTo>
                      <a:pt x="192" y="48"/>
                    </a:lnTo>
                    <a:lnTo>
                      <a:pt x="192" y="0"/>
                    </a:lnTo>
                    <a:lnTo>
                      <a:pt x="24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297680" y="2712600"/>
                <a:ext cx="295560" cy="15120"/>
              </a:xfrm>
              <a:custGeom>
                <a:avLst/>
                <a:gdLst/>
                <a:ahLst/>
                <a:rect l="l" t="t" r="r" b="b"/>
                <a:pathLst>
                  <a:path w="192" h="8">
                    <a:moveTo>
                      <a:pt x="192" y="0"/>
                    </a:moveTo>
                    <a:lnTo>
                      <a:pt x="0" y="0"/>
                    </a:lnTo>
                    <a:lnTo>
                      <a:pt x="24" y="8"/>
                    </a:lnTo>
                    <a:lnTo>
                      <a:pt x="192" y="8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297680" y="2294640"/>
                <a:ext cx="295560" cy="77400"/>
              </a:xfrm>
              <a:custGeom>
                <a:avLst/>
                <a:gdLst/>
                <a:ahLst/>
                <a:rect l="l" t="t" r="r" b="b"/>
                <a:pathLst>
                  <a:path w="192" h="40">
                    <a:moveTo>
                      <a:pt x="24" y="0"/>
                    </a:moveTo>
                    <a:lnTo>
                      <a:pt x="0" y="40"/>
                    </a:lnTo>
                    <a:lnTo>
                      <a:pt x="192" y="40"/>
                    </a:lnTo>
                    <a:lnTo>
                      <a:pt x="192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97680" y="2372400"/>
                <a:ext cx="295560" cy="15120"/>
              </a:xfrm>
              <a:custGeom>
                <a:avLst/>
                <a:gdLst/>
                <a:ahLst/>
                <a:rect l="l" t="t" r="r" b="b"/>
                <a:pathLst>
                  <a:path w="192" h="8">
                    <a:moveTo>
                      <a:pt x="192" y="0"/>
                    </a:moveTo>
                    <a:lnTo>
                      <a:pt x="0" y="0"/>
                    </a:lnTo>
                    <a:lnTo>
                      <a:pt x="24" y="8"/>
                    </a:lnTo>
                    <a:lnTo>
                      <a:pt x="192" y="8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97680" y="2248560"/>
                <a:ext cx="295560" cy="45720"/>
              </a:xfrm>
              <a:custGeom>
                <a:avLst/>
                <a:gdLst/>
                <a:ahLst/>
                <a:rect l="l" t="t" r="r" b="b"/>
                <a:pathLst>
                  <a:path w="192" h="24">
                    <a:moveTo>
                      <a:pt x="0" y="0"/>
                    </a:moveTo>
                    <a:lnTo>
                      <a:pt x="192" y="0"/>
                    </a:lnTo>
                    <a:lnTo>
                      <a:pt x="192" y="24"/>
                    </a:lnTo>
                    <a:lnTo>
                      <a:pt x="2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347360" y="2480400"/>
                <a:ext cx="233640" cy="46440"/>
              </a:xfrm>
              <a:custGeom>
                <a:avLst/>
                <a:gdLst/>
                <a:ahLst/>
                <a:rect l="l" t="t" r="r" b="b"/>
                <a:pathLst>
                  <a:path w="152" h="24">
                    <a:moveTo>
                      <a:pt x="96" y="24"/>
                    </a:moveTo>
                    <a:lnTo>
                      <a:pt x="96" y="16"/>
                    </a:lnTo>
                    <a:lnTo>
                      <a:pt x="144" y="16"/>
                    </a:lnTo>
                    <a:lnTo>
                      <a:pt x="152" y="8"/>
                    </a:lnTo>
                    <a:lnTo>
                      <a:pt x="96" y="8"/>
                    </a:lnTo>
                    <a:lnTo>
                      <a:pt x="96" y="0"/>
                    </a:lnTo>
                    <a:lnTo>
                      <a:pt x="48" y="0"/>
                    </a:lnTo>
                    <a:lnTo>
                      <a:pt x="48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48" y="16"/>
                    </a:lnTo>
                    <a:lnTo>
                      <a:pt x="48" y="24"/>
                    </a:lnTo>
                    <a:lnTo>
                      <a:pt x="9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291560" y="2271960"/>
                <a:ext cx="295200" cy="92520"/>
              </a:xfrm>
              <a:custGeom>
                <a:avLst/>
                <a:gdLst/>
                <a:ahLst/>
                <a:rect l="l" t="t" r="r" b="b"/>
                <a:pathLst>
                  <a:path w="192" h="48">
                    <a:moveTo>
                      <a:pt x="24" y="0"/>
                    </a:moveTo>
                    <a:lnTo>
                      <a:pt x="0" y="48"/>
                    </a:lnTo>
                    <a:lnTo>
                      <a:pt x="192" y="48"/>
                    </a:lnTo>
                    <a:lnTo>
                      <a:pt x="192" y="0"/>
                    </a:lnTo>
                    <a:lnTo>
                      <a:pt x="24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353120" y="2766600"/>
                <a:ext cx="209160" cy="402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297680" y="3408480"/>
                <a:ext cx="295560" cy="774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297680" y="3532680"/>
                <a:ext cx="295560" cy="770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3778920" y="1752480"/>
              <a:ext cx="163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9f5e1"/>
                  </a:solidFill>
                  <a:latin typeface="Times New Roman"/>
                </a:rPr>
                <a:t>Primary NS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057400" y="1752480"/>
            <a:ext cx="2169000" cy="1295640"/>
            <a:chOff x="2057400" y="1752480"/>
            <a:chExt cx="2169000" cy="1295640"/>
          </a:xfrm>
        </p:grpSpPr>
        <p:sp>
          <p:nvSpPr>
            <p:cNvPr id="119" name=""/>
            <p:cNvSpPr/>
            <p:nvPr/>
          </p:nvSpPr>
          <p:spPr>
            <a:xfrm>
              <a:off x="2057400" y="2133720"/>
              <a:ext cx="1295280" cy="914400"/>
            </a:xfrm>
            <a:prstGeom prst="rect">
              <a:avLst/>
            </a:prstGeom>
            <a:solidFill>
              <a:srgbClr val="4c4c4c"/>
            </a:solidFill>
            <a:ln w="93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9f5e1"/>
                  </a:solidFill>
                  <a:latin typeface="Courier New"/>
                </a:rPr>
                <a:t>$origin z.</a:t>
              </a:r>
              <a:endParaRPr b="0" lang="en-US" sz="14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9f5e1"/>
                  </a:solidFill>
                  <a:latin typeface="Courier New"/>
                </a:rPr>
                <a:t>@ soa ns ro</a:t>
              </a:r>
              <a:endParaRPr b="0" lang="en-US" sz="14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9f5e1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f9f5e1"/>
                  </a:solidFill>
                  <a:latin typeface="Courier New"/>
                </a:rPr>
                <a:t>ns ns1.</a:t>
              </a:r>
              <a:endParaRPr b="0" lang="en-US" sz="14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9f5e1"/>
                  </a:solidFill>
                  <a:latin typeface="Times New Roman"/>
                </a:rPr>
                <a:t>ns  a 1.1.1.1</a:t>
              </a:r>
              <a:endParaRPr b="0" lang="en-US" sz="1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70000" y="1752480"/>
              <a:ext cx="13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9f5e1"/>
                  </a:solidFill>
                  <a:latin typeface="Times New Roman"/>
                </a:rPr>
                <a:t>Zone File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619800">
              <a:off x="3504960" y="236232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800000"/>
            </a:solidFill>
            <a:ln w="93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876920" y="2895480"/>
            <a:ext cx="7617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638680" y="2362320"/>
            <a:ext cx="0" cy="358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507120" y="3048120"/>
            <a:ext cx="2131560" cy="3507480"/>
            <a:chOff x="3507120" y="3048120"/>
            <a:chExt cx="2131560" cy="3507480"/>
          </a:xfrm>
        </p:grpSpPr>
        <p:sp>
          <p:nvSpPr>
            <p:cNvPr id="125" name=""/>
            <p:cNvSpPr/>
            <p:nvPr/>
          </p:nvSpPr>
          <p:spPr>
            <a:xfrm>
              <a:off x="4876920" y="5334120"/>
              <a:ext cx="7617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267080" y="4572000"/>
              <a:ext cx="609480" cy="1523160"/>
              <a:chOff x="4267080" y="4572000"/>
              <a:chExt cx="609480" cy="1523160"/>
            </a:xfrm>
          </p:grpSpPr>
          <p:sp>
            <p:nvSpPr>
              <p:cNvPr id="127" name=""/>
              <p:cNvSpPr/>
              <p:nvPr/>
            </p:nvSpPr>
            <p:spPr>
              <a:xfrm>
                <a:off x="4273200" y="4579560"/>
                <a:ext cx="356760" cy="151560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630320" y="4579560"/>
                <a:ext cx="246240" cy="1515600"/>
              </a:xfrm>
              <a:custGeom>
                <a:avLst/>
                <a:gdLst/>
                <a:ahLst/>
                <a:rect l="l" t="t" r="r" b="b"/>
                <a:pathLst>
                  <a:path w="160" h="784">
                    <a:moveTo>
                      <a:pt x="0" y="784"/>
                    </a:moveTo>
                    <a:lnTo>
                      <a:pt x="0" y="0"/>
                    </a:lnTo>
                    <a:lnTo>
                      <a:pt x="160" y="56"/>
                    </a:lnTo>
                    <a:lnTo>
                      <a:pt x="160" y="688"/>
                    </a:lnTo>
                    <a:lnTo>
                      <a:pt x="0" y="784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297680" y="4610880"/>
                <a:ext cx="295560" cy="10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267080" y="4572000"/>
                <a:ext cx="603360" cy="1516320"/>
              </a:xfrm>
              <a:custGeom>
                <a:avLst/>
                <a:gdLst/>
                <a:ahLst/>
                <a:rect l="l" t="t" r="r" b="b"/>
                <a:pathLst>
                  <a:path w="392" h="784">
                    <a:moveTo>
                      <a:pt x="232" y="784"/>
                    </a:moveTo>
                    <a:lnTo>
                      <a:pt x="232" y="0"/>
                    </a:lnTo>
                    <a:lnTo>
                      <a:pt x="0" y="0"/>
                    </a:lnTo>
                    <a:lnTo>
                      <a:pt x="0" y="784"/>
                    </a:lnTo>
                    <a:lnTo>
                      <a:pt x="232" y="784"/>
                    </a:lnTo>
                    <a:lnTo>
                      <a:pt x="232" y="0"/>
                    </a:lnTo>
                    <a:lnTo>
                      <a:pt x="392" y="56"/>
                    </a:lnTo>
                    <a:lnTo>
                      <a:pt x="392" y="688"/>
                    </a:lnTo>
                    <a:lnTo>
                      <a:pt x="232" y="784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291560" y="4602960"/>
                <a:ext cx="295200" cy="105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291560" y="5562000"/>
                <a:ext cx="282960" cy="92880"/>
              </a:xfrm>
              <a:custGeom>
                <a:avLst/>
                <a:gdLst/>
                <a:ahLst/>
                <a:rect l="l" t="t" r="r" b="b"/>
                <a:pathLst>
                  <a:path w="184" h="48">
                    <a:moveTo>
                      <a:pt x="184" y="0"/>
                    </a:moveTo>
                    <a:lnTo>
                      <a:pt x="24" y="0"/>
                    </a:lnTo>
                    <a:lnTo>
                      <a:pt x="0" y="4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297680" y="4827600"/>
                <a:ext cx="295560" cy="77040"/>
              </a:xfrm>
              <a:custGeom>
                <a:avLst/>
                <a:gdLst/>
                <a:ahLst/>
                <a:rect l="l" t="t" r="r" b="b"/>
                <a:pathLst>
                  <a:path w="192" h="40">
                    <a:moveTo>
                      <a:pt x="24" y="0"/>
                    </a:moveTo>
                    <a:lnTo>
                      <a:pt x="0" y="40"/>
                    </a:lnTo>
                    <a:lnTo>
                      <a:pt x="192" y="40"/>
                    </a:lnTo>
                    <a:lnTo>
                      <a:pt x="192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97680" y="4904640"/>
                <a:ext cx="295560" cy="15120"/>
              </a:xfrm>
              <a:custGeom>
                <a:avLst/>
                <a:gdLst/>
                <a:ahLst/>
                <a:rect l="l" t="t" r="r" b="b"/>
                <a:pathLst>
                  <a:path w="192" h="8">
                    <a:moveTo>
                      <a:pt x="192" y="0"/>
                    </a:moveTo>
                    <a:lnTo>
                      <a:pt x="0" y="0"/>
                    </a:lnTo>
                    <a:lnTo>
                      <a:pt x="24" y="8"/>
                    </a:lnTo>
                    <a:lnTo>
                      <a:pt x="192" y="8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297680" y="4997520"/>
                <a:ext cx="295560" cy="77040"/>
              </a:xfrm>
              <a:custGeom>
                <a:avLst/>
                <a:gdLst/>
                <a:ahLst/>
                <a:rect l="l" t="t" r="r" b="b"/>
                <a:pathLst>
                  <a:path w="192" h="40">
                    <a:moveTo>
                      <a:pt x="24" y="0"/>
                    </a:moveTo>
                    <a:lnTo>
                      <a:pt x="0" y="40"/>
                    </a:lnTo>
                    <a:lnTo>
                      <a:pt x="192" y="40"/>
                    </a:lnTo>
                    <a:lnTo>
                      <a:pt x="192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91560" y="4804200"/>
                <a:ext cx="295200" cy="92520"/>
              </a:xfrm>
              <a:custGeom>
                <a:avLst/>
                <a:gdLst/>
                <a:ahLst/>
                <a:rect l="l" t="t" r="r" b="b"/>
                <a:pathLst>
                  <a:path w="192" h="48">
                    <a:moveTo>
                      <a:pt x="24" y="0"/>
                    </a:moveTo>
                    <a:lnTo>
                      <a:pt x="0" y="48"/>
                    </a:lnTo>
                    <a:lnTo>
                      <a:pt x="192" y="48"/>
                    </a:lnTo>
                    <a:lnTo>
                      <a:pt x="192" y="0"/>
                    </a:lnTo>
                    <a:lnTo>
                      <a:pt x="24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91560" y="4974480"/>
                <a:ext cx="295200" cy="92520"/>
              </a:xfrm>
              <a:custGeom>
                <a:avLst/>
                <a:gdLst/>
                <a:ahLst/>
                <a:rect l="l" t="t" r="r" b="b"/>
                <a:pathLst>
                  <a:path w="192" h="48">
                    <a:moveTo>
                      <a:pt x="24" y="0"/>
                    </a:moveTo>
                    <a:lnTo>
                      <a:pt x="0" y="48"/>
                    </a:lnTo>
                    <a:lnTo>
                      <a:pt x="192" y="48"/>
                    </a:lnTo>
                    <a:lnTo>
                      <a:pt x="192" y="0"/>
                    </a:lnTo>
                    <a:lnTo>
                      <a:pt x="24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297680" y="5074920"/>
                <a:ext cx="295560" cy="15120"/>
              </a:xfrm>
              <a:custGeom>
                <a:avLst/>
                <a:gdLst/>
                <a:ahLst/>
                <a:rect l="l" t="t" r="r" b="b"/>
                <a:pathLst>
                  <a:path w="192" h="8">
                    <a:moveTo>
                      <a:pt x="192" y="0"/>
                    </a:moveTo>
                    <a:lnTo>
                      <a:pt x="0" y="0"/>
                    </a:lnTo>
                    <a:lnTo>
                      <a:pt x="24" y="8"/>
                    </a:lnTo>
                    <a:lnTo>
                      <a:pt x="192" y="8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97680" y="4656960"/>
                <a:ext cx="295560" cy="77400"/>
              </a:xfrm>
              <a:custGeom>
                <a:avLst/>
                <a:gdLst/>
                <a:ahLst/>
                <a:rect l="l" t="t" r="r" b="b"/>
                <a:pathLst>
                  <a:path w="192" h="40">
                    <a:moveTo>
                      <a:pt x="24" y="0"/>
                    </a:moveTo>
                    <a:lnTo>
                      <a:pt x="0" y="40"/>
                    </a:lnTo>
                    <a:lnTo>
                      <a:pt x="192" y="40"/>
                    </a:lnTo>
                    <a:lnTo>
                      <a:pt x="192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97680" y="4734360"/>
                <a:ext cx="295560" cy="15120"/>
              </a:xfrm>
              <a:custGeom>
                <a:avLst/>
                <a:gdLst/>
                <a:ahLst/>
                <a:rect l="l" t="t" r="r" b="b"/>
                <a:pathLst>
                  <a:path w="192" h="8">
                    <a:moveTo>
                      <a:pt x="192" y="0"/>
                    </a:moveTo>
                    <a:lnTo>
                      <a:pt x="0" y="0"/>
                    </a:lnTo>
                    <a:lnTo>
                      <a:pt x="24" y="8"/>
                    </a:lnTo>
                    <a:lnTo>
                      <a:pt x="192" y="8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97680" y="4610880"/>
                <a:ext cx="295560" cy="45720"/>
              </a:xfrm>
              <a:custGeom>
                <a:avLst/>
                <a:gdLst/>
                <a:ahLst/>
                <a:rect l="l" t="t" r="r" b="b"/>
                <a:pathLst>
                  <a:path w="192" h="24">
                    <a:moveTo>
                      <a:pt x="0" y="0"/>
                    </a:moveTo>
                    <a:lnTo>
                      <a:pt x="192" y="0"/>
                    </a:lnTo>
                    <a:lnTo>
                      <a:pt x="192" y="24"/>
                    </a:lnTo>
                    <a:lnTo>
                      <a:pt x="24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47360" y="4842720"/>
                <a:ext cx="233640" cy="46440"/>
              </a:xfrm>
              <a:custGeom>
                <a:avLst/>
                <a:gdLst/>
                <a:ahLst/>
                <a:rect l="l" t="t" r="r" b="b"/>
                <a:pathLst>
                  <a:path w="152" h="24">
                    <a:moveTo>
                      <a:pt x="96" y="24"/>
                    </a:moveTo>
                    <a:lnTo>
                      <a:pt x="96" y="16"/>
                    </a:lnTo>
                    <a:lnTo>
                      <a:pt x="144" y="16"/>
                    </a:lnTo>
                    <a:lnTo>
                      <a:pt x="152" y="8"/>
                    </a:lnTo>
                    <a:lnTo>
                      <a:pt x="96" y="8"/>
                    </a:lnTo>
                    <a:lnTo>
                      <a:pt x="96" y="0"/>
                    </a:lnTo>
                    <a:lnTo>
                      <a:pt x="48" y="0"/>
                    </a:lnTo>
                    <a:lnTo>
                      <a:pt x="48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48" y="16"/>
                    </a:lnTo>
                    <a:lnTo>
                      <a:pt x="48" y="24"/>
                    </a:lnTo>
                    <a:lnTo>
                      <a:pt x="9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291560" y="4633920"/>
                <a:ext cx="295200" cy="92520"/>
              </a:xfrm>
              <a:custGeom>
                <a:avLst/>
                <a:gdLst/>
                <a:ahLst/>
                <a:rect l="l" t="t" r="r" b="b"/>
                <a:pathLst>
                  <a:path w="192" h="48">
                    <a:moveTo>
                      <a:pt x="24" y="0"/>
                    </a:moveTo>
                    <a:lnTo>
                      <a:pt x="0" y="48"/>
                    </a:lnTo>
                    <a:lnTo>
                      <a:pt x="192" y="48"/>
                    </a:lnTo>
                    <a:lnTo>
                      <a:pt x="192" y="0"/>
                    </a:lnTo>
                    <a:lnTo>
                      <a:pt x="24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53120" y="5128560"/>
                <a:ext cx="209160" cy="402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297680" y="5770800"/>
                <a:ext cx="295560" cy="774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297680" y="5894640"/>
                <a:ext cx="295560" cy="770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507120" y="6095880"/>
              <a:ext cx="193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9f5e1"/>
                  </a:solidFill>
                  <a:latin typeface="Times New Roman"/>
                </a:rPr>
                <a:t>Secondary NS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4152600" y="3695760"/>
              <a:ext cx="1981080" cy="68580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3177"/>
                  <a:lnTo>
                    <a:pt x="0" y="10810"/>
                  </a:lnTo>
                  <a:arcTo wR="10800" hR="10800" stAng="10796823" swAng="10803177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5600" y="388620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9f5e1"/>
                  </a:solidFill>
                  <a:latin typeface="Times New Roman"/>
                </a:rPr>
                <a:t>AXFR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638680" y="2590920"/>
            <a:ext cx="2637360" cy="1508040"/>
            <a:chOff x="5638680" y="2590920"/>
            <a:chExt cx="2637360" cy="1508040"/>
          </a:xfrm>
        </p:grpSpPr>
        <p:sp>
          <p:nvSpPr>
            <p:cNvPr id="151" name=""/>
            <p:cNvSpPr/>
            <p:nvPr/>
          </p:nvSpPr>
          <p:spPr>
            <a:xfrm>
              <a:off x="5638680" y="3733920"/>
              <a:ext cx="1828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graphicFrame>
          <p:nvGraphicFramePr>
            <p:cNvPr id="152" name=""/>
            <p:cNvGraphicFramePr/>
            <p:nvPr/>
          </p:nvGraphicFramePr>
          <p:xfrm>
            <a:off x="7162920" y="3276720"/>
            <a:ext cx="982440" cy="82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162920" y="3276720"/>
                      <a:ext cx="982440" cy="82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4" name=""/>
            <p:cNvSpPr/>
            <p:nvPr/>
          </p:nvSpPr>
          <p:spPr>
            <a:xfrm rot="10800000">
              <a:off x="6248160" y="312408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ffcc66"/>
            </a:solidFill>
            <a:ln w="93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19560" y="2590920"/>
              <a:ext cx="22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9f5e1"/>
                  </a:solidFill>
                  <a:latin typeface="Times New Roman"/>
                </a:rPr>
                <a:t>Dynamic Update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t Lease Change Tim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When releasing home addres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Home DHCP removes the PTR record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Host alters/removes its A RR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Done via scripts (depends on DHCP software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When gaining APNIC 16 leas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PNIC 16 DHCP adds a PTR record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Host registers an A RR with the home server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vantages of Dynamic Updat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hange DNS data quickly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Make changes from anywher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No need to reload whole zon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Data becomes more curren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es of Dynamic Upda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dding a new delegation to a large zon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ut down on reload tim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onference attende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Laptops can use same name, new IP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isks of Dynamic Upda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uthoritative servers listen to the network for data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uthorization checks needed before accepting a reques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erver risks being tied up with updat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Dynamic zones are hard to edit via "the old ways"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ther Consider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Once a zone goes dynamic, it is hard to edi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Mixing dynamic data and critical static data is a bad idea, even neglecting security concern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his isn't meant to scare you from dynamic update, but to alert you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"Secure" Dynamic Upda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ecure refers to the safety of the update request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Only the right clients will be able to get data into the zon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Limitations on the term "secure"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Won't stop anyone issuing bad request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Doesn't address DNSSEC, adding digital signatures to the zon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07:55:26Z</dcterms:created>
  <dc:creator>APNIC Training</dc:creator>
  <dc:description/>
  <dc:language>en-US</dc:language>
  <cp:lastModifiedBy>APNIC Pty Ltd</cp:lastModifiedBy>
  <cp:lastPrinted>2000-10-26T12:33:24Z</cp:lastPrinted>
  <dcterms:modified xsi:type="dcterms:W3CDTF">2004-01-17T08:15:30Z</dcterms:modified>
  <cp:revision>351</cp:revision>
  <dc:subject/>
  <dc:title>Welcome! APNIC Members Training Course </dc:title>
</cp:coreProperties>
</file>