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51D3-5EDC-4BD8-9498-0CCA2621E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0DE4-8066-4757-827C-1952D9927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5A88-17B2-4953-B5FF-EF12CE145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B9A2-1F00-4965-840C-61C97DC7B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5A0F-078B-4754-A96B-D9DFB4B96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72E5-B9BA-4AEC-8D0D-7D82AD30C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C086-CE48-4210-937D-835CD032D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4727-BF0F-44F1-AE36-F49E5C4C0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0050-38C1-4737-AAB3-4589BD0E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79F2-06C0-48E7-B060-50761F379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48D3-A59E-421F-A69D-E4758F1C8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DCCA-4804-475C-A527-6352937CA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B29-F8FE-4E11-920F-AE7F028D1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228600"/>
            <a:ext cx="76320" cy="6477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0" cy="647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553080" y="228600"/>
            <a:ext cx="2562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3399ff"/>
                  </a:solidFill>
                  <a:miter/>
                </a:ln>
                <a:noFill/>
                <a:latin typeface="Lucida Sans"/>
              </a:rPr>
              <a:t>Bandwidth management and optimisation: BCrouter</a:t>
            </a:r>
            <a:endParaRPr b="0" lang="en-US" sz="1000" spc="1" strike="noStrike">
              <a:ln w="9360">
                <a:solidFill>
                  <a:srgbClr val="3399ff"/>
                </a:solidFill>
                <a:miter/>
              </a:ln>
              <a:noFill/>
              <a:latin typeface="Lucida Sans"/>
              <a:ea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16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image" Target="../media/image16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6.wmf"/><Relationship Id="rId23" Type="http://schemas.openxmlformats.org/officeDocument/2006/relationships/image" Target="../media/image16.wmf"/><Relationship Id="rId24" Type="http://schemas.openxmlformats.org/officeDocument/2006/relationships/image" Target="../media/image16.wmf"/><Relationship Id="rId25" Type="http://schemas.openxmlformats.org/officeDocument/2006/relationships/image" Target="../media/image16.wmf"/><Relationship Id="rId26" Type="http://schemas.openxmlformats.org/officeDocument/2006/relationships/image" Target="../media/image16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6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6.wmf"/><Relationship Id="rId33" Type="http://schemas.openxmlformats.org/officeDocument/2006/relationships/image" Target="../media/image16.wmf"/><Relationship Id="rId34" Type="http://schemas.openxmlformats.org/officeDocument/2006/relationships/image" Target="../media/image17.wmf"/><Relationship Id="rId35" Type="http://schemas.openxmlformats.org/officeDocument/2006/relationships/image" Target="../media/image16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6.wmf"/><Relationship Id="rId39" Type="http://schemas.openxmlformats.org/officeDocument/2006/relationships/image" Target="../media/image16.wmf"/><Relationship Id="rId40" Type="http://schemas.openxmlformats.org/officeDocument/2006/relationships/image" Target="../media/image16.wmf"/><Relationship Id="rId41" Type="http://schemas.openxmlformats.org/officeDocument/2006/relationships/image" Target="../media/image16.wmf"/><Relationship Id="rId42" Type="http://schemas.openxmlformats.org/officeDocument/2006/relationships/image" Target="../media/image16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6.wmf"/><Relationship Id="rId46" Type="http://schemas.openxmlformats.org/officeDocument/2006/relationships/image" Target="../media/image16.wmf"/><Relationship Id="rId47" Type="http://schemas.openxmlformats.org/officeDocument/2006/relationships/image" Target="../media/image16.wmf"/><Relationship Id="rId48" Type="http://schemas.openxmlformats.org/officeDocument/2006/relationships/image" Target="../media/image16.wmf"/><Relationship Id="rId49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16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image" Target="../media/image16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6.wmf"/><Relationship Id="rId23" Type="http://schemas.openxmlformats.org/officeDocument/2006/relationships/image" Target="../media/image16.wmf"/><Relationship Id="rId24" Type="http://schemas.openxmlformats.org/officeDocument/2006/relationships/image" Target="../media/image16.wmf"/><Relationship Id="rId25" Type="http://schemas.openxmlformats.org/officeDocument/2006/relationships/image" Target="../media/image16.wmf"/><Relationship Id="rId26" Type="http://schemas.openxmlformats.org/officeDocument/2006/relationships/image" Target="../media/image16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6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6.wmf"/><Relationship Id="rId33" Type="http://schemas.openxmlformats.org/officeDocument/2006/relationships/image" Target="../media/image16.wmf"/><Relationship Id="rId34" Type="http://schemas.openxmlformats.org/officeDocument/2006/relationships/image" Target="../media/image17.wmf"/><Relationship Id="rId35" Type="http://schemas.openxmlformats.org/officeDocument/2006/relationships/image" Target="../media/image16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6.wmf"/><Relationship Id="rId39" Type="http://schemas.openxmlformats.org/officeDocument/2006/relationships/image" Target="../media/image16.wmf"/><Relationship Id="rId40" Type="http://schemas.openxmlformats.org/officeDocument/2006/relationships/image" Target="../media/image16.wmf"/><Relationship Id="rId41" Type="http://schemas.openxmlformats.org/officeDocument/2006/relationships/image" Target="../media/image16.wmf"/><Relationship Id="rId42" Type="http://schemas.openxmlformats.org/officeDocument/2006/relationships/image" Target="../media/image16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6.wmf"/><Relationship Id="rId46" Type="http://schemas.openxmlformats.org/officeDocument/2006/relationships/image" Target="../media/image16.wmf"/><Relationship Id="rId47" Type="http://schemas.openxmlformats.org/officeDocument/2006/relationships/image" Target="../media/image16.wmf"/><Relationship Id="rId48" Type="http://schemas.openxmlformats.org/officeDocument/2006/relationships/image" Target="../media/image16.wmf"/><Relationship Id="rId49" Type="http://schemas.openxmlformats.org/officeDocument/2006/relationships/image" Target="../media/image16.wmf"/><Relationship Id="rId50" Type="http://schemas.openxmlformats.org/officeDocument/2006/relationships/image" Target="../media/image17.wmf"/><Relationship Id="rId51" Type="http://schemas.openxmlformats.org/officeDocument/2006/relationships/image" Target="../media/image16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6.wmf"/><Relationship Id="rId55" Type="http://schemas.openxmlformats.org/officeDocument/2006/relationships/image" Target="../media/image16.wmf"/><Relationship Id="rId56" Type="http://schemas.openxmlformats.org/officeDocument/2006/relationships/image" Target="../media/image16.wmf"/><Relationship Id="rId57" Type="http://schemas.openxmlformats.org/officeDocument/2006/relationships/image" Target="../media/image16.wmf"/><Relationship Id="rId58" Type="http://schemas.openxmlformats.org/officeDocument/2006/relationships/image" Target="../media/image16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6.wmf"/><Relationship Id="rId62" Type="http://schemas.openxmlformats.org/officeDocument/2006/relationships/image" Target="../media/image16.wmf"/><Relationship Id="rId63" Type="http://schemas.openxmlformats.org/officeDocument/2006/relationships/image" Target="../media/image16.wmf"/><Relationship Id="rId64" Type="http://schemas.openxmlformats.org/officeDocument/2006/relationships/image" Target="../media/image16.wmf"/><Relationship Id="rId65" Type="http://schemas.openxmlformats.org/officeDocument/2006/relationships/image" Target="../media/image16.wmf"/><Relationship Id="rId66" Type="http://schemas.openxmlformats.org/officeDocument/2006/relationships/image" Target="../media/image17.wmf"/><Relationship Id="rId67" Type="http://schemas.openxmlformats.org/officeDocument/2006/relationships/image" Target="../media/image16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6.wmf"/><Relationship Id="rId71" Type="http://schemas.openxmlformats.org/officeDocument/2006/relationships/image" Target="../media/image16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6.wmf"/><Relationship Id="rId75" Type="http://schemas.openxmlformats.org/officeDocument/2006/relationships/image" Target="../media/image17.wmf"/><Relationship Id="rId76" Type="http://schemas.openxmlformats.org/officeDocument/2006/relationships/image" Target="../media/image17.wmf"/><Relationship Id="rId77" Type="http://schemas.openxmlformats.org/officeDocument/2006/relationships/image" Target="../media/image16.wmf"/><Relationship Id="rId78" Type="http://schemas.openxmlformats.org/officeDocument/2006/relationships/image" Target="../media/image16.wmf"/><Relationship Id="rId79" Type="http://schemas.openxmlformats.org/officeDocument/2006/relationships/image" Target="../media/image16.wmf"/><Relationship Id="rId80" Type="http://schemas.openxmlformats.org/officeDocument/2006/relationships/image" Target="../media/image16.wmf"/><Relationship Id="rId8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B5C4-C87B-4107-82E2-620C739D2CD8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andwidth management and optimizatio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99"/>
                </a:solidFill>
                <a:latin typeface="Arial"/>
              </a:rPr>
              <a:t>14-16 March 2006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rk Janssens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CTS – K.U.Leuv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80880" y="40384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80880" y="472428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880" y="5410080"/>
            <a:ext cx="66672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0"/>
            <a:ext cx="80773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login syste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nlimited’ number of user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sers can login multiple times at different lo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Group based rout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nlimited’ number of user groups possib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very group has its own independent routing and polic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andwidth regulation and volume quo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ndividual user/group and IP address based settings with no performance impac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event network congestion by dynamically regulating maximum bandwid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owerful quota and bandwidth exception possibiliti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friend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No user side configuration need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Nice user webpage with information and history inform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utomatically redirect to login site for logi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260C-1FE9-456D-B1BE-4FB2DC66516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 direct SMTP connections to the intern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l emails must pass the Central Anti Virus clus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ns for viruses (Mcafee Antiviru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erforms spam classification (Spamassassin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f a virus is detected, user is block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blocking system looks at sending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3338-0972-4449-989C-3387CD2B60B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parent cach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 user settings required to use cach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duce the traffic on the Internet lin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isco Content Engin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quid bas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CC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t’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eded a quick solu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DE57-03E5-467D-9DE0-29DAD76C9BB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rewall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ne on BCrou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eginning of PREROUTING mangle tab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CP port 135,139,445 are blocked for anyon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event virus outbrea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7076-6EB5-4B1A-BA11-A0AE93999A33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2P block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ne on NAT clus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 a pattern search in every pack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ok for certain P2P string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zaa, Bittorrent, Edon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ptables string modu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ather CPU expensiv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lanning to make a better version someday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F585-2215-4625-85C4-1611857A67F0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ransition to BCrou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hased tran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reated 2 testing KotNet segments on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est connectivity and performanc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odify login scripts and backend for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nvert 2 real KotNet segments to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nvert all residences to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nvert all UPC to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nvert all Telenet to BC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arallel volume accounting on user webpag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-time counters from BC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y information by previous KotNet account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real problems encounte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10D9-7EBD-469F-AA40-3E30644D441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raffic impact (early testing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 mode test version of BCpolic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HTTP traff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st popular P2P applications block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ly used IP addresses for accoun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licerBucketMaxSize: 150 Mbyt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anFillRate: 50 Kbyte/se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BurstRate: 250 Kbyte/se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0% reduction in traffi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nly 5% of users ‘hit’ BCpolic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s noted improvement in network qu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3555-8AE6-418D-83AB-8979C47D855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me Numb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rrent daily numb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00 Mbit/sec throughput total (18u – 23u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Mbit Non-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Mbit K.U.Leu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80 Kpackets/sec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p to 20 000 simultaneous us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Crouter loa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% CPU at pea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70DC-097B-4EA8-8814-8F076CD474FD}" type="slidenum">
              <a:t>10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nagement utilit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next few slides show the web-based information interfa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244D-4AFA-49C0-9DC7-82BDEF049105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5522760"/>
          </a:xfrm>
          <a:prstGeom prst="rect">
            <a:avLst/>
          </a:prstGeom>
          <a:ln w="0">
            <a:noFill/>
          </a:ln>
        </p:spPr>
      </p:pic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78DF-B762-4A60-9639-1B574B0634F6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CC10-758B-47F6-A414-13824700D6FD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ota/bandwidth limiting to both user and I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ssign user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ota of 1 Giga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ill the quota at rate of 1 Gigabyte/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speed: un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ssign IP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ota of 10 M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ill the quota at rate of 5 Kilobytes/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speed: 20 Kilobyte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sult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ttings to determine the maximum volume a user can download each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settings to limit the ‘real-time’ bandwidth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1116-CA5F-442F-8662-9E8934C6AA0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4191120" y="274320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BB59-DCB0-4EC3-B795-3928CA972697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8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B486-62E5-4613-9058-FE7AA1461EC9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B457-AEFB-472E-A029-06A1B94DC77C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evelopment: current statu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 itself is function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sign is done by specific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lementation of ipt_bcpolicer is not yet 100% read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amic bandwidth regulation by congestion is not yet implemented (Fixed RateFactor of 1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system is not self-contain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rrently uses the previous login system from KotN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ACDF-636E-40FF-9FBB-AE192C835371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evelopment: futu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dunda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imeframe: June 200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t-standby backup system which takes over if primary fail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urther development need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uild a stand-alone login/log/history syste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imeframe: September 200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asy custom layo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inimal dependenci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ready have some proof of concept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an be done independently of further developm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n system without history information can be done very quick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lanning: hire a job student for this during the summ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BF31-D3CF-4883-83E9-E2BC9F94E019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evelopment: futu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lack Box s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imeframe: Jan 2007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pends on stand-alone login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ckaging and generalizing scri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ackaging of BCrouter partly d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P window size polic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imeframe: unknow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ill requires researc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lanning: make a thesis out of th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actorRate Correc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imeframe: unknow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t an issue anymore on KotN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lementation and tes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1E1A-E25F-4667-A203-FCB9512EE39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evelopment: wish l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form the policer into a shap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ably more work than expect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lanning: make a thesis out of this someda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d the automatic blocking featu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rrently uses the previous KotNet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FC5D-96D4-45FA-AF28-24DFE78BC6C3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 concept offers great possibilit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r authent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vanced and flexible quota and bandwidth manag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gh performance and scalable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 still requires a lot of imple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epts are already tested in the fie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79AD-3D63-4F96-B976-4D8B484515E5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act inform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rk Jansse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S K.U.Leuve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@kuleuven.n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AB25-0CDC-4CE5-855A-83C117FF80B5}" type="slidenum">
              <a:t>118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ota/bandwidth limiting to both user and I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ssign user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imited qu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speed: 50 Kilobytes/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ssign IP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ota of 10 M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ill the quota at rate of 5 Kilobytes/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speed: 20 Kilobyte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sult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 user logs in multiple times, the sum of all logins cannot exceed the maximum user speed. The speed is divided across the hosts that are logged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4010-94E2-4116-95B0-3D0496E798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47720" y="1219320"/>
            <a:ext cx="710100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647-56F3-40E4-93FC-41D15C6111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7720" y="1222200"/>
            <a:ext cx="7101000" cy="5483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BDBD-4DEC-484E-BF4A-4B0CC77AFD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086600" cy="547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70C5-1765-4856-94A6-73EC226920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08660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31D6-D11D-404E-82A2-74F76AC0ED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3960" y="1173240"/>
            <a:ext cx="7124760" cy="549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739B-EDE4-4052-A557-49EC90EBC9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25F2-5163-4906-A330-AA370A2FCC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144440"/>
            <a:ext cx="7162920" cy="5523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7731-0EF8-4901-BA96-F9D2E7EF5B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 into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 is an ongoing network projec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all features are already implemented or ready for 3th party deploy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tructive feedbac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at do you expect from a good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y to fulfill as many expectations as possib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DCA4-A261-4677-8F08-D1A1D2D45B0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ont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gin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direct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ck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r database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g/History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Crouter” rou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69F2-2A16-47AA-B42D-9EEAC72A0B3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gin serv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ves secure web pages to the us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ogin pag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tatistics pag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echnical information pag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acts the user database server for validating user accou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acts the history server to gather historical information about logins and/or quo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acts BCrouter to check current quota and/or login status and performs login/log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E56D-6FBB-4639-B338-17A44284F2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direct serv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directs HTTP requests to the login page on the Login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ts all the traffic that requires a login from non-logged-in hos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direct done by a webpage (not TCP leve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parate dedicated host because can get 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al time network anomaly det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etect virus/worm before login… even for 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time us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upled to automatic user blocking syste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EC72-3113-4BA9-B2C7-CC9479636F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er databa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tains all known us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tacted by the login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n be any type of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DA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ustom type of authentic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EEBC-72A1-4D0E-B0DF-C15D397AC9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/history serv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eives logs from BCrou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ses received log fi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ore processed information in a datab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istorical login inform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istorical account inform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base contacted by the login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ossibility to use data mining techniques to detect suspicious user behavi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022E-86A0-450B-8F6F-623DCEF5FD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lements the core functional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inux based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nds detailed quota reports and issued commands to the log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tacted by the login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et quota information about user and/or 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et login status of user and/or 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erform login and logout opera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FF0D-FA69-424B-AB91-3B8629FB2A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rnet router setup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few 1000’s of us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mit by log/history serv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nage the internet conn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o redirect to login websi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inimize the used Internet bandwid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C020-CC2B-457D-8CDA-CB086DCE416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rnet router setup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i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829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495680" y="5607000"/>
            <a:ext cx="3429000" cy="79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/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2" idx="2"/>
            <a:endCxn id="113" idx="6"/>
          </p:cNvCxnSpPr>
          <p:nvPr/>
        </p:nvCxnSpPr>
        <p:spPr>
          <a:xfrm rot="5400000">
            <a:off x="4759200" y="3015360"/>
            <a:ext cx="462960" cy="10674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15" idx="1"/>
            <a:endCxn id="116" idx="6"/>
          </p:cNvCxnSpPr>
          <p:nvPr/>
        </p:nvCxnSpPr>
        <p:spPr>
          <a:xfrm flipV="1" rot="10800000">
            <a:off x="2361600" y="2859480"/>
            <a:ext cx="2819880" cy="396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16" name=""/>
          <p:cNvSpPr/>
          <p:nvPr/>
        </p:nvSpPr>
        <p:spPr>
          <a:xfrm>
            <a:off x="2286000" y="28256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469400"/>
            <a:ext cx="1447920" cy="824040"/>
          </a:xfrm>
          <a:prstGeom prst="borderCallout1">
            <a:avLst>
              <a:gd name="adj1" fmla="val 18750"/>
              <a:gd name="adj2" fmla="val -8333"/>
              <a:gd name="adj3" fmla="val -70129"/>
              <a:gd name="adj4" fmla="val 11709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7400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2"/>
            <a:endCxn id="108" idx="3"/>
          </p:cNvCxnSpPr>
          <p:nvPr/>
        </p:nvCxnSpPr>
        <p:spPr>
          <a:xfrm rot="10800000">
            <a:off x="2056680" y="28630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20" name=""/>
          <p:cNvCxnSpPr>
            <a:stCxn id="118" idx="0"/>
            <a:endCxn id="116" idx="4"/>
          </p:cNvCxnSpPr>
          <p:nvPr/>
        </p:nvCxnSpPr>
        <p:spPr>
          <a:xfrm flipV="1">
            <a:off x="2323800" y="2901600"/>
            <a:ext cx="1080" cy="83880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21" name=""/>
          <p:cNvCxnSpPr>
            <a:stCxn id="107" idx="1"/>
            <a:endCxn id="118" idx="6"/>
          </p:cNvCxnSpPr>
          <p:nvPr/>
        </p:nvCxnSpPr>
        <p:spPr>
          <a:xfrm rot="10800000">
            <a:off x="236160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22" name=""/>
          <p:cNvCxnSpPr>
            <a:stCxn id="118" idx="2"/>
            <a:endCxn id="110" idx="3"/>
          </p:cNvCxnSpPr>
          <p:nvPr/>
        </p:nvCxnSpPr>
        <p:spPr>
          <a:xfrm rot="10800000">
            <a:off x="205668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23" name=""/>
          <p:cNvSpPr/>
          <p:nvPr/>
        </p:nvSpPr>
        <p:spPr>
          <a:xfrm>
            <a:off x="4724280" y="41911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1911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6" idx="2"/>
            <a:endCxn id="123" idx="0"/>
          </p:cNvCxnSpPr>
          <p:nvPr/>
        </p:nvCxnSpPr>
        <p:spPr>
          <a:xfrm rot="5400000">
            <a:off x="5239440" y="3487680"/>
            <a:ext cx="874080" cy="534240"/>
          </a:xfrm>
          <a:prstGeom prst="bentConnector3">
            <a:avLst>
              <a:gd name="adj1" fmla="val 7395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8" idx="2"/>
            <a:endCxn id="124" idx="0"/>
          </p:cNvCxnSpPr>
          <p:nvPr/>
        </p:nvCxnSpPr>
        <p:spPr>
          <a:xfrm flipH="1" rot="16200000">
            <a:off x="6211800" y="3468240"/>
            <a:ext cx="874080" cy="572400"/>
          </a:xfrm>
          <a:prstGeom prst="bentConnector3">
            <a:avLst>
              <a:gd name="adj1" fmla="val 73959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172200" y="51814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6"/>
            <a:endCxn id="124" idx="2"/>
          </p:cNvCxnSpPr>
          <p:nvPr/>
        </p:nvCxnSpPr>
        <p:spPr>
          <a:xfrm flipV="1">
            <a:off x="6286320" y="4952520"/>
            <a:ext cx="648360" cy="2671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3" idx="2"/>
            <a:endCxn id="129" idx="2"/>
          </p:cNvCxnSpPr>
          <p:nvPr/>
        </p:nvCxnSpPr>
        <p:spPr>
          <a:xfrm flipH="1" rot="16200000">
            <a:off x="5637960" y="4723560"/>
            <a:ext cx="267120" cy="7246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9" idx="4"/>
            <a:endCxn id="109" idx="4"/>
          </p:cNvCxnSpPr>
          <p:nvPr/>
        </p:nvCxnSpPr>
        <p:spPr>
          <a:xfrm flipV="1" rot="10800000">
            <a:off x="6209640" y="5295600"/>
            <a:ext cx="1080" cy="3578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5257800" y="247968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C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22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0544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05440" y="240984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loud"/>
          <p:cNvSpPr/>
          <p:nvPr/>
        </p:nvSpPr>
        <p:spPr>
          <a:xfrm>
            <a:off x="4343400" y="1281240"/>
            <a:ext cx="3200400" cy="958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backbon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0"/>
            <a:endCxn id="135" idx="4"/>
          </p:cNvCxnSpPr>
          <p:nvPr/>
        </p:nvCxnSpPr>
        <p:spPr>
          <a:xfrm flipV="1">
            <a:off x="5943240" y="2238120"/>
            <a:ext cx="1080" cy="172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2590920" y="426708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74184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3" idx="4"/>
            <a:endCxn id="137" idx="3"/>
          </p:cNvCxnSpPr>
          <p:nvPr/>
        </p:nvCxnSpPr>
        <p:spPr>
          <a:xfrm rot="5400000">
            <a:off x="3775320" y="4042440"/>
            <a:ext cx="793080" cy="4197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3" idx="2"/>
            <a:endCxn id="107" idx="3"/>
          </p:cNvCxnSpPr>
          <p:nvPr/>
        </p:nvCxnSpPr>
        <p:spPr>
          <a:xfrm rot="10800000">
            <a:off x="3961800" y="3777480"/>
            <a:ext cx="343440" cy="2520"/>
          </a:xfrm>
          <a:prstGeom prst="bentConnector3">
            <a:avLst>
              <a:gd name="adj1" fmla="val 44386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5411-4A34-42D7-8204-D598A41A2E7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main router setup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few 1000’s of us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mit by log/history serv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nage the entire networ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o redirect to login websi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ntral DHCP server is used to distribute IP addre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inimize the used Internet bandwid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8416-9E9C-4B85-A3C4-316765B2705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main router setup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i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4829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loud"/>
          <p:cNvSpPr/>
          <p:nvPr/>
        </p:nvSpPr>
        <p:spPr>
          <a:xfrm>
            <a:off x="4495680" y="5607000"/>
            <a:ext cx="3429000" cy="79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/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8" idx="0"/>
            <a:endCxn id="149" idx="4"/>
          </p:cNvCxnSpPr>
          <p:nvPr/>
        </p:nvCxnSpPr>
        <p:spPr>
          <a:xfrm flipH="1" flipV="1" rot="5400000">
            <a:off x="6426360" y="2190960"/>
            <a:ext cx="145440" cy="2739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51" idx="2"/>
            <a:endCxn id="152" idx="6"/>
          </p:cNvCxnSpPr>
          <p:nvPr/>
        </p:nvCxnSpPr>
        <p:spPr>
          <a:xfrm rot="5400000">
            <a:off x="4720320" y="2977920"/>
            <a:ext cx="464400" cy="11437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1"/>
            <a:endCxn id="155" idx="6"/>
          </p:cNvCxnSpPr>
          <p:nvPr/>
        </p:nvCxnSpPr>
        <p:spPr>
          <a:xfrm flipV="1" rot="10800000">
            <a:off x="2361600" y="2859480"/>
            <a:ext cx="2819880" cy="396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55" name=""/>
          <p:cNvSpPr/>
          <p:nvPr/>
        </p:nvSpPr>
        <p:spPr>
          <a:xfrm>
            <a:off x="2286000" y="28256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469400"/>
            <a:ext cx="1447920" cy="824040"/>
          </a:xfrm>
          <a:prstGeom prst="borderCallout1">
            <a:avLst>
              <a:gd name="adj1" fmla="val 18750"/>
              <a:gd name="adj2" fmla="val -8333"/>
              <a:gd name="adj3" fmla="val -70129"/>
              <a:gd name="adj4" fmla="val 11709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400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5" idx="2"/>
            <a:endCxn id="144" idx="3"/>
          </p:cNvCxnSpPr>
          <p:nvPr/>
        </p:nvCxnSpPr>
        <p:spPr>
          <a:xfrm rot="10800000">
            <a:off x="2056680" y="28630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59" name=""/>
          <p:cNvCxnSpPr>
            <a:stCxn id="157" idx="0"/>
            <a:endCxn id="155" idx="4"/>
          </p:cNvCxnSpPr>
          <p:nvPr/>
        </p:nvCxnSpPr>
        <p:spPr>
          <a:xfrm flipV="1">
            <a:off x="2323800" y="2901600"/>
            <a:ext cx="1080" cy="83880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0" name=""/>
          <p:cNvCxnSpPr>
            <a:stCxn id="143" idx="1"/>
            <a:endCxn id="157" idx="6"/>
          </p:cNvCxnSpPr>
          <p:nvPr/>
        </p:nvCxnSpPr>
        <p:spPr>
          <a:xfrm rot="10800000">
            <a:off x="236160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1" name=""/>
          <p:cNvCxnSpPr>
            <a:stCxn id="157" idx="2"/>
            <a:endCxn id="146" idx="3"/>
          </p:cNvCxnSpPr>
          <p:nvPr/>
        </p:nvCxnSpPr>
        <p:spPr>
          <a:xfrm rot="10800000">
            <a:off x="205668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2" name=""/>
          <p:cNvSpPr/>
          <p:nvPr/>
        </p:nvSpPr>
        <p:spPr>
          <a:xfrm>
            <a:off x="472428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5" idx="2"/>
            <a:endCxn id="162" idx="0"/>
          </p:cNvCxnSpPr>
          <p:nvPr/>
        </p:nvCxnSpPr>
        <p:spPr>
          <a:xfrm rot="5400000">
            <a:off x="5087160" y="3639960"/>
            <a:ext cx="1178640" cy="534240"/>
          </a:xfrm>
          <a:prstGeom prst="bentConnector3">
            <a:avLst>
              <a:gd name="adj1" fmla="val 4998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7" idx="2"/>
            <a:endCxn id="163" idx="0"/>
          </p:cNvCxnSpPr>
          <p:nvPr/>
        </p:nvCxnSpPr>
        <p:spPr>
          <a:xfrm flipH="1" rot="16200000">
            <a:off x="6059520" y="3620520"/>
            <a:ext cx="1178640" cy="572400"/>
          </a:xfrm>
          <a:prstGeom prst="bentConnector3">
            <a:avLst>
              <a:gd name="adj1" fmla="val 4998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6172200" y="53784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6"/>
            <a:endCxn id="163" idx="2"/>
          </p:cNvCxnSpPr>
          <p:nvPr/>
        </p:nvCxnSpPr>
        <p:spPr>
          <a:xfrm flipV="1">
            <a:off x="6286320" y="5257080"/>
            <a:ext cx="648360" cy="1594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2" idx="2"/>
            <a:endCxn id="168" idx="2"/>
          </p:cNvCxnSpPr>
          <p:nvPr/>
        </p:nvCxnSpPr>
        <p:spPr>
          <a:xfrm flipH="1" rot="16200000">
            <a:off x="5691600" y="4974840"/>
            <a:ext cx="159480" cy="7246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8" idx="4"/>
            <a:endCxn id="145" idx="4"/>
          </p:cNvCxnSpPr>
          <p:nvPr/>
        </p:nvCxnSpPr>
        <p:spPr>
          <a:xfrm flipV="1" rot="10800000">
            <a:off x="6209640" y="5492520"/>
            <a:ext cx="1080" cy="160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5257800" y="247968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C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6576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822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512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loud"/>
          <p:cNvSpPr/>
          <p:nvPr/>
        </p:nvSpPr>
        <p:spPr>
          <a:xfrm>
            <a:off x="3886200" y="12952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loud"/>
          <p:cNvSpPr/>
          <p:nvPr/>
        </p:nvSpPr>
        <p:spPr>
          <a:xfrm>
            <a:off x="3429000" y="19810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loud"/>
          <p:cNvSpPr/>
          <p:nvPr/>
        </p:nvSpPr>
        <p:spPr>
          <a:xfrm>
            <a:off x="6172200" y="1281240"/>
            <a:ext cx="1828800" cy="547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loud"/>
          <p:cNvSpPr/>
          <p:nvPr/>
        </p:nvSpPr>
        <p:spPr>
          <a:xfrm>
            <a:off x="6629400" y="19810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4"/>
          </p:cNvCxnSpPr>
          <p:nvPr/>
        </p:nvCxnSpPr>
        <p:spPr>
          <a:xfrm flipH="1" flipV="1" rot="5400000">
            <a:off x="5708160" y="1929960"/>
            <a:ext cx="845280" cy="961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73" idx="0"/>
            <a:endCxn id="176" idx="4"/>
          </p:cNvCxnSpPr>
          <p:nvPr/>
        </p:nvCxnSpPr>
        <p:spPr>
          <a:xfrm flipV="1" rot="16200000">
            <a:off x="5342760" y="1939320"/>
            <a:ext cx="831240" cy="9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75" idx="0"/>
            <a:endCxn id="177" idx="4"/>
          </p:cNvCxnSpPr>
          <p:nvPr/>
        </p:nvCxnSpPr>
        <p:spPr>
          <a:xfrm flipV="1" rot="16200000">
            <a:off x="5317560" y="2193480"/>
            <a:ext cx="145440" cy="268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2590920" y="503712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585612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53784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743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52" idx="2"/>
            <a:endCxn id="143" idx="3"/>
          </p:cNvCxnSpPr>
          <p:nvPr/>
        </p:nvCxnSpPr>
        <p:spPr>
          <a:xfrm rot="10800000">
            <a:off x="3961800" y="3777480"/>
            <a:ext cx="267120" cy="39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4" idx="2"/>
            <a:endCxn id="182" idx="3"/>
          </p:cNvCxnSpPr>
          <p:nvPr/>
        </p:nvCxnSpPr>
        <p:spPr>
          <a:xfrm flipV="1" rot="10800000">
            <a:off x="3961800" y="5416200"/>
            <a:ext cx="267120" cy="21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8" idx="4"/>
            <a:endCxn id="184" idx="0"/>
          </p:cNvCxnSpPr>
          <p:nvPr/>
        </p:nvCxnSpPr>
        <p:spPr>
          <a:xfrm flipV="1" rot="10800000">
            <a:off x="4304520" y="4674960"/>
            <a:ext cx="1080" cy="6656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3" idx="3"/>
            <a:endCxn id="184" idx="4"/>
          </p:cNvCxnSpPr>
          <p:nvPr/>
        </p:nvCxnSpPr>
        <p:spPr>
          <a:xfrm flipV="1">
            <a:off x="3962520" y="5492520"/>
            <a:ext cx="343440" cy="745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2590920" y="421956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456084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8" idx="2"/>
            <a:endCxn id="190" idx="3"/>
          </p:cNvCxnSpPr>
          <p:nvPr/>
        </p:nvCxnSpPr>
        <p:spPr>
          <a:xfrm flipV="1" rot="10800000">
            <a:off x="3961800" y="4598640"/>
            <a:ext cx="267120" cy="21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52" idx="4"/>
          </p:cNvCxnSpPr>
          <p:nvPr/>
        </p:nvCxnSpPr>
        <p:spPr>
          <a:xfrm flipV="1">
            <a:off x="4304880" y="3857040"/>
            <a:ext cx="1080" cy="6656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91E5-532A-474B-8A83-4383E050688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Crouter sol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Crou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ample network setu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ecurity considera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Crou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mands and logg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outing and Netfilter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Quota/Bandwidth excep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Cpolic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esign princip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icing alternativ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plete desig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se study: KotN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ish li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1654-00F6-42DD-AF77-E420AF00B5E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setup remar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ebcache and NAT are between BCrouter and Intern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Crouter needs to ‘see’ the user IP 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therwise not possible to make user and IP distin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vantag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ransparent web caching is possibl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sadvantag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ached contents are also accounted and speed limit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DE89-2283-4446-A166-9713515DF87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gr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itable for each network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thernet based networ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Crouter does not support any routing protocols (RIP,EIGRP…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Crouter can also play a Cisco Netflow prob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igh performance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gabit speeds with dual CPU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dundancy (still in development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have backup BCrouter in hot stand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9379-E929-4516-AD8B-D0C78CA156D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gr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Crouter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upports virtual unlimited us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ed up to 50 000 users (1 Gigabyte 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s up to 60 000 login/logout operation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upports virtual unlimited IP address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ed up to 200 000 IP’s (1 Gigabyte 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upports up to 300 000 packets/sec (1.5 Gigabit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al Xeon 3.6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ustering (Not yet implement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ssible to use multiple BCrouter serv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erver handles a part of the given network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-BCrouter communication to exchange quota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E9A2-27BC-42EB-998D-67A0DCF974C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gr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ota/bandwidth exceptions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es… very powerful exception capabil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ception flag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P speed li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r speed li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P account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r account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login requir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ceptions can be made for hosts or even entire networks (both local and/or internet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CE94-6175-47D3-AE18-F595265A934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lution: integr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Quota/bandwidth exceptions examp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efault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ogin requir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ccounting to both user and local I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bey both user and local IP speed limit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cal host A does not have to login to access the Internet, but still uses IP quota and speed setting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Embedded device that can’t login and needs network acces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raffic from Internet host B is always possible from any local host and is never accounted, but local host IP speed limits are obey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Website with security patch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y combination of exception flags is possible in either direction for any host/netwo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27A9-7875-43E9-B261-BD98A630B7D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olution: security consideration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ount abu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ser A powers off his PC without logging ou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licious user X takes IP of user 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X continues to work with credentials of user 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lution: Auto logo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ossibility 1: BCrouter performs logout after X minutes of inactivit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ossibility 2: Ping prob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ossibility 3: DHCP server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n server checks if IP that wants to login has been issued by the DHCP server. Refuse login with static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very short DHCP lease times (e.g. 15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script every few minutes that logs out inactive DHCP l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HCP based auto-logout is preferr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772C-39C2-4662-BAED-1954584CBE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t’s take a look at the core element: BCroute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onents of BCrou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ands and logg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uting and Netfilter set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uota/Bandwidth excep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0475-03DF-49AB-8388-11AEC010F51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i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4829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loud"/>
          <p:cNvSpPr/>
          <p:nvPr/>
        </p:nvSpPr>
        <p:spPr>
          <a:xfrm>
            <a:off x="4495680" y="5607000"/>
            <a:ext cx="3429000" cy="79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397320"/>
            <a:ext cx="137160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g/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3" idx="0"/>
            <a:endCxn id="214" idx="4"/>
          </p:cNvCxnSpPr>
          <p:nvPr/>
        </p:nvCxnSpPr>
        <p:spPr>
          <a:xfrm flipH="1" flipV="1" rot="5400000">
            <a:off x="6426360" y="2190960"/>
            <a:ext cx="145440" cy="2739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6" idx="2"/>
            <a:endCxn id="217" idx="6"/>
          </p:cNvCxnSpPr>
          <p:nvPr/>
        </p:nvCxnSpPr>
        <p:spPr>
          <a:xfrm rot="5400000">
            <a:off x="4720320" y="2977920"/>
            <a:ext cx="464400" cy="11437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9" idx="1"/>
            <a:endCxn id="220" idx="6"/>
          </p:cNvCxnSpPr>
          <p:nvPr/>
        </p:nvCxnSpPr>
        <p:spPr>
          <a:xfrm flipV="1" rot="10800000">
            <a:off x="2361600" y="2859480"/>
            <a:ext cx="2819880" cy="396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20" name=""/>
          <p:cNvSpPr/>
          <p:nvPr/>
        </p:nvSpPr>
        <p:spPr>
          <a:xfrm>
            <a:off x="2286000" y="28256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4469400"/>
            <a:ext cx="1447920" cy="824040"/>
          </a:xfrm>
          <a:prstGeom prst="borderCallout1">
            <a:avLst>
              <a:gd name="adj1" fmla="val 18750"/>
              <a:gd name="adj2" fmla="val -8333"/>
              <a:gd name="adj3" fmla="val -70129"/>
              <a:gd name="adj4" fmla="val 11709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740040"/>
            <a:ext cx="76320" cy="763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09" idx="3"/>
          </p:cNvCxnSpPr>
          <p:nvPr/>
        </p:nvCxnSpPr>
        <p:spPr>
          <a:xfrm rot="10800000">
            <a:off x="2056680" y="28630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24" name=""/>
          <p:cNvCxnSpPr>
            <a:stCxn id="222" idx="0"/>
            <a:endCxn id="220" idx="4"/>
          </p:cNvCxnSpPr>
          <p:nvPr/>
        </p:nvCxnSpPr>
        <p:spPr>
          <a:xfrm flipV="1">
            <a:off x="2323800" y="2901600"/>
            <a:ext cx="1080" cy="83880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25" name=""/>
          <p:cNvCxnSpPr>
            <a:stCxn id="208" idx="1"/>
            <a:endCxn id="222" idx="6"/>
          </p:cNvCxnSpPr>
          <p:nvPr/>
        </p:nvCxnSpPr>
        <p:spPr>
          <a:xfrm rot="10800000">
            <a:off x="236160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26" name=""/>
          <p:cNvCxnSpPr>
            <a:stCxn id="222" idx="2"/>
            <a:endCxn id="211" idx="3"/>
          </p:cNvCxnSpPr>
          <p:nvPr/>
        </p:nvCxnSpPr>
        <p:spPr>
          <a:xfrm rot="10800000">
            <a:off x="2056680" y="3777480"/>
            <a:ext cx="22932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27" name=""/>
          <p:cNvSpPr/>
          <p:nvPr/>
        </p:nvSpPr>
        <p:spPr>
          <a:xfrm>
            <a:off x="472428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30" idx="2"/>
            <a:endCxn id="227" idx="0"/>
          </p:cNvCxnSpPr>
          <p:nvPr/>
        </p:nvCxnSpPr>
        <p:spPr>
          <a:xfrm rot="5400000">
            <a:off x="5087160" y="3639960"/>
            <a:ext cx="1178640" cy="534240"/>
          </a:xfrm>
          <a:prstGeom prst="bentConnector3">
            <a:avLst>
              <a:gd name="adj1" fmla="val 4998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32" idx="2"/>
            <a:endCxn id="228" idx="0"/>
          </p:cNvCxnSpPr>
          <p:nvPr/>
        </p:nvCxnSpPr>
        <p:spPr>
          <a:xfrm flipH="1" rot="16200000">
            <a:off x="6059520" y="3620520"/>
            <a:ext cx="1178640" cy="572400"/>
          </a:xfrm>
          <a:prstGeom prst="bentConnector3">
            <a:avLst>
              <a:gd name="adj1" fmla="val 4998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6172200" y="53784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6"/>
            <a:endCxn id="228" idx="2"/>
          </p:cNvCxnSpPr>
          <p:nvPr/>
        </p:nvCxnSpPr>
        <p:spPr>
          <a:xfrm flipV="1">
            <a:off x="6286320" y="5257080"/>
            <a:ext cx="648360" cy="1594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7" idx="2"/>
            <a:endCxn id="233" idx="2"/>
          </p:cNvCxnSpPr>
          <p:nvPr/>
        </p:nvCxnSpPr>
        <p:spPr>
          <a:xfrm flipH="1" rot="16200000">
            <a:off x="5691600" y="4974840"/>
            <a:ext cx="159480" cy="7246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4"/>
            <a:endCxn id="210" idx="4"/>
          </p:cNvCxnSpPr>
          <p:nvPr/>
        </p:nvCxnSpPr>
        <p:spPr>
          <a:xfrm flipV="1" rot="10800000">
            <a:off x="6209640" y="5492520"/>
            <a:ext cx="1080" cy="160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257800" y="247968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C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576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822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0544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324180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512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4004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loud"/>
          <p:cNvSpPr/>
          <p:nvPr/>
        </p:nvSpPr>
        <p:spPr>
          <a:xfrm>
            <a:off x="3886200" y="12952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loud"/>
          <p:cNvSpPr/>
          <p:nvPr/>
        </p:nvSpPr>
        <p:spPr>
          <a:xfrm>
            <a:off x="3429000" y="19810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Cloud"/>
          <p:cNvSpPr/>
          <p:nvPr/>
        </p:nvSpPr>
        <p:spPr>
          <a:xfrm>
            <a:off x="6172200" y="1281240"/>
            <a:ext cx="1828800" cy="547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6629400" y="1981080"/>
            <a:ext cx="1828800" cy="547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al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9" idx="0"/>
            <a:endCxn id="243" idx="4"/>
          </p:cNvCxnSpPr>
          <p:nvPr/>
        </p:nvCxnSpPr>
        <p:spPr>
          <a:xfrm flipH="1" flipV="1" rot="5400000">
            <a:off x="5708160" y="1929960"/>
            <a:ext cx="845280" cy="961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8" idx="0"/>
            <a:endCxn id="241" idx="4"/>
          </p:cNvCxnSpPr>
          <p:nvPr/>
        </p:nvCxnSpPr>
        <p:spPr>
          <a:xfrm flipV="1" rot="16200000">
            <a:off x="5342760" y="1939320"/>
            <a:ext cx="831240" cy="9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0" idx="0"/>
            <a:endCxn id="242" idx="4"/>
          </p:cNvCxnSpPr>
          <p:nvPr/>
        </p:nvCxnSpPr>
        <p:spPr>
          <a:xfrm flipV="1" rot="16200000">
            <a:off x="5317560" y="2193480"/>
            <a:ext cx="145440" cy="268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2590920" y="503712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585612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53784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743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17" idx="2"/>
            <a:endCxn id="208" idx="3"/>
          </p:cNvCxnSpPr>
          <p:nvPr/>
        </p:nvCxnSpPr>
        <p:spPr>
          <a:xfrm rot="10800000">
            <a:off x="3961800" y="3777480"/>
            <a:ext cx="267120" cy="39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9" idx="2"/>
            <a:endCxn id="247" idx="3"/>
          </p:cNvCxnSpPr>
          <p:nvPr/>
        </p:nvCxnSpPr>
        <p:spPr>
          <a:xfrm flipV="1" rot="10800000">
            <a:off x="3961800" y="5416200"/>
            <a:ext cx="267120" cy="21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53" idx="4"/>
            <a:endCxn id="249" idx="0"/>
          </p:cNvCxnSpPr>
          <p:nvPr/>
        </p:nvCxnSpPr>
        <p:spPr>
          <a:xfrm flipV="1" rot="10800000">
            <a:off x="4304520" y="4674960"/>
            <a:ext cx="1080" cy="6656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8" idx="3"/>
            <a:endCxn id="249" idx="4"/>
          </p:cNvCxnSpPr>
          <p:nvPr/>
        </p:nvCxnSpPr>
        <p:spPr>
          <a:xfrm flipV="1">
            <a:off x="3962520" y="5492520"/>
            <a:ext cx="343440" cy="745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2590920" y="4219560"/>
            <a:ext cx="137160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456084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3" idx="2"/>
            <a:endCxn id="255" idx="3"/>
          </p:cNvCxnSpPr>
          <p:nvPr/>
        </p:nvCxnSpPr>
        <p:spPr>
          <a:xfrm flipV="1" rot="10800000">
            <a:off x="3961800" y="4598640"/>
            <a:ext cx="267120" cy="2160"/>
          </a:xfrm>
          <a:prstGeom prst="bentConnector3">
            <a:avLst>
              <a:gd name="adj1" fmla="val 427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0"/>
            <a:endCxn id="217" idx="4"/>
          </p:cNvCxnSpPr>
          <p:nvPr/>
        </p:nvCxnSpPr>
        <p:spPr>
          <a:xfrm flipV="1">
            <a:off x="4304880" y="3857040"/>
            <a:ext cx="1080" cy="6656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783F-048D-4181-8E1F-3FDC9A9753E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en’ black bo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nux operating syste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r spa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HCP forward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yslog 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Crouter 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twork configuration scrip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ernel spa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Cpolicer modu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2603-2A14-4E78-86DF-B837CFBC830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5280" y="1523880"/>
            <a:ext cx="6705720" cy="4343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228600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228600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228600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3276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680" y="32846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20400" y="14716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3352680"/>
            <a:ext cx="2133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1"/>
            <a:endCxn id="271" idx="6"/>
          </p:cNvCxnSpPr>
          <p:nvPr/>
        </p:nvCxnSpPr>
        <p:spPr>
          <a:xfrm rot="10800000">
            <a:off x="1332720" y="4780800"/>
            <a:ext cx="163908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3" idx="2"/>
            <a:endCxn id="270" idx="3"/>
          </p:cNvCxnSpPr>
          <p:nvPr/>
        </p:nvCxnSpPr>
        <p:spPr>
          <a:xfrm rot="10800000">
            <a:off x="6323760" y="4780800"/>
            <a:ext cx="163908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4" idx="2"/>
            <a:endCxn id="268" idx="0"/>
          </p:cNvCxnSpPr>
          <p:nvPr/>
        </p:nvCxnSpPr>
        <p:spPr>
          <a:xfrm flipV="1" rot="10800000">
            <a:off x="6095160" y="3047760"/>
            <a:ext cx="1080" cy="3052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971800" y="3905280"/>
            <a:ext cx="3352680" cy="1752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2" idx="2"/>
            <a:endCxn id="276" idx="0"/>
          </p:cNvCxnSpPr>
          <p:nvPr/>
        </p:nvCxnSpPr>
        <p:spPr>
          <a:xfrm flipV="1" rot="10800000">
            <a:off x="4419000" y="3047760"/>
            <a:ext cx="1080" cy="162000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"/>
          <p:cNvCxnSpPr>
            <a:stCxn id="263" idx="2"/>
            <a:endCxn id="278" idx="0"/>
          </p:cNvCxnSpPr>
          <p:nvPr/>
        </p:nvCxnSpPr>
        <p:spPr>
          <a:xfrm flipV="1" rot="10800000">
            <a:off x="2628360" y="3047760"/>
            <a:ext cx="1080" cy="16768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590920" y="472428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80" idx="0"/>
          </p:cNvCxnSpPr>
          <p:nvPr/>
        </p:nvCxnSpPr>
        <p:spPr>
          <a:xfrm rot="5400000">
            <a:off x="5171400" y="3743280"/>
            <a:ext cx="93420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81" name=""/>
          <p:cNvGrpSpPr/>
          <p:nvPr/>
        </p:nvGrpSpPr>
        <p:grpSpPr>
          <a:xfrm>
            <a:off x="4114800" y="4667400"/>
            <a:ext cx="1371600" cy="838080"/>
            <a:chOff x="4114800" y="4667400"/>
            <a:chExt cx="1371600" cy="838080"/>
          </a:xfrm>
        </p:grpSpPr>
        <p:sp>
          <p:nvSpPr>
            <p:cNvPr id="282" name=""/>
            <p:cNvSpPr/>
            <p:nvPr/>
          </p:nvSpPr>
          <p:spPr>
            <a:xfrm>
              <a:off x="4114800" y="4743720"/>
              <a:ext cx="13716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Cpoli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381560" y="4667400"/>
              <a:ext cx="838080" cy="76320"/>
              <a:chOff x="4381560" y="4667400"/>
              <a:chExt cx="838080" cy="7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4381560" y="4667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43320" y="4667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4381560" y="18288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1828800"/>
            <a:ext cx="7596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7" idx="4"/>
            <a:endCxn id="263" idx="0"/>
          </p:cNvCxnSpPr>
          <p:nvPr/>
        </p:nvCxnSpPr>
        <p:spPr>
          <a:xfrm flipV="1" rot="10800000">
            <a:off x="2628360" y="1942920"/>
            <a:ext cx="1080" cy="34344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>
            <a:stCxn id="285" idx="2"/>
            <a:endCxn id="284" idx="6"/>
          </p:cNvCxnSpPr>
          <p:nvPr/>
        </p:nvCxnSpPr>
        <p:spPr>
          <a:xfrm rot="10800000">
            <a:off x="4494960" y="1866240"/>
            <a:ext cx="152496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89" name=""/>
          <p:cNvCxnSpPr>
            <a:stCxn id="284" idx="4"/>
            <a:endCxn id="262" idx="0"/>
          </p:cNvCxnSpPr>
          <p:nvPr/>
        </p:nvCxnSpPr>
        <p:spPr>
          <a:xfrm flipV="1" rot="10800000">
            <a:off x="4419000" y="1942920"/>
            <a:ext cx="1080" cy="34344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85" idx="6"/>
            <a:endCxn id="291" idx="2"/>
          </p:cNvCxnSpPr>
          <p:nvPr/>
        </p:nvCxnSpPr>
        <p:spPr>
          <a:xfrm>
            <a:off x="6172200" y="1866600"/>
            <a:ext cx="179136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2" name=""/>
          <p:cNvCxnSpPr>
            <a:stCxn id="285" idx="4"/>
            <a:endCxn id="264" idx="0"/>
          </p:cNvCxnSpPr>
          <p:nvPr/>
        </p:nvCxnSpPr>
        <p:spPr>
          <a:xfrm flipV="1" rot="10800000">
            <a:off x="6095160" y="1942920"/>
            <a:ext cx="1080" cy="34344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590920" y="1828800"/>
            <a:ext cx="7596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4" idx="2"/>
            <a:endCxn id="287" idx="6"/>
          </p:cNvCxnSpPr>
          <p:nvPr/>
        </p:nvCxnSpPr>
        <p:spPr>
          <a:xfrm rot="10800000">
            <a:off x="2704320" y="1866240"/>
            <a:ext cx="1639080" cy="10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71" name=""/>
          <p:cNvSpPr/>
          <p:nvPr/>
        </p:nvSpPr>
        <p:spPr>
          <a:xfrm>
            <a:off x="1219320" y="4743360"/>
            <a:ext cx="7596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01000" y="474336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01000" y="18288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8880" y="4780080"/>
            <a:ext cx="106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7560" y="4780080"/>
            <a:ext cx="106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31920" y="1828800"/>
            <a:ext cx="136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64" idx="1"/>
            <a:endCxn id="262" idx="3"/>
          </p:cNvCxnSpPr>
          <p:nvPr/>
        </p:nvCxnSpPr>
        <p:spPr>
          <a:xfrm rot="10800000">
            <a:off x="5104800" y="2666160"/>
            <a:ext cx="305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1BDF-0D9C-4048-94F2-B8CFBFB5830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probl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ndwidth usage rises rapidl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creasing Internet popu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icher’ content (HTML,Flash,…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2P download applic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deo/music stream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ndwidth availability is limit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nsive uplin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alternati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nsive hard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2307-B23F-4BC1-851C-347772D5CBD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HCP forward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ward broadcast DHCP DISCOVER to a central DHCP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hcp-fw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http://www.nongnu.org/dhcp-fwd/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imple appl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 space application running in chroot ja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istens in ‘promiscuous mode’ on specified interfa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6B1E-4AA1-45DC-9590-1D98806557F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yslog daem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nd logs to a remote log server for remote 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slog-ng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http://freshmeat.net/redir/syslog-ng/10178/url_homepage/syslog-n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ry powerful options (filtering, multi logserver…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gs both user space as kernel log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E780-3FB7-4E79-B39A-16A985C3BD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router daem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s a network-based console to the BCpolicer kernel modu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mple Perl script (Forking TCP serv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lows simultaneous management ac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istens on a network socket (telnet port 2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cates with the kernel modu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C0D1-D837-4DA8-B0CF-73C59CA1DEC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twork configuration scrip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s entire interface, routing and Netfilter  configuration and set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ell scri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ecuted at boot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6199-FE07-4600-8786-2F7B08B6BD7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Cpolicer kernel modu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eives login/logout commands and performs  accounting and routing deci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re element of BCrouter (ipt_bcpolic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orks entirely in kernel spa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adable module which implements an iptables targ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A78C-F636-49E7-8D18-30BDCDE7A00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router: commands &amp; logging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an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n/logo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ogin [username] ip [x.x.x.x] reason [text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ogout [username] reason [text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ogout [ip] reason [text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Query infor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ow user ip [x.x.x.x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ow ip user [username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ow quota ip [x.x.x.x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ow quota user [username]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figur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f ip 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f user 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xport al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ow uptim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6EA5-EFF8-4A9F-9DE1-74724729313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router: commands &amp; logging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ands examp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nl-B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000099"/>
                </a:solidFill>
                <a:latin typeface="Times New Roman"/>
              </a:rPr>
              <a:t>export a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nl-B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000099"/>
                </a:solidFill>
                <a:latin typeface="Times New Roman"/>
              </a:rPr>
              <a:t>login user kuleuven/u0022948 ip 10.91.91.1 reason login dem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99"/>
                </a:solidFill>
                <a:latin typeface="Times New Roman"/>
              </a:rPr>
              <a:t>200 OK: login - 1142031358930300 - kuleuven/u0022948 (1) on 10.91.91.1 (login demo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how ip user kuleuven/u0022948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204 OK: show ip user - 10.91.91.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how user ip 10.91.91.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203 OK: show user ip - kuleuven/u0022948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login user kuleuven/u0022948 ip 10.91.91.2 reason 2nd logi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200 OK: login - 1142031429848045 - kuleuven/u0022948 (1) on 10.91.91.2 (2nd login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how ip user kuleuven/u0022948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204 OK: show ip user - 10.91.91.2,10.91.91.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crouter1#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xport a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onf user kuleuven/u0022948 …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onf ip 10.91.91.1 …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login user kuleuven/u0022948 ip 10.91.91.1 reason recovering statefull in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onf ip 10.91.91.2 …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EE50-786F-496A-B94B-CE941C13278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router: commands &amp; logging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47560" y="32000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twork seg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ime of lo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 sequence numb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ame of segm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raffic coun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ytes and packet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ownload and uplo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ccounted and not account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ropped and accept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 of active IP’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24280" y="32004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ime of lo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 sequence numb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P add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name (–none- if no login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raffic coun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ytes and packet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ownload and uplo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ccounted and not account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ropped and accept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g commands an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g network/host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6B6A-7B01-4606-B601-9C5CE973319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uting with BCrouter is done by a BCPOLICER target in the PREROUTING mangle table that alters the fwmark value of the packet and uses this value as selector for policy based routin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BFAB-4056-4EC7-A3EA-DAD3B7D502A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e Linux networking capabilit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EEE 802.1Q support (VLAN technolog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d to limit the number of physical interfa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olicy based routing (Routing rule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d for implementing user group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tfilter/Iptables framewor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d for host exception lis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FE58-A7A4-4BF5-8E71-8C80A5B4117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probl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ajority of bandwidth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d by minority of us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ority of us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use network conges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use problems for other us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ample: K.U.Leuven KotN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udent network across region of Leuv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 000 active stud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% of users caused 50% of used bandwid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98EA-56A0-47AA-81CE-7B8BA1CE6B1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EEE 802.1Q suppo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rtual LAN technology (VLA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rates on the data link layer (OSI layer 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dds 4 extra bytes to existing ethernet head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ows multiple LAN’s over 1 physical wire (trunking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VLAN id has its own interface dev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.g. eth0.5 indicates VLAN id 5 on physical interface eth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config’ t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00560" y="3424320"/>
            <a:ext cx="6492600" cy="1448280"/>
            <a:chOff x="1600560" y="3424320"/>
            <a:chExt cx="6492600" cy="1448280"/>
          </a:xfrm>
        </p:grpSpPr>
        <p:grpSp>
          <p:nvGrpSpPr>
            <p:cNvPr id="323" name=""/>
            <p:cNvGrpSpPr/>
            <p:nvPr/>
          </p:nvGrpSpPr>
          <p:grpSpPr>
            <a:xfrm>
              <a:off x="2682360" y="3486240"/>
              <a:ext cx="1753200" cy="1218960"/>
              <a:chOff x="2682360" y="3486240"/>
              <a:chExt cx="1753200" cy="1218960"/>
            </a:xfrm>
          </p:grpSpPr>
          <p:sp>
            <p:nvSpPr>
              <p:cNvPr id="324" name=""/>
              <p:cNvSpPr/>
              <p:nvPr/>
            </p:nvSpPr>
            <p:spPr>
              <a:xfrm>
                <a:off x="3444840" y="3486240"/>
                <a:ext cx="914400" cy="1218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abl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v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68520" y="36003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68520" y="40575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68520" y="45147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59240" y="40575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682360" y="3638520"/>
                <a:ext cx="685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2682360" y="4095720"/>
                <a:ext cx="685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682360" y="4552920"/>
                <a:ext cx="68580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339960" y="3486240"/>
              <a:ext cx="1753200" cy="1218960"/>
              <a:chOff x="6339960" y="3486240"/>
              <a:chExt cx="1753200" cy="121896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6416280" y="3486240"/>
                <a:ext cx="914400" cy="1218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abl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v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7330680" y="36003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330680" y="40575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7330680" y="45147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339960" y="405756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07360" y="3638520"/>
                <a:ext cx="685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07360" y="4095720"/>
                <a:ext cx="685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07360" y="4552920"/>
                <a:ext cx="68580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435560" y="40957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16440" y="4246200"/>
              <a:ext cx="1447920" cy="626400"/>
            </a:xfrm>
            <a:prstGeom prst="borderCallout1">
              <a:avLst>
                <a:gd name="adj1" fmla="val 18750"/>
                <a:gd name="adj2" fmla="val -8333"/>
                <a:gd name="adj3" fmla="val -15851"/>
                <a:gd name="adj4" fmla="val -17745"/>
              </a:avLst>
            </a:prstGeom>
            <a:solidFill>
              <a:srgbClr val="eaeaea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t1Q ‘trunk’ containing VLAN 1,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6760" y="342432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LA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6760" y="389880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LA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00560" y="435600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LA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7B94-4662-414E-9F94-C16E8ADFB41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licy based routing (Routing rule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ultiple routing tab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outing policy database (RPDB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ach entry in the database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s a 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a priority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a selector (src addr, dst addr, incoming iface, tos, fw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PDB entries are scanned according prior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selector of RPDB entry applies, that routing table is us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p rule’ t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2B1A-B976-4DC1-A559-E7CB31C3672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tfilter/Iptables framewor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tensive IP packet filtering ru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re are 3 ‘table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ach table has its own purpos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table contains several ‘chain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ach chain operates on a different location in the network packet flo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hains can also be custom-defin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chain can contain several ‘rule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ach rule contains a selector and a targ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ules are examined in the order they are listed in the cha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a selector matches, the action is determined by the targ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ptables’ t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842E-C72D-46C5-9297-B560E8AE7FA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lter table: Firewall type ru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packets destined for the box itsel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packets being routed through the 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locally generated packe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: Native Address Translation type ru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EROUT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packets as soon as they come 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locally generated packets before rout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OSTROUT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packets as they are about to go o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gle: Packet alteration type ru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PREROUTING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: for altering packets before rout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locally generated packets before rout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packets destined for the box itsel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packets being routed through the 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OSTROUT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 altering packets as they are about to go o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7E43-0DA7-4B18-B6C6-3E88567EB97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14400" y="1295280"/>
            <a:ext cx="7467480" cy="365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95920" y="2286000"/>
            <a:ext cx="1066680" cy="1066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0000" y="2286000"/>
            <a:ext cx="1066680" cy="1066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4382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3640" y="13716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filter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00680" y="24382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57360" y="39625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43640" y="39625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4320" y="24382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0" idx="2"/>
            <a:endCxn id="363" idx="4"/>
          </p:cNvCxnSpPr>
          <p:nvPr/>
        </p:nvCxnSpPr>
        <p:spPr>
          <a:xfrm rot="5400000">
            <a:off x="5666040" y="4923360"/>
            <a:ext cx="762840" cy="36432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64" name=""/>
          <p:cNvCxnSpPr>
            <a:stCxn id="354" idx="4"/>
            <a:endCxn id="359" idx="0"/>
          </p:cNvCxnSpPr>
          <p:nvPr/>
        </p:nvCxnSpPr>
        <p:spPr>
          <a:xfrm flipV="1" rot="10800000">
            <a:off x="3142440" y="3352320"/>
            <a:ext cx="1080" cy="610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56" idx="3"/>
            <a:endCxn id="354" idx="2"/>
          </p:cNvCxnSpPr>
          <p:nvPr/>
        </p:nvCxnSpPr>
        <p:spPr>
          <a:xfrm>
            <a:off x="2437920" y="2819160"/>
            <a:ext cx="1724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1" idx="1"/>
            <a:endCxn id="353" idx="6"/>
          </p:cNvCxnSpPr>
          <p:nvPr/>
        </p:nvCxnSpPr>
        <p:spPr>
          <a:xfrm rot="10800000">
            <a:off x="6761880" y="2818800"/>
            <a:ext cx="1724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67" name=""/>
          <p:cNvCxnSpPr>
            <a:stCxn id="353" idx="2"/>
            <a:endCxn id="358" idx="3"/>
          </p:cNvCxnSpPr>
          <p:nvPr/>
        </p:nvCxnSpPr>
        <p:spPr>
          <a:xfrm rot="10800000">
            <a:off x="5371560" y="2818800"/>
            <a:ext cx="32436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68" name=""/>
          <p:cNvCxnSpPr>
            <a:stCxn id="358" idx="1"/>
            <a:endCxn id="354" idx="6"/>
          </p:cNvCxnSpPr>
          <p:nvPr/>
        </p:nvCxnSpPr>
        <p:spPr>
          <a:xfrm rot="10800000">
            <a:off x="3675960" y="2818800"/>
            <a:ext cx="32472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69" name=""/>
          <p:cNvCxnSpPr>
            <a:stCxn id="359" idx="2"/>
            <a:endCxn id="363" idx="5"/>
          </p:cNvCxnSpPr>
          <p:nvPr/>
        </p:nvCxnSpPr>
        <p:spPr>
          <a:xfrm flipH="1" rot="16200000">
            <a:off x="2946960" y="4919760"/>
            <a:ext cx="762840" cy="3708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3" idx="4"/>
            <a:endCxn id="360" idx="0"/>
          </p:cNvCxnSpPr>
          <p:nvPr/>
        </p:nvCxnSpPr>
        <p:spPr>
          <a:xfrm flipV="1" rot="10800000">
            <a:off x="6228720" y="3352320"/>
            <a:ext cx="1080" cy="6105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63" name="Cloud"/>
          <p:cNvSpPr/>
          <p:nvPr/>
        </p:nvSpPr>
        <p:spPr>
          <a:xfrm>
            <a:off x="3505320" y="5029200"/>
            <a:ext cx="236196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866960"/>
            <a:ext cx="30492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3"/>
            <a:endCxn id="356" idx="1"/>
          </p:cNvCxnSpPr>
          <p:nvPr/>
        </p:nvCxnSpPr>
        <p:spPr>
          <a:xfrm>
            <a:off x="762120" y="2819160"/>
            <a:ext cx="305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8534520" y="1866960"/>
            <a:ext cx="30456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73" idx="1"/>
            <a:endCxn id="361" idx="3"/>
          </p:cNvCxnSpPr>
          <p:nvPr/>
        </p:nvCxnSpPr>
        <p:spPr>
          <a:xfrm rot="10800000">
            <a:off x="8305200" y="2818800"/>
            <a:ext cx="22932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E17E-39D3-446C-B32F-85F851C0D19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cket filtering and routing are normally 2 different th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ever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re is a packet ‘property’ that can be changed by an iptables target and can be used as a routing rule selector: fwma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wmar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tfilter MARK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ger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sociated within the kernel with the packe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es not alter the packet itsel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7F03-33C3-4C0F-BE67-45C4B9728A8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outing with BCrouter is done by a BCPOLICER target in the PREROUTING mangle table that alters the fwmark value of the packet and uses this value as selector for policy based routing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wmark value after BCPOLICER selects routing tabl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… 97 : routing table belonging to the user group of the identified us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98: routing table for non-identified us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99: routing table for redirecting users to the login si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00: routing table that drops all pack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BD77-915F-40F4-9DF4-EC25C8906A6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router: routing &amp; Netfil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81" idx="2"/>
            <a:endCxn id="382" idx="1"/>
          </p:cNvCxnSpPr>
          <p:nvPr/>
        </p:nvCxnSpPr>
        <p:spPr>
          <a:xfrm flipH="1" rot="16200000">
            <a:off x="2743200" y="4152600"/>
            <a:ext cx="1410480" cy="572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762120" y="1752480"/>
            <a:ext cx="30456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29600" y="4191120"/>
            <a:ext cx="30492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1"/>
            <a:endCxn id="382" idx="3"/>
          </p:cNvCxnSpPr>
          <p:nvPr/>
        </p:nvCxnSpPr>
        <p:spPr>
          <a:xfrm rot="10800000">
            <a:off x="7848000" y="5142960"/>
            <a:ext cx="3816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6" name=""/>
          <p:cNvCxnSpPr>
            <a:stCxn id="383" idx="3"/>
            <a:endCxn id="381" idx="1"/>
          </p:cNvCxnSpPr>
          <p:nvPr/>
        </p:nvCxnSpPr>
        <p:spPr>
          <a:xfrm>
            <a:off x="1066320" y="2704680"/>
            <a:ext cx="3056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7" name=""/>
          <p:cNvGrpSpPr/>
          <p:nvPr/>
        </p:nvGrpSpPr>
        <p:grpSpPr>
          <a:xfrm>
            <a:off x="1371600" y="1676520"/>
            <a:ext cx="3581280" cy="2057400"/>
            <a:chOff x="1371600" y="1676520"/>
            <a:chExt cx="3581280" cy="2057400"/>
          </a:xfrm>
        </p:grpSpPr>
        <p:sp>
          <p:nvSpPr>
            <p:cNvPr id="381" name=""/>
            <p:cNvSpPr/>
            <p:nvPr/>
          </p:nvSpPr>
          <p:spPr>
            <a:xfrm>
              <a:off x="1371600" y="1676520"/>
              <a:ext cx="3581280" cy="2057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ROUTING mangle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lector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arget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K ex.fla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K ex.fla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ryth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CPOLI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95080" y="23623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733920" y="3962520"/>
            <a:ext cx="4114800" cy="2361960"/>
            <a:chOff x="3733920" y="3962520"/>
            <a:chExt cx="4114800" cy="2361960"/>
          </a:xfrm>
        </p:grpSpPr>
        <p:sp>
          <p:nvSpPr>
            <p:cNvPr id="382" name=""/>
            <p:cNvSpPr/>
            <p:nvPr/>
          </p:nvSpPr>
          <p:spPr>
            <a:xfrm>
              <a:off x="3733920" y="3962520"/>
              <a:ext cx="4114800" cy="23619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iority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lector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outing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wmark=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wmark=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wmark=9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wmark=9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i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wmark=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7760" y="47433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715000" y="2596680"/>
            <a:ext cx="2590920" cy="1067400"/>
          </a:xfrm>
          <a:prstGeom prst="borderCallout1">
            <a:avLst>
              <a:gd name="adj1" fmla="val 18750"/>
              <a:gd name="adj2" fmla="val -8333"/>
              <a:gd name="adj3" fmla="val 26972"/>
              <a:gd name="adj4" fmla="val -14694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/bandwidth exception list changes fwmark before entering BCPOL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2438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5034600"/>
            <a:ext cx="2210040" cy="824040"/>
          </a:xfrm>
          <a:prstGeom prst="borderCallout1">
            <a:avLst>
              <a:gd name="adj1" fmla="val 18750"/>
              <a:gd name="adj2" fmla="val -8333"/>
              <a:gd name="adj3" fmla="val 5541"/>
              <a:gd name="adj4" fmla="val 112490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wmark changed by BCPOLICER to select correct routing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67BD-9792-432B-8D38-6F9F476D0B7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router: exception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ptions passed to BCPOLICER via fwmark val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ssible to use almost all Iptables selection featu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st before BCPOLICER target in PREROUT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wmark val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P speed limit (src: 0x0001   dst: 0x0002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ser speed limit (src: 0x0004   dst: 0x0008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P accounting (src: 0x0010   dst: 0x0020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ser accounting (src: 0x0040   dst: 0x0080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No login required (src: 0x0100   dst:0x0200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nal value:  logical OR of the wanted flag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raffic from Internet host B is always possible from any local host and is never accounted, but local host IP speed limits are obey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rc: localnet   Dst: hostB    mark: 0x0001||0x0100 = 0x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rc: hostB   Dst: localnet   mark: 0x0002||0x0200 = 0x020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8DCA-9B7D-417E-9C61-E5AE7EE60A1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verything up until now was on macroscopic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t’s dig (a little bit) into the real core: ipt_bcpolic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next slides are greatly simplifi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ould take couple of hours to completely explain the entire desig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4091-1B52-4A7B-99C2-57924DE5D73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probl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sers are anonymou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nly known by IP add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ery easy to change IP address to be anonymo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one can (ab)use the networ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to do if external complaints come i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ser awareness is need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t the user take responsibility of his own network us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ive the user a ‘personal credit’ he can use (network quota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Notify/block the user if his/her PC acts ‘strange’ and give instruction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swer: User authentic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kes it possible to map every action on the network to an individual pers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events unauthorized ac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kes it possible to use ‘personal’ network settings and a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0525-4B24-42CA-8C12-446FAC83643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CP: reliable protoco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very received packet must be acknowledged to Sender by Receiv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nder retransmits when no acknowledgement received within certain tim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ponential delay between retransmi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en relatively few packets are dropped, transmission speed goes down significant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F666-AB8C-40C2-B715-0B9F364DCAA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licing vs. Shap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90720" y="2286000"/>
          <a:ext cx="7314840" cy="3809880"/>
        </p:xfrm>
        <a:graphic>
          <a:graphicData uri="http://schemas.openxmlformats.org/drawingml/2006/table">
            <a:tbl>
              <a:tblPr/>
              <a:tblGrid>
                <a:gridCol w="3657240"/>
                <a:gridCol w="3657600"/>
              </a:tblGrid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99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oli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ccept/drop pack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on’t delay pack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o que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o schedu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99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ha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on’t drop pack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lay pack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Queu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chedu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4202-8EE7-4F2A-995D-E96D289593C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sign started by determining the specifications of an ‘ideal’ bandwidth/quota system (with no user logi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fferent settings for each individual network segm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 each network segme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ndependent up/download setting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stribute available bandwidth across active hosts, favoring low-traffic volume hosts a litt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ynamically regulate maximum bandwidth per host to allow maximum bandwidth usage without overloading the segment or uplin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 each hos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stribute host bandwidth equally over active connection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endency to favor interactive traffic above bulk traffi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nforce traffic quota by dynamic bandwidth speed regulation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2D3A-BA96-4E27-B717-F75B560C3D7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eneral principle: leaky bucket syst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ts of modifications and tweaks requir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7242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3657600"/>
            <a:ext cx="9144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4191120"/>
            <a:ext cx="91440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22560" y="3581280"/>
            <a:ext cx="1015920" cy="304920"/>
          </a:xfrm>
          <a:custGeom>
            <a:avLst/>
            <a:gdLst/>
            <a:ahLst/>
            <a:rect l="l" t="t" r="r" b="b"/>
            <a:pathLst>
              <a:path w="640" h="192">
                <a:moveTo>
                  <a:pt x="640" y="192"/>
                </a:moveTo>
                <a:lnTo>
                  <a:pt x="6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25800" y="3429000"/>
            <a:ext cx="1165320" cy="457200"/>
          </a:xfrm>
          <a:custGeom>
            <a:avLst/>
            <a:gdLst/>
            <a:ahLst/>
            <a:rect l="l" t="t" r="r" b="b"/>
            <a:pathLst>
              <a:path w="734" h="288">
                <a:moveTo>
                  <a:pt x="734" y="288"/>
                </a:moveTo>
                <a:lnTo>
                  <a:pt x="734" y="0"/>
                </a:lnTo>
                <a:lnTo>
                  <a:pt x="0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34290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429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34290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34290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35812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38862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50292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38480" y="48769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38480" y="51814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54864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361960" y="54864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361960" y="5638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5257800"/>
            <a:ext cx="1067040" cy="60948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2428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54864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54864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54864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5486400"/>
            <a:ext cx="152640" cy="1522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5486400"/>
            <a:ext cx="152280" cy="1522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54864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0280" y="54864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54864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181480"/>
            <a:ext cx="7596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281040"/>
            <a:ext cx="1447560" cy="337320"/>
          </a:xfrm>
          <a:prstGeom prst="borderCallout1">
            <a:avLst>
              <a:gd name="adj1" fmla="val 18750"/>
              <a:gd name="adj2" fmla="val -8333"/>
              <a:gd name="adj3" fmla="val 65458"/>
              <a:gd name="adj4" fmla="val -5678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Fill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4147560"/>
            <a:ext cx="2209680" cy="337320"/>
          </a:xfrm>
          <a:prstGeom prst="borderCallout1">
            <a:avLst>
              <a:gd name="adj1" fmla="val 18750"/>
              <a:gd name="adj2" fmla="val -8333"/>
              <a:gd name="adj3" fmla="val 22277"/>
              <a:gd name="adj4" fmla="val 10875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Max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4500720"/>
            <a:ext cx="1752480" cy="580680"/>
          </a:xfrm>
          <a:prstGeom prst="borderCallout1">
            <a:avLst>
              <a:gd name="adj1" fmla="val 18750"/>
              <a:gd name="adj2" fmla="val -8333"/>
              <a:gd name="adj3" fmla="val 115611"/>
              <a:gd name="adj4" fmla="val -62842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0…Burst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5562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67480" y="5562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419112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9000" y="36576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4042800"/>
            <a:ext cx="1828800" cy="337320"/>
          </a:xfrm>
          <a:prstGeom prst="borderCallout1">
            <a:avLst>
              <a:gd name="adj1" fmla="val 18750"/>
              <a:gd name="adj2" fmla="val -8333"/>
              <a:gd name="adj3" fmla="val 131129"/>
              <a:gd name="adj4" fmla="val -5649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3661920"/>
            <a:ext cx="1828800" cy="337320"/>
          </a:xfrm>
          <a:prstGeom prst="borderCallout1">
            <a:avLst>
              <a:gd name="adj1" fmla="val 18750"/>
              <a:gd name="adj2" fmla="val -8333"/>
              <a:gd name="adj3" fmla="val 53726"/>
              <a:gd name="adj4" fmla="val -5744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6B60-FD84-4DDE-8251-AAC2646798E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wnload quota: 4GB/mon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ximum download speed: 50KByte/se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wnloadTokenBucketMaxSi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= 4GToke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wnloadBurstR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= 50KTokens/se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wnloadMeanFillR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ust fill up an empty TokenBucket in 30 day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=4GTokens/(30days*24hours*60minutes*60second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=1657 Tokens/se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7EFE-F138-4517-B52D-07739E2CCDE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icer summa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ulti exponential stream polic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mooth’ polic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stribute individual host bandwidth equally over its active connec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endency to favor interactive traffic above bulk traffic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58DE-7377-464A-BE5D-6CA8B5AC0AA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pecifications li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ach hos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stribute host bandwidth equally over active connec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Multi logarithmic stream police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endency to favor interactive traffic above bulk traffic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Multi logarithmic stream police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nforce traffic quota by dynamic bandwidth speed regulation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Accurate quota control because there are no Tokens created or destroyed in the bucke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CAF4-80F9-4CE4-960D-56347753E45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pecifications lis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fferent settings for each individual network seg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: Each IP has its own buckets with its own setting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each segmen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ndependent up/download setting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Use separate bu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istribute available bandwidth across active hosts, favoring low-traffic volume hosts a littl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ynamically regulate maximum bandwidth per host to allow maximum bandwidth usage without overloading the local segment or upli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EADF-9698-43CE-BD0F-7043F8D5B8F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vent network congestion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lement a ‘valve’ between TokenBucket and the Polic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‘valve’ is fully open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host speed is Burs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‘valve’ close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down maximum host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valve’ contro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no network segment congestion: fully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segment congestion: close valves for the local IP’s that cause the congestion until no congestion any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valve’ is named ‘RateFactor Correction’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 state of the valve is called RateFact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0FF2-3AC3-4382-91E5-C3A0EAD7827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514600"/>
            <a:ext cx="495324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Cloud"/>
          <p:cNvSpPr/>
          <p:nvPr/>
        </p:nvSpPr>
        <p:spPr>
          <a:xfrm>
            <a:off x="2971800" y="5257800"/>
            <a:ext cx="3429000" cy="79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3276720"/>
            <a:ext cx="1600200" cy="990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ol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2"/>
            <a:endCxn id="465" idx="4"/>
          </p:cNvCxnSpPr>
          <p:nvPr/>
        </p:nvCxnSpPr>
        <p:spPr>
          <a:xfrm flipV="1" rot="10800000">
            <a:off x="4685760" y="4266720"/>
            <a:ext cx="1080" cy="103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68" name=""/>
          <p:cNvGrpSpPr/>
          <p:nvPr/>
        </p:nvGrpSpPr>
        <p:grpSpPr>
          <a:xfrm>
            <a:off x="4793760" y="4304880"/>
            <a:ext cx="388080" cy="476640"/>
            <a:chOff x="4793760" y="4304880"/>
            <a:chExt cx="388080" cy="476640"/>
          </a:xfrm>
        </p:grpSpPr>
        <p:sp>
          <p:nvSpPr>
            <p:cNvPr id="469" name=""/>
            <p:cNvSpPr/>
            <p:nvPr/>
          </p:nvSpPr>
          <p:spPr>
            <a:xfrm rot="14513400">
              <a:off x="4798800" y="4514400"/>
              <a:ext cx="383400" cy="83160"/>
            </a:xfrm>
            <a:custGeom>
              <a:avLst/>
              <a:gdLst/>
              <a:ahLst/>
              <a:rect l="l" t="t" r="r" b="b"/>
              <a:pathLst>
                <a:path w="614" h="133">
                  <a:moveTo>
                    <a:pt x="614" y="133"/>
                  </a:moveTo>
                  <a:cubicBezTo>
                    <a:pt x="562" y="111"/>
                    <a:pt x="406" y="2"/>
                    <a:pt x="304" y="1"/>
                  </a:cubicBezTo>
                  <a:cubicBezTo>
                    <a:pt x="202" y="0"/>
                    <a:pt x="63" y="102"/>
                    <a:pt x="0" y="12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513400">
              <a:off x="4796640" y="4502160"/>
              <a:ext cx="485640" cy="62280"/>
            </a:xfrm>
            <a:custGeom>
              <a:avLst/>
              <a:gdLst/>
              <a:ahLst/>
              <a:rect l="l" t="t" r="r" b="b"/>
              <a:pathLst>
                <a:path w="778" h="100">
                  <a:moveTo>
                    <a:pt x="0" y="0"/>
                  </a:moveTo>
                  <a:cubicBezTo>
                    <a:pt x="68" y="17"/>
                    <a:pt x="280" y="100"/>
                    <a:pt x="410" y="100"/>
                  </a:cubicBezTo>
                  <a:cubicBezTo>
                    <a:pt x="514" y="100"/>
                    <a:pt x="701" y="22"/>
                    <a:pt x="778" y="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4513400">
              <a:off x="4894200" y="4551120"/>
              <a:ext cx="154800" cy="36000"/>
            </a:xfrm>
            <a:custGeom>
              <a:avLst/>
              <a:gdLst/>
              <a:ahLst/>
              <a:rect l="l" t="t" r="r" b="b"/>
              <a:pathLst>
                <a:path w="248" h="58">
                  <a:moveTo>
                    <a:pt x="248" y="34"/>
                  </a:moveTo>
                  <a:cubicBezTo>
                    <a:pt x="248" y="38"/>
                    <a:pt x="161" y="58"/>
                    <a:pt x="120" y="58"/>
                  </a:cubicBezTo>
                  <a:cubicBezTo>
                    <a:pt x="80" y="58"/>
                    <a:pt x="25" y="41"/>
                    <a:pt x="0" y="36"/>
                  </a:cubicBezTo>
                  <a:cubicBezTo>
                    <a:pt x="1" y="26"/>
                    <a:pt x="83" y="0"/>
                    <a:pt x="124" y="0"/>
                  </a:cubicBezTo>
                  <a:cubicBezTo>
                    <a:pt x="165" y="0"/>
                    <a:pt x="222" y="27"/>
                    <a:pt x="248" y="3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4513400">
              <a:off x="4961880" y="4704480"/>
              <a:ext cx="72360" cy="6120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116" y="9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4513400">
              <a:off x="4816800" y="4417200"/>
              <a:ext cx="73440" cy="7236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0" y="116"/>
                  </a:moveTo>
                  <a:lnTo>
                    <a:pt x="11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4513400">
              <a:off x="4828320" y="4487400"/>
              <a:ext cx="39600" cy="10260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0" y="164"/>
                  </a:moveTo>
                  <a:lnTo>
                    <a:pt x="64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4513400">
              <a:off x="4894920" y="4622760"/>
              <a:ext cx="32400" cy="9108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1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4513400">
              <a:off x="4864320" y="4547160"/>
              <a:ext cx="1800" cy="124920"/>
            </a:xfrm>
            <a:custGeom>
              <a:avLst/>
              <a:gdLst/>
              <a:ahLst/>
              <a:rect l="l" t="t" r="r" b="b"/>
              <a:pathLst>
                <a:path w="3" h="200">
                  <a:moveTo>
                    <a:pt x="0" y="200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715000" y="33526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70" idx="0"/>
            <a:endCxn id="477" idx="2"/>
          </p:cNvCxnSpPr>
          <p:nvPr/>
        </p:nvCxnSpPr>
        <p:spPr>
          <a:xfrm flipV="1">
            <a:off x="5059440" y="4191120"/>
            <a:ext cx="1265760" cy="31788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 rot="19380000">
            <a:off x="3772080" y="2705040"/>
            <a:ext cx="380880" cy="304920"/>
          </a:xfrm>
          <a:prstGeom prst="flowChartCollat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"/>
          <p:cNvCxnSpPr>
            <a:stCxn id="479" idx="2"/>
            <a:endCxn id="466" idx="0"/>
          </p:cNvCxnSpPr>
          <p:nvPr/>
        </p:nvCxnSpPr>
        <p:spPr>
          <a:xfrm>
            <a:off x="4052880" y="2977920"/>
            <a:ext cx="63432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9" idx="0"/>
            <a:endCxn id="482" idx="4"/>
          </p:cNvCxnSpPr>
          <p:nvPr/>
        </p:nvCxnSpPr>
        <p:spPr>
          <a:xfrm flipH="1" flipV="1">
            <a:off x="2933280" y="1904760"/>
            <a:ext cx="937440" cy="830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2819520" y="1676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20584200">
            <a:off x="4343400" y="2590560"/>
            <a:ext cx="380880" cy="304560"/>
          </a:xfrm>
          <a:prstGeom prst="flowChartCollat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2"/>
            <a:endCxn id="466" idx="0"/>
          </p:cNvCxnSpPr>
          <p:nvPr/>
        </p:nvCxnSpPr>
        <p:spPr>
          <a:xfrm>
            <a:off x="4576320" y="2887200"/>
            <a:ext cx="110520" cy="38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83" idx="0"/>
            <a:endCxn id="486" idx="4"/>
          </p:cNvCxnSpPr>
          <p:nvPr/>
        </p:nvCxnSpPr>
        <p:spPr>
          <a:xfrm flipH="1" flipV="1">
            <a:off x="4152240" y="1599480"/>
            <a:ext cx="337320" cy="997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4038480" y="1371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049400">
            <a:off x="4876920" y="2590920"/>
            <a:ext cx="380880" cy="304560"/>
          </a:xfrm>
          <a:prstGeom prst="flowChartCollat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7" idx="2"/>
            <a:endCxn id="466" idx="0"/>
          </p:cNvCxnSpPr>
          <p:nvPr/>
        </p:nvCxnSpPr>
        <p:spPr>
          <a:xfrm flipH="1">
            <a:off x="4686120" y="2887200"/>
            <a:ext cx="335520" cy="38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7" idx="0"/>
            <a:endCxn id="490" idx="4"/>
          </p:cNvCxnSpPr>
          <p:nvPr/>
        </p:nvCxnSpPr>
        <p:spPr>
          <a:xfrm flipV="1">
            <a:off x="5111640" y="1599480"/>
            <a:ext cx="261360" cy="997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5257800" y="1371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939200">
            <a:off x="5409720" y="2666880"/>
            <a:ext cx="381240" cy="304920"/>
          </a:xfrm>
          <a:prstGeom prst="flowChartCollat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91" idx="2"/>
            <a:endCxn id="466" idx="0"/>
          </p:cNvCxnSpPr>
          <p:nvPr/>
        </p:nvCxnSpPr>
        <p:spPr>
          <a:xfrm flipH="1">
            <a:off x="4686120" y="2947680"/>
            <a:ext cx="83232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3" name=""/>
          <p:cNvCxnSpPr>
            <a:stCxn id="491" idx="0"/>
            <a:endCxn id="494" idx="4"/>
          </p:cNvCxnSpPr>
          <p:nvPr/>
        </p:nvCxnSpPr>
        <p:spPr>
          <a:xfrm flipV="1">
            <a:off x="5681520" y="1904760"/>
            <a:ext cx="681840" cy="784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6248520" y="1676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77" idx="0"/>
            <a:endCxn id="491" idx="1"/>
          </p:cNvCxnSpPr>
          <p:nvPr/>
        </p:nvCxnSpPr>
        <p:spPr>
          <a:xfrm flipH="1" flipV="1">
            <a:off x="5600520" y="2818800"/>
            <a:ext cx="724320" cy="5338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96" name=""/>
          <p:cNvCxnSpPr>
            <a:stCxn id="477" idx="0"/>
            <a:endCxn id="487" idx="1"/>
          </p:cNvCxnSpPr>
          <p:nvPr/>
        </p:nvCxnSpPr>
        <p:spPr>
          <a:xfrm flipH="1" flipV="1">
            <a:off x="5064840" y="2742480"/>
            <a:ext cx="125964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97" name=""/>
          <p:cNvCxnSpPr>
            <a:stCxn id="483" idx="1"/>
            <a:endCxn id="477" idx="0"/>
          </p:cNvCxnSpPr>
          <p:nvPr/>
        </p:nvCxnSpPr>
        <p:spPr>
          <a:xfrm>
            <a:off x="4533840" y="2742840"/>
            <a:ext cx="179136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cxnSp>
        <p:nvCxnSpPr>
          <p:cNvPr id="498" name=""/>
          <p:cNvCxnSpPr>
            <a:stCxn id="479" idx="1"/>
            <a:endCxn id="477" idx="0"/>
          </p:cNvCxnSpPr>
          <p:nvPr/>
        </p:nvCxnSpPr>
        <p:spPr>
          <a:xfrm>
            <a:off x="3962160" y="2857320"/>
            <a:ext cx="2362680" cy="49572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7010280" y="1680840"/>
            <a:ext cx="685800" cy="337320"/>
          </a:xfrm>
          <a:prstGeom prst="borderCallout1">
            <a:avLst>
              <a:gd name="adj1" fmla="val 18750"/>
              <a:gd name="adj2" fmla="val -8333"/>
              <a:gd name="adj3" fmla="val 35819"/>
              <a:gd name="adj4" fmla="val -75652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1163-3917-4702-BB5C-2894EDB9579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expecta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ogin syste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ach user must authenticate him/herself before using the networ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o extra software or configuration needed on client hos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andwidth regul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orks for all protocols and traf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event that a minority of users take away all the bandwidth for the majority of us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 exceptions to certain (educational) si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OS security updates, e-learning site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ximize responsiveness for interactive traf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Slow down bulk traffic, but don’t touch SSH unless really neede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 user and/or IP can have its own personal bandwidth setting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Different settings for a lab computer and personal P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tribute the individual bandwidth over the individual active network conne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CD91-73C9-4398-94EE-6ED85BAD749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design princip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29718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1905120"/>
            <a:ext cx="9144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2438280"/>
            <a:ext cx="91440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2560" y="1828800"/>
            <a:ext cx="1015920" cy="304920"/>
          </a:xfrm>
          <a:custGeom>
            <a:avLst/>
            <a:gdLst/>
            <a:ahLst/>
            <a:rect l="l" t="t" r="r" b="b"/>
            <a:pathLst>
              <a:path w="640" h="192">
                <a:moveTo>
                  <a:pt x="640" y="192"/>
                </a:moveTo>
                <a:lnTo>
                  <a:pt x="6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25800" y="1676520"/>
            <a:ext cx="1165320" cy="457200"/>
          </a:xfrm>
          <a:custGeom>
            <a:avLst/>
            <a:gdLst/>
            <a:ahLst/>
            <a:rect l="l" t="t" r="r" b="b"/>
            <a:pathLst>
              <a:path w="734" h="288">
                <a:moveTo>
                  <a:pt x="734" y="288"/>
                </a:moveTo>
                <a:lnTo>
                  <a:pt x="734" y="0"/>
                </a:lnTo>
                <a:lnTo>
                  <a:pt x="0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8120" y="167652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16765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167652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167652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18288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38480" y="21337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3848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32767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8480" y="31240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9528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52578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52578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36196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5029200"/>
            <a:ext cx="1067040" cy="60948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428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52578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52578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52578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81480" y="5257800"/>
            <a:ext cx="152640" cy="1522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5257800"/>
            <a:ext cx="152280" cy="1522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05720" y="52578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2578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52578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4952880"/>
            <a:ext cx="7596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1528200"/>
            <a:ext cx="1447560" cy="337320"/>
          </a:xfrm>
          <a:prstGeom prst="borderCallout1">
            <a:avLst>
              <a:gd name="adj1" fmla="val 18750"/>
              <a:gd name="adj2" fmla="val -8333"/>
              <a:gd name="adj3" fmla="val 65671"/>
              <a:gd name="adj4" fmla="val -5678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Fill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2395080"/>
            <a:ext cx="2209680" cy="337320"/>
          </a:xfrm>
          <a:prstGeom prst="borderCallout1">
            <a:avLst>
              <a:gd name="adj1" fmla="val 18750"/>
              <a:gd name="adj2" fmla="val -8333"/>
              <a:gd name="adj3" fmla="val 22171"/>
              <a:gd name="adj4" fmla="val 10875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Max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4120" y="2747880"/>
            <a:ext cx="1752480" cy="580680"/>
          </a:xfrm>
          <a:prstGeom prst="borderCallout1">
            <a:avLst>
              <a:gd name="adj1" fmla="val 18750"/>
              <a:gd name="adj2" fmla="val -8333"/>
              <a:gd name="adj3" fmla="val 115671"/>
              <a:gd name="adj4" fmla="val -62842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0…Burst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5334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67480" y="5334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1752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3124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24382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19051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2290320"/>
            <a:ext cx="1828800" cy="337320"/>
          </a:xfrm>
          <a:prstGeom prst="borderCallout1">
            <a:avLst>
              <a:gd name="adj1" fmla="val 18750"/>
              <a:gd name="adj2" fmla="val -8333"/>
              <a:gd name="adj3" fmla="val 130916"/>
              <a:gd name="adj4" fmla="val -5649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1909440"/>
            <a:ext cx="1828800" cy="337320"/>
          </a:xfrm>
          <a:prstGeom prst="borderCallout1">
            <a:avLst>
              <a:gd name="adj1" fmla="val 18750"/>
              <a:gd name="adj2" fmla="val -8333"/>
              <a:gd name="adj3" fmla="val 53726"/>
              <a:gd name="adj4" fmla="val -57449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Bu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3741120"/>
            <a:ext cx="2286000" cy="337320"/>
          </a:xfrm>
          <a:prstGeom prst="borderCallout1">
            <a:avLst>
              <a:gd name="adj1" fmla="val 18750"/>
              <a:gd name="adj2" fmla="val -8333"/>
              <a:gd name="adj3" fmla="val 27504"/>
              <a:gd name="adj4" fmla="val -48462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3429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5812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37339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7242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38480" y="44956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2670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0384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73520" y="3809880"/>
            <a:ext cx="685800" cy="381240"/>
          </a:xfrm>
          <a:prstGeom prst="flowChartCollat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5" idx="1"/>
          </p:cNvCxnSpPr>
          <p:nvPr/>
        </p:nvCxnSpPr>
        <p:spPr>
          <a:xfrm flipH="1" flipV="1">
            <a:off x="3047760" y="3962160"/>
            <a:ext cx="1068480" cy="388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1066680" y="3890880"/>
            <a:ext cx="1295640" cy="580680"/>
          </a:xfrm>
          <a:prstGeom prst="borderCallout1">
            <a:avLst>
              <a:gd name="adj1" fmla="val 18750"/>
              <a:gd name="adj2" fmla="val -8333"/>
              <a:gd name="adj3" fmla="val 13689"/>
              <a:gd name="adj4" fmla="val 152694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&lt;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7B69-0088-41E9-B3BA-981D1E37855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policer: policing alternative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vantage of polic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mple to impleme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queu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schedul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fa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rawbacks of polic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licing overhead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lative problem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unlimited stream would be 100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 to 10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to 15% overhead -&gt; receiving from the Internet 12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ore overhead on low latency, high bandwidth connec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Limit to 10KByte/sec; receiving 20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2F68-164F-4811-9D94-97B4318B0B2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policer: policing alternative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P Window Size’ alter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CP Window Si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eld in TCP packet head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ssage from Receiver to Send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ndicates to Sender how much data can be sent to Recei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uld decrease retransmission overh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void fast retransmission on fast connec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ters packets passing BCrou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ssibly bad and unforeseen consequence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need for queu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gration in the BCpolicer sche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Use the DelayTime value to decrease the window siz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EFAA-BFB9-41B1-BC23-FA1059E9337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Cpolicer: policing alternative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ap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ter the Round Trip Time of a conn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ulate’ slow conne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CP will try to adjust by slowing dow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tra load and complexity due to delay queue manag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egration in the BCpolicer sche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Cpolicer already works with delay tim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stead of accepting or dropping, put packet into a delay queue for the delaytim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64B4-9A02-4B00-B198-6016E2B1026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complete desig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p until now, we only focused on the bucket desig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lete syste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ition of user bucke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me principle as IP bucke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ition of exception hand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kes program flow complex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87E9-E192-4799-AE91-1BCD8960424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main flow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8" idx="3"/>
            <a:endCxn id="569" idx="1"/>
          </p:cNvCxnSpPr>
          <p:nvPr/>
        </p:nvCxnSpPr>
        <p:spPr>
          <a:xfrm flipV="1">
            <a:off x="1828800" y="1599480"/>
            <a:ext cx="218160" cy="3960"/>
          </a:xfrm>
          <a:prstGeom prst="bentConnector3">
            <a:avLst>
              <a:gd name="adj1" fmla="val 49586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570" name=""/>
          <p:cNvCxnSpPr>
            <a:stCxn id="571" idx="1"/>
            <a:endCxn id="572" idx="3"/>
          </p:cNvCxnSpPr>
          <p:nvPr/>
        </p:nvCxnSpPr>
        <p:spPr>
          <a:xfrm rot="10800000">
            <a:off x="2004120" y="6209640"/>
            <a:ext cx="80568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68" name=""/>
          <p:cNvSpPr/>
          <p:nvPr/>
        </p:nvSpPr>
        <p:spPr>
          <a:xfrm>
            <a:off x="533520" y="1298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46240" y="1295280"/>
            <a:ext cx="1062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 IP kotn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69" idx="3"/>
            <a:endCxn id="574" idx="2"/>
          </p:cNvCxnSpPr>
          <p:nvPr/>
        </p:nvCxnSpPr>
        <p:spPr>
          <a:xfrm>
            <a:off x="3108240" y="1600200"/>
            <a:ext cx="2036160" cy="2160"/>
          </a:xfrm>
          <a:prstGeom prst="bentConnector3">
            <a:avLst>
              <a:gd name="adj1" fmla="val 50839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2576520" y="18288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08520" y="13716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9560" y="5905440"/>
            <a:ext cx="12952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tur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PT_CONTI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2666880"/>
            <a:ext cx="119232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nlr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156384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19520" y="5962680"/>
            <a:ext cx="1014120" cy="4953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Mark trans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7" idx="0"/>
          </p:cNvCxnSpPr>
          <p:nvPr/>
        </p:nvCxnSpPr>
        <p:spPr>
          <a:xfrm flipH="1" rot="16200000">
            <a:off x="2459520" y="2549160"/>
            <a:ext cx="229320" cy="6840"/>
          </a:xfrm>
          <a:prstGeom prst="bentConnector3">
            <a:avLst>
              <a:gd name="adj1" fmla="val 5000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80" name=""/>
          <p:cNvSpPr/>
          <p:nvPr/>
        </p:nvSpPr>
        <p:spPr>
          <a:xfrm>
            <a:off x="2044800" y="4648320"/>
            <a:ext cx="1066680" cy="380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 user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 (UV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38680" y="4648320"/>
            <a:ext cx="1066680" cy="380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 ip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 (IV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44800" y="3048120"/>
            <a:ext cx="1066680" cy="53316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 log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77" idx="2"/>
            <a:endCxn id="582" idx="0"/>
          </p:cNvCxnSpPr>
          <p:nvPr/>
        </p:nvCxnSpPr>
        <p:spPr>
          <a:xfrm flipV="1" rot="10800000">
            <a:off x="2577240" y="2895120"/>
            <a:ext cx="1080" cy="1533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584" name=""/>
          <p:cNvCxnSpPr>
            <a:stCxn id="582" idx="2"/>
            <a:endCxn id="585" idx="0"/>
          </p:cNvCxnSpPr>
          <p:nvPr/>
        </p:nvCxnSpPr>
        <p:spPr>
          <a:xfrm rot="5400000">
            <a:off x="2481120" y="3675960"/>
            <a:ext cx="191520" cy="2160"/>
          </a:xfrm>
          <a:prstGeom prst="bentConnector3">
            <a:avLst>
              <a:gd name="adj1" fmla="val 49905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86" name=""/>
          <p:cNvSpPr/>
          <p:nvPr/>
        </p:nvSpPr>
        <p:spPr>
          <a:xfrm>
            <a:off x="800280" y="518148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"/>
          <p:cNvCxnSpPr>
            <a:stCxn id="582" idx="1"/>
            <a:endCxn id="588" idx="0"/>
          </p:cNvCxnSpPr>
          <p:nvPr/>
        </p:nvCxnSpPr>
        <p:spPr>
          <a:xfrm flipV="1" rot="10800000">
            <a:off x="1256760" y="3313800"/>
            <a:ext cx="788040" cy="136260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89" name=""/>
          <p:cNvSpPr/>
          <p:nvPr/>
        </p:nvSpPr>
        <p:spPr>
          <a:xfrm>
            <a:off x="3648240" y="3772080"/>
            <a:ext cx="1447560" cy="6858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iac!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isl!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91" idx="6"/>
            <a:endCxn id="589" idx="1"/>
          </p:cNvCxnSpPr>
          <p:nvPr/>
        </p:nvCxnSpPr>
        <p:spPr>
          <a:xfrm>
            <a:off x="3504960" y="4114440"/>
            <a:ext cx="14364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592" name=""/>
          <p:cNvCxnSpPr>
            <a:stCxn id="577" idx="3"/>
            <a:endCxn id="589" idx="0"/>
          </p:cNvCxnSpPr>
          <p:nvPr/>
        </p:nvCxnSpPr>
        <p:spPr>
          <a:xfrm>
            <a:off x="3173040" y="2781360"/>
            <a:ext cx="1199160" cy="99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593" name=""/>
          <p:cNvCxnSpPr>
            <a:stCxn id="589" idx="2"/>
            <a:endCxn id="581" idx="0"/>
          </p:cNvCxnSpPr>
          <p:nvPr/>
        </p:nvCxnSpPr>
        <p:spPr>
          <a:xfrm flipV="1" rot="10800000">
            <a:off x="4371120" y="4457520"/>
            <a:ext cx="1080" cy="18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94" name=""/>
          <p:cNvSpPr/>
          <p:nvPr/>
        </p:nvSpPr>
        <p:spPr>
          <a:xfrm>
            <a:off x="5756400" y="1295280"/>
            <a:ext cx="1062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 IP kotn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276960" y="18194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07520" y="13716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2400" y="2666880"/>
            <a:ext cx="1168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nlr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81480" y="407664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600" idx="2"/>
            <a:endCxn id="597" idx="0"/>
          </p:cNvCxnSpPr>
          <p:nvPr/>
        </p:nvCxnSpPr>
        <p:spPr>
          <a:xfrm flipV="1" rot="10800000">
            <a:off x="6285960" y="2437920"/>
            <a:ext cx="1080" cy="229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01" name=""/>
          <p:cNvSpPr/>
          <p:nvPr/>
        </p:nvSpPr>
        <p:spPr>
          <a:xfrm>
            <a:off x="5753160" y="4648320"/>
            <a:ext cx="1066680" cy="380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 user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 (U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86560" y="4648320"/>
            <a:ext cx="1067040" cy="380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 ip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 (I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53160" y="3048120"/>
            <a:ext cx="1066680" cy="53316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 log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597" idx="2"/>
            <a:endCxn id="603" idx="0"/>
          </p:cNvCxnSpPr>
          <p:nvPr/>
        </p:nvCxnSpPr>
        <p:spPr>
          <a:xfrm flipV="1" rot="10800000">
            <a:off x="6285960" y="2895120"/>
            <a:ext cx="1080" cy="1533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05" name=""/>
          <p:cNvCxnSpPr>
            <a:stCxn id="606" idx="2"/>
            <a:endCxn id="601" idx="0"/>
          </p:cNvCxnSpPr>
          <p:nvPr/>
        </p:nvCxnSpPr>
        <p:spPr>
          <a:xfrm flipV="1" rot="10800000">
            <a:off x="6285960" y="4457520"/>
            <a:ext cx="1080" cy="18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07" name=""/>
          <p:cNvSpPr/>
          <p:nvPr/>
        </p:nvSpPr>
        <p:spPr>
          <a:xfrm>
            <a:off x="5014800" y="518148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8" name=""/>
          <p:cNvCxnSpPr>
            <a:stCxn id="603" idx="1"/>
            <a:endCxn id="607" idx="0"/>
          </p:cNvCxnSpPr>
          <p:nvPr/>
        </p:nvCxnSpPr>
        <p:spPr>
          <a:xfrm flipV="1" rot="10800000">
            <a:off x="5471280" y="3313800"/>
            <a:ext cx="281880" cy="1867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09" name=""/>
          <p:cNvCxnSpPr>
            <a:stCxn id="610" idx="6"/>
            <a:endCxn id="611" idx="1"/>
          </p:cNvCxnSpPr>
          <p:nvPr/>
        </p:nvCxnSpPr>
        <p:spPr>
          <a:xfrm>
            <a:off x="7152840" y="4114440"/>
            <a:ext cx="14364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12" name=""/>
          <p:cNvCxnSpPr>
            <a:stCxn id="597" idx="3"/>
            <a:endCxn id="611" idx="0"/>
          </p:cNvCxnSpPr>
          <p:nvPr/>
        </p:nvCxnSpPr>
        <p:spPr>
          <a:xfrm>
            <a:off x="6870240" y="2781360"/>
            <a:ext cx="1150200" cy="99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13" name=""/>
          <p:cNvCxnSpPr>
            <a:stCxn id="611" idx="2"/>
            <a:endCxn id="602" idx="0"/>
          </p:cNvCxnSpPr>
          <p:nvPr/>
        </p:nvCxnSpPr>
        <p:spPr>
          <a:xfrm flipV="1" rot="10800000">
            <a:off x="8019360" y="4457520"/>
            <a:ext cx="1080" cy="18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14" name=""/>
          <p:cNvCxnSpPr>
            <a:stCxn id="574" idx="6"/>
            <a:endCxn id="594" idx="1"/>
          </p:cNvCxnSpPr>
          <p:nvPr/>
        </p:nvCxnSpPr>
        <p:spPr>
          <a:xfrm flipV="1">
            <a:off x="5295600" y="1599840"/>
            <a:ext cx="461160" cy="2160"/>
          </a:xfrm>
          <a:prstGeom prst="bentConnector3">
            <a:avLst>
              <a:gd name="adj1" fmla="val 45859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15" name=""/>
          <p:cNvCxnSpPr>
            <a:stCxn id="598" idx="4"/>
            <a:endCxn id="581" idx="3"/>
          </p:cNvCxnSpPr>
          <p:nvPr/>
        </p:nvCxnSpPr>
        <p:spPr>
          <a:xfrm rot="5400000">
            <a:off x="4743000" y="4362480"/>
            <a:ext cx="648360" cy="3052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574" idx="4"/>
            <a:endCxn id="598" idx="0"/>
          </p:cNvCxnSpPr>
          <p:nvPr/>
        </p:nvCxnSpPr>
        <p:spPr>
          <a:xfrm flipV="1" rot="10800000">
            <a:off x="5218920" y="1677600"/>
            <a:ext cx="1080" cy="236124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598" idx="2"/>
            <a:endCxn id="589" idx="3"/>
          </p:cNvCxnSpPr>
          <p:nvPr/>
        </p:nvCxnSpPr>
        <p:spPr>
          <a:xfrm rot="10800000">
            <a:off x="5095080" y="4114080"/>
            <a:ext cx="48600" cy="1080"/>
          </a:xfrm>
          <a:prstGeom prst="bentConnector2">
            <a:avLst/>
          </a:prstGeom>
          <a:ln w="50760">
            <a:solidFill>
              <a:srgbClr val="ccccff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3205800" y="25462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 (n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26560" y="28195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 (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2360" y="3489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87840" y="32860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81200" y="4343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37320" y="38703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078760" y="4343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571240" y="38703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79840" y="3489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92960" y="32893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10760" y="255276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 (n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22320" y="28256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 (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981920" y="548640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39080" y="407664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0"/>
            <a:endCxn id="594" idx="3"/>
          </p:cNvCxnSpPr>
          <p:nvPr/>
        </p:nvCxnSpPr>
        <p:spPr>
          <a:xfrm flipV="1" rot="16200000">
            <a:off x="6627960" y="1789200"/>
            <a:ext cx="2439000" cy="20595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31" idx="2"/>
            <a:endCxn id="611" idx="3"/>
          </p:cNvCxnSpPr>
          <p:nvPr/>
        </p:nvCxnSpPr>
        <p:spPr>
          <a:xfrm rot="10800000">
            <a:off x="8743320" y="4114080"/>
            <a:ext cx="5796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34" name=""/>
          <p:cNvCxnSpPr>
            <a:stCxn id="631" idx="4"/>
            <a:endCxn id="630" idx="6"/>
          </p:cNvCxnSpPr>
          <p:nvPr/>
        </p:nvCxnSpPr>
        <p:spPr>
          <a:xfrm rot="5400000">
            <a:off x="7819200" y="4467240"/>
            <a:ext cx="1334160" cy="7815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0" idx="0"/>
            <a:endCxn id="602" idx="2"/>
          </p:cNvCxnSpPr>
          <p:nvPr/>
        </p:nvCxnSpPr>
        <p:spPr>
          <a:xfrm flipV="1">
            <a:off x="8019720" y="5038200"/>
            <a:ext cx="1080" cy="4104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4724280" y="5791320"/>
            <a:ext cx="1500480" cy="838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Final Verdi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33840" y="548640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2"/>
            <a:endCxn id="586" idx="2"/>
          </p:cNvCxnSpPr>
          <p:nvPr/>
        </p:nvCxnSpPr>
        <p:spPr>
          <a:xfrm rot="10800000">
            <a:off x="1256760" y="5409360"/>
            <a:ext cx="4139280" cy="1152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0" idx="2"/>
            <a:endCxn id="637" idx="6"/>
          </p:cNvCxnSpPr>
          <p:nvPr/>
        </p:nvCxnSpPr>
        <p:spPr>
          <a:xfrm rot="10800000">
            <a:off x="5547600" y="5523840"/>
            <a:ext cx="239616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07" idx="2"/>
            <a:endCxn id="637" idx="0"/>
          </p:cNvCxnSpPr>
          <p:nvPr/>
        </p:nvCxnSpPr>
        <p:spPr>
          <a:xfrm flipV="1" rot="10800000">
            <a:off x="5471280" y="5409720"/>
            <a:ext cx="1080" cy="388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7" idx="4"/>
            <a:endCxn id="636" idx="0"/>
          </p:cNvCxnSpPr>
          <p:nvPr/>
        </p:nvCxnSpPr>
        <p:spPr>
          <a:xfrm flipH="1" rot="16200000">
            <a:off x="5382360" y="5689440"/>
            <a:ext cx="181440" cy="3960"/>
          </a:xfrm>
          <a:prstGeom prst="bentConnector3">
            <a:avLst>
              <a:gd name="adj1" fmla="val 41948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42" name=""/>
          <p:cNvCxnSpPr>
            <a:stCxn id="636" idx="1"/>
            <a:endCxn id="571" idx="3"/>
          </p:cNvCxnSpPr>
          <p:nvPr/>
        </p:nvCxnSpPr>
        <p:spPr>
          <a:xfrm rot="10800000">
            <a:off x="3842640" y="6209640"/>
            <a:ext cx="87228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585" name=""/>
          <p:cNvSpPr/>
          <p:nvPr/>
        </p:nvSpPr>
        <p:spPr>
          <a:xfrm>
            <a:off x="1928880" y="3772080"/>
            <a:ext cx="1295280" cy="6858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nua=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nus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90840" y="407664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585" idx="3"/>
            <a:endCxn id="591" idx="2"/>
          </p:cNvCxnSpPr>
          <p:nvPr/>
        </p:nvCxnSpPr>
        <p:spPr>
          <a:xfrm>
            <a:off x="3223800" y="4114440"/>
            <a:ext cx="12924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44" name=""/>
          <p:cNvCxnSpPr>
            <a:stCxn id="585" idx="2"/>
            <a:endCxn id="580" idx="0"/>
          </p:cNvCxnSpPr>
          <p:nvPr/>
        </p:nvCxnSpPr>
        <p:spPr>
          <a:xfrm flipH="1" rot="16200000">
            <a:off x="2486880" y="4547160"/>
            <a:ext cx="181440" cy="2160"/>
          </a:xfrm>
          <a:prstGeom prst="bentConnector3">
            <a:avLst>
              <a:gd name="adj1" fmla="val 52485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45" name=""/>
          <p:cNvCxnSpPr>
            <a:stCxn id="580" idx="3"/>
            <a:endCxn id="591" idx="4"/>
          </p:cNvCxnSpPr>
          <p:nvPr/>
        </p:nvCxnSpPr>
        <p:spPr>
          <a:xfrm flipV="1">
            <a:off x="3120840" y="4190400"/>
            <a:ext cx="308520" cy="6483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5638680" y="3772080"/>
            <a:ext cx="1295640" cy="6858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nua=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nus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03" idx="2"/>
            <a:endCxn id="606" idx="0"/>
          </p:cNvCxnSpPr>
          <p:nvPr/>
        </p:nvCxnSpPr>
        <p:spPr>
          <a:xfrm flipV="1" rot="10800000">
            <a:off x="6285960" y="3580920"/>
            <a:ext cx="1080" cy="1915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10" name=""/>
          <p:cNvSpPr/>
          <p:nvPr/>
        </p:nvSpPr>
        <p:spPr>
          <a:xfrm>
            <a:off x="7039080" y="4076640"/>
            <a:ext cx="7596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06" idx="3"/>
            <a:endCxn id="610" idx="2"/>
          </p:cNvCxnSpPr>
          <p:nvPr/>
        </p:nvCxnSpPr>
        <p:spPr>
          <a:xfrm>
            <a:off x="6933960" y="4114440"/>
            <a:ext cx="6732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01" idx="3"/>
            <a:endCxn id="610" idx="4"/>
          </p:cNvCxnSpPr>
          <p:nvPr/>
        </p:nvCxnSpPr>
        <p:spPr>
          <a:xfrm flipV="1">
            <a:off x="6829560" y="4190400"/>
            <a:ext cx="248400" cy="6483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3028680" y="387036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627640" y="43434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4000" y="43434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62600" y="37339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4686480"/>
            <a:ext cx="990360" cy="304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rc IP Bucket calc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588" idx="2"/>
            <a:endCxn id="586" idx="0"/>
          </p:cNvCxnSpPr>
          <p:nvPr/>
        </p:nvCxnSpPr>
        <p:spPr>
          <a:xfrm flipV="1" rot="10800000">
            <a:off x="1256760" y="5000400"/>
            <a:ext cx="1080" cy="181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11" name=""/>
          <p:cNvSpPr/>
          <p:nvPr/>
        </p:nvSpPr>
        <p:spPr>
          <a:xfrm>
            <a:off x="7296120" y="3772080"/>
            <a:ext cx="1447920" cy="6858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iac!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dstisl!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62000" y="2133720"/>
            <a:ext cx="1219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lear src streamupdate 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76840" y="2133720"/>
            <a:ext cx="1219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lear dst streamupdate 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594" idx="2"/>
            <a:endCxn id="600" idx="0"/>
          </p:cNvCxnSpPr>
          <p:nvPr/>
        </p:nvCxnSpPr>
        <p:spPr>
          <a:xfrm rot="5400000">
            <a:off x="6172560" y="2018520"/>
            <a:ext cx="229320" cy="2160"/>
          </a:xfrm>
          <a:prstGeom prst="bentConnector3">
            <a:avLst>
              <a:gd name="adj1" fmla="val 5000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55" name=""/>
          <p:cNvCxnSpPr>
            <a:stCxn id="569" idx="2"/>
            <a:endCxn id="579" idx="0"/>
          </p:cNvCxnSpPr>
          <p:nvPr/>
        </p:nvCxnSpPr>
        <p:spPr>
          <a:xfrm rot="5400000">
            <a:off x="2459880" y="2016000"/>
            <a:ext cx="229320" cy="6840"/>
          </a:xfrm>
          <a:prstGeom prst="bentConnector3">
            <a:avLst>
              <a:gd name="adj1" fmla="val 5000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B921-ECFB-49BB-A43A-C5629BA2890D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bucket verdi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14760" y="1447920"/>
            <a:ext cx="990360" cy="304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Bucket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21120" y="320364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60" idx="1"/>
            <a:endCxn id="661" idx="0"/>
          </p:cNvCxnSpPr>
          <p:nvPr/>
        </p:nvCxnSpPr>
        <p:spPr>
          <a:xfrm flipV="1" rot="10800000">
            <a:off x="2361600" y="2132640"/>
            <a:ext cx="657720" cy="99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60" name=""/>
          <p:cNvSpPr/>
          <p:nvPr/>
        </p:nvSpPr>
        <p:spPr>
          <a:xfrm>
            <a:off x="3019320" y="1828800"/>
            <a:ext cx="175284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peedlimi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63" idx="3"/>
            <a:endCxn id="657" idx="1"/>
          </p:cNvCxnSpPr>
          <p:nvPr/>
        </p:nvCxnSpPr>
        <p:spPr>
          <a:xfrm>
            <a:off x="2324160" y="1599840"/>
            <a:ext cx="38160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64" name=""/>
          <p:cNvCxnSpPr>
            <a:stCxn id="657" idx="3"/>
            <a:endCxn id="660" idx="0"/>
          </p:cNvCxnSpPr>
          <p:nvPr/>
        </p:nvCxnSpPr>
        <p:spPr>
          <a:xfrm>
            <a:off x="3714840" y="1599840"/>
            <a:ext cx="181440" cy="229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61" name=""/>
          <p:cNvSpPr/>
          <p:nvPr/>
        </p:nvSpPr>
        <p:spPr>
          <a:xfrm>
            <a:off x="1371600" y="3124080"/>
            <a:ext cx="198108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TBS-PktSize&gt;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3886200"/>
            <a:ext cx="1219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=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95480" y="3886200"/>
            <a:ext cx="1219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=AC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61" idx="1"/>
            <a:endCxn id="665" idx="0"/>
          </p:cNvCxnSpPr>
          <p:nvPr/>
        </p:nvCxnSpPr>
        <p:spPr>
          <a:xfrm flipV="1" rot="10800000">
            <a:off x="1218600" y="3428640"/>
            <a:ext cx="153000" cy="4579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68" name=""/>
          <p:cNvCxnSpPr>
            <a:stCxn id="661" idx="3"/>
            <a:endCxn id="666" idx="0"/>
          </p:cNvCxnSpPr>
          <p:nvPr/>
        </p:nvCxnSpPr>
        <p:spPr>
          <a:xfrm>
            <a:off x="3352680" y="3429000"/>
            <a:ext cx="153360" cy="4579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69" name=""/>
          <p:cNvSpPr/>
          <p:nvPr/>
        </p:nvSpPr>
        <p:spPr>
          <a:xfrm>
            <a:off x="2868840" y="19051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3524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34680" y="1921320"/>
            <a:ext cx="2095200" cy="4302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BS&gt;PTT+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60" idx="3"/>
            <a:endCxn id="671" idx="1"/>
          </p:cNvCxnSpPr>
          <p:nvPr/>
        </p:nvCxnSpPr>
        <p:spPr>
          <a:xfrm>
            <a:off x="4772160" y="2133720"/>
            <a:ext cx="452880" cy="3600"/>
          </a:xfrm>
          <a:prstGeom prst="bentConnector3">
            <a:avLst>
              <a:gd name="adj1" fmla="val 49801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73" name=""/>
          <p:cNvSpPr/>
          <p:nvPr/>
        </p:nvSpPr>
        <p:spPr>
          <a:xfrm>
            <a:off x="6981840" y="5791320"/>
            <a:ext cx="1219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=AC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1" idx="3"/>
            <a:endCxn id="673" idx="0"/>
          </p:cNvCxnSpPr>
          <p:nvPr/>
        </p:nvCxnSpPr>
        <p:spPr>
          <a:xfrm>
            <a:off x="7139160" y="2136600"/>
            <a:ext cx="452880" cy="3655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75" name=""/>
          <p:cNvSpPr/>
          <p:nvPr/>
        </p:nvSpPr>
        <p:spPr>
          <a:xfrm>
            <a:off x="6859440" y="1905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40640" y="22860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67160" y="3128760"/>
            <a:ext cx="182880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alculate StreamII and get the correct SAPS and SPLAT for this pa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14880" y="3814560"/>
            <a:ext cx="213372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QSAPS=32- ((32*SAPS) / MP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QDelayF=64- ((64*PBS) / PT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DT=DelayMatrix(QSAPS,QDelay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08240" y="4455000"/>
            <a:ext cx="2546280" cy="4302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PLAT+PDT&lt;Packet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88080" y="44370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45200" y="478476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8" idx="2"/>
            <a:endCxn id="679" idx="0"/>
          </p:cNvCxnSpPr>
          <p:nvPr/>
        </p:nvCxnSpPr>
        <p:spPr>
          <a:xfrm flipV="1" rot="10800000">
            <a:off x="6180840" y="4277880"/>
            <a:ext cx="1080" cy="2181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83" name=""/>
          <p:cNvCxnSpPr>
            <a:stCxn id="679" idx="2"/>
            <a:endCxn id="684" idx="0"/>
          </p:cNvCxnSpPr>
          <p:nvPr/>
        </p:nvCxnSpPr>
        <p:spPr>
          <a:xfrm flipV="1" rot="10800000">
            <a:off x="6180840" y="4843080"/>
            <a:ext cx="1080" cy="1958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85" name=""/>
          <p:cNvSpPr/>
          <p:nvPr/>
        </p:nvSpPr>
        <p:spPr>
          <a:xfrm>
            <a:off x="4162320" y="5791320"/>
            <a:ext cx="1219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=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1" idx="2"/>
            <a:endCxn id="687" idx="0"/>
          </p:cNvCxnSpPr>
          <p:nvPr/>
        </p:nvCxnSpPr>
        <p:spPr>
          <a:xfrm flipH="1" rot="16200000">
            <a:off x="6078960" y="2410920"/>
            <a:ext cx="205560" cy="2520"/>
          </a:xfrm>
          <a:prstGeom prst="bentConnector3">
            <a:avLst>
              <a:gd name="adj1" fmla="val 49473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88" name=""/>
          <p:cNvCxnSpPr>
            <a:stCxn id="677" idx="2"/>
            <a:endCxn id="678" idx="0"/>
          </p:cNvCxnSpPr>
          <p:nvPr/>
        </p:nvCxnSpPr>
        <p:spPr>
          <a:xfrm flipV="1" rot="10800000">
            <a:off x="6180840" y="3592080"/>
            <a:ext cx="1080" cy="2181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689" name=""/>
          <p:cNvCxnSpPr>
            <a:stCxn id="690" idx="4"/>
            <a:endCxn id="685" idx="0"/>
          </p:cNvCxnSpPr>
          <p:nvPr/>
        </p:nvCxnSpPr>
        <p:spPr>
          <a:xfrm flipV="1" rot="10800000">
            <a:off x="4771440" y="4742640"/>
            <a:ext cx="1080" cy="1048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91" name=""/>
          <p:cNvSpPr/>
          <p:nvPr/>
        </p:nvSpPr>
        <p:spPr>
          <a:xfrm>
            <a:off x="5572080" y="5791320"/>
            <a:ext cx="1219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Verdict=AC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143760" y="6324480"/>
            <a:ext cx="7596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2" idx="2"/>
            <a:endCxn id="694" idx="6"/>
          </p:cNvCxnSpPr>
          <p:nvPr/>
        </p:nvCxnSpPr>
        <p:spPr>
          <a:xfrm rot="10800000">
            <a:off x="4847400" y="6361920"/>
            <a:ext cx="125820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95" name=""/>
          <p:cNvCxnSpPr>
            <a:stCxn id="691" idx="2"/>
            <a:endCxn id="692" idx="0"/>
          </p:cNvCxnSpPr>
          <p:nvPr/>
        </p:nvCxnSpPr>
        <p:spPr>
          <a:xfrm flipV="1" rot="10800000">
            <a:off x="6180840" y="6019200"/>
            <a:ext cx="1080" cy="2671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73" idx="2"/>
            <a:endCxn id="692" idx="6"/>
          </p:cNvCxnSpPr>
          <p:nvPr/>
        </p:nvCxnSpPr>
        <p:spPr>
          <a:xfrm rot="5400000">
            <a:off x="6752520" y="5524560"/>
            <a:ext cx="343440" cy="13341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4" idx="0"/>
            <a:endCxn id="685" idx="2"/>
          </p:cNvCxnSpPr>
          <p:nvPr/>
        </p:nvCxnSpPr>
        <p:spPr>
          <a:xfrm flipV="1">
            <a:off x="4771800" y="6019560"/>
            <a:ext cx="1080" cy="2671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4" idx="2"/>
            <a:endCxn id="699" idx="3"/>
          </p:cNvCxnSpPr>
          <p:nvPr/>
        </p:nvCxnSpPr>
        <p:spPr>
          <a:xfrm rot="10800000">
            <a:off x="4114800" y="6361920"/>
            <a:ext cx="58140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00" name=""/>
          <p:cNvCxnSpPr>
            <a:stCxn id="666" idx="2"/>
            <a:endCxn id="699" idx="0"/>
          </p:cNvCxnSpPr>
          <p:nvPr/>
        </p:nvCxnSpPr>
        <p:spPr>
          <a:xfrm flipV="1" rot="10800000">
            <a:off x="3504600" y="4114440"/>
            <a:ext cx="1080" cy="20962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01" name=""/>
          <p:cNvCxnSpPr>
            <a:stCxn id="665" idx="2"/>
            <a:endCxn id="699" idx="1"/>
          </p:cNvCxnSpPr>
          <p:nvPr/>
        </p:nvCxnSpPr>
        <p:spPr>
          <a:xfrm flipH="1" rot="16200000">
            <a:off x="933480" y="4400280"/>
            <a:ext cx="2248560" cy="16768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694" name=""/>
          <p:cNvSpPr/>
          <p:nvPr/>
        </p:nvSpPr>
        <p:spPr>
          <a:xfrm>
            <a:off x="4734000" y="6324480"/>
            <a:ext cx="7596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43000" y="148608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Entry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33640" y="624852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turn Verdi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3440" y="1905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88840" y="2473920"/>
            <a:ext cx="1589040" cy="4302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BS&gt;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687" idx="2"/>
            <a:endCxn id="677" idx="0"/>
          </p:cNvCxnSpPr>
          <p:nvPr/>
        </p:nvCxnSpPr>
        <p:spPr>
          <a:xfrm rot="5400000">
            <a:off x="6050880" y="2991600"/>
            <a:ext cx="262080" cy="2520"/>
          </a:xfrm>
          <a:prstGeom prst="bentConnector3">
            <a:avLst>
              <a:gd name="adj1" fmla="val 49656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04" name=""/>
          <p:cNvSpPr/>
          <p:nvPr/>
        </p:nvSpPr>
        <p:spPr>
          <a:xfrm>
            <a:off x="6153120" y="28036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56360" y="24703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34000" y="4629240"/>
            <a:ext cx="7596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687" idx="1"/>
            <a:endCxn id="690" idx="0"/>
          </p:cNvCxnSpPr>
          <p:nvPr/>
        </p:nvCxnSpPr>
        <p:spPr>
          <a:xfrm flipV="1" rot="10800000">
            <a:off x="4772160" y="2688120"/>
            <a:ext cx="705240" cy="19026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79" idx="1"/>
            <a:endCxn id="690" idx="6"/>
          </p:cNvCxnSpPr>
          <p:nvPr/>
        </p:nvCxnSpPr>
        <p:spPr>
          <a:xfrm rot="10800000">
            <a:off x="4847400" y="4666680"/>
            <a:ext cx="148320" cy="3600"/>
          </a:xfrm>
          <a:prstGeom prst="bentConnector3">
            <a:avLst>
              <a:gd name="adj1" fmla="val 62287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684" name=""/>
          <p:cNvSpPr/>
          <p:nvPr/>
        </p:nvSpPr>
        <p:spPr>
          <a:xfrm>
            <a:off x="5114880" y="5043240"/>
            <a:ext cx="213372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tore StreamII and new SAPS (SAPSne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et streamupdate flag for the current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used for account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684" idx="2"/>
            <a:endCxn id="691" idx="0"/>
          </p:cNvCxnSpPr>
          <p:nvPr/>
        </p:nvCxnSpPr>
        <p:spPr>
          <a:xfrm flipV="1" rot="10800000">
            <a:off x="6180840" y="5506560"/>
            <a:ext cx="1080" cy="2851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FCE8-50E9-47CA-A250-F4FE79DD6A4F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bucket calcul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710" name=""/>
          <p:cNvCxnSpPr>
            <a:stCxn id="711" idx="3"/>
            <a:endCxn id="712" idx="1"/>
          </p:cNvCxnSpPr>
          <p:nvPr/>
        </p:nvCxnSpPr>
        <p:spPr>
          <a:xfrm flipV="1">
            <a:off x="2871360" y="2550240"/>
            <a:ext cx="1212120" cy="2520"/>
          </a:xfrm>
          <a:prstGeom prst="bentConnector3">
            <a:avLst>
              <a:gd name="adj1" fmla="val 4991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13" name=""/>
          <p:cNvCxnSpPr>
            <a:stCxn id="714" idx="2"/>
            <a:endCxn id="715" idx="0"/>
          </p:cNvCxnSpPr>
          <p:nvPr/>
        </p:nvCxnSpPr>
        <p:spPr>
          <a:xfrm flipV="1" rot="10800000">
            <a:off x="5110920" y="3776400"/>
            <a:ext cx="1080" cy="4179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2644560" y="22860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83160" y="28954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4" idx="3"/>
            <a:endCxn id="719" idx="0"/>
          </p:cNvCxnSpPr>
          <p:nvPr/>
        </p:nvCxnSpPr>
        <p:spPr>
          <a:xfrm>
            <a:off x="6284520" y="3603240"/>
            <a:ext cx="694440" cy="4928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20" name=""/>
          <p:cNvSpPr/>
          <p:nvPr/>
        </p:nvSpPr>
        <p:spPr>
          <a:xfrm>
            <a:off x="6066000" y="337824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17720" y="37908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43080" y="144792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Entry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40320" y="609588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11" idx="2"/>
            <a:endCxn id="725" idx="2"/>
          </p:cNvCxnSpPr>
          <p:nvPr/>
        </p:nvCxnSpPr>
        <p:spPr>
          <a:xfrm flipH="1" rot="16200000">
            <a:off x="2031840" y="2755080"/>
            <a:ext cx="2783520" cy="32137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26" name=""/>
          <p:cNvCxnSpPr>
            <a:stCxn id="722" idx="2"/>
            <a:endCxn id="711" idx="0"/>
          </p:cNvCxnSpPr>
          <p:nvPr/>
        </p:nvCxnSpPr>
        <p:spPr>
          <a:xfrm flipH="1" rot="16200000">
            <a:off x="1605600" y="1922400"/>
            <a:ext cx="419760" cy="3960"/>
          </a:xfrm>
          <a:prstGeom prst="bentConnector3">
            <a:avLst>
              <a:gd name="adj1" fmla="val 45407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11" name=""/>
          <p:cNvSpPr/>
          <p:nvPr/>
        </p:nvSpPr>
        <p:spPr>
          <a:xfrm>
            <a:off x="678240" y="2093760"/>
            <a:ext cx="2278440" cy="9176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TB_ADD_INTER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assed sinc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last cal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83120" y="2382480"/>
            <a:ext cx="20574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alculate new TB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TBS=max( TBS+TBMFR*TBLAT,TB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99040" y="2899800"/>
            <a:ext cx="18288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alc max Curren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EffectiveR=max Curren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8400" y="3388320"/>
            <a:ext cx="2527920" cy="4302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BS+EffectiveR&lt;PB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64200" y="4100040"/>
            <a:ext cx="18288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alc max Effect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urrentR = max Effect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95800" y="4573440"/>
            <a:ext cx="182880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CurrentR = = Effect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TBS=TBS-Curren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FactorR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73480" y="423216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9" idx="1"/>
            <a:endCxn id="715" idx="6"/>
          </p:cNvCxnSpPr>
          <p:nvPr/>
        </p:nvCxnSpPr>
        <p:spPr>
          <a:xfrm flipV="1" rot="10800000">
            <a:off x="5187240" y="4268520"/>
            <a:ext cx="876960" cy="2160"/>
          </a:xfrm>
          <a:prstGeom prst="bentConnector3">
            <a:avLst>
              <a:gd name="adj1" fmla="val 52156"/>
            </a:avLst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8" idx="2"/>
            <a:endCxn id="731" idx="0"/>
          </p:cNvCxnSpPr>
          <p:nvPr/>
        </p:nvCxnSpPr>
        <p:spPr>
          <a:xfrm flipV="1" rot="10800000">
            <a:off x="5109480" y="5036760"/>
            <a:ext cx="1080" cy="202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31" name=""/>
          <p:cNvSpPr/>
          <p:nvPr/>
        </p:nvSpPr>
        <p:spPr>
          <a:xfrm>
            <a:off x="4195800" y="5242680"/>
            <a:ext cx="182880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BS=PBS+Effect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15" idx="4"/>
            <a:endCxn id="728" idx="0"/>
          </p:cNvCxnSpPr>
          <p:nvPr/>
        </p:nvCxnSpPr>
        <p:spPr>
          <a:xfrm rot="5400000">
            <a:off x="4999320" y="4456800"/>
            <a:ext cx="222840" cy="2160"/>
          </a:xfrm>
          <a:prstGeom prst="bentConnector3">
            <a:avLst>
              <a:gd name="adj1" fmla="val 41423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33" name=""/>
          <p:cNvCxnSpPr>
            <a:stCxn id="712" idx="2"/>
            <a:endCxn id="727" idx="0"/>
          </p:cNvCxnSpPr>
          <p:nvPr/>
        </p:nvCxnSpPr>
        <p:spPr>
          <a:xfrm flipH="1" rot="16200000">
            <a:off x="5025960" y="2808720"/>
            <a:ext cx="172080" cy="2520"/>
          </a:xfrm>
          <a:prstGeom prst="bentConnector3">
            <a:avLst>
              <a:gd name="adj1" fmla="val 49895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34" name=""/>
          <p:cNvCxnSpPr>
            <a:stCxn id="727" idx="2"/>
            <a:endCxn id="714" idx="0"/>
          </p:cNvCxnSpPr>
          <p:nvPr/>
        </p:nvCxnSpPr>
        <p:spPr>
          <a:xfrm rot="5400000">
            <a:off x="5018040" y="3334320"/>
            <a:ext cx="187920" cy="2520"/>
          </a:xfrm>
          <a:prstGeom prst="bentConnector3">
            <a:avLst>
              <a:gd name="adj1" fmla="val 49904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35" name=""/>
          <p:cNvCxnSpPr>
            <a:stCxn id="725" idx="4"/>
            <a:endCxn id="723" idx="0"/>
          </p:cNvCxnSpPr>
          <p:nvPr/>
        </p:nvCxnSpPr>
        <p:spPr>
          <a:xfrm flipH="1" rot="16200000">
            <a:off x="4993920" y="5941080"/>
            <a:ext cx="229320" cy="5400"/>
          </a:xfrm>
          <a:prstGeom prst="bentConnector3">
            <a:avLst>
              <a:gd name="adj1" fmla="val 5000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25" name=""/>
          <p:cNvSpPr/>
          <p:nvPr/>
        </p:nvSpPr>
        <p:spPr>
          <a:xfrm>
            <a:off x="5068800" y="571500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1" idx="2"/>
            <a:endCxn id="725" idx="0"/>
          </p:cNvCxnSpPr>
          <p:nvPr/>
        </p:nvCxnSpPr>
        <p:spPr>
          <a:xfrm rot="5400000">
            <a:off x="5000760" y="5567760"/>
            <a:ext cx="214920" cy="3960"/>
          </a:xfrm>
          <a:prstGeom prst="bentConnector3">
            <a:avLst>
              <a:gd name="adj1" fmla="val 58389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E3A2-3E88-4635-AD8B-6B370E42B11A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f.verdict&amp;acc&amp;lo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9" idx="3"/>
            <a:endCxn id="740" idx="1"/>
          </p:cNvCxnSpPr>
          <p:nvPr/>
        </p:nvCxnSpPr>
        <p:spPr>
          <a:xfrm>
            <a:off x="1942920" y="2285640"/>
            <a:ext cx="19116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39" name=""/>
          <p:cNvSpPr/>
          <p:nvPr/>
        </p:nvSpPr>
        <p:spPr>
          <a:xfrm>
            <a:off x="762120" y="217188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Entry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727200" y="3625920"/>
            <a:ext cx="1263600" cy="795240"/>
            <a:chOff x="727200" y="3625920"/>
            <a:chExt cx="1263600" cy="795240"/>
          </a:xfrm>
        </p:grpSpPr>
        <p:sp>
          <p:nvSpPr>
            <p:cNvPr id="742" name=""/>
            <p:cNvSpPr/>
            <p:nvPr/>
          </p:nvSpPr>
          <p:spPr>
            <a:xfrm>
              <a:off x="727200" y="3625920"/>
              <a:ext cx="1062000" cy="6094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Src IP kotnet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21120" y="41749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92280" y="368928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219320" y="4648320"/>
            <a:ext cx="7596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42" idx="2"/>
            <a:endCxn id="745" idx="0"/>
          </p:cNvCxnSpPr>
          <p:nvPr/>
        </p:nvCxnSpPr>
        <p:spPr>
          <a:xfrm rot="5400000">
            <a:off x="1070280" y="4421880"/>
            <a:ext cx="375480" cy="2160"/>
          </a:xfrm>
          <a:prstGeom prst="bentConnector3">
            <a:avLst>
              <a:gd name="adj1" fmla="val 54990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267160" y="3625920"/>
            <a:ext cx="2057400" cy="609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0000"/>
                </a:solidFill>
                <a:uFillTx/>
                <a:latin typeface="Arial"/>
              </a:rPr>
              <a:t>SOURCE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ccounting Calc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29360" y="5143680"/>
            <a:ext cx="2057400" cy="609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0000"/>
                </a:solidFill>
                <a:uFillTx/>
                <a:latin typeface="Arial"/>
              </a:rPr>
              <a:t>DESTINATION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ccounting Calc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24160" y="289548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FinalVerdict=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9200" y="6019920"/>
            <a:ext cx="12762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turn FinalVerdi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48520" y="289548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FinalVerdict=AC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90800" y="3516840"/>
            <a:ext cx="144756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</a:rPr>
              <a:t>PktTime&gt;SITLL+LOGSI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rint Src IP logli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lear printed count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"/>
          <p:cNvCxnSpPr>
            <a:stCxn id="742" idx="3"/>
            <a:endCxn id="752" idx="1"/>
          </p:cNvCxnSpPr>
          <p:nvPr/>
        </p:nvCxnSpPr>
        <p:spPr>
          <a:xfrm flipV="1">
            <a:off x="1789200" y="3928680"/>
            <a:ext cx="202320" cy="2160"/>
          </a:xfrm>
          <a:prstGeom prst="bentConnector3">
            <a:avLst>
              <a:gd name="adj1" fmla="val 49554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54" name=""/>
          <p:cNvCxnSpPr>
            <a:stCxn id="745" idx="4"/>
            <a:endCxn id="755" idx="0"/>
          </p:cNvCxnSpPr>
          <p:nvPr/>
        </p:nvCxnSpPr>
        <p:spPr>
          <a:xfrm flipH="1" rot="16200000">
            <a:off x="1066680" y="4952520"/>
            <a:ext cx="384840" cy="3600"/>
          </a:xfrm>
          <a:prstGeom prst="bentConnector3">
            <a:avLst>
              <a:gd name="adj1" fmla="val 45037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56" name=""/>
          <p:cNvSpPr/>
          <p:nvPr/>
        </p:nvSpPr>
        <p:spPr>
          <a:xfrm>
            <a:off x="3591000" y="3516840"/>
            <a:ext cx="148104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</a:rPr>
              <a:t>PktTime&gt;SSTLL+LOG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rint Src Segment logli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lear printed count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96080" y="541008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>
            <a:stCxn id="748" idx="3"/>
            <a:endCxn id="757" idx="2"/>
          </p:cNvCxnSpPr>
          <p:nvPr/>
        </p:nvCxnSpPr>
        <p:spPr>
          <a:xfrm>
            <a:off x="7296120" y="5447880"/>
            <a:ext cx="36252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759" name=""/>
          <p:cNvGrpSpPr/>
          <p:nvPr/>
        </p:nvGrpSpPr>
        <p:grpSpPr>
          <a:xfrm>
            <a:off x="4149720" y="1828800"/>
            <a:ext cx="1944360" cy="1084320"/>
            <a:chOff x="4149720" y="1828800"/>
            <a:chExt cx="1944360" cy="1084320"/>
          </a:xfrm>
        </p:grpSpPr>
        <p:sp>
          <p:nvSpPr>
            <p:cNvPr id="760" name=""/>
            <p:cNvSpPr/>
            <p:nvPr/>
          </p:nvSpPr>
          <p:spPr>
            <a:xfrm>
              <a:off x="4149720" y="1828800"/>
              <a:ext cx="1752480" cy="912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REDIR verdict in UV1 || IV1 || UV2 || IV2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1720" y="2057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9240" y="266688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4343400" y="289548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FinalVerdict=RE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133720" y="1828800"/>
            <a:ext cx="1944360" cy="1068480"/>
            <a:chOff x="2133720" y="1828800"/>
            <a:chExt cx="1944360" cy="1068480"/>
          </a:xfrm>
        </p:grpSpPr>
        <p:sp>
          <p:nvSpPr>
            <p:cNvPr id="740" name=""/>
            <p:cNvSpPr/>
            <p:nvPr/>
          </p:nvSpPr>
          <p:spPr>
            <a:xfrm>
              <a:off x="2133720" y="1828800"/>
              <a:ext cx="1752480" cy="912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DROP verdict in UV1 || IV1 || UV2 || IV2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35720" y="20574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73240" y="26510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7" name=""/>
          <p:cNvCxnSpPr>
            <a:stCxn id="740" idx="3"/>
            <a:endCxn id="760" idx="1"/>
          </p:cNvCxnSpPr>
          <p:nvPr/>
        </p:nvCxnSpPr>
        <p:spPr>
          <a:xfrm>
            <a:off x="3886200" y="2285640"/>
            <a:ext cx="26424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68" name=""/>
          <p:cNvCxnSpPr>
            <a:stCxn id="760" idx="3"/>
            <a:endCxn id="751" idx="0"/>
          </p:cNvCxnSpPr>
          <p:nvPr/>
        </p:nvCxnSpPr>
        <p:spPr>
          <a:xfrm>
            <a:off x="5901840" y="2285640"/>
            <a:ext cx="1032840" cy="61020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69" name=""/>
          <p:cNvCxnSpPr>
            <a:stCxn id="760" idx="2"/>
            <a:endCxn id="763" idx="0"/>
          </p:cNvCxnSpPr>
          <p:nvPr/>
        </p:nvCxnSpPr>
        <p:spPr>
          <a:xfrm flipH="1" rot="16200000">
            <a:off x="4949640" y="2816640"/>
            <a:ext cx="154440" cy="3960"/>
          </a:xfrm>
          <a:prstGeom prst="bentConnector3">
            <a:avLst>
              <a:gd name="adj1" fmla="val 49299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70" name=""/>
          <p:cNvCxnSpPr>
            <a:stCxn id="740" idx="2"/>
            <a:endCxn id="749" idx="0"/>
          </p:cNvCxnSpPr>
          <p:nvPr/>
        </p:nvCxnSpPr>
        <p:spPr>
          <a:xfrm flipV="1" rot="10800000">
            <a:off x="3009240" y="2741400"/>
            <a:ext cx="1080" cy="154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71" name=""/>
          <p:cNvSpPr/>
          <p:nvPr/>
        </p:nvSpPr>
        <p:spPr>
          <a:xfrm>
            <a:off x="4991040" y="327672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327672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71" idx="6"/>
            <a:endCxn id="751" idx="2"/>
          </p:cNvCxnSpPr>
          <p:nvPr/>
        </p:nvCxnSpPr>
        <p:spPr>
          <a:xfrm flipV="1">
            <a:off x="5105520" y="3200040"/>
            <a:ext cx="1829520" cy="1152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71" idx="0"/>
            <a:endCxn id="763" idx="2"/>
          </p:cNvCxnSpPr>
          <p:nvPr/>
        </p:nvCxnSpPr>
        <p:spPr>
          <a:xfrm flipV="1">
            <a:off x="5028840" y="3200040"/>
            <a:ext cx="1080" cy="388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75" name=""/>
          <p:cNvCxnSpPr>
            <a:stCxn id="772" idx="0"/>
            <a:endCxn id="749" idx="2"/>
          </p:cNvCxnSpPr>
          <p:nvPr/>
        </p:nvCxnSpPr>
        <p:spPr>
          <a:xfrm flipV="1">
            <a:off x="3009600" y="3200040"/>
            <a:ext cx="1080" cy="388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stCxn id="772" idx="6"/>
            <a:endCxn id="771" idx="2"/>
          </p:cNvCxnSpPr>
          <p:nvPr/>
        </p:nvCxnSpPr>
        <p:spPr>
          <a:xfrm>
            <a:off x="3085920" y="3314520"/>
            <a:ext cx="186732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2" idx="2"/>
            <a:endCxn id="742" idx="0"/>
          </p:cNvCxnSpPr>
          <p:nvPr/>
        </p:nvCxnSpPr>
        <p:spPr>
          <a:xfrm flipV="1" rot="10800000">
            <a:off x="1258200" y="3314520"/>
            <a:ext cx="1675440" cy="3117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78" name=""/>
          <p:cNvCxnSpPr>
            <a:stCxn id="752" idx="3"/>
            <a:endCxn id="756" idx="1"/>
          </p:cNvCxnSpPr>
          <p:nvPr/>
        </p:nvCxnSpPr>
        <p:spPr>
          <a:xfrm>
            <a:off x="3438360" y="3928680"/>
            <a:ext cx="15336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79" name=""/>
          <p:cNvCxnSpPr>
            <a:stCxn id="756" idx="3"/>
            <a:endCxn id="747" idx="1"/>
          </p:cNvCxnSpPr>
          <p:nvPr/>
        </p:nvCxnSpPr>
        <p:spPr>
          <a:xfrm>
            <a:off x="5072040" y="3929040"/>
            <a:ext cx="186480" cy="2160"/>
          </a:xfrm>
          <a:prstGeom prst="bentConnector3">
            <a:avLst>
              <a:gd name="adj1" fmla="val 5203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780" name=""/>
          <p:cNvSpPr/>
          <p:nvPr/>
        </p:nvSpPr>
        <p:spPr>
          <a:xfrm>
            <a:off x="6858000" y="4343400"/>
            <a:ext cx="1752480" cy="677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FinalVerdi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DI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659640" y="44578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97520" y="49658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"/>
          <p:cNvCxnSpPr>
            <a:stCxn id="757" idx="4"/>
            <a:endCxn id="750" idx="3"/>
          </p:cNvCxnSpPr>
          <p:nvPr/>
        </p:nvCxnSpPr>
        <p:spPr>
          <a:xfrm rot="5400000">
            <a:off x="4528440" y="2928600"/>
            <a:ext cx="610200" cy="580140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84" name=""/>
          <p:cNvCxnSpPr>
            <a:stCxn id="747" idx="3"/>
            <a:endCxn id="780" idx="0"/>
          </p:cNvCxnSpPr>
          <p:nvPr/>
        </p:nvCxnSpPr>
        <p:spPr>
          <a:xfrm>
            <a:off x="7333920" y="3930120"/>
            <a:ext cx="400680" cy="4136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785" name=""/>
          <p:cNvCxnSpPr>
            <a:stCxn id="745" idx="6"/>
            <a:endCxn id="780" idx="1"/>
          </p:cNvCxnSpPr>
          <p:nvPr/>
        </p:nvCxnSpPr>
        <p:spPr>
          <a:xfrm flipV="1">
            <a:off x="1333440" y="4682520"/>
            <a:ext cx="5525280" cy="3960"/>
          </a:xfrm>
          <a:prstGeom prst="bentConnector3">
            <a:avLst>
              <a:gd name="adj1" fmla="val 49651"/>
            </a:avLst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786" name=""/>
          <p:cNvGrpSpPr/>
          <p:nvPr/>
        </p:nvGrpSpPr>
        <p:grpSpPr>
          <a:xfrm>
            <a:off x="728640" y="5146560"/>
            <a:ext cx="1250640" cy="779400"/>
            <a:chOff x="728640" y="5146560"/>
            <a:chExt cx="1250640" cy="779400"/>
          </a:xfrm>
        </p:grpSpPr>
        <p:sp>
          <p:nvSpPr>
            <p:cNvPr id="755" name=""/>
            <p:cNvSpPr/>
            <p:nvPr/>
          </p:nvSpPr>
          <p:spPr>
            <a:xfrm>
              <a:off x="728640" y="5146560"/>
              <a:ext cx="1062000" cy="6094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Dst IP kotnet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55680" y="56797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80760" y="52052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981080" y="5037840"/>
            <a:ext cx="144792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</a:rPr>
              <a:t>PktTime&gt;SITLL+LOGSI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rint Dst IP logli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lear printed count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81280" y="5037840"/>
            <a:ext cx="148140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</a:rPr>
              <a:t>PktTime&gt;SSTLL+LOG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Print Dst Segment logli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clear printed count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89" idx="3"/>
            <a:endCxn id="790" idx="1"/>
          </p:cNvCxnSpPr>
          <p:nvPr/>
        </p:nvCxnSpPr>
        <p:spPr>
          <a:xfrm>
            <a:off x="3428640" y="5449680"/>
            <a:ext cx="153000" cy="1080"/>
          </a:xfrm>
          <a:prstGeom prst="bentConnector2">
            <a:avLst/>
          </a:prstGeom>
          <a:ln w="50760">
            <a:solidFill>
              <a:srgbClr val="ccccff"/>
            </a:solidFill>
            <a:miter/>
            <a:tailEnd len="sm" type="triangle" w="med"/>
          </a:ln>
        </p:spPr>
      </p:cxnSp>
      <p:cxnSp>
        <p:nvCxnSpPr>
          <p:cNvPr id="792" name=""/>
          <p:cNvCxnSpPr>
            <a:stCxn id="790" idx="3"/>
            <a:endCxn id="748" idx="1"/>
          </p:cNvCxnSpPr>
          <p:nvPr/>
        </p:nvCxnSpPr>
        <p:spPr>
          <a:xfrm flipV="1">
            <a:off x="5062680" y="5447520"/>
            <a:ext cx="157680" cy="2520"/>
          </a:xfrm>
          <a:prstGeom prst="bentConnector3">
            <a:avLst>
              <a:gd name="adj1" fmla="val 52402"/>
            </a:avLst>
          </a:prstGeom>
          <a:ln w="50760">
            <a:solidFill>
              <a:srgbClr val="ccccff"/>
            </a:solidFill>
            <a:miter/>
            <a:tailEnd len="sm" type="triangle" w="med"/>
          </a:ln>
        </p:spPr>
      </p:cxnSp>
      <p:cxnSp>
        <p:nvCxnSpPr>
          <p:cNvPr id="793" name=""/>
          <p:cNvCxnSpPr>
            <a:stCxn id="755" idx="3"/>
            <a:endCxn id="789" idx="1"/>
          </p:cNvCxnSpPr>
          <p:nvPr/>
        </p:nvCxnSpPr>
        <p:spPr>
          <a:xfrm flipV="1">
            <a:off x="1790280" y="5449680"/>
            <a:ext cx="191160" cy="2160"/>
          </a:xfrm>
          <a:prstGeom prst="bentConnector3">
            <a:avLst>
              <a:gd name="adj1" fmla="val 50000"/>
            </a:avLst>
          </a:prstGeom>
          <a:ln w="50760">
            <a:solidFill>
              <a:srgbClr val="ccccff"/>
            </a:solidFill>
            <a:miter/>
            <a:tailEnd len="sm" type="triangle" w="med"/>
          </a:ln>
        </p:spPr>
      </p:cxnSp>
      <p:cxnSp>
        <p:nvCxnSpPr>
          <p:cNvPr id="794" name=""/>
          <p:cNvCxnSpPr>
            <a:stCxn id="757" idx="0"/>
            <a:endCxn id="780" idx="2"/>
          </p:cNvCxnSpPr>
          <p:nvPr/>
        </p:nvCxnSpPr>
        <p:spPr>
          <a:xfrm flipV="1">
            <a:off x="7733880" y="5020920"/>
            <a:ext cx="1080" cy="3513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55" idx="2"/>
            <a:endCxn id="750" idx="0"/>
          </p:cNvCxnSpPr>
          <p:nvPr/>
        </p:nvCxnSpPr>
        <p:spPr>
          <a:xfrm rot="5400000">
            <a:off x="1145520" y="5867640"/>
            <a:ext cx="226080" cy="3600"/>
          </a:xfrm>
          <a:prstGeom prst="bentConnector3">
            <a:avLst>
              <a:gd name="adj1" fmla="val 58373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6220-BE7C-4F0D-AA98-788253E85254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Cpolicer: account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635120" y="1647720"/>
            <a:ext cx="1944360" cy="1083240"/>
            <a:chOff x="1635120" y="1647720"/>
            <a:chExt cx="1944360" cy="1083240"/>
          </a:xfrm>
        </p:grpSpPr>
        <p:sp>
          <p:nvSpPr>
            <p:cNvPr id="798" name=""/>
            <p:cNvSpPr/>
            <p:nvPr/>
          </p:nvSpPr>
          <p:spPr>
            <a:xfrm>
              <a:off x="1635120" y="1647720"/>
              <a:ext cx="1752480" cy="912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FinalVerdi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DR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37120" y="18756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74640" y="2484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1" name=""/>
          <p:cNvCxnSpPr>
            <a:stCxn id="802" idx="6"/>
            <a:endCxn id="803" idx="2"/>
          </p:cNvCxnSpPr>
          <p:nvPr/>
        </p:nvCxnSpPr>
        <p:spPr>
          <a:xfrm flipV="1">
            <a:off x="6467040" y="3717720"/>
            <a:ext cx="1382040" cy="64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5" idx="2"/>
            <a:endCxn id="806" idx="3"/>
          </p:cNvCxnSpPr>
          <p:nvPr/>
        </p:nvCxnSpPr>
        <p:spPr>
          <a:xfrm rot="10800000">
            <a:off x="2075760" y="6323760"/>
            <a:ext cx="38160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07" name=""/>
          <p:cNvSpPr/>
          <p:nvPr/>
        </p:nvSpPr>
        <p:spPr>
          <a:xfrm>
            <a:off x="685800" y="1676520"/>
            <a:ext cx="11430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Entry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6210360"/>
            <a:ext cx="1276200" cy="228600"/>
          </a:xfrm>
          <a:prstGeom prst="flowChartTerminator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162920" y="293364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UsrTBS +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81680" y="4276800"/>
            <a:ext cx="1371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UsrTBS - 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29240" y="4276800"/>
            <a:ext cx="1371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UsrPBS - 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1" name=""/>
          <p:cNvCxnSpPr>
            <a:stCxn id="807" idx="2"/>
            <a:endCxn id="798" idx="1"/>
          </p:cNvCxnSpPr>
          <p:nvPr/>
        </p:nvCxnSpPr>
        <p:spPr>
          <a:xfrm flipH="1" rot="16200000">
            <a:off x="1364400" y="1834920"/>
            <a:ext cx="162360" cy="3783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12" name=""/>
          <p:cNvCxnSpPr>
            <a:stCxn id="802" idx="4"/>
            <a:endCxn id="813" idx="0"/>
          </p:cNvCxnSpPr>
          <p:nvPr/>
        </p:nvCxnSpPr>
        <p:spPr>
          <a:xfrm flipV="1" rot="10800000">
            <a:off x="6390720" y="3857400"/>
            <a:ext cx="1080" cy="1245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14" name=""/>
          <p:cNvCxnSpPr>
            <a:stCxn id="815" idx="3"/>
            <a:endCxn id="808" idx="0"/>
          </p:cNvCxnSpPr>
          <p:nvPr/>
        </p:nvCxnSpPr>
        <p:spPr>
          <a:xfrm>
            <a:off x="7038720" y="2790360"/>
            <a:ext cx="810360" cy="1436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16" name=""/>
          <p:cNvCxnSpPr>
            <a:stCxn id="813" idx="1"/>
            <a:endCxn id="809" idx="0"/>
          </p:cNvCxnSpPr>
          <p:nvPr/>
        </p:nvCxnSpPr>
        <p:spPr>
          <a:xfrm flipV="1" rot="10800000">
            <a:off x="5666760" y="4094640"/>
            <a:ext cx="76680" cy="18180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17" name=""/>
          <p:cNvCxnSpPr>
            <a:stCxn id="813" idx="3"/>
            <a:endCxn id="810" idx="0"/>
          </p:cNvCxnSpPr>
          <p:nvPr/>
        </p:nvCxnSpPr>
        <p:spPr>
          <a:xfrm>
            <a:off x="7038720" y="4095360"/>
            <a:ext cx="76680" cy="18180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02" name=""/>
          <p:cNvSpPr/>
          <p:nvPr/>
        </p:nvSpPr>
        <p:spPr>
          <a:xfrm>
            <a:off x="6353280" y="3743280"/>
            <a:ext cx="7596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"/>
          <p:cNvCxnSpPr>
            <a:stCxn id="819" idx="2"/>
            <a:endCxn id="802" idx="0"/>
          </p:cNvCxnSpPr>
          <p:nvPr/>
        </p:nvCxnSpPr>
        <p:spPr>
          <a:xfrm flipV="1" rot="10800000">
            <a:off x="6390720" y="3524040"/>
            <a:ext cx="1080" cy="18144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820" name=""/>
          <p:cNvGrpSpPr/>
          <p:nvPr/>
        </p:nvGrpSpPr>
        <p:grpSpPr>
          <a:xfrm>
            <a:off x="5201280" y="2533680"/>
            <a:ext cx="1883520" cy="582840"/>
            <a:chOff x="5201280" y="2533680"/>
            <a:chExt cx="1883520" cy="582840"/>
          </a:xfrm>
        </p:grpSpPr>
        <p:sp>
          <p:nvSpPr>
            <p:cNvPr id="815" name=""/>
            <p:cNvSpPr/>
            <p:nvPr/>
          </p:nvSpPr>
          <p:spPr>
            <a:xfrm>
              <a:off x="5743440" y="2676600"/>
              <a:ext cx="129528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ua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01280" y="253368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 (no u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18080" y="287028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 (u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155920" y="3860640"/>
            <a:ext cx="2317320" cy="349200"/>
            <a:chOff x="5155920" y="3860640"/>
            <a:chExt cx="2317320" cy="349200"/>
          </a:xfrm>
        </p:grpSpPr>
        <p:sp>
          <p:nvSpPr>
            <p:cNvPr id="813" name=""/>
            <p:cNvSpPr/>
            <p:nvPr/>
          </p:nvSpPr>
          <p:spPr>
            <a:xfrm>
              <a:off x="5743440" y="3981240"/>
              <a:ext cx="129528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us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55920" y="3860640"/>
              <a:ext cx="8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 (no us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49000" y="386064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 (us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6" name=""/>
          <p:cNvCxnSpPr>
            <a:stCxn id="827" idx="2"/>
            <a:endCxn id="828" idx="3"/>
          </p:cNvCxnSpPr>
          <p:nvPr/>
        </p:nvCxnSpPr>
        <p:spPr>
          <a:xfrm rot="10800000">
            <a:off x="6199920" y="5317560"/>
            <a:ext cx="11520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743440" y="4861080"/>
            <a:ext cx="129564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ac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29040" y="516564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pTBS +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43440" y="5543640"/>
            <a:ext cx="129564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sl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81680" y="586728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pTBS - 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29240" y="5867280"/>
            <a:ext cx="1371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IpPBS - = Pkt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27" idx="4"/>
            <a:endCxn id="830" idx="0"/>
          </p:cNvCxnSpPr>
          <p:nvPr/>
        </p:nvCxnSpPr>
        <p:spPr>
          <a:xfrm flipV="1" rot="10800000">
            <a:off x="6390720" y="5393880"/>
            <a:ext cx="1080" cy="1501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34" name=""/>
          <p:cNvCxnSpPr>
            <a:stCxn id="829" idx="1"/>
            <a:endCxn id="828" idx="0"/>
          </p:cNvCxnSpPr>
          <p:nvPr/>
        </p:nvCxnSpPr>
        <p:spPr>
          <a:xfrm flipV="1" rot="10800000">
            <a:off x="5514120" y="4974120"/>
            <a:ext cx="229320" cy="1911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35" name=""/>
          <p:cNvCxnSpPr>
            <a:stCxn id="830" idx="1"/>
            <a:endCxn id="831" idx="0"/>
          </p:cNvCxnSpPr>
          <p:nvPr/>
        </p:nvCxnSpPr>
        <p:spPr>
          <a:xfrm flipV="1" rot="10800000">
            <a:off x="5666760" y="5657400"/>
            <a:ext cx="76680" cy="2102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36" name=""/>
          <p:cNvCxnSpPr>
            <a:stCxn id="830" idx="3"/>
            <a:endCxn id="832" idx="0"/>
          </p:cNvCxnSpPr>
          <p:nvPr/>
        </p:nvCxnSpPr>
        <p:spPr>
          <a:xfrm>
            <a:off x="7038720" y="5657760"/>
            <a:ext cx="76680" cy="2102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27" name=""/>
          <p:cNvSpPr/>
          <p:nvPr/>
        </p:nvSpPr>
        <p:spPr>
          <a:xfrm>
            <a:off x="6353280" y="5280120"/>
            <a:ext cx="7596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9" idx="2"/>
            <a:endCxn id="827" idx="0"/>
          </p:cNvCxnSpPr>
          <p:nvPr/>
        </p:nvCxnSpPr>
        <p:spPr>
          <a:xfrm flipV="1" rot="10800000">
            <a:off x="6390720" y="5089320"/>
            <a:ext cx="1080" cy="1530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38" name=""/>
          <p:cNvSpPr/>
          <p:nvPr/>
        </p:nvSpPr>
        <p:spPr>
          <a:xfrm>
            <a:off x="5116680" y="473724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 (no i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11960" y="50547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 (i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204880" y="542304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 (no is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42880" y="54230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 (is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62640" y="462924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3" name=""/>
          <p:cNvCxnSpPr>
            <a:stCxn id="842" idx="4"/>
            <a:endCxn id="829" idx="0"/>
          </p:cNvCxnSpPr>
          <p:nvPr/>
        </p:nvCxnSpPr>
        <p:spPr>
          <a:xfrm rot="5400000">
            <a:off x="6336720" y="4797360"/>
            <a:ext cx="118440" cy="10080"/>
          </a:xfrm>
          <a:prstGeom prst="bentConnector3">
            <a:avLst>
              <a:gd name="adj1" fmla="val 33536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44" name=""/>
          <p:cNvCxnSpPr>
            <a:stCxn id="842" idx="6"/>
            <a:endCxn id="810" idx="2"/>
          </p:cNvCxnSpPr>
          <p:nvPr/>
        </p:nvCxnSpPr>
        <p:spPr>
          <a:xfrm flipV="1">
            <a:off x="6477120" y="4580640"/>
            <a:ext cx="638280" cy="8676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stCxn id="809" idx="2"/>
            <a:endCxn id="842" idx="2"/>
          </p:cNvCxnSpPr>
          <p:nvPr/>
        </p:nvCxnSpPr>
        <p:spPr>
          <a:xfrm flipH="1" rot="16200000">
            <a:off x="5951880" y="4295520"/>
            <a:ext cx="86760" cy="6577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5629320" y="628668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7" name=""/>
          <p:cNvCxnSpPr>
            <a:stCxn id="832" idx="2"/>
            <a:endCxn id="846" idx="6"/>
          </p:cNvCxnSpPr>
          <p:nvPr/>
        </p:nvCxnSpPr>
        <p:spPr>
          <a:xfrm rot="5400000">
            <a:off x="6352560" y="5562360"/>
            <a:ext cx="153000" cy="13723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48" name=""/>
          <p:cNvCxnSpPr>
            <a:stCxn id="831" idx="2"/>
            <a:endCxn id="846" idx="0"/>
          </p:cNvCxnSpPr>
          <p:nvPr/>
        </p:nvCxnSpPr>
        <p:spPr>
          <a:xfrm flipV="1" rot="10800000">
            <a:off x="5666760" y="6172200"/>
            <a:ext cx="1080" cy="766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849" name=""/>
          <p:cNvGrpSpPr/>
          <p:nvPr/>
        </p:nvGrpSpPr>
        <p:grpSpPr>
          <a:xfrm>
            <a:off x="1315080" y="3733920"/>
            <a:ext cx="2283480" cy="371520"/>
            <a:chOff x="1315080" y="3733920"/>
            <a:chExt cx="2283480" cy="371520"/>
          </a:xfrm>
        </p:grpSpPr>
        <p:sp>
          <p:nvSpPr>
            <p:cNvPr id="850" name=""/>
            <p:cNvSpPr/>
            <p:nvPr/>
          </p:nvSpPr>
          <p:spPr>
            <a:xfrm>
              <a:off x="1857240" y="3876840"/>
              <a:ext cx="129564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ua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5080" y="373392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Yes (no u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31840" y="373392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No (u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3" name=""/>
          <p:cNvCxnSpPr>
            <a:stCxn id="798" idx="3"/>
            <a:endCxn id="854" idx="1"/>
          </p:cNvCxnSpPr>
          <p:nvPr/>
        </p:nvCxnSpPr>
        <p:spPr>
          <a:xfrm flipV="1">
            <a:off x="3387600" y="2100960"/>
            <a:ext cx="270720" cy="3960"/>
          </a:xfrm>
          <a:prstGeom prst="bentConnector3">
            <a:avLst>
              <a:gd name="adj1" fmla="val 49933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55" name=""/>
          <p:cNvCxnSpPr>
            <a:stCxn id="798" idx="2"/>
            <a:endCxn id="856" idx="0"/>
          </p:cNvCxnSpPr>
          <p:nvPr/>
        </p:nvCxnSpPr>
        <p:spPr>
          <a:xfrm rot="5400000">
            <a:off x="2270880" y="2793960"/>
            <a:ext cx="473760" cy="6840"/>
          </a:xfrm>
          <a:prstGeom prst="bentConnector3">
            <a:avLst>
              <a:gd name="adj1" fmla="val 49657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57" name=""/>
          <p:cNvSpPr/>
          <p:nvPr/>
        </p:nvSpPr>
        <p:spPr>
          <a:xfrm>
            <a:off x="1009800" y="4500000"/>
            <a:ext cx="13716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FD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FD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10000" y="4500000"/>
            <a:ext cx="13716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NFD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NFD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9" name=""/>
          <p:cNvCxnSpPr>
            <a:stCxn id="850" idx="1"/>
            <a:endCxn id="857" idx="0"/>
          </p:cNvCxnSpPr>
          <p:nvPr/>
        </p:nvCxnSpPr>
        <p:spPr>
          <a:xfrm flipV="1" rot="10800000">
            <a:off x="1694880" y="3990600"/>
            <a:ext cx="162360" cy="505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60" name=""/>
          <p:cNvCxnSpPr>
            <a:stCxn id="850" idx="3"/>
            <a:endCxn id="858" idx="0"/>
          </p:cNvCxnSpPr>
          <p:nvPr/>
        </p:nvCxnSpPr>
        <p:spPr>
          <a:xfrm>
            <a:off x="3152520" y="3990960"/>
            <a:ext cx="143640" cy="505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61" name=""/>
          <p:cNvSpPr/>
          <p:nvPr/>
        </p:nvSpPr>
        <p:spPr>
          <a:xfrm>
            <a:off x="2495520" y="510552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58" idx="2"/>
            <a:endCxn id="861" idx="6"/>
          </p:cNvCxnSpPr>
          <p:nvPr/>
        </p:nvCxnSpPr>
        <p:spPr>
          <a:xfrm rot="5400000">
            <a:off x="2801160" y="4649760"/>
            <a:ext cx="302400" cy="68652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63" name=""/>
          <p:cNvCxnSpPr>
            <a:stCxn id="857" idx="2"/>
            <a:endCxn id="861" idx="2"/>
          </p:cNvCxnSpPr>
          <p:nvPr/>
        </p:nvCxnSpPr>
        <p:spPr>
          <a:xfrm flipH="1" rot="16200000">
            <a:off x="1925640" y="4611600"/>
            <a:ext cx="302400" cy="7624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19" name=""/>
          <p:cNvSpPr/>
          <p:nvPr/>
        </p:nvSpPr>
        <p:spPr>
          <a:xfrm>
            <a:off x="5705640" y="3182400"/>
            <a:ext cx="13716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NFA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NFA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62920" y="3376080"/>
            <a:ext cx="13716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FA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IFA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08" idx="2"/>
            <a:endCxn id="803" idx="0"/>
          </p:cNvCxnSpPr>
          <p:nvPr/>
        </p:nvCxnSpPr>
        <p:spPr>
          <a:xfrm flipV="1" rot="10800000">
            <a:off x="7848000" y="3238560"/>
            <a:ext cx="1080" cy="133560"/>
          </a:xfrm>
          <a:prstGeom prst="bentConnector2">
            <a:avLst/>
          </a:prstGeom>
          <a:ln w="50760">
            <a:solidFill>
              <a:srgbClr val="ccccff"/>
            </a:solidFill>
            <a:miter/>
            <a:tailEnd len="sm" type="triangle" w="med"/>
          </a:ln>
        </p:spPr>
      </p:cxnSp>
      <p:cxnSp>
        <p:nvCxnSpPr>
          <p:cNvPr id="865" name=""/>
          <p:cNvCxnSpPr>
            <a:stCxn id="815" idx="2"/>
            <a:endCxn id="819" idx="0"/>
          </p:cNvCxnSpPr>
          <p:nvPr/>
        </p:nvCxnSpPr>
        <p:spPr>
          <a:xfrm flipV="1" rot="10800000">
            <a:off x="6390720" y="2905200"/>
            <a:ext cx="1080" cy="2732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05" name=""/>
          <p:cNvSpPr/>
          <p:nvPr/>
        </p:nvSpPr>
        <p:spPr>
          <a:xfrm>
            <a:off x="2495520" y="628668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46" idx="2"/>
            <a:endCxn id="805" idx="6"/>
          </p:cNvCxnSpPr>
          <p:nvPr/>
        </p:nvCxnSpPr>
        <p:spPr>
          <a:xfrm rot="10800000">
            <a:off x="2609280" y="6323760"/>
            <a:ext cx="2981880" cy="10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05" idx="0"/>
            <a:endCxn id="861" idx="4"/>
          </p:cNvCxnSpPr>
          <p:nvPr/>
        </p:nvCxnSpPr>
        <p:spPr>
          <a:xfrm flipV="1">
            <a:off x="2533320" y="5219280"/>
            <a:ext cx="1080" cy="102960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1819440" y="3038400"/>
            <a:ext cx="137160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D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D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DI++ if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AI++ if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56" idx="2"/>
            <a:endCxn id="850" idx="0"/>
          </p:cNvCxnSpPr>
          <p:nvPr/>
        </p:nvCxnSpPr>
        <p:spPr>
          <a:xfrm flipV="1" rot="10800000">
            <a:off x="2504520" y="3623760"/>
            <a:ext cx="1080" cy="25344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54" name=""/>
          <p:cNvSpPr/>
          <p:nvPr/>
        </p:nvSpPr>
        <p:spPr>
          <a:xfrm>
            <a:off x="3657600" y="1871640"/>
            <a:ext cx="137160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AB + = Pkt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AP+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STAI++ if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54" idx="3"/>
            <a:endCxn id="870" idx="1"/>
          </p:cNvCxnSpPr>
          <p:nvPr/>
        </p:nvCxnSpPr>
        <p:spPr>
          <a:xfrm flipV="1">
            <a:off x="5028840" y="2099880"/>
            <a:ext cx="229320" cy="2160"/>
          </a:xfrm>
          <a:prstGeom prst="bentConnector3">
            <a:avLst>
              <a:gd name="adj1" fmla="val 50000"/>
            </a:avLst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70" name=""/>
          <p:cNvSpPr/>
          <p:nvPr/>
        </p:nvSpPr>
        <p:spPr>
          <a:xfrm>
            <a:off x="5257800" y="1981080"/>
            <a:ext cx="2276640" cy="2383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treamupdate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16640" y="18288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02600" y="22096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67480" y="2247840"/>
            <a:ext cx="1371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SAPS at SII=SAPSn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70" idx="3"/>
            <a:endCxn id="873" idx="0"/>
          </p:cNvCxnSpPr>
          <p:nvPr/>
        </p:nvCxnSpPr>
        <p:spPr>
          <a:xfrm>
            <a:off x="7534080" y="2100240"/>
            <a:ext cx="619560" cy="14832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sp>
        <p:nvSpPr>
          <p:cNvPr id="875" name=""/>
          <p:cNvSpPr/>
          <p:nvPr/>
        </p:nvSpPr>
        <p:spPr>
          <a:xfrm>
            <a:off x="6353280" y="2438280"/>
            <a:ext cx="7596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stCxn id="875" idx="4"/>
            <a:endCxn id="815" idx="0"/>
          </p:cNvCxnSpPr>
          <p:nvPr/>
        </p:nvCxnSpPr>
        <p:spPr>
          <a:xfrm flipV="1" rot="10800000">
            <a:off x="6390720" y="2552400"/>
            <a:ext cx="1080" cy="124560"/>
          </a:xfrm>
          <a:prstGeom prst="bentConnector2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877" name=""/>
          <p:cNvCxnSpPr>
            <a:stCxn id="875" idx="6"/>
            <a:endCxn id="873" idx="2"/>
          </p:cNvCxnSpPr>
          <p:nvPr/>
        </p:nvCxnSpPr>
        <p:spPr>
          <a:xfrm flipV="1">
            <a:off x="6467040" y="2399760"/>
            <a:ext cx="1686600" cy="76680"/>
          </a:xfrm>
          <a:prstGeom prst="bentConnector2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0"/>
            <a:endCxn id="870" idx="2"/>
          </p:cNvCxnSpPr>
          <p:nvPr/>
        </p:nvCxnSpPr>
        <p:spPr>
          <a:xfrm flipH="1" flipV="1" rot="5400000">
            <a:off x="6302880" y="2306880"/>
            <a:ext cx="181800" cy="5400"/>
          </a:xfrm>
          <a:prstGeom prst="bentConnector3">
            <a:avLst>
              <a:gd name="adj1" fmla="val 39285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AED4-4794-4D14-ADDE-E2EBE808F84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expecta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lume quo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 user and/or IP is only allowed to use a certain fixed amount of traf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earns the user how to manage his Internet behavior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low down traffic when a user and/or IP generates too much traf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 user and/or group and/or IP can have its own personal quota setting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.g. personal vs. lab PC, limited guest accounts..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user and/or IP is never blocked from the network (real-time small band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 a user and/or IP who is on 'small band' stops downloading for a few minutes, the user immediately can use a limited amount of traffic again at normal spee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6D4D-BB76-4B2F-8F45-EB7C0962202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nect K.U.Leuven association students and personnel to the campus network and Internet from their hom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nhance possibility of study and research in an academic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w entrance fee and co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otNet is an enabler for the E-univers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E44D-0139-4FF7-8F12-42ACDE6D7FC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994: Started by students in their student ho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996-97: pilot &amp; test proje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997-98 en 1998-9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°, 2° operational phase K.U.Leuven residen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ccess via cable TV network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project  in 1997-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since Sept. 1998 (2 cable TV oper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2 : Wireless KotNet at public pla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est project in student restaurant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radually extended to libraries, meeting rooms, classroom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4 : Agreements with associated partn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5AF1-D567-4431-A4D5-1B7585FF2C39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vid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.U.Leuven – direct fiber to university residen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.U.Leuven – wifi hotspots in student restaurants, auditoria,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PC Belgium – via cable mod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lenet/Iverlek – via cable mod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4F86-D63E-4FBD-99C3-A697B90820A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yer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VLAN's are used to implement city-wide network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 remote buildings to centralized KotNet 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panning-tree for automatic redundanc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yer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use of private address space (10.*.*.*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plit data stream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to K.U.Leuven networks is routed through the central 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traffic is redirected to a web cache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ffic is handled by a Network Address Translat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3864-607A-4F88-9933-E9818B98BB5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s will consume mega-amounts of bandwidth if you let them. Not all of their traffic is of an educational nature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mplementation of policies and enforcement of these policies is absolutely essentia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2p traffic is not allowed (Gnutella, Kazaa, eDonkey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nforced by iptables filters on the NAT server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dividual servers are not allow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nforced by a 200 Mbyte/day upload limi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xceptions are possible for registered server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ernet bandwidth is not fre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nforced by a 4 Gbyte/month/USER download limi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1ECE-5064-4ABF-906F-28CC1788689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siden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rox 50 building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rox 4000 conne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read geographically across the city of Leuv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K.U.Leuven owned fiber networ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building is a different VL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thernet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ld 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bit 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bit Half-duplex fiber uplink to KotNet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ew 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Mbit Switch (Cisco 29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Mbit Full-duplex fiber uplink to KotNet backb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E161-76B1-462E-BC56-703169BC9B5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534960" y="1676520"/>
            <a:ext cx="3962520" cy="297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300996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588960" y="29494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992160" y="23400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3484440" y="236232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4"/>
          <a:stretch/>
        </p:blipFill>
        <p:spPr>
          <a:xfrm>
            <a:off x="3865680" y="29494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373040" y="3733920"/>
            <a:ext cx="228600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bit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2568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30440" y="36576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6072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78240" y="41148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9576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12920" y="36576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320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47824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"/>
          <p:cNvCxnSpPr>
            <a:stCxn id="898" idx="0"/>
            <a:endCxn id="893" idx="2"/>
          </p:cNvCxnSpPr>
          <p:nvPr/>
        </p:nvCxnSpPr>
        <p:spPr>
          <a:xfrm flipV="1" rot="16200000">
            <a:off x="1138680" y="3232080"/>
            <a:ext cx="153000" cy="69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4" idx="0"/>
            <a:endCxn id="894" idx="2"/>
          </p:cNvCxnSpPr>
          <p:nvPr/>
        </p:nvCxnSpPr>
        <p:spPr>
          <a:xfrm flipV="1" rot="16200000">
            <a:off x="1194120" y="2970000"/>
            <a:ext cx="762840" cy="6120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903" idx="0"/>
            <a:endCxn id="895" idx="2"/>
          </p:cNvCxnSpPr>
          <p:nvPr/>
        </p:nvCxnSpPr>
        <p:spPr>
          <a:xfrm flipH="1" flipV="1" rot="5400000">
            <a:off x="3086640" y="2981520"/>
            <a:ext cx="740520" cy="6120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899" idx="0"/>
            <a:endCxn id="896" idx="2"/>
          </p:cNvCxnSpPr>
          <p:nvPr/>
        </p:nvCxnSpPr>
        <p:spPr>
          <a:xfrm flipH="1" flipV="1" rot="5400000">
            <a:off x="3729600" y="3243600"/>
            <a:ext cx="153000" cy="675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910" name="" descr=""/>
          <p:cNvPicPr/>
          <p:nvPr/>
        </p:nvPicPr>
        <p:blipFill>
          <a:blip r:embed="rId5"/>
          <a:stretch/>
        </p:blipFill>
        <p:spPr>
          <a:xfrm>
            <a:off x="1579680" y="2057400"/>
            <a:ext cx="555480" cy="555480"/>
          </a:xfrm>
          <a:prstGeom prst="rect">
            <a:avLst/>
          </a:prstGeom>
          <a:ln w="0">
            <a:noFill/>
          </a:ln>
        </p:spPr>
      </p:pic>
      <p:cxnSp>
        <p:nvCxnSpPr>
          <p:cNvPr id="911" name=""/>
          <p:cNvCxnSpPr>
            <a:stCxn id="900" idx="0"/>
            <a:endCxn id="910" idx="2"/>
          </p:cNvCxnSpPr>
          <p:nvPr/>
        </p:nvCxnSpPr>
        <p:spPr>
          <a:xfrm flipV="1" rot="16200000">
            <a:off x="1505160" y="2963880"/>
            <a:ext cx="1045440" cy="34200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912" name="" descr=""/>
          <p:cNvPicPr/>
          <p:nvPr/>
        </p:nvPicPr>
        <p:blipFill>
          <a:blip r:embed="rId6"/>
          <a:stretch/>
        </p:blipFill>
        <p:spPr>
          <a:xfrm>
            <a:off x="2239920" y="1905120"/>
            <a:ext cx="555840" cy="555480"/>
          </a:xfrm>
          <a:prstGeom prst="rect">
            <a:avLst/>
          </a:prstGeom>
          <a:ln w="0">
            <a:noFill/>
          </a:ln>
        </p:spPr>
      </p:pic>
      <p:cxnSp>
        <p:nvCxnSpPr>
          <p:cNvPr id="913" name=""/>
          <p:cNvCxnSpPr>
            <a:stCxn id="905" idx="0"/>
            <a:endCxn id="912" idx="2"/>
          </p:cNvCxnSpPr>
          <p:nvPr/>
        </p:nvCxnSpPr>
        <p:spPr>
          <a:xfrm flipH="1" flipV="1" rot="5400000">
            <a:off x="1918080" y="3057480"/>
            <a:ext cx="1197360" cy="2520"/>
          </a:xfrm>
          <a:prstGeom prst="bentConnector3">
            <a:avLst>
              <a:gd name="adj1" fmla="val 4998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2951280" y="2057400"/>
            <a:ext cx="555480" cy="555480"/>
          </a:xfrm>
          <a:prstGeom prst="rect">
            <a:avLst/>
          </a:prstGeom>
          <a:ln w="0">
            <a:noFill/>
          </a:ln>
        </p:spPr>
      </p:pic>
      <p:cxnSp>
        <p:nvCxnSpPr>
          <p:cNvPr id="915" name=""/>
          <p:cNvCxnSpPr>
            <a:stCxn id="902" idx="0"/>
            <a:endCxn id="914" idx="2"/>
          </p:cNvCxnSpPr>
          <p:nvPr/>
        </p:nvCxnSpPr>
        <p:spPr>
          <a:xfrm flipH="1" flipV="1" rot="5400000">
            <a:off x="2508480" y="2937240"/>
            <a:ext cx="1045440" cy="39600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ase study: KotNet (residences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4238640"/>
            <a:ext cx="137160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bit F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28800" y="5257800"/>
            <a:ext cx="137160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bit F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Cloud"/>
          <p:cNvSpPr/>
          <p:nvPr/>
        </p:nvSpPr>
        <p:spPr>
          <a:xfrm>
            <a:off x="6781680" y="5162400"/>
            <a:ext cx="1981440" cy="1181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KotNet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917" idx="0"/>
            <a:endCxn id="897" idx="2"/>
          </p:cNvCxnSpPr>
          <p:nvPr/>
        </p:nvCxnSpPr>
        <p:spPr>
          <a:xfrm flipH="1" flipV="1" rot="5400000">
            <a:off x="2453040" y="4175640"/>
            <a:ext cx="124560" cy="2160"/>
          </a:xfrm>
          <a:prstGeom prst="bentConnector3">
            <a:avLst>
              <a:gd name="adj1" fmla="val 4985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1" name=""/>
          <p:cNvCxnSpPr>
            <a:stCxn id="918" idx="3"/>
            <a:endCxn id="922" idx="0"/>
          </p:cNvCxnSpPr>
          <p:nvPr/>
        </p:nvCxnSpPr>
        <p:spPr>
          <a:xfrm>
            <a:off x="3200400" y="5448240"/>
            <a:ext cx="876960" cy="38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7" idx="2"/>
            <a:endCxn id="918" idx="0"/>
          </p:cNvCxnSpPr>
          <p:nvPr/>
        </p:nvCxnSpPr>
        <p:spPr>
          <a:xfrm flipV="1" rot="10800000">
            <a:off x="2513880" y="4619160"/>
            <a:ext cx="1080" cy="63900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4878360" y="1676520"/>
            <a:ext cx="3962520" cy="2666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915400" y="3009960"/>
            <a:ext cx="76320" cy="763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8"/>
          <a:stretch/>
        </p:blipFill>
        <p:spPr>
          <a:xfrm>
            <a:off x="4932360" y="29494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9"/>
          <a:stretch/>
        </p:blipFill>
        <p:spPr>
          <a:xfrm>
            <a:off x="5335560" y="23400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0"/>
          <a:stretch/>
        </p:blipFill>
        <p:spPr>
          <a:xfrm>
            <a:off x="7827840" y="236232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1"/>
          <a:stretch/>
        </p:blipFill>
        <p:spPr>
          <a:xfrm>
            <a:off x="8209080" y="29494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5716440" y="3733920"/>
            <a:ext cx="228600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Mbit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86908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773840" y="36576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0412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21640" y="41148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3916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456320" y="36576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8660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21640" y="36576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9" name=""/>
          <p:cNvCxnSpPr>
            <a:stCxn id="931" idx="0"/>
            <a:endCxn id="926" idx="2"/>
          </p:cNvCxnSpPr>
          <p:nvPr/>
        </p:nvCxnSpPr>
        <p:spPr>
          <a:xfrm flipV="1" rot="16200000">
            <a:off x="5482080" y="3232080"/>
            <a:ext cx="153000" cy="697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7" idx="0"/>
            <a:endCxn id="927" idx="2"/>
          </p:cNvCxnSpPr>
          <p:nvPr/>
        </p:nvCxnSpPr>
        <p:spPr>
          <a:xfrm flipV="1" rot="16200000">
            <a:off x="5537520" y="2970000"/>
            <a:ext cx="762840" cy="6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0"/>
            <a:endCxn id="928" idx="2"/>
          </p:cNvCxnSpPr>
          <p:nvPr/>
        </p:nvCxnSpPr>
        <p:spPr>
          <a:xfrm flipH="1" flipV="1" rot="5400000">
            <a:off x="7430040" y="2981520"/>
            <a:ext cx="740520" cy="6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2" idx="0"/>
            <a:endCxn id="929" idx="2"/>
          </p:cNvCxnSpPr>
          <p:nvPr/>
        </p:nvCxnSpPr>
        <p:spPr>
          <a:xfrm flipH="1" flipV="1" rot="5400000">
            <a:off x="8073000" y="3243600"/>
            <a:ext cx="153000" cy="675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943" name="" descr=""/>
          <p:cNvPicPr/>
          <p:nvPr/>
        </p:nvPicPr>
        <p:blipFill>
          <a:blip r:embed="rId12"/>
          <a:stretch/>
        </p:blipFill>
        <p:spPr>
          <a:xfrm>
            <a:off x="5923080" y="2057400"/>
            <a:ext cx="555480" cy="555480"/>
          </a:xfrm>
          <a:prstGeom prst="rect">
            <a:avLst/>
          </a:prstGeom>
          <a:ln w="0">
            <a:noFill/>
          </a:ln>
        </p:spPr>
      </p:pic>
      <p:cxnSp>
        <p:nvCxnSpPr>
          <p:cNvPr id="944" name=""/>
          <p:cNvCxnSpPr>
            <a:stCxn id="933" idx="0"/>
            <a:endCxn id="943" idx="2"/>
          </p:cNvCxnSpPr>
          <p:nvPr/>
        </p:nvCxnSpPr>
        <p:spPr>
          <a:xfrm flipV="1" rot="16200000">
            <a:off x="5848560" y="2963880"/>
            <a:ext cx="1045440" cy="342000"/>
          </a:xfrm>
          <a:prstGeom prst="bentConnector3">
            <a:avLst>
              <a:gd name="adj1" fmla="val 49982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945" name="" descr=""/>
          <p:cNvPicPr/>
          <p:nvPr/>
        </p:nvPicPr>
        <p:blipFill>
          <a:blip r:embed="rId13"/>
          <a:stretch/>
        </p:blipFill>
        <p:spPr>
          <a:xfrm>
            <a:off x="6583320" y="1905120"/>
            <a:ext cx="555840" cy="555480"/>
          </a:xfrm>
          <a:prstGeom prst="rect">
            <a:avLst/>
          </a:prstGeom>
          <a:ln w="0">
            <a:noFill/>
          </a:ln>
        </p:spPr>
      </p:pic>
      <p:cxnSp>
        <p:nvCxnSpPr>
          <p:cNvPr id="946" name=""/>
          <p:cNvCxnSpPr>
            <a:stCxn id="938" idx="0"/>
            <a:endCxn id="945" idx="2"/>
          </p:cNvCxnSpPr>
          <p:nvPr/>
        </p:nvCxnSpPr>
        <p:spPr>
          <a:xfrm flipH="1" flipV="1" rot="5400000">
            <a:off x="6261480" y="3057480"/>
            <a:ext cx="1197360" cy="2520"/>
          </a:xfrm>
          <a:prstGeom prst="bentConnector3">
            <a:avLst>
              <a:gd name="adj1" fmla="val 49984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947" name="" descr=""/>
          <p:cNvPicPr/>
          <p:nvPr/>
        </p:nvPicPr>
        <p:blipFill>
          <a:blip r:embed="rId14"/>
          <a:stretch/>
        </p:blipFill>
        <p:spPr>
          <a:xfrm>
            <a:off x="7294680" y="2057400"/>
            <a:ext cx="555480" cy="555480"/>
          </a:xfrm>
          <a:prstGeom prst="rect">
            <a:avLst/>
          </a:prstGeom>
          <a:ln w="0">
            <a:noFill/>
          </a:ln>
        </p:spPr>
      </p:pic>
      <p:cxnSp>
        <p:nvCxnSpPr>
          <p:cNvPr id="948" name=""/>
          <p:cNvCxnSpPr>
            <a:stCxn id="935" idx="0"/>
            <a:endCxn id="947" idx="2"/>
          </p:cNvCxnSpPr>
          <p:nvPr/>
        </p:nvCxnSpPr>
        <p:spPr>
          <a:xfrm flipH="1" flipV="1" rot="5400000">
            <a:off x="6851880" y="2937240"/>
            <a:ext cx="1045440" cy="396000"/>
          </a:xfrm>
          <a:prstGeom prst="bentConnector3">
            <a:avLst>
              <a:gd name="adj1" fmla="val 49982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9" name=""/>
          <p:cNvCxnSpPr>
            <a:stCxn id="950" idx="0"/>
            <a:endCxn id="934" idx="2"/>
          </p:cNvCxnSpPr>
          <p:nvPr/>
        </p:nvCxnSpPr>
        <p:spPr>
          <a:xfrm flipH="1" flipV="1" rot="5400000">
            <a:off x="5772600" y="4399560"/>
            <a:ext cx="1296000" cy="878400"/>
          </a:xfrm>
          <a:prstGeom prst="bentConnector3">
            <a:avLst>
              <a:gd name="adj1" fmla="val 16032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951" name=""/>
          <p:cNvCxnSpPr>
            <a:stCxn id="919" idx="4"/>
            <a:endCxn id="952" idx="3"/>
          </p:cNvCxnSpPr>
          <p:nvPr/>
        </p:nvCxnSpPr>
        <p:spPr>
          <a:xfrm rot="10800000">
            <a:off x="6247800" y="5752440"/>
            <a:ext cx="540360" cy="1080"/>
          </a:xfrm>
          <a:prstGeom prst="bentConnector2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953" name=""/>
          <p:cNvSpPr/>
          <p:nvPr/>
        </p:nvSpPr>
        <p:spPr>
          <a:xfrm>
            <a:off x="532080" y="129528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958640" y="1295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76720" y="6098760"/>
            <a:ext cx="3124080" cy="337320"/>
          </a:xfrm>
          <a:prstGeom prst="borderCallout1">
            <a:avLst>
              <a:gd name="adj1" fmla="val 18750"/>
              <a:gd name="adj2" fmla="val -8333"/>
              <a:gd name="adj3" fmla="val -81662"/>
              <a:gd name="adj4" fmla="val 105481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802.1Q VLAN 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Cloud"/>
          <p:cNvSpPr/>
          <p:nvPr/>
        </p:nvSpPr>
        <p:spPr>
          <a:xfrm>
            <a:off x="3352680" y="4780080"/>
            <a:ext cx="914400" cy="477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86200" y="5562720"/>
            <a:ext cx="228600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gation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94360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352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172200" y="57150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0856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2608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600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91040" y="548640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Cloud"/>
          <p:cNvSpPr/>
          <p:nvPr/>
        </p:nvSpPr>
        <p:spPr>
          <a:xfrm>
            <a:off x="4343400" y="4703760"/>
            <a:ext cx="914400" cy="477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Cloud"/>
          <p:cNvSpPr/>
          <p:nvPr/>
        </p:nvSpPr>
        <p:spPr>
          <a:xfrm>
            <a:off x="5334120" y="4703760"/>
            <a:ext cx="914400" cy="477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4"/>
            <a:endCxn id="961" idx="0"/>
          </p:cNvCxnSpPr>
          <p:nvPr/>
        </p:nvCxnSpPr>
        <p:spPr>
          <a:xfrm flipH="1" rot="16200000">
            <a:off x="3986640" y="5079600"/>
            <a:ext cx="229320" cy="585000"/>
          </a:xfrm>
          <a:prstGeom prst="bentConnector3">
            <a:avLst>
              <a:gd name="adj1" fmla="val 4921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4"/>
            <a:endCxn id="958" idx="0"/>
          </p:cNvCxnSpPr>
          <p:nvPr/>
        </p:nvCxnSpPr>
        <p:spPr>
          <a:xfrm rot="5400000">
            <a:off x="4602960" y="5289120"/>
            <a:ext cx="305640" cy="89640"/>
          </a:xfrm>
          <a:prstGeom prst="bentConnector3">
            <a:avLst>
              <a:gd name="adj1" fmla="val 494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62" idx="0"/>
            <a:endCxn id="964" idx="4"/>
          </p:cNvCxnSpPr>
          <p:nvPr/>
        </p:nvCxnSpPr>
        <p:spPr>
          <a:xfrm flipH="1" flipV="1" rot="5400000">
            <a:off x="5257440" y="4952160"/>
            <a:ext cx="305640" cy="7628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9678-90AA-43CE-B2C8-65767D7BD71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ble provider Telen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verage across the region of Leuv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rox 1500 cable mod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rox 5000 us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Cable seg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3 Mbit downstream capacity ea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 Mbit upstream capacity ea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gle VLAN (flat network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24FF-D315-44EE-8C27-D2D5A54EF1B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85800" y="4848120"/>
            <a:ext cx="2362320" cy="14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2908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 (Telenet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3" name="Cloud"/>
          <p:cNvSpPr/>
          <p:nvPr/>
        </p:nvSpPr>
        <p:spPr>
          <a:xfrm>
            <a:off x="5800680" y="5486400"/>
            <a:ext cx="17524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KotNet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stCxn id="975" idx="0"/>
            <a:endCxn id="976" idx="2"/>
          </p:cNvCxnSpPr>
          <p:nvPr/>
        </p:nvCxnSpPr>
        <p:spPr>
          <a:xfrm flipV="1">
            <a:off x="1866600" y="5371920"/>
            <a:ext cx="1080" cy="3816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75" idx="3"/>
            <a:endCxn id="978" idx="1"/>
          </p:cNvCxnSpPr>
          <p:nvPr/>
        </p:nvCxnSpPr>
        <p:spPr>
          <a:xfrm>
            <a:off x="2590920" y="5943240"/>
            <a:ext cx="145800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979" name=""/>
          <p:cNvSpPr/>
          <p:nvPr/>
        </p:nvSpPr>
        <p:spPr>
          <a:xfrm>
            <a:off x="1827720" y="190512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4991040"/>
            <a:ext cx="2057400" cy="381240"/>
          </a:xfrm>
          <a:prstGeom prst="rect">
            <a:avLst/>
          </a:prstGeom>
          <a:solidFill>
            <a:srgbClr val="3333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Cable Router (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30480" y="4915080"/>
            <a:ext cx="98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05160" y="4915080"/>
            <a:ext cx="98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17640" y="4915080"/>
            <a:ext cx="98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143000" y="5753160"/>
            <a:ext cx="144792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Mbit F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48200" y="5753160"/>
            <a:ext cx="1447560" cy="38088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Mbit F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3" name=""/>
          <p:cNvCxnSpPr>
            <a:stCxn id="978" idx="3"/>
            <a:endCxn id="973" idx="4"/>
          </p:cNvCxnSpPr>
          <p:nvPr/>
        </p:nvCxnSpPr>
        <p:spPr>
          <a:xfrm>
            <a:off x="5495760" y="5943240"/>
            <a:ext cx="31032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3733920" y="1295280"/>
            <a:ext cx="99036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05400" y="1295280"/>
            <a:ext cx="5335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99160" y="1295280"/>
            <a:ext cx="53316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024520" y="2286000"/>
            <a:ext cx="7596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7" idx="2"/>
            <a:endCxn id="989" idx="6"/>
          </p:cNvCxnSpPr>
          <p:nvPr/>
        </p:nvCxnSpPr>
        <p:spPr>
          <a:xfrm rot="10800000">
            <a:off x="4266360" y="2323440"/>
            <a:ext cx="720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4824360" y="137160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991" name=""/>
          <p:cNvCxnSpPr>
            <a:stCxn id="992" idx="0"/>
            <a:endCxn id="990" idx="2"/>
          </p:cNvCxnSpPr>
          <p:nvPr/>
        </p:nvCxnSpPr>
        <p:spPr>
          <a:xfrm flipV="1">
            <a:off x="5063760" y="1766520"/>
            <a:ext cx="1080" cy="13248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4867200" y="1898640"/>
            <a:ext cx="39384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994" name="" descr=""/>
          <p:cNvPicPr/>
          <p:nvPr/>
        </p:nvPicPr>
        <p:blipFill>
          <a:blip r:embed="rId3"/>
          <a:stretch/>
        </p:blipFill>
        <p:spPr>
          <a:xfrm>
            <a:off x="5433840" y="1371600"/>
            <a:ext cx="478080" cy="395280"/>
          </a:xfrm>
          <a:prstGeom prst="rect">
            <a:avLst/>
          </a:prstGeom>
          <a:ln w="0">
            <a:noFill/>
          </a:ln>
        </p:spPr>
      </p:pic>
      <p:cxnSp>
        <p:nvCxnSpPr>
          <p:cNvPr id="995" name=""/>
          <p:cNvCxnSpPr>
            <a:stCxn id="996" idx="0"/>
            <a:endCxn id="994" idx="2"/>
          </p:cNvCxnSpPr>
          <p:nvPr/>
        </p:nvCxnSpPr>
        <p:spPr>
          <a:xfrm flipV="1">
            <a:off x="5673240" y="1766520"/>
            <a:ext cx="1080" cy="13248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997" name="" descr=""/>
          <p:cNvPicPr/>
          <p:nvPr/>
        </p:nvPicPr>
        <p:blipFill>
          <a:blip r:embed="rId4"/>
          <a:stretch/>
        </p:blipFill>
        <p:spPr>
          <a:xfrm>
            <a:off x="5477040" y="1898640"/>
            <a:ext cx="39348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998" name=""/>
          <p:cNvSpPr/>
          <p:nvPr/>
        </p:nvSpPr>
        <p:spPr>
          <a:xfrm>
            <a:off x="6443640" y="22860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34000" y="22860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0" name=""/>
          <p:cNvCxnSpPr>
            <a:stCxn id="987" idx="0"/>
            <a:endCxn id="993" idx="2"/>
          </p:cNvCxnSpPr>
          <p:nvPr/>
        </p:nvCxnSpPr>
        <p:spPr>
          <a:xfrm flipH="1" flipV="1" rot="5400000">
            <a:off x="4974480" y="215820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1" name=""/>
          <p:cNvCxnSpPr>
            <a:stCxn id="999" idx="2"/>
            <a:endCxn id="987" idx="6"/>
          </p:cNvCxnSpPr>
          <p:nvPr/>
        </p:nvCxnSpPr>
        <p:spPr>
          <a:xfrm rot="10800000">
            <a:off x="5137920" y="2323440"/>
            <a:ext cx="4579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2" name=""/>
          <p:cNvCxnSpPr>
            <a:stCxn id="998" idx="2"/>
            <a:endCxn id="999" idx="6"/>
          </p:cNvCxnSpPr>
          <p:nvPr/>
        </p:nvCxnSpPr>
        <p:spPr>
          <a:xfrm rot="10800000">
            <a:off x="5747760" y="2323440"/>
            <a:ext cx="6577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3" name=""/>
          <p:cNvCxnSpPr>
            <a:stCxn id="999" idx="0"/>
            <a:endCxn id="997" idx="2"/>
          </p:cNvCxnSpPr>
          <p:nvPr/>
        </p:nvCxnSpPr>
        <p:spPr>
          <a:xfrm flipH="1" flipV="1" rot="5400000">
            <a:off x="5583960" y="215820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04" name=""/>
          <p:cNvSpPr/>
          <p:nvPr/>
        </p:nvSpPr>
        <p:spPr>
          <a:xfrm>
            <a:off x="6024600" y="1295280"/>
            <a:ext cx="9907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91360" y="169848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16560" y="1676520"/>
            <a:ext cx="1296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4080" y="1676520"/>
            <a:ext cx="1296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2312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5320" y="180648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2788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58188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36912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75320" y="1676520"/>
            <a:ext cx="1296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5"/>
          <a:stretch/>
        </p:blipFill>
        <p:spPr>
          <a:xfrm>
            <a:off x="6284880" y="1905120"/>
            <a:ext cx="39384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015" name=""/>
          <p:cNvCxnSpPr>
            <a:stCxn id="1014" idx="0"/>
            <a:endCxn id="1005" idx="2"/>
          </p:cNvCxnSpPr>
          <p:nvPr/>
        </p:nvCxnSpPr>
        <p:spPr>
          <a:xfrm flipV="1">
            <a:off x="6481440" y="1806120"/>
            <a:ext cx="1080" cy="9936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1016" name="" descr=""/>
          <p:cNvPicPr/>
          <p:nvPr/>
        </p:nvPicPr>
        <p:blipFill>
          <a:blip r:embed="rId6"/>
          <a:stretch/>
        </p:blipFill>
        <p:spPr>
          <a:xfrm>
            <a:off x="605628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7"/>
          <a:stretch/>
        </p:blipFill>
        <p:spPr>
          <a:xfrm>
            <a:off x="628488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8"/>
          <a:stretch/>
        </p:blipFill>
        <p:spPr>
          <a:xfrm>
            <a:off x="651348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9"/>
          <a:stretch/>
        </p:blipFill>
        <p:spPr>
          <a:xfrm>
            <a:off x="6742080" y="133992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020" name=""/>
          <p:cNvCxnSpPr>
            <a:stCxn id="1006" idx="0"/>
            <a:endCxn id="1016" idx="2"/>
          </p:cNvCxnSpPr>
          <p:nvPr/>
        </p:nvCxnSpPr>
        <p:spPr>
          <a:xfrm flipV="1" rot="16200000">
            <a:off x="6172560" y="1526040"/>
            <a:ext cx="148320" cy="15300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12" idx="0"/>
            <a:endCxn id="1017" idx="2"/>
          </p:cNvCxnSpPr>
          <p:nvPr/>
        </p:nvCxnSpPr>
        <p:spPr>
          <a:xfrm flipH="1" flipV="1" rot="5400000">
            <a:off x="6312960" y="1590120"/>
            <a:ext cx="148320" cy="248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1013" idx="0"/>
            <a:endCxn id="1018" idx="2"/>
          </p:cNvCxnSpPr>
          <p:nvPr/>
        </p:nvCxnSpPr>
        <p:spPr>
          <a:xfrm flipH="1" flipV="1" rot="5400000">
            <a:off x="6480720" y="1529280"/>
            <a:ext cx="148320" cy="1468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1007" idx="0"/>
            <a:endCxn id="1019" idx="2"/>
          </p:cNvCxnSpPr>
          <p:nvPr/>
        </p:nvCxnSpPr>
        <p:spPr>
          <a:xfrm flipH="1" flipV="1" rot="5400000">
            <a:off x="6674400" y="1494360"/>
            <a:ext cx="148320" cy="2167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98" idx="0"/>
            <a:endCxn id="1014" idx="2"/>
          </p:cNvCxnSpPr>
          <p:nvPr/>
        </p:nvCxnSpPr>
        <p:spPr>
          <a:xfrm flipV="1">
            <a:off x="6481440" y="2076120"/>
            <a:ext cx="1080" cy="172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025" name=""/>
          <p:cNvSpPr/>
          <p:nvPr/>
        </p:nvSpPr>
        <p:spPr>
          <a:xfrm>
            <a:off x="7091280" y="1295280"/>
            <a:ext cx="5335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0"/>
          <a:stretch/>
        </p:blipFill>
        <p:spPr>
          <a:xfrm>
            <a:off x="7116840" y="137160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1027" name=""/>
          <p:cNvCxnSpPr>
            <a:stCxn id="1028" idx="0"/>
            <a:endCxn id="1026" idx="2"/>
          </p:cNvCxnSpPr>
          <p:nvPr/>
        </p:nvCxnSpPr>
        <p:spPr>
          <a:xfrm flipV="1">
            <a:off x="7356240" y="176652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029" name="" descr=""/>
          <p:cNvPicPr/>
          <p:nvPr/>
        </p:nvPicPr>
        <p:blipFill>
          <a:blip r:embed="rId11"/>
          <a:stretch/>
        </p:blipFill>
        <p:spPr>
          <a:xfrm>
            <a:off x="7159680" y="1898640"/>
            <a:ext cx="393480" cy="171360"/>
          </a:xfrm>
          <a:prstGeom prst="rect">
            <a:avLst/>
          </a:prstGeom>
          <a:ln w="0">
            <a:noFill/>
          </a:ln>
        </p:spPr>
      </p:pic>
      <p:cxnSp>
        <p:nvCxnSpPr>
          <p:cNvPr id="1030" name=""/>
          <p:cNvCxnSpPr>
            <a:stCxn id="1031" idx="2"/>
            <a:endCxn id="998" idx="6"/>
          </p:cNvCxnSpPr>
          <p:nvPr/>
        </p:nvCxnSpPr>
        <p:spPr>
          <a:xfrm rot="10800000">
            <a:off x="6557400" y="2323440"/>
            <a:ext cx="7243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2" name=""/>
          <p:cNvSpPr/>
          <p:nvPr/>
        </p:nvSpPr>
        <p:spPr>
          <a:xfrm>
            <a:off x="4000680" y="169848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4340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3244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84640" y="1806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23720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90840" y="1676520"/>
            <a:ext cx="1296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7844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84640" y="16765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2"/>
          <a:stretch/>
        </p:blipFill>
        <p:spPr>
          <a:xfrm>
            <a:off x="3994200" y="1905120"/>
            <a:ext cx="39348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042" name=""/>
          <p:cNvCxnSpPr>
            <a:stCxn id="1041" idx="0"/>
            <a:endCxn id="1032" idx="2"/>
          </p:cNvCxnSpPr>
          <p:nvPr/>
        </p:nvCxnSpPr>
        <p:spPr>
          <a:xfrm flipV="1">
            <a:off x="4190760" y="1806120"/>
            <a:ext cx="1080" cy="9936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1043" name="" descr=""/>
          <p:cNvPicPr/>
          <p:nvPr/>
        </p:nvPicPr>
        <p:blipFill>
          <a:blip r:embed="rId13"/>
          <a:stretch/>
        </p:blipFill>
        <p:spPr>
          <a:xfrm>
            <a:off x="376560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14"/>
          <a:stretch/>
        </p:blipFill>
        <p:spPr>
          <a:xfrm>
            <a:off x="399420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15"/>
          <a:stretch/>
        </p:blipFill>
        <p:spPr>
          <a:xfrm>
            <a:off x="4222800" y="1339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16"/>
          <a:stretch/>
        </p:blipFill>
        <p:spPr>
          <a:xfrm>
            <a:off x="4451400" y="133992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047" name=""/>
          <p:cNvCxnSpPr>
            <a:stCxn id="1033" idx="0"/>
            <a:endCxn id="1043" idx="2"/>
          </p:cNvCxnSpPr>
          <p:nvPr/>
        </p:nvCxnSpPr>
        <p:spPr>
          <a:xfrm flipV="1" rot="16200000">
            <a:off x="3881880" y="1525680"/>
            <a:ext cx="148320" cy="153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39" idx="0"/>
            <a:endCxn id="1044" idx="2"/>
          </p:cNvCxnSpPr>
          <p:nvPr/>
        </p:nvCxnSpPr>
        <p:spPr>
          <a:xfrm flipH="1" flipV="1" rot="5400000">
            <a:off x="4022280" y="1590480"/>
            <a:ext cx="148320" cy="244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40" idx="0"/>
            <a:endCxn id="1045" idx="2"/>
          </p:cNvCxnSpPr>
          <p:nvPr/>
        </p:nvCxnSpPr>
        <p:spPr>
          <a:xfrm flipH="1" flipV="1" rot="5400000">
            <a:off x="4189680" y="1529280"/>
            <a:ext cx="148320" cy="1465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4" idx="0"/>
            <a:endCxn id="1046" idx="2"/>
          </p:cNvCxnSpPr>
          <p:nvPr/>
        </p:nvCxnSpPr>
        <p:spPr>
          <a:xfrm flipH="1" flipV="1" rot="5400000">
            <a:off x="4383360" y="1494360"/>
            <a:ext cx="148320" cy="216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89" name=""/>
          <p:cNvSpPr/>
          <p:nvPr/>
        </p:nvSpPr>
        <p:spPr>
          <a:xfrm>
            <a:off x="4152960" y="22860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989" idx="0"/>
            <a:endCxn id="1041" idx="2"/>
          </p:cNvCxnSpPr>
          <p:nvPr/>
        </p:nvCxnSpPr>
        <p:spPr>
          <a:xfrm flipV="1">
            <a:off x="4190760" y="2076120"/>
            <a:ext cx="1080" cy="172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9880" y="228600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2" name=""/>
          <p:cNvCxnSpPr>
            <a:stCxn id="1029" idx="2"/>
            <a:endCxn id="1031" idx="0"/>
          </p:cNvCxnSpPr>
          <p:nvPr/>
        </p:nvCxnSpPr>
        <p:spPr>
          <a:xfrm flipH="1" rot="16200000">
            <a:off x="7268400" y="2157840"/>
            <a:ext cx="178200" cy="2160"/>
          </a:xfrm>
          <a:prstGeom prst="bentConnector3">
            <a:avLst>
              <a:gd name="adj1" fmla="val 6072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53" name=""/>
          <p:cNvCxnSpPr>
            <a:stCxn id="1031" idx="6"/>
          </p:cNvCxnSpPr>
          <p:nvPr/>
        </p:nvCxnSpPr>
        <p:spPr>
          <a:xfrm>
            <a:off x="7434360" y="2324160"/>
            <a:ext cx="1405440" cy="2160"/>
          </a:xfrm>
          <a:prstGeom prst="bentConnector3">
            <a:avLst>
              <a:gd name="adj1" fmla="val 48578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sp>
        <p:nvSpPr>
          <p:cNvPr id="1054" name=""/>
          <p:cNvSpPr/>
          <p:nvPr/>
        </p:nvSpPr>
        <p:spPr>
          <a:xfrm>
            <a:off x="3733920" y="2514600"/>
            <a:ext cx="990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05400" y="2514600"/>
            <a:ext cx="5335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99160" y="2514600"/>
            <a:ext cx="5331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024520" y="3505320"/>
            <a:ext cx="7596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7" idx="2"/>
            <a:endCxn id="1059" idx="6"/>
          </p:cNvCxnSpPr>
          <p:nvPr/>
        </p:nvCxnSpPr>
        <p:spPr>
          <a:xfrm rot="10800000">
            <a:off x="4266360" y="3542760"/>
            <a:ext cx="720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060" name="" descr=""/>
          <p:cNvPicPr/>
          <p:nvPr/>
        </p:nvPicPr>
        <p:blipFill>
          <a:blip r:embed="rId17"/>
          <a:stretch/>
        </p:blipFill>
        <p:spPr>
          <a:xfrm>
            <a:off x="4824360" y="259092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1061" name=""/>
          <p:cNvCxnSpPr>
            <a:stCxn id="1062" idx="0"/>
            <a:endCxn id="1060" idx="2"/>
          </p:cNvCxnSpPr>
          <p:nvPr/>
        </p:nvCxnSpPr>
        <p:spPr>
          <a:xfrm flipV="1">
            <a:off x="5063760" y="298584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063" name="" descr=""/>
          <p:cNvPicPr/>
          <p:nvPr/>
        </p:nvPicPr>
        <p:blipFill>
          <a:blip r:embed="rId18"/>
          <a:stretch/>
        </p:blipFill>
        <p:spPr>
          <a:xfrm>
            <a:off x="4867200" y="3117960"/>
            <a:ext cx="39384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064" name="" descr=""/>
          <p:cNvPicPr/>
          <p:nvPr/>
        </p:nvPicPr>
        <p:blipFill>
          <a:blip r:embed="rId19"/>
          <a:stretch/>
        </p:blipFill>
        <p:spPr>
          <a:xfrm>
            <a:off x="5433840" y="2590920"/>
            <a:ext cx="478080" cy="395280"/>
          </a:xfrm>
          <a:prstGeom prst="rect">
            <a:avLst/>
          </a:prstGeom>
          <a:ln w="0">
            <a:noFill/>
          </a:ln>
        </p:spPr>
      </p:pic>
      <p:cxnSp>
        <p:nvCxnSpPr>
          <p:cNvPr id="1065" name=""/>
          <p:cNvCxnSpPr>
            <a:stCxn id="1066" idx="0"/>
            <a:endCxn id="1064" idx="2"/>
          </p:cNvCxnSpPr>
          <p:nvPr/>
        </p:nvCxnSpPr>
        <p:spPr>
          <a:xfrm flipV="1">
            <a:off x="5673240" y="298584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067" name="" descr=""/>
          <p:cNvPicPr/>
          <p:nvPr/>
        </p:nvPicPr>
        <p:blipFill>
          <a:blip r:embed="rId20"/>
          <a:stretch/>
        </p:blipFill>
        <p:spPr>
          <a:xfrm>
            <a:off x="5477040" y="3117960"/>
            <a:ext cx="39348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8" name=""/>
          <p:cNvSpPr/>
          <p:nvPr/>
        </p:nvSpPr>
        <p:spPr>
          <a:xfrm>
            <a:off x="6443640" y="350532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34000" y="350532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0" name=""/>
          <p:cNvCxnSpPr>
            <a:stCxn id="1057" idx="0"/>
            <a:endCxn id="1063" idx="2"/>
          </p:cNvCxnSpPr>
          <p:nvPr/>
        </p:nvCxnSpPr>
        <p:spPr>
          <a:xfrm flipH="1" flipV="1" rot="5400000">
            <a:off x="4974480" y="337752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71" name=""/>
          <p:cNvCxnSpPr>
            <a:stCxn id="1069" idx="2"/>
            <a:endCxn id="1057" idx="6"/>
          </p:cNvCxnSpPr>
          <p:nvPr/>
        </p:nvCxnSpPr>
        <p:spPr>
          <a:xfrm rot="10800000">
            <a:off x="5137920" y="3542760"/>
            <a:ext cx="4579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72" name=""/>
          <p:cNvCxnSpPr>
            <a:stCxn id="1068" idx="2"/>
            <a:endCxn id="1069" idx="6"/>
          </p:cNvCxnSpPr>
          <p:nvPr/>
        </p:nvCxnSpPr>
        <p:spPr>
          <a:xfrm rot="10800000">
            <a:off x="5747760" y="3542760"/>
            <a:ext cx="6577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73" name=""/>
          <p:cNvCxnSpPr>
            <a:stCxn id="1069" idx="0"/>
            <a:endCxn id="1067" idx="2"/>
          </p:cNvCxnSpPr>
          <p:nvPr/>
        </p:nvCxnSpPr>
        <p:spPr>
          <a:xfrm flipH="1" flipV="1" rot="5400000">
            <a:off x="5583960" y="337752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74" name=""/>
          <p:cNvSpPr/>
          <p:nvPr/>
        </p:nvSpPr>
        <p:spPr>
          <a:xfrm>
            <a:off x="6024600" y="2514600"/>
            <a:ext cx="9907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91360" y="291780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316560" y="289548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34080" y="289548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2312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5320" y="302580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2788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58188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36912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475320" y="289548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21"/>
          <a:stretch/>
        </p:blipFill>
        <p:spPr>
          <a:xfrm>
            <a:off x="6284880" y="3124080"/>
            <a:ext cx="393840" cy="171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085" name=""/>
          <p:cNvCxnSpPr>
            <a:stCxn id="1084" idx="0"/>
            <a:endCxn id="1075" idx="2"/>
          </p:cNvCxnSpPr>
          <p:nvPr/>
        </p:nvCxnSpPr>
        <p:spPr>
          <a:xfrm flipV="1">
            <a:off x="6481440" y="3025080"/>
            <a:ext cx="1080" cy="9900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1086" name="" descr=""/>
          <p:cNvPicPr/>
          <p:nvPr/>
        </p:nvPicPr>
        <p:blipFill>
          <a:blip r:embed="rId22"/>
          <a:stretch/>
        </p:blipFill>
        <p:spPr>
          <a:xfrm>
            <a:off x="605628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3"/>
          <a:stretch/>
        </p:blipFill>
        <p:spPr>
          <a:xfrm>
            <a:off x="628488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4"/>
          <a:stretch/>
        </p:blipFill>
        <p:spPr>
          <a:xfrm>
            <a:off x="651348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25"/>
          <a:stretch/>
        </p:blipFill>
        <p:spPr>
          <a:xfrm>
            <a:off x="6742080" y="255888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090" name=""/>
          <p:cNvCxnSpPr>
            <a:stCxn id="1076" idx="0"/>
            <a:endCxn id="1086" idx="2"/>
          </p:cNvCxnSpPr>
          <p:nvPr/>
        </p:nvCxnSpPr>
        <p:spPr>
          <a:xfrm flipV="1" rot="16200000">
            <a:off x="6172560" y="2745000"/>
            <a:ext cx="148320" cy="15300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0"/>
            <a:endCxn id="1087" idx="2"/>
          </p:cNvCxnSpPr>
          <p:nvPr/>
        </p:nvCxnSpPr>
        <p:spPr>
          <a:xfrm flipH="1" flipV="1" rot="5400000">
            <a:off x="6312960" y="2809080"/>
            <a:ext cx="148320" cy="248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83" idx="0"/>
            <a:endCxn id="1088" idx="2"/>
          </p:cNvCxnSpPr>
          <p:nvPr/>
        </p:nvCxnSpPr>
        <p:spPr>
          <a:xfrm flipH="1" flipV="1" rot="5400000">
            <a:off x="6480720" y="2748240"/>
            <a:ext cx="148320" cy="1468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77" idx="0"/>
            <a:endCxn id="1089" idx="2"/>
          </p:cNvCxnSpPr>
          <p:nvPr/>
        </p:nvCxnSpPr>
        <p:spPr>
          <a:xfrm flipH="1" flipV="1" rot="5400000">
            <a:off x="6674400" y="2713320"/>
            <a:ext cx="148320" cy="2167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94" name=""/>
          <p:cNvCxnSpPr>
            <a:stCxn id="1068" idx="0"/>
            <a:endCxn id="1084" idx="2"/>
          </p:cNvCxnSpPr>
          <p:nvPr/>
        </p:nvCxnSpPr>
        <p:spPr>
          <a:xfrm flipV="1">
            <a:off x="6481440" y="3295440"/>
            <a:ext cx="1080" cy="172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095" name=""/>
          <p:cNvSpPr/>
          <p:nvPr/>
        </p:nvSpPr>
        <p:spPr>
          <a:xfrm>
            <a:off x="7091280" y="2514600"/>
            <a:ext cx="5335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26"/>
          <a:stretch/>
        </p:blipFill>
        <p:spPr>
          <a:xfrm>
            <a:off x="7116840" y="259092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1097" name=""/>
          <p:cNvCxnSpPr>
            <a:stCxn id="1098" idx="0"/>
            <a:endCxn id="1096" idx="2"/>
          </p:cNvCxnSpPr>
          <p:nvPr/>
        </p:nvCxnSpPr>
        <p:spPr>
          <a:xfrm flipV="1">
            <a:off x="7356240" y="298584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099" name="" descr=""/>
          <p:cNvPicPr/>
          <p:nvPr/>
        </p:nvPicPr>
        <p:blipFill>
          <a:blip r:embed="rId27"/>
          <a:stretch/>
        </p:blipFill>
        <p:spPr>
          <a:xfrm>
            <a:off x="7159680" y="3117960"/>
            <a:ext cx="39348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100" name=""/>
          <p:cNvCxnSpPr>
            <a:stCxn id="1101" idx="2"/>
            <a:endCxn id="1068" idx="6"/>
          </p:cNvCxnSpPr>
          <p:nvPr/>
        </p:nvCxnSpPr>
        <p:spPr>
          <a:xfrm rot="10800000">
            <a:off x="6557400" y="3542760"/>
            <a:ext cx="7243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2" name=""/>
          <p:cNvSpPr/>
          <p:nvPr/>
        </p:nvSpPr>
        <p:spPr>
          <a:xfrm>
            <a:off x="4000680" y="291780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2588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340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3244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84640" y="3025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23720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290840" y="289548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7844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84640" y="289548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28"/>
          <a:stretch/>
        </p:blipFill>
        <p:spPr>
          <a:xfrm>
            <a:off x="3994200" y="3124080"/>
            <a:ext cx="393480" cy="171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112" name=""/>
          <p:cNvCxnSpPr>
            <a:stCxn id="1111" idx="0"/>
            <a:endCxn id="1102" idx="2"/>
          </p:cNvCxnSpPr>
          <p:nvPr/>
        </p:nvCxnSpPr>
        <p:spPr>
          <a:xfrm flipV="1">
            <a:off x="4190760" y="3025080"/>
            <a:ext cx="1080" cy="99000"/>
          </a:xfrm>
          <a:prstGeom prst="bentConnector2">
            <a:avLst/>
          </a:prstGeom>
          <a:ln w="12600">
            <a:solidFill>
              <a:srgbClr val="3333cc"/>
            </a:solidFill>
            <a:miter/>
          </a:ln>
        </p:spPr>
      </p:cxnSp>
      <p:pic>
        <p:nvPicPr>
          <p:cNvPr id="1113" name="" descr=""/>
          <p:cNvPicPr/>
          <p:nvPr/>
        </p:nvPicPr>
        <p:blipFill>
          <a:blip r:embed="rId29"/>
          <a:stretch/>
        </p:blipFill>
        <p:spPr>
          <a:xfrm>
            <a:off x="376560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30"/>
          <a:stretch/>
        </p:blipFill>
        <p:spPr>
          <a:xfrm>
            <a:off x="399420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31"/>
          <a:stretch/>
        </p:blipFill>
        <p:spPr>
          <a:xfrm>
            <a:off x="4222800" y="255888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32"/>
          <a:stretch/>
        </p:blipFill>
        <p:spPr>
          <a:xfrm>
            <a:off x="4451400" y="255888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117" name=""/>
          <p:cNvCxnSpPr>
            <a:stCxn id="1103" idx="0"/>
            <a:endCxn id="1113" idx="2"/>
          </p:cNvCxnSpPr>
          <p:nvPr/>
        </p:nvCxnSpPr>
        <p:spPr>
          <a:xfrm flipV="1" rot="16200000">
            <a:off x="3881880" y="2744640"/>
            <a:ext cx="148320" cy="153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109" idx="0"/>
            <a:endCxn id="1114" idx="2"/>
          </p:cNvCxnSpPr>
          <p:nvPr/>
        </p:nvCxnSpPr>
        <p:spPr>
          <a:xfrm flipH="1" flipV="1" rot="5400000">
            <a:off x="4022280" y="2809440"/>
            <a:ext cx="148320" cy="244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9" name=""/>
          <p:cNvCxnSpPr>
            <a:stCxn id="1110" idx="0"/>
            <a:endCxn id="1115" idx="2"/>
          </p:cNvCxnSpPr>
          <p:nvPr/>
        </p:nvCxnSpPr>
        <p:spPr>
          <a:xfrm flipH="1" flipV="1" rot="5400000">
            <a:off x="4189680" y="2748240"/>
            <a:ext cx="148320" cy="1465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104" idx="0"/>
            <a:endCxn id="1116" idx="2"/>
          </p:cNvCxnSpPr>
          <p:nvPr/>
        </p:nvCxnSpPr>
        <p:spPr>
          <a:xfrm flipH="1" flipV="1" rot="5400000">
            <a:off x="4383360" y="2713320"/>
            <a:ext cx="148320" cy="216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59" name=""/>
          <p:cNvSpPr/>
          <p:nvPr/>
        </p:nvSpPr>
        <p:spPr>
          <a:xfrm>
            <a:off x="4152960" y="350532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1" name=""/>
          <p:cNvCxnSpPr>
            <a:stCxn id="1059" idx="0"/>
            <a:endCxn id="1111" idx="2"/>
          </p:cNvCxnSpPr>
          <p:nvPr/>
        </p:nvCxnSpPr>
        <p:spPr>
          <a:xfrm flipV="1">
            <a:off x="4190760" y="3295440"/>
            <a:ext cx="1080" cy="172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1" name=""/>
          <p:cNvSpPr/>
          <p:nvPr/>
        </p:nvSpPr>
        <p:spPr>
          <a:xfrm>
            <a:off x="7319880" y="350532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2" name=""/>
          <p:cNvCxnSpPr>
            <a:stCxn id="1099" idx="2"/>
            <a:endCxn id="1101" idx="0"/>
          </p:cNvCxnSpPr>
          <p:nvPr/>
        </p:nvCxnSpPr>
        <p:spPr>
          <a:xfrm flipH="1" rot="16200000">
            <a:off x="7268400" y="3377160"/>
            <a:ext cx="178200" cy="2160"/>
          </a:xfrm>
          <a:prstGeom prst="bentConnector3">
            <a:avLst>
              <a:gd name="adj1" fmla="val 6072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23" name=""/>
          <p:cNvCxnSpPr>
            <a:stCxn id="1101" idx="6"/>
          </p:cNvCxnSpPr>
          <p:nvPr/>
        </p:nvCxnSpPr>
        <p:spPr>
          <a:xfrm>
            <a:off x="7434360" y="3543480"/>
            <a:ext cx="1405440" cy="2160"/>
          </a:xfrm>
          <a:prstGeom prst="bentConnector3">
            <a:avLst>
              <a:gd name="adj1" fmla="val 48578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sp>
        <p:nvSpPr>
          <p:cNvPr id="1124" name=""/>
          <p:cNvSpPr/>
          <p:nvPr/>
        </p:nvSpPr>
        <p:spPr>
          <a:xfrm>
            <a:off x="3733920" y="3733920"/>
            <a:ext cx="990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05400" y="3733920"/>
            <a:ext cx="5335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799160" y="3733920"/>
            <a:ext cx="5331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4520" y="4724280"/>
            <a:ext cx="7596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8" name=""/>
          <p:cNvCxnSpPr>
            <a:stCxn id="1127" idx="2"/>
            <a:endCxn id="1129" idx="6"/>
          </p:cNvCxnSpPr>
          <p:nvPr/>
        </p:nvCxnSpPr>
        <p:spPr>
          <a:xfrm rot="10800000">
            <a:off x="4266360" y="4761720"/>
            <a:ext cx="720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130" name="" descr=""/>
          <p:cNvPicPr/>
          <p:nvPr/>
        </p:nvPicPr>
        <p:blipFill>
          <a:blip r:embed="rId33"/>
          <a:stretch/>
        </p:blipFill>
        <p:spPr>
          <a:xfrm>
            <a:off x="4824360" y="380988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1131" name=""/>
          <p:cNvCxnSpPr>
            <a:stCxn id="1132" idx="0"/>
            <a:endCxn id="1130" idx="2"/>
          </p:cNvCxnSpPr>
          <p:nvPr/>
        </p:nvCxnSpPr>
        <p:spPr>
          <a:xfrm flipV="1">
            <a:off x="5063760" y="420480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133" name="" descr=""/>
          <p:cNvPicPr/>
          <p:nvPr/>
        </p:nvPicPr>
        <p:blipFill>
          <a:blip r:embed="rId34"/>
          <a:stretch/>
        </p:blipFill>
        <p:spPr>
          <a:xfrm>
            <a:off x="4867200" y="4336920"/>
            <a:ext cx="393840" cy="171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134" name="" descr=""/>
          <p:cNvPicPr/>
          <p:nvPr/>
        </p:nvPicPr>
        <p:blipFill>
          <a:blip r:embed="rId35"/>
          <a:stretch/>
        </p:blipFill>
        <p:spPr>
          <a:xfrm>
            <a:off x="5433840" y="3809880"/>
            <a:ext cx="478080" cy="395280"/>
          </a:xfrm>
          <a:prstGeom prst="rect">
            <a:avLst/>
          </a:prstGeom>
          <a:ln w="0">
            <a:noFill/>
          </a:ln>
        </p:spPr>
      </p:pic>
      <p:cxnSp>
        <p:nvCxnSpPr>
          <p:cNvPr id="1135" name=""/>
          <p:cNvCxnSpPr>
            <a:stCxn id="1136" idx="0"/>
            <a:endCxn id="1134" idx="2"/>
          </p:cNvCxnSpPr>
          <p:nvPr/>
        </p:nvCxnSpPr>
        <p:spPr>
          <a:xfrm flipV="1">
            <a:off x="5673240" y="420480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137" name="" descr=""/>
          <p:cNvPicPr/>
          <p:nvPr/>
        </p:nvPicPr>
        <p:blipFill>
          <a:blip r:embed="rId36"/>
          <a:stretch/>
        </p:blipFill>
        <p:spPr>
          <a:xfrm>
            <a:off x="5477040" y="4336920"/>
            <a:ext cx="393480" cy="171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138" name=""/>
          <p:cNvSpPr/>
          <p:nvPr/>
        </p:nvSpPr>
        <p:spPr>
          <a:xfrm>
            <a:off x="6443640" y="4724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634000" y="4724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7" idx="0"/>
            <a:endCxn id="1133" idx="2"/>
          </p:cNvCxnSpPr>
          <p:nvPr/>
        </p:nvCxnSpPr>
        <p:spPr>
          <a:xfrm flipH="1" flipV="1" rot="5400000">
            <a:off x="4974480" y="459684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41" name=""/>
          <p:cNvCxnSpPr>
            <a:stCxn id="1139" idx="2"/>
            <a:endCxn id="1127" idx="6"/>
          </p:cNvCxnSpPr>
          <p:nvPr/>
        </p:nvCxnSpPr>
        <p:spPr>
          <a:xfrm rot="10800000">
            <a:off x="5137920" y="4761720"/>
            <a:ext cx="4579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42" name=""/>
          <p:cNvCxnSpPr>
            <a:stCxn id="1138" idx="2"/>
            <a:endCxn id="1139" idx="6"/>
          </p:cNvCxnSpPr>
          <p:nvPr/>
        </p:nvCxnSpPr>
        <p:spPr>
          <a:xfrm rot="10800000">
            <a:off x="5747760" y="4761720"/>
            <a:ext cx="6577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43" name=""/>
          <p:cNvCxnSpPr>
            <a:stCxn id="1139" idx="0"/>
            <a:endCxn id="1137" idx="2"/>
          </p:cNvCxnSpPr>
          <p:nvPr/>
        </p:nvCxnSpPr>
        <p:spPr>
          <a:xfrm flipH="1" flipV="1" rot="5400000">
            <a:off x="5583960" y="4596840"/>
            <a:ext cx="178200" cy="2160"/>
          </a:xfrm>
          <a:prstGeom prst="bentConnector3">
            <a:avLst>
              <a:gd name="adj1" fmla="val 3927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44" name=""/>
          <p:cNvSpPr/>
          <p:nvPr/>
        </p:nvSpPr>
        <p:spPr>
          <a:xfrm>
            <a:off x="6024600" y="3733920"/>
            <a:ext cx="9907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91360" y="413712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316560" y="411480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34080" y="411480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2312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75320" y="4245120"/>
            <a:ext cx="1296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52788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8188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6912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475320" y="411480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37"/>
          <a:stretch/>
        </p:blipFill>
        <p:spPr>
          <a:xfrm>
            <a:off x="6284880" y="4343400"/>
            <a:ext cx="39384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155" name=""/>
          <p:cNvCxnSpPr>
            <a:stCxn id="1154" idx="0"/>
            <a:endCxn id="1145" idx="2"/>
          </p:cNvCxnSpPr>
          <p:nvPr/>
        </p:nvCxnSpPr>
        <p:spPr>
          <a:xfrm flipV="1">
            <a:off x="6481440" y="4244400"/>
            <a:ext cx="1080" cy="990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156" name="" descr=""/>
          <p:cNvPicPr/>
          <p:nvPr/>
        </p:nvPicPr>
        <p:blipFill>
          <a:blip r:embed="rId38"/>
          <a:stretch/>
        </p:blipFill>
        <p:spPr>
          <a:xfrm>
            <a:off x="605628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39"/>
          <a:stretch/>
        </p:blipFill>
        <p:spPr>
          <a:xfrm>
            <a:off x="628488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40"/>
          <a:stretch/>
        </p:blipFill>
        <p:spPr>
          <a:xfrm>
            <a:off x="651348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41"/>
          <a:stretch/>
        </p:blipFill>
        <p:spPr>
          <a:xfrm>
            <a:off x="6742080" y="37782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160" name=""/>
          <p:cNvCxnSpPr>
            <a:stCxn id="1146" idx="0"/>
            <a:endCxn id="1156" idx="2"/>
          </p:cNvCxnSpPr>
          <p:nvPr/>
        </p:nvCxnSpPr>
        <p:spPr>
          <a:xfrm flipV="1" rot="16200000">
            <a:off x="6172560" y="3964320"/>
            <a:ext cx="148320" cy="15300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1" name=""/>
          <p:cNvCxnSpPr>
            <a:stCxn id="1152" idx="0"/>
            <a:endCxn id="1157" idx="2"/>
          </p:cNvCxnSpPr>
          <p:nvPr/>
        </p:nvCxnSpPr>
        <p:spPr>
          <a:xfrm flipH="1" flipV="1" rot="5400000">
            <a:off x="6312960" y="4028400"/>
            <a:ext cx="148320" cy="248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2" name=""/>
          <p:cNvCxnSpPr>
            <a:stCxn id="1153" idx="0"/>
            <a:endCxn id="1158" idx="2"/>
          </p:cNvCxnSpPr>
          <p:nvPr/>
        </p:nvCxnSpPr>
        <p:spPr>
          <a:xfrm flipH="1" flipV="1" rot="5400000">
            <a:off x="6480720" y="3967560"/>
            <a:ext cx="148320" cy="1468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47" idx="0"/>
            <a:endCxn id="1159" idx="2"/>
          </p:cNvCxnSpPr>
          <p:nvPr/>
        </p:nvCxnSpPr>
        <p:spPr>
          <a:xfrm flipH="1" flipV="1" rot="5400000">
            <a:off x="6674400" y="3932640"/>
            <a:ext cx="148320" cy="2167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38" idx="0"/>
            <a:endCxn id="1154" idx="2"/>
          </p:cNvCxnSpPr>
          <p:nvPr/>
        </p:nvCxnSpPr>
        <p:spPr>
          <a:xfrm flipV="1">
            <a:off x="6481440" y="4514040"/>
            <a:ext cx="1080" cy="1724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65" name=""/>
          <p:cNvSpPr/>
          <p:nvPr/>
        </p:nvSpPr>
        <p:spPr>
          <a:xfrm>
            <a:off x="7091280" y="3733920"/>
            <a:ext cx="5335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42"/>
          <a:stretch/>
        </p:blipFill>
        <p:spPr>
          <a:xfrm>
            <a:off x="7116840" y="3809880"/>
            <a:ext cx="477720" cy="395280"/>
          </a:xfrm>
          <a:prstGeom prst="rect">
            <a:avLst/>
          </a:prstGeom>
          <a:ln w="0">
            <a:noFill/>
          </a:ln>
        </p:spPr>
      </p:pic>
      <p:cxnSp>
        <p:nvCxnSpPr>
          <p:cNvPr id="1167" name=""/>
          <p:cNvCxnSpPr>
            <a:stCxn id="1168" idx="0"/>
            <a:endCxn id="1166" idx="2"/>
          </p:cNvCxnSpPr>
          <p:nvPr/>
        </p:nvCxnSpPr>
        <p:spPr>
          <a:xfrm flipV="1">
            <a:off x="7356240" y="4204800"/>
            <a:ext cx="1080" cy="132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169" name="" descr=""/>
          <p:cNvPicPr/>
          <p:nvPr/>
        </p:nvPicPr>
        <p:blipFill>
          <a:blip r:embed="rId43"/>
          <a:stretch/>
        </p:blipFill>
        <p:spPr>
          <a:xfrm>
            <a:off x="7159680" y="4336920"/>
            <a:ext cx="393480" cy="171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170" name=""/>
          <p:cNvCxnSpPr>
            <a:stCxn id="1171" idx="2"/>
            <a:endCxn id="1138" idx="6"/>
          </p:cNvCxnSpPr>
          <p:nvPr/>
        </p:nvCxnSpPr>
        <p:spPr>
          <a:xfrm rot="10800000">
            <a:off x="6557400" y="4761720"/>
            <a:ext cx="72432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72" name=""/>
          <p:cNvSpPr/>
          <p:nvPr/>
        </p:nvSpPr>
        <p:spPr>
          <a:xfrm>
            <a:off x="4000680" y="4137120"/>
            <a:ext cx="380880" cy="10800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2588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34340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3244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184640" y="4245120"/>
            <a:ext cx="12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3720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90840" y="4114800"/>
            <a:ext cx="129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7844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84640" y="4114800"/>
            <a:ext cx="12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44"/>
          <a:stretch/>
        </p:blipFill>
        <p:spPr>
          <a:xfrm>
            <a:off x="3994200" y="4343400"/>
            <a:ext cx="393480" cy="171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182" name=""/>
          <p:cNvCxnSpPr>
            <a:stCxn id="1181" idx="0"/>
            <a:endCxn id="1172" idx="2"/>
          </p:cNvCxnSpPr>
          <p:nvPr/>
        </p:nvCxnSpPr>
        <p:spPr>
          <a:xfrm flipV="1">
            <a:off x="4190760" y="4244400"/>
            <a:ext cx="1080" cy="990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183" name="" descr=""/>
          <p:cNvPicPr/>
          <p:nvPr/>
        </p:nvPicPr>
        <p:blipFill>
          <a:blip r:embed="rId45"/>
          <a:stretch/>
        </p:blipFill>
        <p:spPr>
          <a:xfrm>
            <a:off x="376560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/>
          <p:cNvPicPr/>
          <p:nvPr/>
        </p:nvPicPr>
        <p:blipFill>
          <a:blip r:embed="rId46"/>
          <a:stretch/>
        </p:blipFill>
        <p:spPr>
          <a:xfrm>
            <a:off x="399420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47"/>
          <a:stretch/>
        </p:blipFill>
        <p:spPr>
          <a:xfrm>
            <a:off x="4222800" y="377820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48"/>
          <a:stretch/>
        </p:blipFill>
        <p:spPr>
          <a:xfrm>
            <a:off x="4451400" y="37782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187" name=""/>
          <p:cNvCxnSpPr>
            <a:stCxn id="1173" idx="0"/>
            <a:endCxn id="1183" idx="2"/>
          </p:cNvCxnSpPr>
          <p:nvPr/>
        </p:nvCxnSpPr>
        <p:spPr>
          <a:xfrm flipV="1" rot="16200000">
            <a:off x="3881880" y="3963960"/>
            <a:ext cx="148320" cy="153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8" name=""/>
          <p:cNvCxnSpPr>
            <a:stCxn id="1179" idx="0"/>
            <a:endCxn id="1184" idx="2"/>
          </p:cNvCxnSpPr>
          <p:nvPr/>
        </p:nvCxnSpPr>
        <p:spPr>
          <a:xfrm flipH="1" flipV="1" rot="5400000">
            <a:off x="4022280" y="4028760"/>
            <a:ext cx="148320" cy="2448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9" name=""/>
          <p:cNvCxnSpPr>
            <a:stCxn id="1180" idx="0"/>
            <a:endCxn id="1185" idx="2"/>
          </p:cNvCxnSpPr>
          <p:nvPr/>
        </p:nvCxnSpPr>
        <p:spPr>
          <a:xfrm flipH="1" flipV="1" rot="5400000">
            <a:off x="4189680" y="3967560"/>
            <a:ext cx="148320" cy="14652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0" name=""/>
          <p:cNvCxnSpPr>
            <a:stCxn id="1174" idx="0"/>
            <a:endCxn id="1186" idx="2"/>
          </p:cNvCxnSpPr>
          <p:nvPr/>
        </p:nvCxnSpPr>
        <p:spPr>
          <a:xfrm flipH="1" flipV="1" rot="5400000">
            <a:off x="4383360" y="3932640"/>
            <a:ext cx="148320" cy="21636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29" name=""/>
          <p:cNvSpPr/>
          <p:nvPr/>
        </p:nvSpPr>
        <p:spPr>
          <a:xfrm>
            <a:off x="4152960" y="4724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1" name=""/>
          <p:cNvCxnSpPr>
            <a:stCxn id="1129" idx="0"/>
            <a:endCxn id="1181" idx="2"/>
          </p:cNvCxnSpPr>
          <p:nvPr/>
        </p:nvCxnSpPr>
        <p:spPr>
          <a:xfrm flipV="1">
            <a:off x="4190760" y="4514040"/>
            <a:ext cx="1080" cy="1724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71" name=""/>
          <p:cNvSpPr/>
          <p:nvPr/>
        </p:nvSpPr>
        <p:spPr>
          <a:xfrm>
            <a:off x="7319880" y="4724280"/>
            <a:ext cx="76320" cy="763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2" name=""/>
          <p:cNvCxnSpPr>
            <a:stCxn id="1169" idx="2"/>
            <a:endCxn id="1171" idx="0"/>
          </p:cNvCxnSpPr>
          <p:nvPr/>
        </p:nvCxnSpPr>
        <p:spPr>
          <a:xfrm flipH="1" rot="16200000">
            <a:off x="7268400" y="4596480"/>
            <a:ext cx="178200" cy="2160"/>
          </a:xfrm>
          <a:prstGeom prst="bentConnector3">
            <a:avLst>
              <a:gd name="adj1" fmla="val 6072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93" name=""/>
          <p:cNvCxnSpPr>
            <a:stCxn id="1171" idx="6"/>
          </p:cNvCxnSpPr>
          <p:nvPr/>
        </p:nvCxnSpPr>
        <p:spPr>
          <a:xfrm>
            <a:off x="7434360" y="4762080"/>
            <a:ext cx="1405440" cy="2520"/>
          </a:xfrm>
          <a:prstGeom prst="bentConnector3">
            <a:avLst>
              <a:gd name="adj1" fmla="val 48578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cxnSp>
        <p:nvCxnSpPr>
          <p:cNvPr id="1194" name=""/>
          <p:cNvCxnSpPr>
            <a:stCxn id="989" idx="2"/>
            <a:endCxn id="980" idx="0"/>
          </p:cNvCxnSpPr>
          <p:nvPr/>
        </p:nvCxnSpPr>
        <p:spPr>
          <a:xfrm flipV="1" rot="10800000">
            <a:off x="1279440" y="2323080"/>
            <a:ext cx="2835720" cy="2591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95" name=""/>
          <p:cNvCxnSpPr>
            <a:stCxn id="1059" idx="2"/>
            <a:endCxn id="982" idx="0"/>
          </p:cNvCxnSpPr>
          <p:nvPr/>
        </p:nvCxnSpPr>
        <p:spPr>
          <a:xfrm flipV="1" rot="10800000">
            <a:off x="1866240" y="3543120"/>
            <a:ext cx="2248560" cy="13723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96" name=""/>
          <p:cNvCxnSpPr>
            <a:stCxn id="1129" idx="2"/>
            <a:endCxn id="981" idx="0"/>
          </p:cNvCxnSpPr>
          <p:nvPr/>
        </p:nvCxnSpPr>
        <p:spPr>
          <a:xfrm flipV="1" rot="10800000">
            <a:off x="2453400" y="4762080"/>
            <a:ext cx="1661400" cy="15336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994320" y="617220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ne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52680" y="5138280"/>
            <a:ext cx="2133720" cy="337320"/>
          </a:xfrm>
          <a:prstGeom prst="borderCallout1">
            <a:avLst>
              <a:gd name="adj1" fmla="val 18750"/>
              <a:gd name="adj2" fmla="val -8333"/>
              <a:gd name="adj3" fmla="val 222597"/>
              <a:gd name="adj4" fmla="val 108027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Mbit Fla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A9B1-9936-46E4-98AF-FC89D161DFB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ble provider UPC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verage across the region of Leuven and Bruss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rox 5100 cable mod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rox 15000 us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52 Cable seg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0 Mbit downstream capacity ea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 * 10 Mbit upstream capacity ea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cable segment is a different VL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0217-90A8-4B55-A368-2A09D409CA1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: BCrouter so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dn’t find another solution that fulfills all the expec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open source projec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mmercial black boxes not really an op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t’s interesting, fun and challenging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gh performance need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ld quota/login system was maxed ou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twork usage still increas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DA98-4BE6-4EC4-A2A4-AFAA09C7D1B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1143000" y="4848120"/>
            <a:ext cx="2971800" cy="94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724280" y="2629080"/>
            <a:ext cx="76320" cy="759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 (UPC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Cloud"/>
          <p:cNvSpPr/>
          <p:nvPr/>
        </p:nvSpPr>
        <p:spPr>
          <a:xfrm>
            <a:off x="6629400" y="5029200"/>
            <a:ext cx="17524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KotNet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95280" y="4991040"/>
            <a:ext cx="2590920" cy="381240"/>
          </a:xfrm>
          <a:prstGeom prst="rect">
            <a:avLst/>
          </a:prstGeom>
          <a:solidFill>
            <a:srgbClr val="3333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Cable Head end (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600200" y="49150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235240" y="49150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17720" y="49150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733920" y="12952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532400" y="1295280"/>
            <a:ext cx="2538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241880" y="12952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9880" y="17683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3" name=""/>
          <p:cNvCxnSpPr>
            <a:stCxn id="1212" idx="2"/>
            <a:endCxn id="1214" idx="6"/>
          </p:cNvCxnSpPr>
          <p:nvPr/>
        </p:nvCxnSpPr>
        <p:spPr>
          <a:xfrm rot="10800000">
            <a:off x="3987000" y="17866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4254480" y="13320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216" name=""/>
          <p:cNvCxnSpPr>
            <a:stCxn id="1217" idx="0"/>
            <a:endCxn id="1215" idx="2"/>
          </p:cNvCxnSpPr>
          <p:nvPr/>
        </p:nvCxnSpPr>
        <p:spPr>
          <a:xfrm flipV="1">
            <a:off x="4368600" y="15206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4275000" y="1584360"/>
            <a:ext cx="18756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4546440" y="1332000"/>
            <a:ext cx="227160" cy="189000"/>
          </a:xfrm>
          <a:prstGeom prst="rect">
            <a:avLst/>
          </a:prstGeom>
          <a:ln w="0">
            <a:noFill/>
          </a:ln>
        </p:spPr>
      </p:pic>
      <p:cxnSp>
        <p:nvCxnSpPr>
          <p:cNvPr id="1220" name=""/>
          <p:cNvCxnSpPr>
            <a:stCxn id="1221" idx="0"/>
            <a:endCxn id="1219" idx="2"/>
          </p:cNvCxnSpPr>
          <p:nvPr/>
        </p:nvCxnSpPr>
        <p:spPr>
          <a:xfrm flipV="1">
            <a:off x="4660560" y="15206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2" name="" descr=""/>
          <p:cNvPicPr/>
          <p:nvPr/>
        </p:nvPicPr>
        <p:blipFill>
          <a:blip r:embed="rId4"/>
          <a:stretch/>
        </p:blipFill>
        <p:spPr>
          <a:xfrm>
            <a:off x="4565520" y="1584360"/>
            <a:ext cx="18900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23" name=""/>
          <p:cNvSpPr/>
          <p:nvPr/>
        </p:nvSpPr>
        <p:spPr>
          <a:xfrm>
            <a:off x="5027760" y="17683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41840" y="17683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5" name=""/>
          <p:cNvCxnSpPr>
            <a:stCxn id="1212" idx="0"/>
            <a:endCxn id="1218" idx="2"/>
          </p:cNvCxnSpPr>
          <p:nvPr/>
        </p:nvCxnSpPr>
        <p:spPr>
          <a:xfrm flipV="1">
            <a:off x="4368600" y="16650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26" name=""/>
          <p:cNvCxnSpPr>
            <a:stCxn id="1224" idx="2"/>
            <a:endCxn id="1212" idx="6"/>
          </p:cNvCxnSpPr>
          <p:nvPr/>
        </p:nvCxnSpPr>
        <p:spPr>
          <a:xfrm rot="10800000">
            <a:off x="4404600" y="1786680"/>
            <a:ext cx="21816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27" name=""/>
          <p:cNvCxnSpPr>
            <a:stCxn id="1223" idx="2"/>
            <a:endCxn id="1224" idx="6"/>
          </p:cNvCxnSpPr>
          <p:nvPr/>
        </p:nvCxnSpPr>
        <p:spPr>
          <a:xfrm rot="10800000">
            <a:off x="4695120" y="1786680"/>
            <a:ext cx="315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28" name=""/>
          <p:cNvCxnSpPr>
            <a:stCxn id="1224" idx="0"/>
            <a:endCxn id="1222" idx="2"/>
          </p:cNvCxnSpPr>
          <p:nvPr/>
        </p:nvCxnSpPr>
        <p:spPr>
          <a:xfrm flipV="1">
            <a:off x="4660560" y="16650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29" name=""/>
          <p:cNvSpPr/>
          <p:nvPr/>
        </p:nvSpPr>
        <p:spPr>
          <a:xfrm>
            <a:off x="4827600" y="12952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54680" y="1488960"/>
            <a:ext cx="18252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967280" y="147780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119560" y="14778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1804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43600" y="15397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6880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09436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99284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4360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952880" y="1585800"/>
            <a:ext cx="18756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240" name=""/>
          <p:cNvCxnSpPr>
            <a:stCxn id="1239" idx="0"/>
            <a:endCxn id="1230" idx="2"/>
          </p:cNvCxnSpPr>
          <p:nvPr/>
        </p:nvCxnSpPr>
        <p:spPr>
          <a:xfrm flipV="1">
            <a:off x="5046480" y="15393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41" name="" descr=""/>
          <p:cNvPicPr/>
          <p:nvPr/>
        </p:nvPicPr>
        <p:blipFill>
          <a:blip r:embed="rId6"/>
          <a:stretch/>
        </p:blipFill>
        <p:spPr>
          <a:xfrm>
            <a:off x="4843440" y="13161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7"/>
          <a:stretch/>
        </p:blipFill>
        <p:spPr>
          <a:xfrm>
            <a:off x="4952880" y="13161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8"/>
          <a:stretch/>
        </p:blipFill>
        <p:spPr>
          <a:xfrm>
            <a:off x="5060880" y="13161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9"/>
          <a:stretch/>
        </p:blipFill>
        <p:spPr>
          <a:xfrm>
            <a:off x="5170320" y="1316160"/>
            <a:ext cx="109800" cy="90360"/>
          </a:xfrm>
          <a:prstGeom prst="rect">
            <a:avLst/>
          </a:prstGeom>
          <a:ln w="0">
            <a:noFill/>
          </a:ln>
        </p:spPr>
      </p:pic>
      <p:cxnSp>
        <p:nvCxnSpPr>
          <p:cNvPr id="1245" name=""/>
          <p:cNvCxnSpPr>
            <a:stCxn id="1231" idx="0"/>
            <a:endCxn id="1241" idx="2"/>
          </p:cNvCxnSpPr>
          <p:nvPr/>
        </p:nvCxnSpPr>
        <p:spPr>
          <a:xfrm flipV="1" rot="16200000">
            <a:off x="4898520" y="1405800"/>
            <a:ext cx="72000" cy="7236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237" idx="0"/>
            <a:endCxn id="1242" idx="2"/>
          </p:cNvCxnSpPr>
          <p:nvPr/>
        </p:nvCxnSpPr>
        <p:spPr>
          <a:xfrm flipH="1" flipV="1" rot="5400000">
            <a:off x="4965120" y="14360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238" idx="0"/>
            <a:endCxn id="1243" idx="2"/>
          </p:cNvCxnSpPr>
          <p:nvPr/>
        </p:nvCxnSpPr>
        <p:spPr>
          <a:xfrm flipH="1" flipV="1" rot="5400000">
            <a:off x="5045760" y="14068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2" idx="0"/>
            <a:endCxn id="1244" idx="2"/>
          </p:cNvCxnSpPr>
          <p:nvPr/>
        </p:nvCxnSpPr>
        <p:spPr>
          <a:xfrm flipH="1" flipV="1" rot="5400000">
            <a:off x="5138280" y="13899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23" idx="0"/>
            <a:endCxn id="1239" idx="2"/>
          </p:cNvCxnSpPr>
          <p:nvPr/>
        </p:nvCxnSpPr>
        <p:spPr>
          <a:xfrm flipV="1">
            <a:off x="5046480" y="16682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50" name=""/>
          <p:cNvSpPr/>
          <p:nvPr/>
        </p:nvSpPr>
        <p:spPr>
          <a:xfrm>
            <a:off x="5337000" y="12952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0"/>
          <a:stretch/>
        </p:blipFill>
        <p:spPr>
          <a:xfrm>
            <a:off x="5349960" y="13320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252" name=""/>
          <p:cNvCxnSpPr>
            <a:stCxn id="1253" idx="0"/>
            <a:endCxn id="1251" idx="2"/>
          </p:cNvCxnSpPr>
          <p:nvPr/>
        </p:nvCxnSpPr>
        <p:spPr>
          <a:xfrm flipV="1">
            <a:off x="5463720" y="1520280"/>
            <a:ext cx="1080" cy="6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54" name="" descr=""/>
          <p:cNvPicPr/>
          <p:nvPr/>
        </p:nvPicPr>
        <p:blipFill>
          <a:blip r:embed="rId11"/>
          <a:stretch/>
        </p:blipFill>
        <p:spPr>
          <a:xfrm>
            <a:off x="5370480" y="1582560"/>
            <a:ext cx="18720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255" name=""/>
          <p:cNvCxnSpPr>
            <a:stCxn id="1256" idx="2"/>
            <a:endCxn id="1223" idx="6"/>
          </p:cNvCxnSpPr>
          <p:nvPr/>
        </p:nvCxnSpPr>
        <p:spPr>
          <a:xfrm rot="10800000">
            <a:off x="5082480" y="17866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860640" y="1488960"/>
            <a:ext cx="18288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73600" y="1477800"/>
            <a:ext cx="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02588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92436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49560" y="15397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97512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00680" y="14778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98800" y="14778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49560" y="14778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2"/>
          <a:stretch/>
        </p:blipFill>
        <p:spPr>
          <a:xfrm>
            <a:off x="3857760" y="1585800"/>
            <a:ext cx="18864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267" name=""/>
          <p:cNvCxnSpPr>
            <a:stCxn id="1266" idx="0"/>
            <a:endCxn id="1257" idx="2"/>
          </p:cNvCxnSpPr>
          <p:nvPr/>
        </p:nvCxnSpPr>
        <p:spPr>
          <a:xfrm flipV="1">
            <a:off x="3952440" y="15393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68" name="" descr=""/>
          <p:cNvPicPr/>
          <p:nvPr/>
        </p:nvPicPr>
        <p:blipFill>
          <a:blip r:embed="rId13"/>
          <a:stretch/>
        </p:blipFill>
        <p:spPr>
          <a:xfrm>
            <a:off x="3749760" y="13161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14"/>
          <a:stretch/>
        </p:blipFill>
        <p:spPr>
          <a:xfrm>
            <a:off x="3857760" y="13161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15"/>
          <a:stretch/>
        </p:blipFill>
        <p:spPr>
          <a:xfrm>
            <a:off x="3967200" y="13161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16"/>
          <a:stretch/>
        </p:blipFill>
        <p:spPr>
          <a:xfrm>
            <a:off x="4076640" y="1316160"/>
            <a:ext cx="109440" cy="90360"/>
          </a:xfrm>
          <a:prstGeom prst="rect">
            <a:avLst/>
          </a:prstGeom>
          <a:ln w="0">
            <a:noFill/>
          </a:ln>
        </p:spPr>
      </p:pic>
      <p:cxnSp>
        <p:nvCxnSpPr>
          <p:cNvPr id="1272" name=""/>
          <p:cNvCxnSpPr>
            <a:stCxn id="1258" idx="0"/>
            <a:endCxn id="1268" idx="2"/>
          </p:cNvCxnSpPr>
          <p:nvPr/>
        </p:nvCxnSpPr>
        <p:spPr>
          <a:xfrm flipV="1" rot="16200000">
            <a:off x="3804120" y="1405080"/>
            <a:ext cx="72000" cy="738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4" idx="0"/>
            <a:endCxn id="1269" idx="2"/>
          </p:cNvCxnSpPr>
          <p:nvPr/>
        </p:nvCxnSpPr>
        <p:spPr>
          <a:xfrm flipH="1" flipV="1" rot="5400000">
            <a:off x="3871440" y="14360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4" name=""/>
          <p:cNvCxnSpPr>
            <a:stCxn id="1265" idx="0"/>
            <a:endCxn id="1270" idx="2"/>
          </p:cNvCxnSpPr>
          <p:nvPr/>
        </p:nvCxnSpPr>
        <p:spPr>
          <a:xfrm flipH="1" flipV="1" rot="5400000">
            <a:off x="3951720" y="14068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59" idx="0"/>
            <a:endCxn id="1271" idx="2"/>
          </p:cNvCxnSpPr>
          <p:nvPr/>
        </p:nvCxnSpPr>
        <p:spPr>
          <a:xfrm flipH="1" flipV="1" rot="5400000">
            <a:off x="4044600" y="13899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3933720" y="1768320"/>
            <a:ext cx="3672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stCxn id="1214" idx="0"/>
            <a:endCxn id="1266" idx="2"/>
          </p:cNvCxnSpPr>
          <p:nvPr/>
        </p:nvCxnSpPr>
        <p:spPr>
          <a:xfrm flipV="1">
            <a:off x="3952440" y="16682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56" name=""/>
          <p:cNvSpPr/>
          <p:nvPr/>
        </p:nvSpPr>
        <p:spPr>
          <a:xfrm>
            <a:off x="5446800" y="17683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7" name=""/>
          <p:cNvCxnSpPr>
            <a:stCxn id="1254" idx="2"/>
            <a:endCxn id="1256" idx="0"/>
          </p:cNvCxnSpPr>
          <p:nvPr/>
        </p:nvCxnSpPr>
        <p:spPr>
          <a:xfrm flipH="1" rot="16200000">
            <a:off x="5431680" y="1696320"/>
            <a:ext cx="65520" cy="2520"/>
          </a:xfrm>
          <a:prstGeom prst="bentConnector3">
            <a:avLst>
              <a:gd name="adj1" fmla="val 7845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78" name=""/>
          <p:cNvCxnSpPr>
            <a:stCxn id="1256" idx="6"/>
          </p:cNvCxnSpPr>
          <p:nvPr/>
        </p:nvCxnSpPr>
        <p:spPr>
          <a:xfrm>
            <a:off x="5520960" y="1787040"/>
            <a:ext cx="672120" cy="1080"/>
          </a:xfrm>
          <a:prstGeom prst="bentConnector3">
            <a:avLst>
              <a:gd name="adj1" fmla="val 48553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cxnSp>
        <p:nvCxnSpPr>
          <p:cNvPr id="1279" name=""/>
          <p:cNvCxnSpPr>
            <a:stCxn id="1214" idx="2"/>
            <a:endCxn id="1206" idx="0"/>
          </p:cNvCxnSpPr>
          <p:nvPr/>
        </p:nvCxnSpPr>
        <p:spPr>
          <a:xfrm flipV="1" rot="10800000">
            <a:off x="1637640" y="1787040"/>
            <a:ext cx="2257920" cy="312840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80" name=""/>
          <p:cNvSpPr/>
          <p:nvPr/>
        </p:nvSpPr>
        <p:spPr>
          <a:xfrm>
            <a:off x="1869840" y="57150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733920" y="1905120"/>
            <a:ext cx="47304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32400" y="1905120"/>
            <a:ext cx="2538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41880" y="1905120"/>
            <a:ext cx="255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349880" y="2378160"/>
            <a:ext cx="36360" cy="363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5" name=""/>
          <p:cNvCxnSpPr>
            <a:stCxn id="1284" idx="2"/>
            <a:endCxn id="1286" idx="6"/>
          </p:cNvCxnSpPr>
          <p:nvPr/>
        </p:nvCxnSpPr>
        <p:spPr>
          <a:xfrm rot="10800000">
            <a:off x="3987000" y="239652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287" name="" descr=""/>
          <p:cNvPicPr/>
          <p:nvPr/>
        </p:nvPicPr>
        <p:blipFill>
          <a:blip r:embed="rId17"/>
          <a:stretch/>
        </p:blipFill>
        <p:spPr>
          <a:xfrm>
            <a:off x="4254480" y="194148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288" name=""/>
          <p:cNvCxnSpPr>
            <a:stCxn id="1289" idx="0"/>
            <a:endCxn id="1287" idx="2"/>
          </p:cNvCxnSpPr>
          <p:nvPr/>
        </p:nvCxnSpPr>
        <p:spPr>
          <a:xfrm flipV="1">
            <a:off x="4368600" y="213012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90" name="" descr=""/>
          <p:cNvPicPr/>
          <p:nvPr/>
        </p:nvPicPr>
        <p:blipFill>
          <a:blip r:embed="rId18"/>
          <a:stretch/>
        </p:blipFill>
        <p:spPr>
          <a:xfrm>
            <a:off x="4275000" y="2193840"/>
            <a:ext cx="18756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91" name="" descr=""/>
          <p:cNvPicPr/>
          <p:nvPr/>
        </p:nvPicPr>
        <p:blipFill>
          <a:blip r:embed="rId19"/>
          <a:stretch/>
        </p:blipFill>
        <p:spPr>
          <a:xfrm>
            <a:off x="4546440" y="1941480"/>
            <a:ext cx="227160" cy="189000"/>
          </a:xfrm>
          <a:prstGeom prst="rect">
            <a:avLst/>
          </a:prstGeom>
          <a:ln w="0">
            <a:noFill/>
          </a:ln>
        </p:spPr>
      </p:pic>
      <p:cxnSp>
        <p:nvCxnSpPr>
          <p:cNvPr id="1292" name=""/>
          <p:cNvCxnSpPr>
            <a:stCxn id="1293" idx="0"/>
            <a:endCxn id="1291" idx="2"/>
          </p:cNvCxnSpPr>
          <p:nvPr/>
        </p:nvCxnSpPr>
        <p:spPr>
          <a:xfrm flipV="1">
            <a:off x="4660560" y="213012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94" name="" descr=""/>
          <p:cNvPicPr/>
          <p:nvPr/>
        </p:nvPicPr>
        <p:blipFill>
          <a:blip r:embed="rId20"/>
          <a:stretch/>
        </p:blipFill>
        <p:spPr>
          <a:xfrm>
            <a:off x="4565520" y="2193840"/>
            <a:ext cx="18900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95" name=""/>
          <p:cNvSpPr/>
          <p:nvPr/>
        </p:nvSpPr>
        <p:spPr>
          <a:xfrm>
            <a:off x="5027760" y="2378160"/>
            <a:ext cx="36360" cy="363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1840" y="2378160"/>
            <a:ext cx="36360" cy="363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7" name=""/>
          <p:cNvCxnSpPr>
            <a:stCxn id="1284" idx="0"/>
            <a:endCxn id="1290" idx="2"/>
          </p:cNvCxnSpPr>
          <p:nvPr/>
        </p:nvCxnSpPr>
        <p:spPr>
          <a:xfrm flipV="1">
            <a:off x="4368600" y="227448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98" name=""/>
          <p:cNvCxnSpPr>
            <a:stCxn id="1296" idx="2"/>
            <a:endCxn id="1284" idx="6"/>
          </p:cNvCxnSpPr>
          <p:nvPr/>
        </p:nvCxnSpPr>
        <p:spPr>
          <a:xfrm rot="10800000">
            <a:off x="4404600" y="2396520"/>
            <a:ext cx="21816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299" name=""/>
          <p:cNvCxnSpPr>
            <a:stCxn id="1295" idx="2"/>
            <a:endCxn id="1296" idx="6"/>
          </p:cNvCxnSpPr>
          <p:nvPr/>
        </p:nvCxnSpPr>
        <p:spPr>
          <a:xfrm rot="10800000">
            <a:off x="4695120" y="2396520"/>
            <a:ext cx="315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00" name=""/>
          <p:cNvCxnSpPr>
            <a:stCxn id="1296" idx="0"/>
            <a:endCxn id="1294" idx="2"/>
          </p:cNvCxnSpPr>
          <p:nvPr/>
        </p:nvCxnSpPr>
        <p:spPr>
          <a:xfrm flipV="1">
            <a:off x="4660560" y="227448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4827600" y="1905120"/>
            <a:ext cx="47304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954680" y="2098800"/>
            <a:ext cx="18252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967280" y="208764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19560" y="208764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1804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043600" y="214956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06880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09436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9284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4360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21"/>
          <a:stretch/>
        </p:blipFill>
        <p:spPr>
          <a:xfrm>
            <a:off x="4952880" y="2195640"/>
            <a:ext cx="18756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312" name=""/>
          <p:cNvCxnSpPr>
            <a:stCxn id="1311" idx="0"/>
            <a:endCxn id="1302" idx="2"/>
          </p:cNvCxnSpPr>
          <p:nvPr/>
        </p:nvCxnSpPr>
        <p:spPr>
          <a:xfrm flipV="1">
            <a:off x="5046480" y="214920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13" name="" descr=""/>
          <p:cNvPicPr/>
          <p:nvPr/>
        </p:nvPicPr>
        <p:blipFill>
          <a:blip r:embed="rId22"/>
          <a:stretch/>
        </p:blipFill>
        <p:spPr>
          <a:xfrm>
            <a:off x="4843440" y="192564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23"/>
          <a:stretch/>
        </p:blipFill>
        <p:spPr>
          <a:xfrm>
            <a:off x="4952880" y="192564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24"/>
          <a:stretch/>
        </p:blipFill>
        <p:spPr>
          <a:xfrm>
            <a:off x="5060880" y="192564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25"/>
          <a:stretch/>
        </p:blipFill>
        <p:spPr>
          <a:xfrm>
            <a:off x="5170320" y="1925640"/>
            <a:ext cx="109800" cy="90360"/>
          </a:xfrm>
          <a:prstGeom prst="rect">
            <a:avLst/>
          </a:prstGeom>
          <a:ln w="0">
            <a:noFill/>
          </a:ln>
        </p:spPr>
      </p:pic>
      <p:cxnSp>
        <p:nvCxnSpPr>
          <p:cNvPr id="1317" name=""/>
          <p:cNvCxnSpPr>
            <a:stCxn id="1303" idx="0"/>
            <a:endCxn id="1313" idx="2"/>
          </p:cNvCxnSpPr>
          <p:nvPr/>
        </p:nvCxnSpPr>
        <p:spPr>
          <a:xfrm flipV="1" rot="16200000">
            <a:off x="4898160" y="2015280"/>
            <a:ext cx="72360" cy="7236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09" idx="0"/>
            <a:endCxn id="1314" idx="2"/>
          </p:cNvCxnSpPr>
          <p:nvPr/>
        </p:nvCxnSpPr>
        <p:spPr>
          <a:xfrm flipH="1" flipV="1" rot="5400000">
            <a:off x="4965120" y="2045520"/>
            <a:ext cx="72360" cy="1188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0" idx="0"/>
            <a:endCxn id="1315" idx="2"/>
          </p:cNvCxnSpPr>
          <p:nvPr/>
        </p:nvCxnSpPr>
        <p:spPr>
          <a:xfrm flipH="1" flipV="1" rot="5400000">
            <a:off x="5045760" y="2016360"/>
            <a:ext cx="72360" cy="7020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04" idx="0"/>
            <a:endCxn id="1316" idx="2"/>
          </p:cNvCxnSpPr>
          <p:nvPr/>
        </p:nvCxnSpPr>
        <p:spPr>
          <a:xfrm flipH="1" flipV="1" rot="5400000">
            <a:off x="5138280" y="1999440"/>
            <a:ext cx="72360" cy="10404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295" idx="0"/>
            <a:endCxn id="1311" idx="2"/>
          </p:cNvCxnSpPr>
          <p:nvPr/>
        </p:nvCxnSpPr>
        <p:spPr>
          <a:xfrm flipV="1">
            <a:off x="5046480" y="227772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22" name=""/>
          <p:cNvSpPr/>
          <p:nvPr/>
        </p:nvSpPr>
        <p:spPr>
          <a:xfrm>
            <a:off x="5337000" y="1905120"/>
            <a:ext cx="255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26"/>
          <a:stretch/>
        </p:blipFill>
        <p:spPr>
          <a:xfrm>
            <a:off x="5349960" y="194148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24" name=""/>
          <p:cNvCxnSpPr>
            <a:stCxn id="1325" idx="0"/>
            <a:endCxn id="1323" idx="2"/>
          </p:cNvCxnSpPr>
          <p:nvPr/>
        </p:nvCxnSpPr>
        <p:spPr>
          <a:xfrm flipV="1">
            <a:off x="5463720" y="2130120"/>
            <a:ext cx="1080" cy="62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26" name="" descr=""/>
          <p:cNvPicPr/>
          <p:nvPr/>
        </p:nvPicPr>
        <p:blipFill>
          <a:blip r:embed="rId27"/>
          <a:stretch/>
        </p:blipFill>
        <p:spPr>
          <a:xfrm>
            <a:off x="5370480" y="2192400"/>
            <a:ext cx="18720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327" name=""/>
          <p:cNvCxnSpPr>
            <a:stCxn id="1328" idx="2"/>
            <a:endCxn id="1295" idx="6"/>
          </p:cNvCxnSpPr>
          <p:nvPr/>
        </p:nvCxnSpPr>
        <p:spPr>
          <a:xfrm rot="10800000">
            <a:off x="5082480" y="239652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29" name=""/>
          <p:cNvSpPr/>
          <p:nvPr/>
        </p:nvSpPr>
        <p:spPr>
          <a:xfrm>
            <a:off x="3860640" y="2098800"/>
            <a:ext cx="18288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73600" y="2087640"/>
            <a:ext cx="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2588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92436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49560" y="214956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7512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000680" y="20876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98800" y="208764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49560" y="208764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8"/>
          <a:stretch/>
        </p:blipFill>
        <p:spPr>
          <a:xfrm>
            <a:off x="3857760" y="2195640"/>
            <a:ext cx="18864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339" name=""/>
          <p:cNvCxnSpPr>
            <a:stCxn id="1338" idx="0"/>
            <a:endCxn id="1329" idx="2"/>
          </p:cNvCxnSpPr>
          <p:nvPr/>
        </p:nvCxnSpPr>
        <p:spPr>
          <a:xfrm flipV="1">
            <a:off x="3952440" y="214920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40" name="" descr=""/>
          <p:cNvPicPr/>
          <p:nvPr/>
        </p:nvPicPr>
        <p:blipFill>
          <a:blip r:embed="rId29"/>
          <a:stretch/>
        </p:blipFill>
        <p:spPr>
          <a:xfrm>
            <a:off x="3749760" y="192564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30"/>
          <a:stretch/>
        </p:blipFill>
        <p:spPr>
          <a:xfrm>
            <a:off x="3857760" y="192564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1"/>
          <a:stretch/>
        </p:blipFill>
        <p:spPr>
          <a:xfrm>
            <a:off x="3967200" y="192564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32"/>
          <a:stretch/>
        </p:blipFill>
        <p:spPr>
          <a:xfrm>
            <a:off x="4076640" y="1925640"/>
            <a:ext cx="109440" cy="90360"/>
          </a:xfrm>
          <a:prstGeom prst="rect">
            <a:avLst/>
          </a:prstGeom>
          <a:ln w="0">
            <a:noFill/>
          </a:ln>
        </p:spPr>
      </p:pic>
      <p:cxnSp>
        <p:nvCxnSpPr>
          <p:cNvPr id="1344" name=""/>
          <p:cNvCxnSpPr>
            <a:stCxn id="1330" idx="0"/>
            <a:endCxn id="1340" idx="2"/>
          </p:cNvCxnSpPr>
          <p:nvPr/>
        </p:nvCxnSpPr>
        <p:spPr>
          <a:xfrm flipV="1" rot="16200000">
            <a:off x="3803760" y="2014560"/>
            <a:ext cx="72360" cy="7380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5" name=""/>
          <p:cNvCxnSpPr>
            <a:stCxn id="1336" idx="0"/>
            <a:endCxn id="1341" idx="2"/>
          </p:cNvCxnSpPr>
          <p:nvPr/>
        </p:nvCxnSpPr>
        <p:spPr>
          <a:xfrm flipH="1" flipV="1" rot="5400000">
            <a:off x="3871440" y="2045520"/>
            <a:ext cx="72360" cy="1188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6" name=""/>
          <p:cNvCxnSpPr>
            <a:stCxn id="1337" idx="0"/>
            <a:endCxn id="1342" idx="2"/>
          </p:cNvCxnSpPr>
          <p:nvPr/>
        </p:nvCxnSpPr>
        <p:spPr>
          <a:xfrm flipH="1" flipV="1" rot="5400000">
            <a:off x="3951720" y="2016360"/>
            <a:ext cx="72360" cy="7020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1" idx="0"/>
            <a:endCxn id="1343" idx="2"/>
          </p:cNvCxnSpPr>
          <p:nvPr/>
        </p:nvCxnSpPr>
        <p:spPr>
          <a:xfrm flipH="1" flipV="1" rot="5400000">
            <a:off x="4044600" y="1999440"/>
            <a:ext cx="72360" cy="104040"/>
          </a:xfrm>
          <a:prstGeom prst="bentConnector3">
            <a:avLst>
              <a:gd name="adj1" fmla="val 51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286" name=""/>
          <p:cNvSpPr/>
          <p:nvPr/>
        </p:nvSpPr>
        <p:spPr>
          <a:xfrm>
            <a:off x="3933720" y="2378160"/>
            <a:ext cx="36720" cy="363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8" name=""/>
          <p:cNvCxnSpPr>
            <a:stCxn id="1286" idx="0"/>
            <a:endCxn id="1338" idx="2"/>
          </p:cNvCxnSpPr>
          <p:nvPr/>
        </p:nvCxnSpPr>
        <p:spPr>
          <a:xfrm flipV="1">
            <a:off x="3952440" y="227772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5446800" y="2378160"/>
            <a:ext cx="36360" cy="363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9" name=""/>
          <p:cNvCxnSpPr>
            <a:stCxn id="1326" idx="2"/>
            <a:endCxn id="1328" idx="0"/>
          </p:cNvCxnSpPr>
          <p:nvPr/>
        </p:nvCxnSpPr>
        <p:spPr>
          <a:xfrm flipH="1" rot="16200000">
            <a:off x="5431680" y="2305800"/>
            <a:ext cx="65520" cy="2520"/>
          </a:xfrm>
          <a:prstGeom prst="bentConnector3">
            <a:avLst>
              <a:gd name="adj1" fmla="val 7845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50" name=""/>
          <p:cNvCxnSpPr>
            <a:stCxn id="1328" idx="6"/>
          </p:cNvCxnSpPr>
          <p:nvPr/>
        </p:nvCxnSpPr>
        <p:spPr>
          <a:xfrm>
            <a:off x="5520960" y="2396880"/>
            <a:ext cx="672120" cy="1080"/>
          </a:xfrm>
          <a:prstGeom prst="bentConnector3">
            <a:avLst>
              <a:gd name="adj1" fmla="val 48553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sp>
        <p:nvSpPr>
          <p:cNvPr id="1351" name=""/>
          <p:cNvSpPr/>
          <p:nvPr/>
        </p:nvSpPr>
        <p:spPr>
          <a:xfrm>
            <a:off x="3200400" y="6100200"/>
            <a:ext cx="3124080" cy="337320"/>
          </a:xfrm>
          <a:prstGeom prst="borderCallout1">
            <a:avLst>
              <a:gd name="adj1" fmla="val 18750"/>
              <a:gd name="adj2" fmla="val -8333"/>
              <a:gd name="adj3" fmla="val -158421"/>
              <a:gd name="adj4" fmla="val 106092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802.1Q VLAN 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733920" y="2514600"/>
            <a:ext cx="47304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32400" y="2514600"/>
            <a:ext cx="2538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241880" y="2514600"/>
            <a:ext cx="255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349880" y="298764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6" name=""/>
          <p:cNvCxnSpPr>
            <a:stCxn id="1355" idx="2"/>
            <a:endCxn id="1357" idx="6"/>
          </p:cNvCxnSpPr>
          <p:nvPr/>
        </p:nvCxnSpPr>
        <p:spPr>
          <a:xfrm rot="10800000">
            <a:off x="3987000" y="300600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358" name="" descr=""/>
          <p:cNvPicPr/>
          <p:nvPr/>
        </p:nvPicPr>
        <p:blipFill>
          <a:blip r:embed="rId33"/>
          <a:stretch/>
        </p:blipFill>
        <p:spPr>
          <a:xfrm>
            <a:off x="4254480" y="255096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59" name=""/>
          <p:cNvCxnSpPr>
            <a:stCxn id="1360" idx="0"/>
            <a:endCxn id="1358" idx="2"/>
          </p:cNvCxnSpPr>
          <p:nvPr/>
        </p:nvCxnSpPr>
        <p:spPr>
          <a:xfrm flipV="1">
            <a:off x="4368600" y="2739240"/>
            <a:ext cx="1080" cy="64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61" name="" descr=""/>
          <p:cNvPicPr/>
          <p:nvPr/>
        </p:nvPicPr>
        <p:blipFill>
          <a:blip r:embed="rId34"/>
          <a:stretch/>
        </p:blipFill>
        <p:spPr>
          <a:xfrm>
            <a:off x="4275000" y="2803680"/>
            <a:ext cx="187560" cy="80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362" name="" descr=""/>
          <p:cNvPicPr/>
          <p:nvPr/>
        </p:nvPicPr>
        <p:blipFill>
          <a:blip r:embed="rId35"/>
          <a:stretch/>
        </p:blipFill>
        <p:spPr>
          <a:xfrm>
            <a:off x="4546440" y="2550960"/>
            <a:ext cx="22716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63" name=""/>
          <p:cNvCxnSpPr>
            <a:stCxn id="1364" idx="0"/>
            <a:endCxn id="1362" idx="2"/>
          </p:cNvCxnSpPr>
          <p:nvPr/>
        </p:nvCxnSpPr>
        <p:spPr>
          <a:xfrm flipV="1">
            <a:off x="4660560" y="2739240"/>
            <a:ext cx="1080" cy="64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65" name="" descr=""/>
          <p:cNvPicPr/>
          <p:nvPr/>
        </p:nvPicPr>
        <p:blipFill>
          <a:blip r:embed="rId36"/>
          <a:stretch/>
        </p:blipFill>
        <p:spPr>
          <a:xfrm>
            <a:off x="4565520" y="2803680"/>
            <a:ext cx="189000" cy="80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366" name=""/>
          <p:cNvSpPr/>
          <p:nvPr/>
        </p:nvSpPr>
        <p:spPr>
          <a:xfrm>
            <a:off x="5027760" y="298764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641840" y="298764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8" name=""/>
          <p:cNvCxnSpPr>
            <a:stCxn id="1355" idx="0"/>
            <a:endCxn id="1361" idx="2"/>
          </p:cNvCxnSpPr>
          <p:nvPr/>
        </p:nvCxnSpPr>
        <p:spPr>
          <a:xfrm flipV="1">
            <a:off x="4368600" y="288396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69" name=""/>
          <p:cNvCxnSpPr>
            <a:stCxn id="1367" idx="2"/>
            <a:endCxn id="1355" idx="6"/>
          </p:cNvCxnSpPr>
          <p:nvPr/>
        </p:nvCxnSpPr>
        <p:spPr>
          <a:xfrm rot="10800000">
            <a:off x="4404600" y="3006000"/>
            <a:ext cx="21816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70" name=""/>
          <p:cNvCxnSpPr>
            <a:stCxn id="1366" idx="2"/>
            <a:endCxn id="1367" idx="6"/>
          </p:cNvCxnSpPr>
          <p:nvPr/>
        </p:nvCxnSpPr>
        <p:spPr>
          <a:xfrm rot="10800000">
            <a:off x="4695120" y="3006000"/>
            <a:ext cx="315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71" name=""/>
          <p:cNvCxnSpPr>
            <a:stCxn id="1367" idx="0"/>
            <a:endCxn id="1365" idx="2"/>
          </p:cNvCxnSpPr>
          <p:nvPr/>
        </p:nvCxnSpPr>
        <p:spPr>
          <a:xfrm flipV="1">
            <a:off x="4660560" y="288396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72" name=""/>
          <p:cNvSpPr/>
          <p:nvPr/>
        </p:nvSpPr>
        <p:spPr>
          <a:xfrm>
            <a:off x="4827600" y="2514600"/>
            <a:ext cx="47304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54680" y="2708280"/>
            <a:ext cx="18252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67280" y="269712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119560" y="26971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01804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43600" y="275904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06880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9436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9284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4360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37"/>
          <a:stretch/>
        </p:blipFill>
        <p:spPr>
          <a:xfrm>
            <a:off x="4952880" y="2805120"/>
            <a:ext cx="18756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383" name=""/>
          <p:cNvCxnSpPr>
            <a:stCxn id="1382" idx="0"/>
            <a:endCxn id="1373" idx="2"/>
          </p:cNvCxnSpPr>
          <p:nvPr/>
        </p:nvCxnSpPr>
        <p:spPr>
          <a:xfrm flipV="1">
            <a:off x="5046480" y="275868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84" name="" descr=""/>
          <p:cNvPicPr/>
          <p:nvPr/>
        </p:nvPicPr>
        <p:blipFill>
          <a:blip r:embed="rId38"/>
          <a:stretch/>
        </p:blipFill>
        <p:spPr>
          <a:xfrm>
            <a:off x="4843440" y="2535120"/>
            <a:ext cx="109440" cy="9072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39"/>
          <a:stretch/>
        </p:blipFill>
        <p:spPr>
          <a:xfrm>
            <a:off x="4952880" y="2535120"/>
            <a:ext cx="108000" cy="9072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40"/>
          <a:stretch/>
        </p:blipFill>
        <p:spPr>
          <a:xfrm>
            <a:off x="5060880" y="2535120"/>
            <a:ext cx="109440" cy="9072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41"/>
          <a:stretch/>
        </p:blipFill>
        <p:spPr>
          <a:xfrm>
            <a:off x="5170320" y="2535120"/>
            <a:ext cx="109800" cy="90720"/>
          </a:xfrm>
          <a:prstGeom prst="rect">
            <a:avLst/>
          </a:prstGeom>
          <a:ln w="0">
            <a:noFill/>
          </a:ln>
        </p:spPr>
      </p:pic>
      <p:cxnSp>
        <p:nvCxnSpPr>
          <p:cNvPr id="1388" name=""/>
          <p:cNvCxnSpPr>
            <a:stCxn id="1374" idx="0"/>
            <a:endCxn id="1384" idx="2"/>
          </p:cNvCxnSpPr>
          <p:nvPr/>
        </p:nvCxnSpPr>
        <p:spPr>
          <a:xfrm flipV="1" rot="16200000">
            <a:off x="4898520" y="2625120"/>
            <a:ext cx="72000" cy="7236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9" name=""/>
          <p:cNvCxnSpPr>
            <a:stCxn id="1380" idx="0"/>
            <a:endCxn id="1385" idx="2"/>
          </p:cNvCxnSpPr>
          <p:nvPr/>
        </p:nvCxnSpPr>
        <p:spPr>
          <a:xfrm flipH="1" flipV="1" rot="5400000">
            <a:off x="4965120" y="265536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0" name=""/>
          <p:cNvCxnSpPr>
            <a:stCxn id="1381" idx="0"/>
            <a:endCxn id="1386" idx="2"/>
          </p:cNvCxnSpPr>
          <p:nvPr/>
        </p:nvCxnSpPr>
        <p:spPr>
          <a:xfrm flipH="1" flipV="1" rot="5400000">
            <a:off x="5045760" y="262620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1" name=""/>
          <p:cNvCxnSpPr>
            <a:stCxn id="1375" idx="0"/>
            <a:endCxn id="1387" idx="2"/>
          </p:cNvCxnSpPr>
          <p:nvPr/>
        </p:nvCxnSpPr>
        <p:spPr>
          <a:xfrm flipH="1" flipV="1" rot="5400000">
            <a:off x="5138280" y="260928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66" idx="0"/>
            <a:endCxn id="1382" idx="2"/>
          </p:cNvCxnSpPr>
          <p:nvPr/>
        </p:nvCxnSpPr>
        <p:spPr>
          <a:xfrm flipV="1">
            <a:off x="5046480" y="288720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93" name=""/>
          <p:cNvSpPr/>
          <p:nvPr/>
        </p:nvSpPr>
        <p:spPr>
          <a:xfrm>
            <a:off x="5337000" y="2514600"/>
            <a:ext cx="255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2"/>
          <a:stretch/>
        </p:blipFill>
        <p:spPr>
          <a:xfrm>
            <a:off x="5349960" y="255096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95" name=""/>
          <p:cNvCxnSpPr>
            <a:stCxn id="1396" idx="0"/>
            <a:endCxn id="1394" idx="2"/>
          </p:cNvCxnSpPr>
          <p:nvPr/>
        </p:nvCxnSpPr>
        <p:spPr>
          <a:xfrm flipV="1">
            <a:off x="5463720" y="2739600"/>
            <a:ext cx="1080" cy="62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397" name="" descr=""/>
          <p:cNvPicPr/>
          <p:nvPr/>
        </p:nvPicPr>
        <p:blipFill>
          <a:blip r:embed="rId43"/>
          <a:stretch/>
        </p:blipFill>
        <p:spPr>
          <a:xfrm>
            <a:off x="5370480" y="2801880"/>
            <a:ext cx="18720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398" name=""/>
          <p:cNvCxnSpPr>
            <a:stCxn id="1399" idx="2"/>
            <a:endCxn id="1366" idx="6"/>
          </p:cNvCxnSpPr>
          <p:nvPr/>
        </p:nvCxnSpPr>
        <p:spPr>
          <a:xfrm rot="10800000">
            <a:off x="5082480" y="300600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860640" y="2708280"/>
            <a:ext cx="18288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73600" y="2697120"/>
            <a:ext cx="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2588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92436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49560" y="275904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97512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000680" y="26971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898800" y="26971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49560" y="26971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4"/>
          <a:stretch/>
        </p:blipFill>
        <p:spPr>
          <a:xfrm>
            <a:off x="3857760" y="2805120"/>
            <a:ext cx="188640" cy="8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410" name=""/>
          <p:cNvCxnSpPr>
            <a:stCxn id="1409" idx="0"/>
            <a:endCxn id="1400" idx="2"/>
          </p:cNvCxnSpPr>
          <p:nvPr/>
        </p:nvCxnSpPr>
        <p:spPr>
          <a:xfrm flipV="1">
            <a:off x="3952440" y="275868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11" name="" descr=""/>
          <p:cNvPicPr/>
          <p:nvPr/>
        </p:nvPicPr>
        <p:blipFill>
          <a:blip r:embed="rId45"/>
          <a:stretch/>
        </p:blipFill>
        <p:spPr>
          <a:xfrm>
            <a:off x="3749760" y="2535120"/>
            <a:ext cx="108000" cy="9072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46"/>
          <a:stretch/>
        </p:blipFill>
        <p:spPr>
          <a:xfrm>
            <a:off x="3857760" y="2535120"/>
            <a:ext cx="109440" cy="9072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/>
          <p:cNvPicPr/>
          <p:nvPr/>
        </p:nvPicPr>
        <p:blipFill>
          <a:blip r:embed="rId47"/>
          <a:stretch/>
        </p:blipFill>
        <p:spPr>
          <a:xfrm>
            <a:off x="3967200" y="2535120"/>
            <a:ext cx="109440" cy="907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8"/>
          <a:stretch/>
        </p:blipFill>
        <p:spPr>
          <a:xfrm>
            <a:off x="4076640" y="2535120"/>
            <a:ext cx="109440" cy="90720"/>
          </a:xfrm>
          <a:prstGeom prst="rect">
            <a:avLst/>
          </a:prstGeom>
          <a:ln w="0">
            <a:noFill/>
          </a:ln>
        </p:spPr>
      </p:pic>
      <p:cxnSp>
        <p:nvCxnSpPr>
          <p:cNvPr id="1415" name=""/>
          <p:cNvCxnSpPr>
            <a:stCxn id="1401" idx="0"/>
            <a:endCxn id="1411" idx="2"/>
          </p:cNvCxnSpPr>
          <p:nvPr/>
        </p:nvCxnSpPr>
        <p:spPr>
          <a:xfrm flipV="1" rot="16200000">
            <a:off x="3804120" y="2624400"/>
            <a:ext cx="72000" cy="738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07" idx="0"/>
            <a:endCxn id="1412" idx="2"/>
          </p:cNvCxnSpPr>
          <p:nvPr/>
        </p:nvCxnSpPr>
        <p:spPr>
          <a:xfrm flipH="1" flipV="1" rot="5400000">
            <a:off x="3871440" y="265536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408" idx="0"/>
            <a:endCxn id="1413" idx="2"/>
          </p:cNvCxnSpPr>
          <p:nvPr/>
        </p:nvCxnSpPr>
        <p:spPr>
          <a:xfrm flipH="1" flipV="1" rot="5400000">
            <a:off x="3951720" y="262620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02" idx="0"/>
            <a:endCxn id="1414" idx="2"/>
          </p:cNvCxnSpPr>
          <p:nvPr/>
        </p:nvCxnSpPr>
        <p:spPr>
          <a:xfrm flipH="1" flipV="1" rot="5400000">
            <a:off x="4044600" y="260928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3933720" y="2987640"/>
            <a:ext cx="3672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9" name=""/>
          <p:cNvCxnSpPr>
            <a:stCxn id="1357" idx="0"/>
            <a:endCxn id="1409" idx="2"/>
          </p:cNvCxnSpPr>
          <p:nvPr/>
        </p:nvCxnSpPr>
        <p:spPr>
          <a:xfrm flipV="1">
            <a:off x="3952440" y="288720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99" name=""/>
          <p:cNvSpPr/>
          <p:nvPr/>
        </p:nvSpPr>
        <p:spPr>
          <a:xfrm>
            <a:off x="5446800" y="298764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0" name=""/>
          <p:cNvCxnSpPr>
            <a:stCxn id="1397" idx="2"/>
            <a:endCxn id="1399" idx="0"/>
          </p:cNvCxnSpPr>
          <p:nvPr/>
        </p:nvCxnSpPr>
        <p:spPr>
          <a:xfrm flipH="1" rot="16200000">
            <a:off x="5431680" y="2915280"/>
            <a:ext cx="65520" cy="2520"/>
          </a:xfrm>
          <a:prstGeom prst="bentConnector3">
            <a:avLst>
              <a:gd name="adj1" fmla="val 7845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21" name=""/>
          <p:cNvCxnSpPr>
            <a:stCxn id="1399" idx="6"/>
          </p:cNvCxnSpPr>
          <p:nvPr/>
        </p:nvCxnSpPr>
        <p:spPr>
          <a:xfrm>
            <a:off x="5520960" y="3006360"/>
            <a:ext cx="672120" cy="1080"/>
          </a:xfrm>
          <a:prstGeom prst="bentConnector3">
            <a:avLst>
              <a:gd name="adj1" fmla="val 48553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sp>
        <p:nvSpPr>
          <p:cNvPr id="1422" name=""/>
          <p:cNvSpPr/>
          <p:nvPr/>
        </p:nvSpPr>
        <p:spPr>
          <a:xfrm>
            <a:off x="2552760" y="4915080"/>
            <a:ext cx="76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70280" y="4915080"/>
            <a:ext cx="7596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87800" y="4915080"/>
            <a:ext cx="7596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505320" y="4915080"/>
            <a:ext cx="7596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6" name=""/>
          <p:cNvCxnSpPr>
            <a:stCxn id="1204" idx="4"/>
            <a:endCxn id="1205" idx="2"/>
          </p:cNvCxnSpPr>
          <p:nvPr/>
        </p:nvCxnSpPr>
        <p:spPr>
          <a:xfrm rot="10800000">
            <a:off x="2590200" y="5371560"/>
            <a:ext cx="4043880" cy="114840"/>
          </a:xfrm>
          <a:prstGeom prst="bentConnector2">
            <a:avLst/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427" name=""/>
          <p:cNvCxnSpPr>
            <a:stCxn id="1286" idx="2"/>
            <a:endCxn id="1208" idx="0"/>
          </p:cNvCxnSpPr>
          <p:nvPr/>
        </p:nvCxnSpPr>
        <p:spPr>
          <a:xfrm flipV="1" rot="10800000">
            <a:off x="1955160" y="2397240"/>
            <a:ext cx="1940400" cy="251820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28" name=""/>
          <p:cNvCxnSpPr>
            <a:stCxn id="1357" idx="2"/>
            <a:endCxn id="1207" idx="0"/>
          </p:cNvCxnSpPr>
          <p:nvPr/>
        </p:nvCxnSpPr>
        <p:spPr>
          <a:xfrm flipV="1" rot="10800000">
            <a:off x="2272680" y="3005640"/>
            <a:ext cx="1622880" cy="1909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29" name=""/>
          <p:cNvSpPr/>
          <p:nvPr/>
        </p:nvSpPr>
        <p:spPr>
          <a:xfrm>
            <a:off x="3733920" y="38098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2400" y="3809880"/>
            <a:ext cx="2538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241880" y="38098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49880" y="42829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3" name=""/>
          <p:cNvCxnSpPr>
            <a:stCxn id="1432" idx="2"/>
            <a:endCxn id="1434" idx="6"/>
          </p:cNvCxnSpPr>
          <p:nvPr/>
        </p:nvCxnSpPr>
        <p:spPr>
          <a:xfrm rot="10800000">
            <a:off x="3987000" y="43012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435" name="" descr=""/>
          <p:cNvPicPr/>
          <p:nvPr/>
        </p:nvPicPr>
        <p:blipFill>
          <a:blip r:embed="rId49"/>
          <a:stretch/>
        </p:blipFill>
        <p:spPr>
          <a:xfrm>
            <a:off x="4254480" y="38466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436" name=""/>
          <p:cNvCxnSpPr>
            <a:stCxn id="1437" idx="0"/>
            <a:endCxn id="1435" idx="2"/>
          </p:cNvCxnSpPr>
          <p:nvPr/>
        </p:nvCxnSpPr>
        <p:spPr>
          <a:xfrm flipV="1">
            <a:off x="4368600" y="40352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38" name="" descr=""/>
          <p:cNvPicPr/>
          <p:nvPr/>
        </p:nvPicPr>
        <p:blipFill>
          <a:blip r:embed="rId50"/>
          <a:stretch/>
        </p:blipFill>
        <p:spPr>
          <a:xfrm>
            <a:off x="4275000" y="4098960"/>
            <a:ext cx="18756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39" name="" descr=""/>
          <p:cNvPicPr/>
          <p:nvPr/>
        </p:nvPicPr>
        <p:blipFill>
          <a:blip r:embed="rId51"/>
          <a:stretch/>
        </p:blipFill>
        <p:spPr>
          <a:xfrm>
            <a:off x="4546440" y="3846600"/>
            <a:ext cx="227160" cy="189000"/>
          </a:xfrm>
          <a:prstGeom prst="rect">
            <a:avLst/>
          </a:prstGeom>
          <a:ln w="0">
            <a:noFill/>
          </a:ln>
        </p:spPr>
      </p:pic>
      <p:cxnSp>
        <p:nvCxnSpPr>
          <p:cNvPr id="1440" name=""/>
          <p:cNvCxnSpPr>
            <a:stCxn id="1441" idx="0"/>
            <a:endCxn id="1439" idx="2"/>
          </p:cNvCxnSpPr>
          <p:nvPr/>
        </p:nvCxnSpPr>
        <p:spPr>
          <a:xfrm flipV="1">
            <a:off x="4660560" y="40352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42" name="" descr=""/>
          <p:cNvPicPr/>
          <p:nvPr/>
        </p:nvPicPr>
        <p:blipFill>
          <a:blip r:embed="rId52"/>
          <a:stretch/>
        </p:blipFill>
        <p:spPr>
          <a:xfrm>
            <a:off x="4565520" y="4098960"/>
            <a:ext cx="18900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443" name=""/>
          <p:cNvSpPr/>
          <p:nvPr/>
        </p:nvSpPr>
        <p:spPr>
          <a:xfrm>
            <a:off x="5027760" y="42829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641840" y="42829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5" name=""/>
          <p:cNvCxnSpPr>
            <a:stCxn id="1432" idx="0"/>
            <a:endCxn id="1438" idx="2"/>
          </p:cNvCxnSpPr>
          <p:nvPr/>
        </p:nvCxnSpPr>
        <p:spPr>
          <a:xfrm flipV="1">
            <a:off x="4368600" y="41796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46" name=""/>
          <p:cNvCxnSpPr>
            <a:stCxn id="1444" idx="2"/>
            <a:endCxn id="1432" idx="6"/>
          </p:cNvCxnSpPr>
          <p:nvPr/>
        </p:nvCxnSpPr>
        <p:spPr>
          <a:xfrm rot="10800000">
            <a:off x="4404600" y="4301280"/>
            <a:ext cx="21816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47" name=""/>
          <p:cNvCxnSpPr>
            <a:stCxn id="1443" idx="2"/>
            <a:endCxn id="1444" idx="6"/>
          </p:cNvCxnSpPr>
          <p:nvPr/>
        </p:nvCxnSpPr>
        <p:spPr>
          <a:xfrm rot="10800000">
            <a:off x="4695120" y="4301280"/>
            <a:ext cx="315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48" name=""/>
          <p:cNvCxnSpPr>
            <a:stCxn id="1444" idx="0"/>
            <a:endCxn id="1442" idx="2"/>
          </p:cNvCxnSpPr>
          <p:nvPr/>
        </p:nvCxnSpPr>
        <p:spPr>
          <a:xfrm flipV="1">
            <a:off x="4660560" y="41796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49" name=""/>
          <p:cNvSpPr/>
          <p:nvPr/>
        </p:nvSpPr>
        <p:spPr>
          <a:xfrm>
            <a:off x="4827600" y="38098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54680" y="4003560"/>
            <a:ext cx="18252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967280" y="399240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19560" y="39924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01804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043600" y="40543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06880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09436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99284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04360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53"/>
          <a:stretch/>
        </p:blipFill>
        <p:spPr>
          <a:xfrm>
            <a:off x="4952880" y="4100400"/>
            <a:ext cx="18756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460" name=""/>
          <p:cNvCxnSpPr>
            <a:stCxn id="1459" idx="0"/>
            <a:endCxn id="1450" idx="2"/>
          </p:cNvCxnSpPr>
          <p:nvPr/>
        </p:nvCxnSpPr>
        <p:spPr>
          <a:xfrm flipV="1">
            <a:off x="5046480" y="40539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61" name="" descr=""/>
          <p:cNvPicPr/>
          <p:nvPr/>
        </p:nvPicPr>
        <p:blipFill>
          <a:blip r:embed="rId54"/>
          <a:stretch/>
        </p:blipFill>
        <p:spPr>
          <a:xfrm>
            <a:off x="4843440" y="38307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55"/>
          <a:stretch/>
        </p:blipFill>
        <p:spPr>
          <a:xfrm>
            <a:off x="4952880" y="38307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56"/>
          <a:stretch/>
        </p:blipFill>
        <p:spPr>
          <a:xfrm>
            <a:off x="5060880" y="38307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57"/>
          <a:stretch/>
        </p:blipFill>
        <p:spPr>
          <a:xfrm>
            <a:off x="5170320" y="3830760"/>
            <a:ext cx="109800" cy="90360"/>
          </a:xfrm>
          <a:prstGeom prst="rect">
            <a:avLst/>
          </a:prstGeom>
          <a:ln w="0">
            <a:noFill/>
          </a:ln>
        </p:spPr>
      </p:pic>
      <p:cxnSp>
        <p:nvCxnSpPr>
          <p:cNvPr id="1465" name=""/>
          <p:cNvCxnSpPr>
            <a:stCxn id="1451" idx="0"/>
            <a:endCxn id="1461" idx="2"/>
          </p:cNvCxnSpPr>
          <p:nvPr/>
        </p:nvCxnSpPr>
        <p:spPr>
          <a:xfrm flipV="1" rot="16200000">
            <a:off x="4898520" y="3920400"/>
            <a:ext cx="72000" cy="7236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6" name=""/>
          <p:cNvCxnSpPr>
            <a:stCxn id="1457" idx="0"/>
            <a:endCxn id="1462" idx="2"/>
          </p:cNvCxnSpPr>
          <p:nvPr/>
        </p:nvCxnSpPr>
        <p:spPr>
          <a:xfrm flipH="1" flipV="1" rot="5400000">
            <a:off x="4965120" y="39506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7" name=""/>
          <p:cNvCxnSpPr>
            <a:stCxn id="1458" idx="0"/>
            <a:endCxn id="1463" idx="2"/>
          </p:cNvCxnSpPr>
          <p:nvPr/>
        </p:nvCxnSpPr>
        <p:spPr>
          <a:xfrm flipH="1" flipV="1" rot="5400000">
            <a:off x="5045760" y="39214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8" name=""/>
          <p:cNvCxnSpPr>
            <a:stCxn id="1452" idx="0"/>
            <a:endCxn id="1464" idx="2"/>
          </p:cNvCxnSpPr>
          <p:nvPr/>
        </p:nvCxnSpPr>
        <p:spPr>
          <a:xfrm flipH="1" flipV="1" rot="5400000">
            <a:off x="5138280" y="39045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9" name=""/>
          <p:cNvCxnSpPr>
            <a:stCxn id="1443" idx="0"/>
            <a:endCxn id="1459" idx="2"/>
          </p:cNvCxnSpPr>
          <p:nvPr/>
        </p:nvCxnSpPr>
        <p:spPr>
          <a:xfrm flipV="1">
            <a:off x="5046480" y="41828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70" name=""/>
          <p:cNvSpPr/>
          <p:nvPr/>
        </p:nvSpPr>
        <p:spPr>
          <a:xfrm>
            <a:off x="5337000" y="38098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58"/>
          <a:stretch/>
        </p:blipFill>
        <p:spPr>
          <a:xfrm>
            <a:off x="5349960" y="38466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472" name=""/>
          <p:cNvCxnSpPr>
            <a:stCxn id="1473" idx="0"/>
            <a:endCxn id="1471" idx="2"/>
          </p:cNvCxnSpPr>
          <p:nvPr/>
        </p:nvCxnSpPr>
        <p:spPr>
          <a:xfrm flipV="1">
            <a:off x="5463720" y="4034880"/>
            <a:ext cx="1080" cy="6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74" name="" descr=""/>
          <p:cNvPicPr/>
          <p:nvPr/>
        </p:nvPicPr>
        <p:blipFill>
          <a:blip r:embed="rId59"/>
          <a:stretch/>
        </p:blipFill>
        <p:spPr>
          <a:xfrm>
            <a:off x="5370480" y="4097160"/>
            <a:ext cx="18720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475" name=""/>
          <p:cNvCxnSpPr>
            <a:stCxn id="1476" idx="2"/>
            <a:endCxn id="1443" idx="6"/>
          </p:cNvCxnSpPr>
          <p:nvPr/>
        </p:nvCxnSpPr>
        <p:spPr>
          <a:xfrm rot="10800000">
            <a:off x="5082480" y="43012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77" name=""/>
          <p:cNvSpPr/>
          <p:nvPr/>
        </p:nvSpPr>
        <p:spPr>
          <a:xfrm>
            <a:off x="3860640" y="4003560"/>
            <a:ext cx="18288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73600" y="3992400"/>
            <a:ext cx="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2436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49560" y="40543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97512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00680" y="39924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98800" y="39924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49560" y="39924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60"/>
          <a:stretch/>
        </p:blipFill>
        <p:spPr>
          <a:xfrm>
            <a:off x="3857760" y="4100400"/>
            <a:ext cx="18864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487" name=""/>
          <p:cNvCxnSpPr>
            <a:stCxn id="1486" idx="0"/>
            <a:endCxn id="1477" idx="2"/>
          </p:cNvCxnSpPr>
          <p:nvPr/>
        </p:nvCxnSpPr>
        <p:spPr>
          <a:xfrm flipV="1">
            <a:off x="3952440" y="40539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488" name="" descr=""/>
          <p:cNvPicPr/>
          <p:nvPr/>
        </p:nvPicPr>
        <p:blipFill>
          <a:blip r:embed="rId61"/>
          <a:stretch/>
        </p:blipFill>
        <p:spPr>
          <a:xfrm>
            <a:off x="3749760" y="38307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/>
          <p:cNvPicPr/>
          <p:nvPr/>
        </p:nvPicPr>
        <p:blipFill>
          <a:blip r:embed="rId62"/>
          <a:stretch/>
        </p:blipFill>
        <p:spPr>
          <a:xfrm>
            <a:off x="3857760" y="38307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63"/>
          <a:stretch/>
        </p:blipFill>
        <p:spPr>
          <a:xfrm>
            <a:off x="3967200" y="38307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491" name="" descr=""/>
          <p:cNvPicPr/>
          <p:nvPr/>
        </p:nvPicPr>
        <p:blipFill>
          <a:blip r:embed="rId64"/>
          <a:stretch/>
        </p:blipFill>
        <p:spPr>
          <a:xfrm>
            <a:off x="4076640" y="3830760"/>
            <a:ext cx="109440" cy="90360"/>
          </a:xfrm>
          <a:prstGeom prst="rect">
            <a:avLst/>
          </a:prstGeom>
          <a:ln w="0">
            <a:noFill/>
          </a:ln>
        </p:spPr>
      </p:pic>
      <p:cxnSp>
        <p:nvCxnSpPr>
          <p:cNvPr id="1492" name=""/>
          <p:cNvCxnSpPr>
            <a:stCxn id="1478" idx="0"/>
            <a:endCxn id="1488" idx="2"/>
          </p:cNvCxnSpPr>
          <p:nvPr/>
        </p:nvCxnSpPr>
        <p:spPr>
          <a:xfrm flipV="1" rot="16200000">
            <a:off x="3804120" y="3919680"/>
            <a:ext cx="72000" cy="738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93" name=""/>
          <p:cNvCxnSpPr>
            <a:stCxn id="1484" idx="0"/>
            <a:endCxn id="1489" idx="2"/>
          </p:cNvCxnSpPr>
          <p:nvPr/>
        </p:nvCxnSpPr>
        <p:spPr>
          <a:xfrm flipH="1" flipV="1" rot="5400000">
            <a:off x="3871440" y="39506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94" name=""/>
          <p:cNvCxnSpPr>
            <a:stCxn id="1485" idx="0"/>
            <a:endCxn id="1490" idx="2"/>
          </p:cNvCxnSpPr>
          <p:nvPr/>
        </p:nvCxnSpPr>
        <p:spPr>
          <a:xfrm flipH="1" flipV="1" rot="5400000">
            <a:off x="3951720" y="39214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95" name=""/>
          <p:cNvCxnSpPr>
            <a:stCxn id="1479" idx="0"/>
            <a:endCxn id="1491" idx="2"/>
          </p:cNvCxnSpPr>
          <p:nvPr/>
        </p:nvCxnSpPr>
        <p:spPr>
          <a:xfrm flipH="1" flipV="1" rot="5400000">
            <a:off x="4044600" y="39045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3933720" y="4282920"/>
            <a:ext cx="3672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6" name=""/>
          <p:cNvCxnSpPr>
            <a:stCxn id="1434" idx="0"/>
            <a:endCxn id="1486" idx="2"/>
          </p:cNvCxnSpPr>
          <p:nvPr/>
        </p:nvCxnSpPr>
        <p:spPr>
          <a:xfrm flipV="1">
            <a:off x="3952440" y="41828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476" name=""/>
          <p:cNvSpPr/>
          <p:nvPr/>
        </p:nvSpPr>
        <p:spPr>
          <a:xfrm>
            <a:off x="5446800" y="42829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stCxn id="1474" idx="2"/>
            <a:endCxn id="1476" idx="0"/>
          </p:cNvCxnSpPr>
          <p:nvPr/>
        </p:nvCxnSpPr>
        <p:spPr>
          <a:xfrm flipH="1" rot="16200000">
            <a:off x="5431680" y="4210920"/>
            <a:ext cx="65520" cy="2520"/>
          </a:xfrm>
          <a:prstGeom prst="bentConnector3">
            <a:avLst>
              <a:gd name="adj1" fmla="val 7845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98" name=""/>
          <p:cNvCxnSpPr>
            <a:stCxn id="1476" idx="6"/>
          </p:cNvCxnSpPr>
          <p:nvPr/>
        </p:nvCxnSpPr>
        <p:spPr>
          <a:xfrm>
            <a:off x="5520960" y="4301640"/>
            <a:ext cx="672120" cy="1080"/>
          </a:xfrm>
          <a:prstGeom prst="bentConnector3">
            <a:avLst>
              <a:gd name="adj1" fmla="val 48553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sp>
        <p:nvSpPr>
          <p:cNvPr id="1499" name=""/>
          <p:cNvSpPr/>
          <p:nvPr/>
        </p:nvSpPr>
        <p:spPr>
          <a:xfrm>
            <a:off x="3733920" y="31240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32400" y="3124080"/>
            <a:ext cx="2538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241880" y="31240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349880" y="35971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3" name=""/>
          <p:cNvCxnSpPr>
            <a:stCxn id="1502" idx="2"/>
            <a:endCxn id="1504" idx="6"/>
          </p:cNvCxnSpPr>
          <p:nvPr/>
        </p:nvCxnSpPr>
        <p:spPr>
          <a:xfrm rot="10800000">
            <a:off x="3987000" y="36154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505" name="" descr=""/>
          <p:cNvPicPr/>
          <p:nvPr/>
        </p:nvPicPr>
        <p:blipFill>
          <a:blip r:embed="rId65"/>
          <a:stretch/>
        </p:blipFill>
        <p:spPr>
          <a:xfrm>
            <a:off x="4254480" y="31608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506" name=""/>
          <p:cNvCxnSpPr>
            <a:stCxn id="1507" idx="0"/>
            <a:endCxn id="1505" idx="2"/>
          </p:cNvCxnSpPr>
          <p:nvPr/>
        </p:nvCxnSpPr>
        <p:spPr>
          <a:xfrm flipV="1">
            <a:off x="4368600" y="33494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508" name="" descr=""/>
          <p:cNvPicPr/>
          <p:nvPr/>
        </p:nvPicPr>
        <p:blipFill>
          <a:blip r:embed="rId66"/>
          <a:stretch/>
        </p:blipFill>
        <p:spPr>
          <a:xfrm>
            <a:off x="4275000" y="3413160"/>
            <a:ext cx="18756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509" name="" descr=""/>
          <p:cNvPicPr/>
          <p:nvPr/>
        </p:nvPicPr>
        <p:blipFill>
          <a:blip r:embed="rId67"/>
          <a:stretch/>
        </p:blipFill>
        <p:spPr>
          <a:xfrm>
            <a:off x="4546440" y="3160800"/>
            <a:ext cx="227160" cy="189000"/>
          </a:xfrm>
          <a:prstGeom prst="rect">
            <a:avLst/>
          </a:prstGeom>
          <a:ln w="0">
            <a:noFill/>
          </a:ln>
        </p:spPr>
      </p:pic>
      <p:cxnSp>
        <p:nvCxnSpPr>
          <p:cNvPr id="1510" name=""/>
          <p:cNvCxnSpPr>
            <a:stCxn id="1511" idx="0"/>
            <a:endCxn id="1509" idx="2"/>
          </p:cNvCxnSpPr>
          <p:nvPr/>
        </p:nvCxnSpPr>
        <p:spPr>
          <a:xfrm flipV="1">
            <a:off x="4660560" y="3349440"/>
            <a:ext cx="1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512" name="" descr=""/>
          <p:cNvPicPr/>
          <p:nvPr/>
        </p:nvPicPr>
        <p:blipFill>
          <a:blip r:embed="rId68"/>
          <a:stretch/>
        </p:blipFill>
        <p:spPr>
          <a:xfrm>
            <a:off x="4565520" y="3413160"/>
            <a:ext cx="189000" cy="81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513" name=""/>
          <p:cNvSpPr/>
          <p:nvPr/>
        </p:nvSpPr>
        <p:spPr>
          <a:xfrm>
            <a:off x="5027760" y="35971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641840" y="35971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5" name=""/>
          <p:cNvCxnSpPr>
            <a:stCxn id="1502" idx="0"/>
            <a:endCxn id="1508" idx="2"/>
          </p:cNvCxnSpPr>
          <p:nvPr/>
        </p:nvCxnSpPr>
        <p:spPr>
          <a:xfrm flipV="1">
            <a:off x="4368600" y="34938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16" name=""/>
          <p:cNvCxnSpPr>
            <a:stCxn id="1514" idx="2"/>
            <a:endCxn id="1502" idx="6"/>
          </p:cNvCxnSpPr>
          <p:nvPr/>
        </p:nvCxnSpPr>
        <p:spPr>
          <a:xfrm rot="10800000">
            <a:off x="4404600" y="3615480"/>
            <a:ext cx="21816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17" name=""/>
          <p:cNvCxnSpPr>
            <a:stCxn id="1513" idx="2"/>
            <a:endCxn id="1514" idx="6"/>
          </p:cNvCxnSpPr>
          <p:nvPr/>
        </p:nvCxnSpPr>
        <p:spPr>
          <a:xfrm rot="10800000">
            <a:off x="4695120" y="3615480"/>
            <a:ext cx="31500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18" name=""/>
          <p:cNvCxnSpPr>
            <a:stCxn id="1514" idx="0"/>
            <a:endCxn id="1512" idx="2"/>
          </p:cNvCxnSpPr>
          <p:nvPr/>
        </p:nvCxnSpPr>
        <p:spPr>
          <a:xfrm flipV="1">
            <a:off x="4660560" y="3493800"/>
            <a:ext cx="1080" cy="655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4827600" y="3124080"/>
            <a:ext cx="47304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954680" y="3317760"/>
            <a:ext cx="18252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967280" y="330660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119560" y="33066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1804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43600" y="33685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06880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9436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99284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360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69"/>
          <a:stretch/>
        </p:blipFill>
        <p:spPr>
          <a:xfrm>
            <a:off x="4952880" y="3414600"/>
            <a:ext cx="18756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530" name=""/>
          <p:cNvCxnSpPr>
            <a:stCxn id="1529" idx="0"/>
            <a:endCxn id="1520" idx="2"/>
          </p:cNvCxnSpPr>
          <p:nvPr/>
        </p:nvCxnSpPr>
        <p:spPr>
          <a:xfrm flipV="1">
            <a:off x="5046480" y="33681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531" name="" descr=""/>
          <p:cNvPicPr/>
          <p:nvPr/>
        </p:nvPicPr>
        <p:blipFill>
          <a:blip r:embed="rId70"/>
          <a:stretch/>
        </p:blipFill>
        <p:spPr>
          <a:xfrm>
            <a:off x="4843440" y="31449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532" name="" descr=""/>
          <p:cNvPicPr/>
          <p:nvPr/>
        </p:nvPicPr>
        <p:blipFill>
          <a:blip r:embed="rId71"/>
          <a:stretch/>
        </p:blipFill>
        <p:spPr>
          <a:xfrm>
            <a:off x="4952880" y="31449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/>
          <p:cNvPicPr/>
          <p:nvPr/>
        </p:nvPicPr>
        <p:blipFill>
          <a:blip r:embed="rId72"/>
          <a:stretch/>
        </p:blipFill>
        <p:spPr>
          <a:xfrm>
            <a:off x="5060880" y="31449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73"/>
          <a:stretch/>
        </p:blipFill>
        <p:spPr>
          <a:xfrm>
            <a:off x="5170320" y="3144960"/>
            <a:ext cx="109800" cy="90360"/>
          </a:xfrm>
          <a:prstGeom prst="rect">
            <a:avLst/>
          </a:prstGeom>
          <a:ln w="0">
            <a:noFill/>
          </a:ln>
        </p:spPr>
      </p:pic>
      <p:cxnSp>
        <p:nvCxnSpPr>
          <p:cNvPr id="1535" name=""/>
          <p:cNvCxnSpPr>
            <a:stCxn id="1521" idx="0"/>
            <a:endCxn id="1531" idx="2"/>
          </p:cNvCxnSpPr>
          <p:nvPr/>
        </p:nvCxnSpPr>
        <p:spPr>
          <a:xfrm flipV="1" rot="16200000">
            <a:off x="4898520" y="3234600"/>
            <a:ext cx="72000" cy="7236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36" name=""/>
          <p:cNvCxnSpPr>
            <a:stCxn id="1527" idx="0"/>
            <a:endCxn id="1532" idx="2"/>
          </p:cNvCxnSpPr>
          <p:nvPr/>
        </p:nvCxnSpPr>
        <p:spPr>
          <a:xfrm flipH="1" flipV="1" rot="5400000">
            <a:off x="4965120" y="32648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37" name=""/>
          <p:cNvCxnSpPr>
            <a:stCxn id="1528" idx="0"/>
            <a:endCxn id="1533" idx="2"/>
          </p:cNvCxnSpPr>
          <p:nvPr/>
        </p:nvCxnSpPr>
        <p:spPr>
          <a:xfrm flipH="1" flipV="1" rot="5400000">
            <a:off x="5045760" y="32356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38" name=""/>
          <p:cNvCxnSpPr>
            <a:stCxn id="1522" idx="0"/>
            <a:endCxn id="1534" idx="2"/>
          </p:cNvCxnSpPr>
          <p:nvPr/>
        </p:nvCxnSpPr>
        <p:spPr>
          <a:xfrm flipH="1" flipV="1" rot="5400000">
            <a:off x="5138280" y="32187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13" idx="0"/>
            <a:endCxn id="1529" idx="2"/>
          </p:cNvCxnSpPr>
          <p:nvPr/>
        </p:nvCxnSpPr>
        <p:spPr>
          <a:xfrm flipV="1">
            <a:off x="5046480" y="34970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5337000" y="3124080"/>
            <a:ext cx="255600" cy="4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74"/>
          <a:stretch/>
        </p:blipFill>
        <p:spPr>
          <a:xfrm>
            <a:off x="5349960" y="3160800"/>
            <a:ext cx="228600" cy="189000"/>
          </a:xfrm>
          <a:prstGeom prst="rect">
            <a:avLst/>
          </a:prstGeom>
          <a:ln w="0">
            <a:noFill/>
          </a:ln>
        </p:spPr>
      </p:pic>
      <p:cxnSp>
        <p:nvCxnSpPr>
          <p:cNvPr id="1542" name=""/>
          <p:cNvCxnSpPr>
            <a:stCxn id="1543" idx="0"/>
            <a:endCxn id="1541" idx="2"/>
          </p:cNvCxnSpPr>
          <p:nvPr/>
        </p:nvCxnSpPr>
        <p:spPr>
          <a:xfrm flipV="1">
            <a:off x="5463720" y="3349080"/>
            <a:ext cx="1080" cy="6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544" name="" descr=""/>
          <p:cNvPicPr/>
          <p:nvPr/>
        </p:nvPicPr>
        <p:blipFill>
          <a:blip r:embed="rId75"/>
          <a:stretch/>
        </p:blipFill>
        <p:spPr>
          <a:xfrm>
            <a:off x="5370480" y="3411360"/>
            <a:ext cx="18720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545" name=""/>
          <p:cNvCxnSpPr>
            <a:stCxn id="1546" idx="2"/>
            <a:endCxn id="1513" idx="6"/>
          </p:cNvCxnSpPr>
          <p:nvPr/>
        </p:nvCxnSpPr>
        <p:spPr>
          <a:xfrm rot="10800000">
            <a:off x="5082480" y="3615480"/>
            <a:ext cx="345240" cy="1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547" name=""/>
          <p:cNvSpPr/>
          <p:nvPr/>
        </p:nvSpPr>
        <p:spPr>
          <a:xfrm>
            <a:off x="3860640" y="3317760"/>
            <a:ext cx="182880" cy="5076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73600" y="3306600"/>
            <a:ext cx="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2588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92436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949560" y="336852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97512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00680" y="330660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98800" y="33066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49560" y="3306600"/>
            <a:ext cx="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76"/>
          <a:stretch/>
        </p:blipFill>
        <p:spPr>
          <a:xfrm>
            <a:off x="3857760" y="3414600"/>
            <a:ext cx="188640" cy="82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cxnSp>
        <p:nvCxnSpPr>
          <p:cNvPr id="1557" name=""/>
          <p:cNvCxnSpPr>
            <a:stCxn id="1556" idx="0"/>
            <a:endCxn id="1547" idx="2"/>
          </p:cNvCxnSpPr>
          <p:nvPr/>
        </p:nvCxnSpPr>
        <p:spPr>
          <a:xfrm flipV="1">
            <a:off x="3952440" y="3368160"/>
            <a:ext cx="1080" cy="46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558" name="" descr=""/>
          <p:cNvPicPr/>
          <p:nvPr/>
        </p:nvPicPr>
        <p:blipFill>
          <a:blip r:embed="rId77"/>
          <a:stretch/>
        </p:blipFill>
        <p:spPr>
          <a:xfrm>
            <a:off x="3749760" y="3144960"/>
            <a:ext cx="108000" cy="903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78"/>
          <a:stretch/>
        </p:blipFill>
        <p:spPr>
          <a:xfrm>
            <a:off x="3857760" y="31449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79"/>
          <a:stretch/>
        </p:blipFill>
        <p:spPr>
          <a:xfrm>
            <a:off x="3967200" y="3144960"/>
            <a:ext cx="109440" cy="9036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80"/>
          <a:stretch/>
        </p:blipFill>
        <p:spPr>
          <a:xfrm>
            <a:off x="4076640" y="3144960"/>
            <a:ext cx="109440" cy="90360"/>
          </a:xfrm>
          <a:prstGeom prst="rect">
            <a:avLst/>
          </a:prstGeom>
          <a:ln w="0">
            <a:noFill/>
          </a:ln>
        </p:spPr>
      </p:pic>
      <p:cxnSp>
        <p:nvCxnSpPr>
          <p:cNvPr id="1562" name=""/>
          <p:cNvCxnSpPr>
            <a:stCxn id="1548" idx="0"/>
            <a:endCxn id="1558" idx="2"/>
          </p:cNvCxnSpPr>
          <p:nvPr/>
        </p:nvCxnSpPr>
        <p:spPr>
          <a:xfrm flipV="1" rot="16200000">
            <a:off x="3804120" y="3233880"/>
            <a:ext cx="72000" cy="738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63" name=""/>
          <p:cNvCxnSpPr>
            <a:stCxn id="1554" idx="0"/>
            <a:endCxn id="1559" idx="2"/>
          </p:cNvCxnSpPr>
          <p:nvPr/>
        </p:nvCxnSpPr>
        <p:spPr>
          <a:xfrm flipH="1" flipV="1" rot="5400000">
            <a:off x="3871440" y="3264840"/>
            <a:ext cx="72000" cy="1188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5" idx="0"/>
            <a:endCxn id="1560" idx="2"/>
          </p:cNvCxnSpPr>
          <p:nvPr/>
        </p:nvCxnSpPr>
        <p:spPr>
          <a:xfrm flipH="1" flipV="1" rot="5400000">
            <a:off x="3951720" y="3235680"/>
            <a:ext cx="72000" cy="7020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49" idx="0"/>
            <a:endCxn id="1561" idx="2"/>
          </p:cNvCxnSpPr>
          <p:nvPr/>
        </p:nvCxnSpPr>
        <p:spPr>
          <a:xfrm flipH="1" flipV="1" rot="5400000">
            <a:off x="4044600" y="3218760"/>
            <a:ext cx="72000" cy="104040"/>
          </a:xfrm>
          <a:prstGeom prst="bentConnector3">
            <a:avLst>
              <a:gd name="adj1" fmla="val 5075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504" name=""/>
          <p:cNvSpPr/>
          <p:nvPr/>
        </p:nvSpPr>
        <p:spPr>
          <a:xfrm>
            <a:off x="3933720" y="3597120"/>
            <a:ext cx="3672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6" name=""/>
          <p:cNvCxnSpPr>
            <a:stCxn id="1504" idx="0"/>
            <a:endCxn id="1556" idx="2"/>
          </p:cNvCxnSpPr>
          <p:nvPr/>
        </p:nvCxnSpPr>
        <p:spPr>
          <a:xfrm flipV="1">
            <a:off x="3952440" y="3497040"/>
            <a:ext cx="1080" cy="62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546" name=""/>
          <p:cNvSpPr/>
          <p:nvPr/>
        </p:nvSpPr>
        <p:spPr>
          <a:xfrm>
            <a:off x="5446800" y="3597120"/>
            <a:ext cx="36360" cy="367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44" idx="2"/>
            <a:endCxn id="1546" idx="0"/>
          </p:cNvCxnSpPr>
          <p:nvPr/>
        </p:nvCxnSpPr>
        <p:spPr>
          <a:xfrm flipH="1" rot="16200000">
            <a:off x="5431680" y="3525120"/>
            <a:ext cx="65520" cy="2520"/>
          </a:xfrm>
          <a:prstGeom prst="bentConnector3">
            <a:avLst>
              <a:gd name="adj1" fmla="val 7845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68" name=""/>
          <p:cNvCxnSpPr>
            <a:stCxn id="1546" idx="6"/>
          </p:cNvCxnSpPr>
          <p:nvPr/>
        </p:nvCxnSpPr>
        <p:spPr>
          <a:xfrm>
            <a:off x="5520960" y="3615840"/>
            <a:ext cx="672120" cy="1080"/>
          </a:xfrm>
          <a:prstGeom prst="bentConnector3">
            <a:avLst>
              <a:gd name="adj1" fmla="val 48553"/>
            </a:avLst>
          </a:prstGeom>
          <a:ln w="28440">
            <a:solidFill>
              <a:srgbClr val="3333cc"/>
            </a:solidFill>
            <a:prstDash val="dash"/>
            <a:miter/>
          </a:ln>
        </p:spPr>
      </p:cxnSp>
      <p:cxnSp>
        <p:nvCxnSpPr>
          <p:cNvPr id="1569" name=""/>
          <p:cNvCxnSpPr>
            <a:stCxn id="1504" idx="2"/>
            <a:endCxn id="1422" idx="0"/>
          </p:cNvCxnSpPr>
          <p:nvPr/>
        </p:nvCxnSpPr>
        <p:spPr>
          <a:xfrm flipV="1" rot="10800000">
            <a:off x="2590200" y="3615840"/>
            <a:ext cx="1305360" cy="129960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70" name=""/>
          <p:cNvCxnSpPr>
            <a:stCxn id="1434" idx="2"/>
            <a:endCxn id="1423" idx="0"/>
          </p:cNvCxnSpPr>
          <p:nvPr/>
        </p:nvCxnSpPr>
        <p:spPr>
          <a:xfrm flipV="1" rot="10800000">
            <a:off x="2907720" y="4300560"/>
            <a:ext cx="987840" cy="6134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571" name=""/>
          <p:cNvSpPr/>
          <p:nvPr/>
        </p:nvSpPr>
        <p:spPr>
          <a:xfrm>
            <a:off x="6321960" y="259092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 Cabl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655F-3D42-4294-B5EA-6239DA331DB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tNet Backbo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igabit Ethernet bas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dundant where possib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panning-tree protoco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parated from K.U.Leuven backbon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pread geographically across the city of Leuv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DDFD-894D-44A8-B3B3-260BA9AF559C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5" name="Cloud"/>
          <p:cNvSpPr/>
          <p:nvPr/>
        </p:nvSpPr>
        <p:spPr>
          <a:xfrm>
            <a:off x="533520" y="1447920"/>
            <a:ext cx="2743200" cy="1371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KotNet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Resid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Tel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U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7" idx="1"/>
            <a:endCxn id="1575" idx="4"/>
          </p:cNvCxnSpPr>
          <p:nvPr/>
        </p:nvCxnSpPr>
        <p:spPr>
          <a:xfrm rot="10800000">
            <a:off x="3274200" y="2133000"/>
            <a:ext cx="106920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78" name=""/>
          <p:cNvSpPr/>
          <p:nvPr/>
        </p:nvSpPr>
        <p:spPr>
          <a:xfrm>
            <a:off x="3962520" y="1224000"/>
            <a:ext cx="3124080" cy="580680"/>
          </a:xfrm>
          <a:prstGeom prst="borderCallout1">
            <a:avLst>
              <a:gd name="adj1" fmla="val 18750"/>
              <a:gd name="adj2" fmla="val -8333"/>
              <a:gd name="adj3" fmla="val 142685"/>
              <a:gd name="adj4" fmla="val -14930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802.1Q VLAN trunk containing 105 KotNet VLA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1008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U.Leu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96252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333440" y="41911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L-Kot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Cloud"/>
          <p:cNvSpPr/>
          <p:nvPr/>
        </p:nvSpPr>
        <p:spPr>
          <a:xfrm>
            <a:off x="7620120" y="5397480"/>
            <a:ext cx="1295280" cy="79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Cloud"/>
          <p:cNvSpPr/>
          <p:nvPr/>
        </p:nvSpPr>
        <p:spPr>
          <a:xfrm>
            <a:off x="1143000" y="5257800"/>
            <a:ext cx="1752480" cy="1073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KU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343400" y="1981080"/>
            <a:ext cx="1676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238880" y="17524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lo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84" idx="1"/>
            <a:endCxn id="1577" idx="3"/>
          </p:cNvCxnSpPr>
          <p:nvPr/>
        </p:nvCxnSpPr>
        <p:spPr>
          <a:xfrm rot="10800000">
            <a:off x="6019200" y="2133000"/>
            <a:ext cx="1219680" cy="1080"/>
          </a:xfrm>
          <a:prstGeom prst="bentConnector2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586" name=""/>
          <p:cNvCxnSpPr>
            <a:stCxn id="1587" idx="0"/>
            <a:endCxn id="1577" idx="2"/>
          </p:cNvCxnSpPr>
          <p:nvPr/>
        </p:nvCxnSpPr>
        <p:spPr>
          <a:xfrm flipV="1">
            <a:off x="5181120" y="2285280"/>
            <a:ext cx="108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88" name=""/>
          <p:cNvCxnSpPr>
            <a:stCxn id="1581" idx="0"/>
            <a:endCxn id="1589" idx="2"/>
          </p:cNvCxnSpPr>
          <p:nvPr/>
        </p:nvCxnSpPr>
        <p:spPr>
          <a:xfrm flipH="1" flipV="1" rot="5400000">
            <a:off x="3111120" y="2260080"/>
            <a:ext cx="839160" cy="30232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590" name=""/>
          <p:cNvGrpSpPr/>
          <p:nvPr/>
        </p:nvGrpSpPr>
        <p:grpSpPr>
          <a:xfrm>
            <a:off x="4495680" y="2438280"/>
            <a:ext cx="1371600" cy="914400"/>
            <a:chOff x="4495680" y="2438280"/>
            <a:chExt cx="1371600" cy="914400"/>
          </a:xfrm>
        </p:grpSpPr>
        <p:sp>
          <p:nvSpPr>
            <p:cNvPr id="1591" name=""/>
            <p:cNvSpPr/>
            <p:nvPr/>
          </p:nvSpPr>
          <p:spPr>
            <a:xfrm>
              <a:off x="4495680" y="2514600"/>
              <a:ext cx="13716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C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43320" y="24382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24280" y="32763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003640" y="32763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83000" y="32763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562360" y="32763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2895480" y="32004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95" idx="3"/>
            <a:endCxn id="1592" idx="2"/>
          </p:cNvCxnSpPr>
          <p:nvPr/>
        </p:nvCxnSpPr>
        <p:spPr>
          <a:xfrm flipV="1">
            <a:off x="3809880" y="3352320"/>
            <a:ext cx="953280" cy="38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3" idx="4"/>
            <a:endCxn id="1581" idx="2"/>
          </p:cNvCxnSpPr>
          <p:nvPr/>
        </p:nvCxnSpPr>
        <p:spPr>
          <a:xfrm flipV="1">
            <a:off x="2018880" y="4952160"/>
            <a:ext cx="1080" cy="367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6858000" y="449568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9" name=""/>
          <p:cNvCxnSpPr>
            <a:stCxn id="1600" idx="0"/>
            <a:endCxn id="1593" idx="2"/>
          </p:cNvCxnSpPr>
          <p:nvPr/>
        </p:nvCxnSpPr>
        <p:spPr>
          <a:xfrm flipV="1" rot="16200000">
            <a:off x="5093640" y="3579120"/>
            <a:ext cx="457920" cy="3960"/>
          </a:xfrm>
          <a:prstGeom prst="bentConnector3">
            <a:avLst>
              <a:gd name="adj1" fmla="val 4996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01" name=""/>
          <p:cNvCxnSpPr>
            <a:stCxn id="1598" idx="0"/>
            <a:endCxn id="1594" idx="2"/>
          </p:cNvCxnSpPr>
          <p:nvPr/>
        </p:nvCxnSpPr>
        <p:spPr>
          <a:xfrm flipV="1" rot="16200000">
            <a:off x="6000120" y="2952000"/>
            <a:ext cx="1143720" cy="1943640"/>
          </a:xfrm>
          <a:prstGeom prst="bentConnector3">
            <a:avLst>
              <a:gd name="adj1" fmla="val 633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02" name=""/>
          <p:cNvSpPr/>
          <p:nvPr/>
        </p:nvSpPr>
        <p:spPr>
          <a:xfrm>
            <a:off x="6324480" y="2700000"/>
            <a:ext cx="1905120" cy="337320"/>
          </a:xfrm>
          <a:prstGeom prst="borderCallout1">
            <a:avLst>
              <a:gd name="adj1" fmla="val 18750"/>
              <a:gd name="adj2" fmla="val -8333"/>
              <a:gd name="adj3" fmla="val -140509"/>
              <a:gd name="adj4" fmla="val -5986"/>
            </a:avLst>
          </a:prstGeom>
          <a:solidFill>
            <a:srgbClr val="eaeaea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mirror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48120" y="541332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L-I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4" name=""/>
          <p:cNvCxnSpPr>
            <a:stCxn id="1583" idx="5"/>
            <a:endCxn id="1603" idx="1"/>
          </p:cNvCxnSpPr>
          <p:nvPr/>
        </p:nvCxnSpPr>
        <p:spPr>
          <a:xfrm>
            <a:off x="2894040" y="5793840"/>
            <a:ext cx="15480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05" name=""/>
          <p:cNvCxnSpPr>
            <a:stCxn id="1603" idx="3"/>
            <a:endCxn id="1606" idx="2"/>
          </p:cNvCxnSpPr>
          <p:nvPr/>
        </p:nvCxnSpPr>
        <p:spPr>
          <a:xfrm>
            <a:off x="4419360" y="5793840"/>
            <a:ext cx="15300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607" name=""/>
          <p:cNvGrpSpPr/>
          <p:nvPr/>
        </p:nvGrpSpPr>
        <p:grpSpPr>
          <a:xfrm>
            <a:off x="4638600" y="3809880"/>
            <a:ext cx="1371600" cy="457200"/>
            <a:chOff x="4638600" y="3809880"/>
            <a:chExt cx="1371600" cy="457200"/>
          </a:xfrm>
        </p:grpSpPr>
        <p:sp>
          <p:nvSpPr>
            <p:cNvPr id="1608" name=""/>
            <p:cNvSpPr/>
            <p:nvPr/>
          </p:nvSpPr>
          <p:spPr>
            <a:xfrm>
              <a:off x="4638600" y="3886200"/>
              <a:ext cx="13716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sco WC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286240" y="38098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629320" y="41907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43520" y="41907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1" name=""/>
          <p:cNvCxnSpPr>
            <a:stCxn id="1579" idx="0"/>
            <a:endCxn id="1609" idx="2"/>
          </p:cNvCxnSpPr>
          <p:nvPr/>
        </p:nvCxnSpPr>
        <p:spPr>
          <a:xfrm flipV="1" rot="16200000">
            <a:off x="5766840" y="4166280"/>
            <a:ext cx="229320" cy="42912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12" name=""/>
          <p:cNvCxnSpPr>
            <a:stCxn id="1580" idx="0"/>
            <a:endCxn id="1610" idx="2"/>
          </p:cNvCxnSpPr>
          <p:nvPr/>
        </p:nvCxnSpPr>
        <p:spPr>
          <a:xfrm flipH="1" flipV="1" rot="5400000">
            <a:off x="4700520" y="4214160"/>
            <a:ext cx="229320" cy="3340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13" name=""/>
          <p:cNvCxnSpPr>
            <a:stCxn id="1614" idx="0"/>
            <a:endCxn id="1598" idx="2"/>
          </p:cNvCxnSpPr>
          <p:nvPr/>
        </p:nvCxnSpPr>
        <p:spPr>
          <a:xfrm flipH="1" flipV="1" rot="5400000">
            <a:off x="7142040" y="5316120"/>
            <a:ext cx="461160" cy="343440"/>
          </a:xfrm>
          <a:prstGeom prst="bentConnector3">
            <a:avLst>
              <a:gd name="adj1" fmla="val 4585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15" name=""/>
          <p:cNvCxnSpPr>
            <a:stCxn id="1616" idx="0"/>
            <a:endCxn id="1579" idx="2"/>
          </p:cNvCxnSpPr>
          <p:nvPr/>
        </p:nvCxnSpPr>
        <p:spPr>
          <a:xfrm flipV="1">
            <a:off x="6095520" y="5257080"/>
            <a:ext cx="1080" cy="4611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17" name=""/>
          <p:cNvCxnSpPr>
            <a:stCxn id="1606" idx="0"/>
            <a:endCxn id="1580" idx="2"/>
          </p:cNvCxnSpPr>
          <p:nvPr/>
        </p:nvCxnSpPr>
        <p:spPr>
          <a:xfrm flipV="1">
            <a:off x="4647960" y="5257080"/>
            <a:ext cx="1080" cy="4611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606" name=""/>
          <p:cNvSpPr/>
          <p:nvPr/>
        </p:nvSpPr>
        <p:spPr>
          <a:xfrm>
            <a:off x="4610160" y="5756400"/>
            <a:ext cx="7632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058080" y="5756400"/>
            <a:ext cx="7596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162920" y="5756400"/>
            <a:ext cx="75960" cy="7596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>
            <a:stCxn id="1582" idx="4"/>
            <a:endCxn id="1614" idx="6"/>
          </p:cNvCxnSpPr>
          <p:nvPr/>
        </p:nvCxnSpPr>
        <p:spPr>
          <a:xfrm rot="10800000">
            <a:off x="7276320" y="5793480"/>
            <a:ext cx="34848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16" idx="6"/>
            <a:endCxn id="1614" idx="2"/>
          </p:cNvCxnSpPr>
          <p:nvPr/>
        </p:nvCxnSpPr>
        <p:spPr>
          <a:xfrm>
            <a:off x="6172200" y="5793840"/>
            <a:ext cx="95328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620" name=""/>
          <p:cNvCxnSpPr>
            <a:stCxn id="1616" idx="2"/>
            <a:endCxn id="1606" idx="6"/>
          </p:cNvCxnSpPr>
          <p:nvPr/>
        </p:nvCxnSpPr>
        <p:spPr>
          <a:xfrm rot="10800000">
            <a:off x="4723560" y="5793480"/>
            <a:ext cx="129636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8171-CE90-4D8C-8928-2431182599CB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-BCrou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 High-end Cisco 7500 rout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0.000 EUR ea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uldn’t handle large network segme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user access lists requiring lots of CPU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olicy based routing not really flexib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gout operation very expensive (ACL reload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flexible shap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ossible per ip/user/stream/usergroup and certainly not everything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ed for more scalable solution!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0B4C-1294-4336-9F18-AE8E98EB658B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Crou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places both Cisco rou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rdwar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99"/>
                </a:solidFill>
                <a:latin typeface="Times New Roman"/>
              </a:rPr>
              <a:t>Dell Poweredge 2650</a:t>
            </a:r>
            <a:r>
              <a:rPr b="0" lang="nl-NL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99"/>
                </a:solidFill>
                <a:latin typeface="Times New Roman"/>
              </a:rPr>
              <a:t>Dual Intel(R) Xeon(TM) CPU 3.20GHz with Hyperthreading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99"/>
                </a:solidFill>
                <a:latin typeface="Times New Roman"/>
              </a:rPr>
              <a:t>ServerWorks GC-LE chipset, 400MHz front side bus, 2:1 memory interleaving, 5 PCI buses (three of which are are PCI-X capable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99"/>
                </a:solidFill>
                <a:latin typeface="Times New Roman"/>
              </a:rPr>
              <a:t>1 Gig ECC ram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wo Intel E1000 PCI-X 133Mhz Network interfa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00 EU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tremely powerful and flexible configur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9D54-140E-4293-A6A7-6F8C607A6DE3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Crouter sett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ly 1 simultaneous login allowed by login syste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ly: login required, obey user/IP quota/spe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 buck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ownload quota of 4Gbyte/month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speed (BurstRate):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Upload quota of 200Mbyte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speed (BurstRate):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P buck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ownload quota of 8Gbyte/month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speed (BurstRate): 250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Upload quota of 8Gbyte/month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speed (BurstRate): 250Kbyte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375F-308C-4135-BDCB-F94A29353FDE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Crouter excep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HCP, DNS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login required, no user acc/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gin website reach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login required, no user acc/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cal antivirus download website reach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login required, no user acc/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cal FTP server reach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login required, no user acc/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block website reach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o login required, no user acc/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-learning website reach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ogin required, no user acc, user bw, ip acc/bw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98DD-EE5D-4E69-A046-EB62B9E65E4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er blocking system (admin view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eives information from number of prob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mail syste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lowlogg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cal honeypo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ets an IP addr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oks up the corresponding us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gout us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ut user in a blacklist to prevent user logi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nd email to the us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F305-651A-4B5E-A72F-C4CB5CBDE2EB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r blocking system (user view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 is logged 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ceives email containing instru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Webmail is always reachabl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ocal antivirus download site also reachabl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the user tries to logi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ssage his account is block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ore detailed instructions about the blocking reas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ink to unblock websit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r unblocks himsel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nly allowed 1 time each 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3A33-40E4-456D-B65A-7D1545CCFD9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e study: KotNe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low Logg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mits Cisco Netflow data to logging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Very detailed traffic information (for each stream)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and sto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and destination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and destination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bytes transmitted/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packets transmitted/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igh performance Netflow prob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Probe (http://www.ntop.or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d to detect network anomal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Host scans and port sca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upled to automatic user blocking syste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9FC0-6FA4-45A4-BC36-7E81D67E5AC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8:41:20Z</dcterms:created>
  <dc:creator>BC547</dc:creator>
  <dc:description/>
  <dc:language>en-US</dc:language>
  <cp:lastModifiedBy>Me</cp:lastModifiedBy>
  <cp:lastPrinted>2002-07-17T14:29:52Z</cp:lastPrinted>
  <dcterms:modified xsi:type="dcterms:W3CDTF">2006-03-14T22:51:19Z</dcterms:modified>
  <cp:revision>330</cp:revision>
  <dc:subject/>
  <dc:title>Beveiligingsdag</dc:title>
</cp:coreProperties>
</file>