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144C-EEF4-4E3A-9C41-77DE76FD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398-AC31-42CE-AA45-A0FA4AF8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039-1EE1-4B2E-A767-A9A71758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861-49A7-4B44-B708-25A9B5DF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7A84-5A3A-4D16-8FC6-3236B15C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8C23-0050-4EE1-A43C-482D5DD6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5A63-0408-42B2-B628-91ACC77A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1349-EE7D-446E-B8C5-9036922E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F060-FDD0-4A7B-B7FD-0E8849E8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8FBD-09B5-41D0-A67A-0FC04A58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8371-747D-4F7A-A809-A2EC1B03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EA0-A57B-40BB-8E6F-C775E3B9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8EA7-A72E-4E03-AAAE-7DEEEC41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5370-41F4-4F9F-AE74-E9E40B48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7834-633F-4EF6-B12B-793BC72D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FF02-4B00-4B4A-8FC6-873F8FDA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1DEF-46FD-46F7-A6EF-6F5A75DA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EE2-4C6E-4F19-89F3-6B8AC428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8E8-5228-4A5E-AAC2-B5158E10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7CD-84A1-49CF-91BF-FB7F619B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E0E-9A5C-46B1-8713-048551CA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7F4E-BD37-4F0C-8482-FF76415B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F95-F9AD-40C7-AFF7-5718E4C1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400-3F61-4A38-9400-7ABED57A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166b"/>
                </a:solidFill>
                <a:latin typeface="Weiss BT"/>
              </a:rPr>
              <a:t>Click to edit the title text format</a:t>
            </a: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16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216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216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216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216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166b"/>
                </a:solidFill>
                <a:latin typeface="Weiss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2166b"/>
                </a:solidFill>
                <a:latin typeface="Weiss B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166b"/>
                </a:solidFill>
                <a:latin typeface="Weiss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2166b"/>
                </a:solidFill>
                <a:latin typeface="Weiss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166b"/>
                </a:solidFill>
                <a:latin typeface="Weiss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C002-745E-4E16-BA25-0DC06C4EB3D5}" type="slidenum">
              <a:rPr b="0" lang="en-US" sz="1400" spc="-1" strike="noStrike">
                <a:solidFill>
                  <a:srgbClr val="72166b"/>
                </a:solidFill>
                <a:latin typeface="Weiss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4128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0392"/>
                </a:srgbClr>
              </a:gs>
              <a:gs pos="100000">
                <a:srgbClr val="72166b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166b"/>
                </a:solidFill>
                <a:latin typeface="Weiss BT"/>
              </a:rPr>
              <a:t>Click to edit the title text format</a:t>
            </a: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166b"/>
                </a:solidFill>
                <a:latin typeface="Weiss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2166b"/>
                </a:solidFill>
                <a:latin typeface="Weiss B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166b"/>
                </a:solidFill>
                <a:latin typeface="Weiss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2166b"/>
                </a:solidFill>
                <a:latin typeface="Weiss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166b"/>
                </a:solidFill>
                <a:latin typeface="Weiss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CBC0-AA9E-49EE-A50F-EE603EA29EDE}" type="slidenum">
              <a:rPr b="0" lang="en-US" sz="1400" spc="-1" strike="noStrike">
                <a:solidFill>
                  <a:srgbClr val="72166b"/>
                </a:solidFill>
                <a:latin typeface="Weiss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4128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0392"/>
                </a:srgbClr>
              </a:gs>
              <a:gs pos="100000">
                <a:srgbClr val="72166b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11640" y="277920"/>
            <a:ext cx="2430360" cy="1319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2166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2166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2166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2.0/za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72166b"/>
                </a:solidFill>
                <a:latin typeface="Weiss BT"/>
              </a:rPr>
              <a:t>The Internet Quota System </a:t>
            </a:r>
            <a:br>
              <a:rPr sz="4400"/>
            </a:br>
            <a:r>
              <a:rPr b="0" lang="en-ZA" sz="4400" spc="-1" strike="noStrike">
                <a:solidFill>
                  <a:srgbClr val="72166b"/>
                </a:solidFill>
                <a:latin typeface="Weiss BT"/>
              </a:rPr>
              <a:t>at Rhodes</a:t>
            </a: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Guy Antony H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47080" y="6346800"/>
            <a:ext cx="8380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72166b"/>
                </a:solidFill>
                <a:latin typeface="Weiss BT"/>
              </a:rPr>
              <a:t>Bits and Pieces</a:t>
            </a: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89160" y="1600200"/>
          <a:ext cx="65642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1600200"/>
                    <a:ext cx="65642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73360" y="1584360"/>
          <a:ext cx="61196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3360" y="1584360"/>
                    <a:ext cx="6119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72166b"/>
                </a:solidFill>
                <a:latin typeface="Weiss BT"/>
              </a:rPr>
              <a:t>Squid Caching Proxy Servers</a:t>
            </a: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61760" y="5016600"/>
            <a:ext cx="4748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6146640" y="2336400"/>
            <a:ext cx="935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244000" y="5877000"/>
            <a:ext cx="685800" cy="771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5889600"/>
            <a:ext cx="18828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72166b"/>
                </a:solidFill>
                <a:latin typeface="Weiss BT"/>
              </a:rPr>
              <a:t>Squid Caching Proxy Servers</a:t>
            </a: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216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26789073.198   4936 walrus.ru.ac.za TCP_MISS/200 24777 GET http://www.nessus.org/ mapu026 DIRECT/66.240.11.101 text/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216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V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amels going cheap at http://perl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216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# cache b.cache bin 2005091514 writt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u Sep 15 15:03:53 SAS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Courier New"/>
              </a:rPr>
              <a:t>Hwalrus.ru.ac.za|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477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Courier New"/>
              </a:rPr>
              <a:t>Umapu026|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477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64360" y="3141720"/>
            <a:ext cx="1219320" cy="1342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740720" y="6116760"/>
            <a:ext cx="11620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817720" y="1600200"/>
          <a:ext cx="35085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7720" y="1600200"/>
                    <a:ext cx="35085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72166b"/>
                </a:solidFill>
                <a:latin typeface="Weiss BT"/>
              </a:rPr>
              <a:t>Accounting and ACLs</a:t>
            </a: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145040" y="2752200"/>
            <a:ext cx="4554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932360" y="3881520"/>
            <a:ext cx="59040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244000" y="5877000"/>
            <a:ext cx="685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72166b"/>
                </a:solidFill>
                <a:latin typeface="Weiss BT"/>
              </a:rPr>
              <a:t>Accounting and ACLs</a:t>
            </a: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$Rhodes: quotas/QuotaConf.pm,v 1.15 2005/08/29 15:10:56 drs Exp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U' =&gt;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basis' =&gt; 'user'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type' =&gt; 'download'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report' =&gt; "$WWWDIR/reportu.txt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cutoff' =&gt;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nobody' =&gt; 'nobody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aclprefix' =&gt; '^'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aclsuffix' =&gt; '$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oklist' =&gt; [ qw(- ictupdate) ]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windowdays' =&gt; 14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divisor' =&gt; 1024*1024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unit' =&gt; 'MB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categories' =&gt; [ [ 0, 15, "no delay", "/dev/null", '' ]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15, 18, "slight delay", "$ACLDIR/idquotalow.acl", '-' ]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18, 28, "significant delay", "$ACLDIR/idquotahigh.acl", '=' ]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28, -1, "web access denied", "$ACLDIR/idquotablock.acl", '#' ]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blurb' =&gt; "This report lists users in order of the amount of traffic they have downloaded from the Inter net in the past 14 days.  Users that download a large amount will have their access slowed, or even denied.  Users who are not explicitly listed in this report have downloaded less than 1 MB/day and fall into the no delay category.  Totals are recalculated regularly, and delays are automatically enforced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1989000"/>
            <a:ext cx="28083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This is the current configuration for our user-based web quotas.  There are similar config file entries for other types of quo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40720" y="6116760"/>
            <a:ext cx="11620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0560" y="393840"/>
            <a:ext cx="5167080" cy="6901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-user download quo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=======================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erpretati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is report lists users in order of the amount of traffic they ha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ownloaded from the Internet in the past 14 days.  Users that downlo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 large amount will have their access slowed, or even denied. 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ho are not explicitly listed in this report have downloaded less th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MB/day and fall into the no delay category.  Totals are recalcula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gularly, and delays are automatically enforce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is report incorporates data from c.cache, z.cache between 2005/09/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:00 and 2005/09/15 16:00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tegori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4-day total        Daily average  Delay               Cut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p to 210 MB          up to 15 MB  no del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0 to 252 MB          15 to 18 MB  slight delay         ----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52 to 392 MB          18 to 28 MB  significant delay    =====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re than 392 MB      more than 28 MB  web access denied    #####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formati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ser                                 Total    Average  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MB)   (MB/da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pu026                              95.89       6.85  no del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pu038                              92.91       6.63  no del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ps026                              81.76       5.84  no del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96960" y="1816200"/>
            <a:ext cx="4762440" cy="2381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166b"/>
                </a:solidFill>
                <a:latin typeface="Weiss BT"/>
              </a:rPr>
              <a:t>Accounting and ACLs (Reports)</a:t>
            </a: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61960" y="5060880"/>
          <a:ext cx="1544760" cy="135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1960" y="5060880"/>
                    <a:ext cx="154476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740720" y="6116760"/>
            <a:ext cx="1162080" cy="523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467000" y="4179960"/>
            <a:ext cx="420480" cy="885600"/>
          </a:xfrm>
          <a:prstGeom prst="line">
            <a:avLst/>
          </a:prstGeom>
          <a:ln w="28440">
            <a:solidFill>
              <a:srgbClr val="7216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757520" y="4963680"/>
            <a:ext cx="2684160" cy="406440"/>
          </a:xfrm>
          <a:prstGeom prst="line">
            <a:avLst/>
          </a:prstGeom>
          <a:ln w="28440">
            <a:solidFill>
              <a:srgbClr val="7216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448000" y="1600200"/>
          <a:ext cx="42480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8000" y="1600200"/>
                    <a:ext cx="42480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72166b"/>
                </a:solidFill>
                <a:latin typeface="Weiss BT"/>
              </a:rPr>
              <a:t>pf(8)/ipfw(8) and NetFlow</a:t>
            </a:r>
            <a:r>
              <a:rPr b="0" lang="en-US" sz="4400" spc="-1" strike="noStrike" baseline="30000">
                <a:solidFill>
                  <a:srgbClr val="72166b"/>
                </a:solidFill>
                <a:latin typeface="Weiss BT"/>
                <a:ea typeface="Arial"/>
              </a:rPr>
              <a:t>®</a:t>
            </a: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132000" y="2433600"/>
            <a:ext cx="1152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313160" y="4824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8244000" y="5877000"/>
            <a:ext cx="685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72166b"/>
                </a:solidFill>
                <a:latin typeface="Weiss BT"/>
              </a:rPr>
              <a:t>A complete solution</a:t>
            </a:r>
            <a:endParaRPr b="0" lang="en-US" sz="4400" spc="-1" strike="noStrike">
              <a:solidFill>
                <a:srgbClr val="72166b"/>
              </a:solidFill>
              <a:latin typeface="Weiss BT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289160" y="1600200"/>
          <a:ext cx="65642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1600200"/>
                    <a:ext cx="65642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3:11:12Z</dcterms:created>
  <dc:creator>Guy Halse</dc:creator>
  <dc:description/>
  <dc:language>en-US</dc:language>
  <cp:lastModifiedBy>Guy Halse</cp:lastModifiedBy>
  <dcterms:modified xsi:type="dcterms:W3CDTF">2005-10-07T13:55:51Z</dcterms:modified>
  <cp:revision>8</cp:revision>
  <dc:subject/>
  <dc:title>The Internet Quota System at Rho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