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587240" y="1006200"/>
            <a:ext cx="4593960" cy="34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185480" y="4787640"/>
            <a:ext cx="5405400" cy="38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4360" cy="22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739440" y="4590360"/>
            <a:ext cx="8604360" cy="22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4198680" cy="22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48360" y="2101680"/>
            <a:ext cx="4198680" cy="22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739440" y="4590360"/>
            <a:ext cx="4198680" cy="22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148360" y="4590360"/>
            <a:ext cx="4198680" cy="22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2770200" cy="22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648600" y="2101680"/>
            <a:ext cx="2770200" cy="22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557760" y="2101680"/>
            <a:ext cx="2770200" cy="22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739440" y="4590360"/>
            <a:ext cx="2770200" cy="22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648600" y="4590360"/>
            <a:ext cx="2770200" cy="22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557760" y="4590360"/>
            <a:ext cx="2770200" cy="22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739440" y="2101680"/>
            <a:ext cx="860436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436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419868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148360" y="2101680"/>
            <a:ext cx="419868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739440" y="626760"/>
            <a:ext cx="860436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4198680" cy="22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48360" y="2101680"/>
            <a:ext cx="419868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739440" y="4590360"/>
            <a:ext cx="4198680" cy="22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419868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48360" y="2101680"/>
            <a:ext cx="4198680" cy="22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148360" y="4590360"/>
            <a:ext cx="4198680" cy="22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4198680" cy="22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48360" y="2101680"/>
            <a:ext cx="4198680" cy="22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739440" y="4590360"/>
            <a:ext cx="8604360" cy="22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39440" y="2101680"/>
            <a:ext cx="860436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861840" indent="-285480"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293840" indent="-216000"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725480" indent="-214200"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157480" indent="-216000"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157480" indent="-216000"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157480" indent="-216000"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6607080"/>
            <a:ext cx="10080720" cy="952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575560" y="7189920"/>
            <a:ext cx="15415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900" spc="-1" strike="noStrike">
                <a:solidFill>
                  <a:srgbClr val="0000ff"/>
                </a:solidFill>
                <a:latin typeface="Verdana"/>
              </a:rPr>
              <a:t>nsrc@intERLab</a:t>
            </a:r>
            <a:br>
              <a:rPr sz="900"/>
            </a:br>
            <a:r>
              <a:rPr b="0" i="1" lang="en-GB" sz="900" spc="-1" strike="noStrike">
                <a:solidFill>
                  <a:srgbClr val="0000ff"/>
                </a:solidFill>
                <a:latin typeface="Verdana"/>
              </a:rPr>
              <a:t>Bangkok, Thailan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hostname/cgi-bin/smokeping.cgi" TargetMode="External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oss.oetiker.ch/smokeping/doc/smokeping_examples.en.html" TargetMode="External"/><Relationship Id="rId2" Type="http://schemas.openxmlformats.org/officeDocument/2006/relationships/hyperlink" Target="http://oss.oetiker.ch/smokeping/doc/smokeping_config.en.html" TargetMode="Externa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oss.oetiker.ch/smokeping/doc/smokeping_examples.en.html" TargetMode="External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79440" y="652320"/>
            <a:ext cx="9293040" cy="8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Verdana"/>
              </a:rPr>
              <a:t>Smokeping &amp; Cacti</a:t>
            </a: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30200" indent="0" algn="ctr">
              <a:lnSpc>
                <a:spcPct val="123000"/>
              </a:lnSpc>
              <a:buNone/>
              <a:tabLst>
                <a:tab algn="l" pos="0"/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30200" indent="0" algn="ctr">
              <a:lnSpc>
                <a:spcPct val="123000"/>
              </a:lnSpc>
              <a:buNone/>
              <a:tabLst>
                <a:tab algn="l" pos="0"/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30200" indent="0" algn="ctr">
              <a:lnSpc>
                <a:spcPct val="123000"/>
              </a:lnSpc>
              <a:buNone/>
              <a:tabLst>
                <a:tab algn="l" pos="0"/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30200" indent="0" algn="ctr">
              <a:lnSpc>
                <a:spcPct val="123000"/>
              </a:lnSpc>
              <a:buNone/>
              <a:tabLst>
                <a:tab algn="l" pos="0"/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30200" indent="0" algn="ctr">
              <a:lnSpc>
                <a:spcPct val="102000"/>
              </a:lnSpc>
              <a:buNone/>
              <a:tabLst>
                <a:tab algn="l" pos="0"/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Verdana"/>
                <a:ea typeface="msmincho"/>
              </a:rPr>
              <a:t>intERLab at AIT Worksh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30200" indent="0" algn="ctr">
              <a:lnSpc>
                <a:spcPct val="102000"/>
              </a:lnSpc>
              <a:buNone/>
              <a:tabLst>
                <a:tab algn="l" pos="0"/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  <a:ea typeface="msmincho"/>
              </a:rPr>
              <a:t>March 11-15 – Bangkok, Thail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30200" indent="0" algn="ctr">
              <a:lnSpc>
                <a:spcPct val="102000"/>
              </a:lnSpc>
              <a:buNone/>
              <a:tabLst>
                <a:tab algn="l" pos="0"/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msmincho"/>
              </a:rPr>
              <a:t>Hervey Al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30200" indent="0" algn="ctr">
              <a:lnSpc>
                <a:spcPct val="93000"/>
              </a:lnSpc>
              <a:buNone/>
              <a:tabLst>
                <a:tab algn="l" pos="0"/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30200" indent="0" algn="ctr">
              <a:lnSpc>
                <a:spcPct val="93000"/>
              </a:lnSpc>
              <a:buNone/>
              <a:tabLst>
                <a:tab algn="l" pos="0"/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046400" y="6107040"/>
            <a:ext cx="2090880" cy="5400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628560" y="2071800"/>
            <a:ext cx="4799160" cy="20304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4906800" y="1919160"/>
            <a:ext cx="4888080" cy="137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Verdana"/>
              </a:rPr>
              <a:t>Smokeping: The Install</a:t>
            </a: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39440" y="1994040"/>
            <a:ext cx="8761320" cy="481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Once configured, then restart the service to build the directories with RRD data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293840" indent="0">
              <a:lnSpc>
                <a:spcPct val="94000"/>
              </a:lnSpc>
              <a:spcAft>
                <a:spcPts val="850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# /etc/init.d/smokeping restar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293840" indent="0">
              <a:lnSpc>
                <a:spcPct val="94000"/>
              </a:lnSpc>
              <a:spcAft>
                <a:spcPts val="850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3020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You can find your graphs and layout at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293840" indent="0">
              <a:lnSpc>
                <a:spcPct val="94000"/>
              </a:lnSpc>
              <a:spcAft>
                <a:spcPts val="850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 u="sng">
                <a:solidFill>
                  <a:srgbClr val="ccccff"/>
                </a:solidFill>
                <a:uFillTx/>
                <a:latin typeface="Courier New"/>
                <a:hlinkClick r:id="rId1"/>
              </a:rPr>
              <a:t>http://hostname/cgi-bin/smokeping.cgi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3020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3020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Lets have a look at the config file..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293840" indent="0">
              <a:lnSpc>
                <a:spcPct val="94000"/>
              </a:lnSpc>
              <a:spcAft>
                <a:spcPts val="850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Verdana"/>
              </a:rPr>
              <a:t>cacti</a:t>
            </a:r>
            <a:endParaRPr b="1" lang="en-US" sz="6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Verdana"/>
              </a:rPr>
              <a:t>cacti: The Install</a:t>
            </a: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39440" y="1957320"/>
            <a:ext cx="8761320" cy="481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Installation is a bit tricky...   (as root):</a:t>
            </a:r>
            <a:br>
              <a:rPr sz="2800"/>
            </a:b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Courier 10 Pitch"/>
              </a:rPr>
              <a:t>apt-get install mysql-server-5.0</a:t>
            </a:r>
            <a:br>
              <a:rPr sz="2800"/>
            </a:br>
            <a:br>
              <a:rPr sz="2800"/>
            </a:br>
            <a:r>
              <a:rPr b="0" lang="en-GB" sz="2000" spc="-1" strike="noStrike">
                <a:solidFill>
                  <a:srgbClr val="000000"/>
                </a:solidFill>
                <a:latin typeface="Courier 10 Pitch"/>
              </a:rPr>
              <a:t>mysqladmin --user=root –password=</a:t>
            </a:r>
            <a:r>
              <a:rPr b="0" i="1" lang="en-GB" sz="2000" spc="-1" strike="noStrike">
                <a:solidFill>
                  <a:srgbClr val="000000"/>
                </a:solidFill>
                <a:latin typeface="Courier 10 Pitch"/>
              </a:rPr>
              <a:t>inst</a:t>
            </a:r>
            <a:r>
              <a:rPr b="0" lang="en-GB" sz="2000" spc="-1" strike="noStrike">
                <a:solidFill>
                  <a:srgbClr val="000000"/>
                </a:solidFill>
                <a:latin typeface="Courier 10 Pitch"/>
              </a:rPr>
              <a:t>Pass create cacti</a:t>
            </a:r>
            <a:br>
              <a:rPr sz="2800"/>
            </a:b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Courier 10 Pitch"/>
              </a:rPr>
              <a:t>apt-get install cacti</a:t>
            </a:r>
            <a:br>
              <a:rPr sz="2800"/>
            </a:b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Courier 10 Pitch"/>
              </a:rPr>
              <a:t>login with admin/admin then change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30200" indent="0" algn="ctr">
              <a:lnSpc>
                <a:spcPct val="102000"/>
              </a:lnSpc>
              <a:buNone/>
              <a:tabLst>
                <a:tab algn="l" pos="0"/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Verdana"/>
              </a:rPr>
              <a:t>apt-get install mysql-server-5.0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"/>
          <p:cNvSpPr/>
          <p:nvPr/>
        </p:nvSpPr>
        <p:spPr>
          <a:xfrm>
            <a:off x="1440000" y="4951440"/>
            <a:ext cx="744048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nter the same password we have used during the worksho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the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in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accou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285920" y="2035080"/>
            <a:ext cx="7656480" cy="272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30200" indent="0" algn="ctr">
              <a:lnSpc>
                <a:spcPct val="102000"/>
              </a:lnSpc>
              <a:buNone/>
              <a:tabLst>
                <a:tab algn="l" pos="0"/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Verdana"/>
              </a:rPr>
              <a:t>apt-get install cacti</a:t>
            </a: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"/>
          <p:cNvSpPr/>
          <p:nvPr/>
        </p:nvSpPr>
        <p:spPr>
          <a:xfrm>
            <a:off x="3701880" y="5094360"/>
            <a:ext cx="293688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You can ignore 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530360" y="2028960"/>
            <a:ext cx="7340760" cy="263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30200" indent="0" algn="ctr">
              <a:lnSpc>
                <a:spcPct val="102000"/>
              </a:lnSpc>
              <a:buNone/>
              <a:tabLst>
                <a:tab algn="l" pos="0"/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Verdana"/>
              </a:rPr>
              <a:t>apt-get install cacti</a:t>
            </a: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1855800" y="2089080"/>
            <a:ext cx="6588000" cy="31561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146320" y="5630760"/>
            <a:ext cx="594684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Please choose “Apache2” and then O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30200" indent="0" algn="ctr">
              <a:lnSpc>
                <a:spcPct val="102000"/>
              </a:lnSpc>
              <a:buNone/>
              <a:tabLst>
                <a:tab algn="l" pos="0"/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Verdana"/>
              </a:rPr>
              <a:t>apt-get install cacti</a:t>
            </a: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314360" y="1898640"/>
            <a:ext cx="7338960" cy="354168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2851200" y="5776920"/>
            <a:ext cx="479412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hoose “Yes” at this scre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30200" indent="0" algn="ctr">
              <a:lnSpc>
                <a:spcPct val="102000"/>
              </a:lnSpc>
              <a:buNone/>
              <a:tabLst>
                <a:tab algn="l" pos="0"/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Verdana"/>
              </a:rPr>
              <a:t>apt-get install cacti</a:t>
            </a: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301760" y="1957320"/>
            <a:ext cx="7719840" cy="23925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1058760" y="4713120"/>
            <a:ext cx="8593200" cy="74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Enter the same password you used when installing MySQL previously. This is your </a:t>
            </a:r>
            <a:r>
              <a:rPr b="0" i="1" lang="en-GB" sz="2400" spc="-1" strike="noStrike">
                <a:solidFill>
                  <a:srgbClr val="000000"/>
                </a:solidFill>
                <a:latin typeface="Verdana"/>
              </a:rPr>
              <a:t>inst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account passwo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30200" indent="0" algn="ctr">
              <a:lnSpc>
                <a:spcPct val="102000"/>
              </a:lnSpc>
              <a:buNone/>
              <a:tabLst>
                <a:tab algn="l" pos="0"/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Verdana"/>
              </a:rPr>
              <a:t>apt-get install cacti</a:t>
            </a: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884160" y="1890720"/>
            <a:ext cx="6593040" cy="20574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6475320" y="4314960"/>
            <a:ext cx="3149640" cy="20239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8008920" y="2739960"/>
            <a:ext cx="984240" cy="1800"/>
          </a:xfrm>
          <a:prstGeom prst="line">
            <a:avLst/>
          </a:prstGeom>
          <a:ln w="16452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8126280" y="3327480"/>
            <a:ext cx="13446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82080" bIns="8208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then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76240" y="4678200"/>
            <a:ext cx="4970520" cy="14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82080" bIns="8208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Let's use the same </a:t>
            </a:r>
            <a:r>
              <a:rPr b="0" i="1" lang="en-GB" sz="2400" spc="-1" strike="noStrike">
                <a:solidFill>
                  <a:srgbClr val="000000"/>
                </a:solidFill>
                <a:latin typeface="Verdana"/>
              </a:rPr>
              <a:t>inst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password to keep things simp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Verdana"/>
              </a:rPr>
              <a:t>cacti: Next Steps</a:t>
            </a: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39440" y="1957320"/>
            <a:ext cx="8761320" cy="481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Next open a web browser on your machine and go to the addres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3020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861840" indent="0">
              <a:lnSpc>
                <a:spcPct val="97000"/>
              </a:lnSpc>
              <a:spcAft>
                <a:spcPts val="1137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10 Pitch"/>
              </a:rPr>
              <a:t>http://localhost/cacti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861840" indent="0">
              <a:lnSpc>
                <a:spcPct val="97000"/>
              </a:lnSpc>
              <a:spcAft>
                <a:spcPts val="1137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3020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You will see the following screens..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Verdana"/>
              </a:rPr>
              <a:t>What's the Difference?</a:t>
            </a: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39440" y="1957320"/>
            <a:ext cx="8761320" cy="481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There's definite overlap, but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30200" indent="-3240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Smokeping: 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 latency measurement and packet loss tool. Uses RRDtool to maintain it's data store. No remote daemons or services required:</a:t>
            </a:r>
            <a:br>
              <a:rPr sz="3200"/>
            </a:br>
            <a:br>
              <a:rPr sz="1200"/>
            </a:b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i="1" lang="en-GB" sz="2000" spc="-1" strike="noStrike">
                <a:solidFill>
                  <a:srgbClr val="000000"/>
                </a:solidFill>
                <a:latin typeface="Verdana"/>
              </a:rPr>
              <a:t>SmokePing is a deluxe latency measurement tool. It can measure, store and display latency, latency distribution and packet loss. SmokePing uses RRDtool to maintain a longterm data-store and to draw pretty graphs, giving up to the minute information on the state of each network connection.”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8290080" y="6119640"/>
            <a:ext cx="1662120" cy="470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 fill="hold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30200" indent="0" algn="ctr">
              <a:lnSpc>
                <a:spcPct val="102000"/>
              </a:lnSpc>
              <a:buNone/>
              <a:tabLst>
                <a:tab algn="l" pos="0"/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Verdana"/>
              </a:rPr>
              <a:t>apt-get install cacti</a:t>
            </a: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"/>
          <p:cNvSpPr/>
          <p:nvPr/>
        </p:nvSpPr>
        <p:spPr>
          <a:xfrm>
            <a:off x="3833640" y="6043680"/>
            <a:ext cx="276228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lick on “Next &gt;&gt;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2470320" y="1778040"/>
            <a:ext cx="5391000" cy="404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30200" indent="0" algn="ctr">
              <a:lnSpc>
                <a:spcPct val="102000"/>
              </a:lnSpc>
              <a:buNone/>
              <a:tabLst>
                <a:tab algn="l" pos="0"/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Verdana"/>
              </a:rPr>
              <a:t>apt-get install cacti</a:t>
            </a: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496880" y="2181240"/>
            <a:ext cx="7282080" cy="32860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1987560" y="5721480"/>
            <a:ext cx="6572160" cy="74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Be sure “New Install is chosen and p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the “Next &gt;&gt;” butt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30200" indent="0" algn="ctr">
              <a:lnSpc>
                <a:spcPct val="102000"/>
              </a:lnSpc>
              <a:buNone/>
              <a:tabLst>
                <a:tab algn="l" pos="0"/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Verdana"/>
              </a:rPr>
              <a:t>apt-get install cacti</a:t>
            </a: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390680" y="1720800"/>
            <a:ext cx="3932280" cy="490392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5829480" y="1712880"/>
            <a:ext cx="3767040" cy="185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Hopefully your screen looks like this. If not, let your instructor know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Press “Finis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30200" indent="0" algn="ctr">
              <a:lnSpc>
                <a:spcPct val="102000"/>
              </a:lnSpc>
              <a:buNone/>
              <a:tabLst>
                <a:tab algn="l" pos="0"/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Verdana"/>
              </a:rPr>
              <a:t>cacti: Initial Login</a:t>
            </a: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568600" y="1898640"/>
            <a:ext cx="5099040" cy="29592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2563920" y="5259240"/>
            <a:ext cx="4833720" cy="11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Initial login wit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User Name: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Verdana"/>
              </a:rPr>
              <a:t>adm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Password: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Verdana"/>
              </a:rPr>
              <a:t>adm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30200" indent="0" algn="ctr">
              <a:lnSpc>
                <a:spcPct val="102000"/>
              </a:lnSpc>
              <a:buNone/>
              <a:tabLst>
                <a:tab algn="l" pos="0"/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Verdana"/>
              </a:rPr>
              <a:t>cacti: Change Password</a:t>
            </a: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"/>
          <p:cNvSpPr/>
          <p:nvPr/>
        </p:nvSpPr>
        <p:spPr>
          <a:xfrm>
            <a:off x="1957320" y="5403960"/>
            <a:ext cx="6615360" cy="74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Use the same </a:t>
            </a:r>
            <a:r>
              <a:rPr b="0" i="1" lang="en-GB" sz="2400" spc="-1" strike="noStrike">
                <a:solidFill>
                  <a:srgbClr val="000000"/>
                </a:solidFill>
                <a:latin typeface="Verdana"/>
              </a:rPr>
              <a:t>inst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password to keep things simple for our worksho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2616120" y="1727280"/>
            <a:ext cx="5005440" cy="323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Verdana"/>
              </a:rPr>
              <a:t>cacti: Finishing</a:t>
            </a: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739440" y="2101680"/>
            <a:ext cx="8605800" cy="47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747720" y="1841400"/>
            <a:ext cx="8313840" cy="18828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774720" y="3946680"/>
            <a:ext cx="8713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s you can see the idea is to do the follow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efine the devices you wish to moni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efine the graphs you wish to use for each dev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View and organize graphs as you wa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Note that cacti takes advantage of snmp settings. As possible we'll set up some cacti graphs at this 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Verdana"/>
              </a:rPr>
              <a:t>What's the Difference?</a:t>
            </a: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39440" y="1957320"/>
            <a:ext cx="8761320" cy="486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Cacti: 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Uses RRDtool, PHP and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stores data in MySQL as well as supporting SNMP and graphing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with MRTG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3020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i="1" lang="en-GB" sz="2200" spc="-1" strike="noStrike">
                <a:solidFill>
                  <a:srgbClr val="000000"/>
                </a:solidFill>
                <a:latin typeface="Verdana"/>
              </a:rPr>
              <a:t>Cacti is a complete frontend to RRDTool, it stores all of the necessary information to create graphs and populate them with data in a MySQL database. The frontend is completely PHP driven. Along with being able to maintain Graphs, Data Sources, and Round Robin Archives in a database, cacti handles the data gathering. There is also SNMP support for those used to creating traffic graphs with MRTG.”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7999560" y="1655640"/>
            <a:ext cx="1601640" cy="2386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dur="indefinite" fill="hold">
                      <p:stCondLst>
                        <p:cond delay="indefinite"/>
                      </p:stCondLst>
                      <p:childTnLst>
                        <p:par>
                          <p:cTn id="1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Verdana"/>
              </a:rPr>
              <a:t>Installation</a:t>
            </a: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39440" y="1957320"/>
            <a:ext cx="8761320" cy="481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We'll install both products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30200" indent="-3240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stallation varies between flavors of Linux and UNIX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30200" indent="-3240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t's pretty easy to to install these items under Ubuntu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30200" indent="-3240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You can do </a:t>
            </a:r>
            <a:r>
              <a:rPr b="0" i="1" lang="en-GB" sz="2800" spc="-1" strike="noStrike">
                <a:solidFill>
                  <a:srgbClr val="000000"/>
                </a:solidFill>
                <a:latin typeface="Verdana"/>
              </a:rPr>
              <a:t>massive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 configuration of each. We'll do some to get you started!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3020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Verdana"/>
              </a:rPr>
              <a:t>Smokeping: Some Details</a:t>
            </a: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39440" y="1957320"/>
            <a:ext cx="8761320" cy="481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Basic install is extremely easy:</a:t>
            </a:r>
            <a:br>
              <a:rPr sz="1800"/>
            </a:b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Courier 10 Pitch"/>
              </a:rPr>
              <a:t>apt-get install smokeping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10 Pitch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30200" indent="-3240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Basic config file (/etc/smokeping/config) is simple, but you can get very complex very quickly:</a:t>
            </a:r>
            <a:br>
              <a:rPr sz="2800"/>
            </a:br>
            <a:br>
              <a:rPr sz="1600"/>
            </a:br>
            <a:r>
              <a:rPr b="0" lang="en-GB" sz="1600" spc="-1" strike="noStrike" u="sng">
                <a:solidFill>
                  <a:srgbClr val="ccccff"/>
                </a:solidFill>
                <a:uFillTx/>
                <a:latin typeface="Verdana"/>
                <a:hlinkClick r:id="rId1"/>
              </a:rPr>
              <a:t>http://oss.oetiker.ch/smokeping/doc/smokeping_examples.en.html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	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and, other configuration options:</a:t>
            </a:r>
            <a:br>
              <a:rPr sz="1600"/>
            </a:br>
            <a:br>
              <a:rPr sz="1600"/>
            </a:br>
            <a:r>
              <a:rPr b="0" lang="en-GB" sz="1600" spc="-1" strike="noStrike" u="sng">
                <a:solidFill>
                  <a:srgbClr val="ccccff"/>
                </a:solidFill>
                <a:uFillTx/>
                <a:latin typeface="Verdana"/>
                <a:hlinkClick r:id="rId2"/>
              </a:rPr>
              <a:t>http://oss.oetiker.ch/smokeping/doc/smokeping_config.en.htm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Verdana"/>
              </a:rPr>
              <a:t>Smokeping: The Install</a:t>
            </a: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39440" y="1994040"/>
            <a:ext cx="8761320" cy="49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Courier 10 Pitch"/>
              <a:buAutoNum type="arabicPeriod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10 Pitch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urier 10 Pitch"/>
              </a:rPr>
              <a:t>sudo apt-get install smokep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30200" indent="-32400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Courier 10 Pitch"/>
              <a:buAutoNum type="arabicPeriod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10 Pitch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urier 10 Pitch"/>
              </a:rPr>
              <a:t>sudo apt-get install echop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30200" indent="-32400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Courier 10 Pitch"/>
              <a:buAutoNum type="arabicPeriod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10 Pitch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urier 10 Pitch"/>
              </a:rPr>
              <a:t>su -  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(to become root)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30200" indent="-32400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Courier 10 Pitch"/>
              <a:buAutoNum type="arabicPeriod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10 Pitch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urier 10 Pitch"/>
              </a:rPr>
              <a:t>cd /etc/smokep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30200" indent="-32400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Courier 10 Pitch"/>
              <a:buAutoNum type="arabicPeriod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10 Pitch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urier 10 Pitch"/>
              </a:rPr>
              <a:t>mv config config.orig</a:t>
            </a:r>
            <a:br>
              <a:rPr sz="2400"/>
            </a:br>
            <a:br>
              <a:rPr sz="10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Then we will grab a copy of our local Smokeping config file, install this and go over i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30200" indent="-32400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Courier 10 Pitch"/>
              <a:buAutoNum type="arabicPeriod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10 Pitch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scp inst@noc:/var/www/share/conf/config 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30200" indent="-32400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Courier 10 Pitch"/>
              <a:buAutoNum type="arabicPeriod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10 Pitch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urier 10 Pitch"/>
              </a:rPr>
              <a:t>/etc/init.d/smokeping restar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3020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Verdana"/>
              </a:rPr>
              <a:t>Smokeping: Some Details</a:t>
            </a:r>
            <a:br>
              <a:rPr sz="4400"/>
            </a:b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/etc/smokeing/config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39440" y="1994040"/>
            <a:ext cx="8761320" cy="481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Check on latency of connection (ping)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30200" indent="-3240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Check on web server uptime and perform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3020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Verdana"/>
              </a:rPr>
              <a:t>Latenc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3020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++ LocalMachin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3020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menu = The NOC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3020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title = The noc@intERLab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3020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host = localhos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Verdana"/>
              </a:rPr>
              <a:t>Smokeping: More Details</a:t>
            </a:r>
            <a:br>
              <a:rPr sz="4400"/>
            </a:b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/etc/smokeing/config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39440" y="1994040"/>
            <a:ext cx="8761320" cy="481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Verdana"/>
              </a:rPr>
              <a:t>Performance/Uptim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3020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++ NOCsquid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3020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menu = The NOC Squid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3020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title = www-cache / HTTP for noc@intERLab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3020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probe = EchoPingHttp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3020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host = localhos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3020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port = 8080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3020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url = http://localhost/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Verdana"/>
              </a:rPr>
              <a:t>Smokeping: The Install</a:t>
            </a: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39440" y="1994040"/>
            <a:ext cx="8761320" cy="481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There are several more examples here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3020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 u="sng">
                <a:solidFill>
                  <a:srgbClr val="ccccff"/>
                </a:solidFill>
                <a:uFillTx/>
                <a:latin typeface="Verdana"/>
                <a:hlinkClick r:id="rId1"/>
              </a:rPr>
              <a:t>http://oss.oetiker.ch/smokeping/doc/smokeping_examples.en.htm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3020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3020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If there is time we will play with /etc/smokeping/config to customize as you want and, maybe, to use some of the example described in the file linked abov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3020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3020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ervey Allen</cp:lastModifiedBy>
  <cp:revision>0</cp:revision>
  <dc:subject/>
  <dc:title/>
</cp:coreProperties>
</file>