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760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1240" y="1800360"/>
            <a:ext cx="860760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1240" y="4525920"/>
            <a:ext cx="860760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760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1800360"/>
            <a:ext cx="42004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1960" y="1800360"/>
            <a:ext cx="42004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1240" y="4525920"/>
            <a:ext cx="42004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1960" y="4525920"/>
            <a:ext cx="42004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760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1240" y="1800360"/>
            <a:ext cx="27712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51480" y="1800360"/>
            <a:ext cx="27712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61720" y="1800360"/>
            <a:ext cx="27712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1240" y="4525920"/>
            <a:ext cx="27712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51480" y="4525920"/>
            <a:ext cx="27712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61720" y="4525920"/>
            <a:ext cx="27712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760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1240" y="1800360"/>
            <a:ext cx="86076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760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1240" y="1800360"/>
            <a:ext cx="86076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760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800360"/>
            <a:ext cx="420048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1960" y="1800360"/>
            <a:ext cx="420048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760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15840"/>
            <a:ext cx="860760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760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1240" y="1800360"/>
            <a:ext cx="42004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1960" y="1800360"/>
            <a:ext cx="420048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1240" y="4525920"/>
            <a:ext cx="42004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760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1240" y="1800360"/>
            <a:ext cx="420048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1960" y="1800360"/>
            <a:ext cx="42004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1960" y="4525920"/>
            <a:ext cx="42004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760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1240" y="1800360"/>
            <a:ext cx="42004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1960" y="1800360"/>
            <a:ext cx="42004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1240" y="4525920"/>
            <a:ext cx="860760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19280"/>
            <a:ext cx="10080720" cy="5940360"/>
          </a:xfrm>
          <a:prstGeom prst="roundRect">
            <a:avLst>
              <a:gd name="adj" fmla="val 23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760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1800360"/>
            <a:ext cx="86076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741240" y="270000"/>
            <a:ext cx="86090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VS – concurrent version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31640" indent="-215640"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 Work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intERlab at 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Thai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March 11-15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00360" y="5257800"/>
            <a:ext cx="486396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VS – example workflow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check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vs co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rojectname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itial check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 work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vs commi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[filename]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 change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vs u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pdate working cop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 work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vs commi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[filename]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VS – example workflow – cont'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00000" y="1800360"/>
            <a:ext cx="836460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VS client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1800000"/>
            <a:ext cx="8609040" cy="52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ist for most opera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vs command line (UNIX, Win32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rtoiseCVS – embeds in Explorer (Win32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nCVS (Win32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the repository over the network or lo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271440"/>
            <a:ext cx="89791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VS commands – action command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 a new project into an existing repositor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out (co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out a working copy of a project/file/module from the repositor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date (up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pdate a working copy from the CVS versio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it changes back to the repository (incl. new file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0360" y="3419640"/>
            <a:ext cx="1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-50760"/>
            <a:ext cx="8979120" cy="19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VS commands – action commands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nt'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 a new file in the working copy, ready to commit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lete  (del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a file from the working copy, ready to commit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0360" y="3419640"/>
            <a:ext cx="1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271440"/>
            <a:ext cx="86090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VS command – status command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e the status and version of a given file or by default all file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the difference between a given revision (by default: the last one) of the named file and the file in the working repositor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revision history for one or mor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00360" y="1260360"/>
            <a:ext cx="1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 working exampl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763640"/>
            <a:ext cx="9180720" cy="47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% CVSROOT=:ext:server.name:/data/cv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% export CVSR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% cvs co some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assword: ****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vs server: Updating some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U dir/file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U dir/file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% ls -l dir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-rwxr-xr-x 2 regnauld staff  512 Dec 20 15:44  CV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-rw-r--r-- 1 regnauld staff 1244 Nov 17 14:21  file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-rw-r--r-- 1 regnauld staff  341 Dec  3 21:04  file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% vi file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% cvs commit file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 working example – cont'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692360"/>
            <a:ext cx="918072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................... editor ...................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/ Bugfix -- Modified file1 to fix bug                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\                                                    \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/ CVS:---------------------------------------------- 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\ CVS: Enter Log.  Lines beginning with `CVS:' are   \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/ CVS: removed automatically                         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\ CVS:                                               \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/ CVS: Modified Files:                               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\ CVS:    file1                                      \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/ CVS:---------------------------------------------- 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\....................................................\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/tmp/cvsUABnYm: 8 lines, 290 charac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hecking in file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/data/cvs/dir/file1,v  &lt;--  file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new revision: 1.2; previous revision: 1.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d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539640"/>
            <a:ext cx="1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hat's in the CVS/ directory 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539640"/>
            <a:ext cx="1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1240" y="1800000"/>
            <a:ext cx="8609040" cy="52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isting files, and newly added files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is the repository located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me of module or path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CVS $Id$ directiv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539640"/>
            <a:ext cx="1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an existing file, we add the following line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$Id$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cvs commit the file, and look at the fil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Overview – what is CVS 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41240" y="1800000"/>
            <a:ext cx="8609040" cy="52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algn="ctr">
              <a:lnSpc>
                <a:spcPct val="94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Typewriter"/>
                <a:ea typeface="msmincho"/>
              </a:rPr>
              <a:t>CVS is a Version Control System (VCS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Setting up a new repositor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539640"/>
            <a:ext cx="1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1240" y="1800000"/>
            <a:ext cx="8609040" cy="52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one can create a repository, an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e using the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vs ini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mkdir /data/cvsre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xport CVSROOT=/data/cvsre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vs [-d /data/cvsrepo] 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ls -l /data/cvsrepo</a:t>
            </a:r>
            <a:br>
              <a:rPr sz="2800"/>
            </a:b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rwxrwxr-x 3 pr staff 1024 Dec 20 15:45 CVSROOT/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ccessing the new repositor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539640"/>
            <a:ext cx="1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vs -d /data/cvsrepo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necessary to specify -d if CVSROOT is defin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o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vs -d :ext:servername:/data/cvsrepo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SH must be available!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ady for impo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Importing a new project..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539640"/>
            <a:ext cx="1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908000"/>
            <a:ext cx="9180720" cy="52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% CVSROOT=/data/cvs; export CVSR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% cd someplace/myproject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% cvs import my/new/project before_cvs st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.................. editor ...................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/ Import pre-CVS version of my new project           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\                                                    \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/ CVS:---------------------------------------------- 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\ CVS: Enter Log.  Lines beginning with `CVS:' are   \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/ CVS: removed automatically                         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\....................................................\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N my/new/project/file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N my/new/project/file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No conflicts created by this im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Importing a new project...cont'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539640"/>
            <a:ext cx="1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1240" y="1800000"/>
            <a:ext cx="8609040" cy="52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ocation for this project in the repository is now my/new/project, under the /data/cvs repository i.e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/data/cvs/my/new/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t's test that we can check out the project:</a:t>
            </a:r>
            <a:br>
              <a:rPr sz="3200"/>
            </a:b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cvs co new/projec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 my/new/project/file1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 my/new/project/file2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cd my/new/projec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ls -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odul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539640"/>
            <a:ext cx="1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0720" y="1645920"/>
            <a:ext cx="877248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y/new/project is maybe too long as a project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ution: modules, which are shorter names for directories or groups of directories and other mod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roject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my/new/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such a module defined, it will be possible to checkout, commit, etc... using the simple name “project”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vs -d :ext:/data/cvs co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'll see how to define modules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CVSROOT/ director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539640"/>
            <a:ext cx="1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0720" y="1717200"/>
            <a:ext cx="877248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401400" indent="-30096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default module is always created when one inits a repository: CVSROOT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cvs co CVSROO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 CVSROOT/checkoutlis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 CVSROOT/commitinf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 CVSROOT/confi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 CVSROOT/cvswrapper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 CVSROOT/editinf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 CVSROOT/loginf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 CVSROOT/modul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 CVSROOT/notif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 CVSROOT/rcsinf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 CVSROOT/taginf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 CVSROOT/verifym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CVSROOT/ directory – cont'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539640"/>
            <a:ext cx="1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s described in cvs(5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 5 cv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relev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ul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e modul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itinf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-commit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vswrapp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ndle special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inf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t-commit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Pre- and post- job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539640"/>
            <a:ext cx="1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52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commitinfo and loginfo, it is possible to have automatic jobs run before and after each commit, for instance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-commit stage (commitinfo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ify that a user is allowed to modify a given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syntax for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t-commit stage (loginfo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d update as a 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end it to a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544320"/>
            <a:ext cx="86090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big picture: mail, cvsweb, list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539640"/>
            <a:ext cx="1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58760" y="1749600"/>
            <a:ext cx="7581960" cy="54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Putting it all together..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539640"/>
            <a:ext cx="1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ntent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1240" y="1800000"/>
            <a:ext cx="8609040" cy="52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sion control and change mana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to CVS – principles, com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ting up a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ssing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ing a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ing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VS shortcoming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1240" y="1728360"/>
            <a:ext cx="8772480" cy="56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mlinks and ownership of files are not reco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renaming of files (copy + delete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change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file has 1 version, need postprocessing work t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gure out “all files for this commit”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disconnected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, remove, commit, ... all need access to the server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anching/merging is quite com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utomated scenario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539640"/>
            <a:ext cx="1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a: automatize configuration management tasks so that configuration files are automatically versioned using CVS..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 even when the sysadmin forgets :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ation – cron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all files in a given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y exist in the repository already -&gt; 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y don't, add, then 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utomated scenarios – cont'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539640"/>
            <a:ext cx="1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ready exists for network equipment: RAN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shrubbery.net/rancid/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e concept to implement for all relevant files in /etc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cribe all admins to the alias / mailing list, so everyone receives a notification when a change takes place – whether planned or no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ferenc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1240" y="2101680"/>
            <a:ext cx="8609040" cy="47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nongnu.org/cvs/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cvsbook.red-bean.com/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tortoisecvs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ntents – cont'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t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VSROOT/ directory and its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- and post-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ig picture: mail notifications, cvsweb, and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omated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0960" y="-11160"/>
            <a:ext cx="86090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Overview – what is version control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720" y="1619280"/>
            <a:ext cx="8772480" cy="59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sion control, and change management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ep track of changes (revision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changes with others (public repository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 multiple versions of a same set of data (branches)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kind of data 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nary data as well (less efficient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VS terminolog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1655640"/>
            <a:ext cx="8772480" cy="59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ntral, master copy containing all files being versioned.  Directory structure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ing 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l copy of a project, checked out from a repository.  Contains special directories (CVS) with information about which files are under CVS control, where they files come from and where they should be commi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6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et of directories, files or other modules under a common “shortcut”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15876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VS principl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6800" y="1800360"/>
            <a:ext cx="877248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VS uses a centralized “master copy”: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work is done in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orking 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s ar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ommitt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ack to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al directory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30520" y="4500720"/>
            <a:ext cx="6549840" cy="16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VS – the repositor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1800360"/>
            <a:ext cx="8772480" cy="55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VS is a centralized VCS (1 repository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epository contains files in the RCS format, all ending in ' ,v '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RCS file contains a complete history, with changelog, of the file being versioned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ll adapted to tex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epository is NEVER edited b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number of tools exist to analyze or browse the 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vsweb/webcv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VS – the repositor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53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ents can access the repository locally or over the network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epository is indicated (UNIX) using the CVSROOT environment variable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VSROOT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cvs/myprojects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 local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:pserver:myserver.com:/cvs/myprojects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 via p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:ext:user@myserver.com:/cvs/myprojec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# via SSH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s for distributed work over LAN/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hil Regnauld</dc:creator>
  <dc:description/>
  <dc:language>en-US</dc:language>
  <cp:lastModifiedBy/>
  <cp:revision>0</cp:revision>
  <dc:subject/>
  <dc:title/>
</cp:coreProperties>
</file>