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6856560"/>
            <a:ext cx="360" cy="151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0240" indent="-30240"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304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024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6448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360" y="4163400"/>
            <a:ext cx="776448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304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024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8900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980720"/>
            <a:ext cx="378900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360" y="4163400"/>
            <a:ext cx="378900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163400"/>
            <a:ext cx="378900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304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024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4998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09480" y="1980720"/>
            <a:ext cx="24998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4960" y="1980720"/>
            <a:ext cx="24998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360" y="4163400"/>
            <a:ext cx="24998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09480" y="4163400"/>
            <a:ext cx="24998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4960" y="4163400"/>
            <a:ext cx="24998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304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024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644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304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024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6448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304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024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8900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1980720"/>
            <a:ext cx="378900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304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024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79080"/>
            <a:ext cx="776304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304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024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8900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1980720"/>
            <a:ext cx="378900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360" y="4163400"/>
            <a:ext cx="378900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304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024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8900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980720"/>
            <a:ext cx="378900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163400"/>
            <a:ext cx="378900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304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024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8900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1980720"/>
            <a:ext cx="378900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360" y="4163400"/>
            <a:ext cx="776448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304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024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6448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 fontScale="97000"/>
          </a:bodyPr>
          <a:p>
            <a:pPr marL="360360" indent="-32616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760" indent="-27396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8640" indent="-2214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32160" indent="-2214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75680" indent="-2214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75680" indent="-2214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75680" indent="-2214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1.ietf.org/html.charters/ipfix-charter.html" TargetMode="External"/><Relationship Id="rId2" Type="http://schemas.openxmlformats.org/officeDocument/2006/relationships/hyperlink" Target="http://www1.ietf.org/rfc/rfc3917.tx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22428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Lucida Grande"/>
              </a:rPr>
              <a:t>Net-flow</a:t>
            </a:r>
            <a:endParaRPr b="0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530280"/>
            <a:ext cx="57358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 algn="ctr">
              <a:lnSpc>
                <a:spcPct val="98000"/>
              </a:lnSpc>
              <a:tabLst>
                <a:tab algn="l" pos="0"/>
                <a:tab algn="l" pos="50652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31640" indent="-215640" algn="ctr">
              <a:lnSpc>
                <a:spcPct val="98000"/>
              </a:lnSpc>
              <a:tabLst>
                <a:tab algn="l" pos="0"/>
                <a:tab algn="l" pos="50652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31640" indent="-215640" algn="ctr">
              <a:lnSpc>
                <a:spcPct val="98000"/>
              </a:lnSpc>
              <a:tabLst>
                <a:tab algn="l" pos="0"/>
                <a:tab algn="l" pos="50652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 Workshop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lvl="1" marL="431640" indent="-215640" algn="ctr">
              <a:lnSpc>
                <a:spcPct val="99000"/>
              </a:lnSpc>
              <a:tabLst>
                <a:tab algn="l" pos="0"/>
                <a:tab algn="l" pos="50652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intERlab at AIT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lvl="1" marL="431640" indent="-215640" algn="ctr">
              <a:lnSpc>
                <a:spcPct val="99000"/>
              </a:lnSpc>
              <a:tabLst>
                <a:tab algn="l" pos="0"/>
                <a:tab algn="l" pos="50652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Thailand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50652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March 11-15, 2008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50652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lvl="1" marL="431640" indent="-215640" algn="ctr">
              <a:lnSpc>
                <a:spcPct val="98000"/>
              </a:lnSpc>
              <a:tabLst>
                <a:tab algn="l" pos="0"/>
                <a:tab algn="l" pos="50652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lvl="1" marL="431640" indent="-215640" algn="ctr">
              <a:lnSpc>
                <a:spcPct val="98000"/>
              </a:lnSpc>
              <a:tabLst>
                <a:tab algn="l" pos="0"/>
                <a:tab algn="l" pos="50652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31640" indent="-215640" algn="ctr">
              <a:lnSpc>
                <a:spcPct val="98000"/>
              </a:lnSpc>
              <a:tabLst>
                <a:tab algn="l" pos="0"/>
                <a:tab algn="l" pos="50652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31640" indent="-215640" algn="ctr">
              <a:lnSpc>
                <a:spcPct val="98000"/>
              </a:lnSpc>
              <a:tabLst>
                <a:tab algn="l" pos="0"/>
                <a:tab algn="l" pos="50652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19280" y="4319640"/>
            <a:ext cx="48643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ggregated Flow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981080"/>
            <a:ext cx="8534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02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02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t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rcPort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stPort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2" name=""/>
          <p:cNvSpPr/>
          <p:nvPr/>
        </p:nvSpPr>
        <p:spPr>
          <a:xfrm>
            <a:off x="88920" y="2463840"/>
            <a:ext cx="868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2562120"/>
            <a:ext cx="896472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   TCP    32000  23          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   TCP    23        3200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   ICMP  0           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   ICMP  0           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" name=""/>
          <p:cNvSpPr/>
          <p:nvPr/>
        </p:nvSpPr>
        <p:spPr>
          <a:xfrm>
            <a:off x="1497960" y="4599000"/>
            <a:ext cx="5638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urce/Destination IP Aggrega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956120"/>
            <a:ext cx="617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02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413320"/>
            <a:ext cx="662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7" name=""/>
          <p:cNvSpPr/>
          <p:nvPr/>
        </p:nvSpPr>
        <p:spPr>
          <a:xfrm>
            <a:off x="-231480" y="5661000"/>
            <a:ext cx="5330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8" name=""/>
          <p:cNvSpPr/>
          <p:nvPr/>
        </p:nvSpPr>
        <p:spPr>
          <a:xfrm>
            <a:off x="2484000" y="1371600"/>
            <a:ext cx="4361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ain Active flow tab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Working with Flo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 fontScale="97000"/>
          </a:bodyPr>
          <a:p>
            <a:pPr marL="360360" indent="-326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enerating and Viewing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26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porting Flows from devic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ypes of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ampling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26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ng i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ols to Collect Flows - Flow-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26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alyzing i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re tools available, can write your 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 Descripto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533088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46040" indent="-4111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 Key with more elements will generate more flo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reater number of flows leads to more post processing time to generate reports, more memory and CPU requirements for device generating flo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pends on application.  Traffic engineering vs. intrusion det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 Account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counting information accumulated with flo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ckets, Bytes, Start Time, End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work routing information – masks and autonomous system nu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 Generation/Colle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46040" indent="-4111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ssive mon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6640" indent="-3445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 passive monitor (usually a unix host) receives all data and generates flow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6640" indent="-3445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source intensive, newer investment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uter or other existing network de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6640" indent="-344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uter or other existing devices like switch, generate flow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6640" indent="-344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ampling i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6640" indent="-344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hing new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21360" y="4680000"/>
            <a:ext cx="2438280" cy="12193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assive Monitor Colle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1828800"/>
            <a:ext cx="5333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1828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182880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2" name=""/>
          <p:cNvSpPr/>
          <p:nvPr/>
        </p:nvSpPr>
        <p:spPr>
          <a:xfrm>
            <a:off x="681840" y="3124080"/>
            <a:ext cx="20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orkstation 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3" name=""/>
          <p:cNvSpPr/>
          <p:nvPr/>
        </p:nvSpPr>
        <p:spPr>
          <a:xfrm>
            <a:off x="6149160" y="3124080"/>
            <a:ext cx="2094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orkstation B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352600" y="2057400"/>
            <a:ext cx="186048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981080" y="4191120"/>
            <a:ext cx="573120" cy="511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295280" y="228600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858000" y="22860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67080" y="1981080"/>
            <a:ext cx="1595520" cy="236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9" name=""/>
          <p:cNvSpPr/>
          <p:nvPr/>
        </p:nvSpPr>
        <p:spPr>
          <a:xfrm>
            <a:off x="6621480" y="5040360"/>
            <a:ext cx="1430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mpus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788760" cy="458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809880" y="1676520"/>
            <a:ext cx="912960" cy="380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81160" y="4840200"/>
            <a:ext cx="32446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probe connect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 switch port i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“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raffic mirror” mod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" name=""/>
          <p:cNvSpPr/>
          <p:nvPr/>
        </p:nvSpPr>
        <p:spPr>
          <a:xfrm>
            <a:off x="6119640" y="4500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outer Colle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2809440" y="2428560"/>
            <a:ext cx="131292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267080" y="2352600"/>
            <a:ext cx="1455840" cy="9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886120" y="3429000"/>
            <a:ext cx="123192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3429000"/>
            <a:ext cx="160200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3505320"/>
            <a:ext cx="925560" cy="16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" name=""/>
          <p:cNvSpPr/>
          <p:nvPr/>
        </p:nvSpPr>
        <p:spPr>
          <a:xfrm>
            <a:off x="1023480" y="5602320"/>
            <a:ext cx="5018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collect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ores exported flows from router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80000" y="1800360"/>
            <a:ext cx="1752840" cy="914400"/>
            <a:chOff x="5580000" y="1800360"/>
            <a:chExt cx="1752840" cy="91440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5580000" y="1800360"/>
              <a:ext cx="1752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580000" y="1800360"/>
              <a:ext cx="1752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9240" tIns="0" bIns="0" anchor="t">
              <a:noAutofit/>
            </a:bodyPr>
            <a:p>
              <a:pPr marL="30240">
                <a:lnSpc>
                  <a:spcPct val="93000"/>
                </a:lnSpc>
                <a:tabLst>
                  <a:tab algn="l" pos="0"/>
                  <a:tab algn="l" pos="30240"/>
                  <a:tab algn="l" pos="477720"/>
                  <a:tab algn="l" pos="927000"/>
                  <a:tab algn="l" pos="1376280"/>
                  <a:tab algn="l" pos="1825560"/>
                  <a:tab algn="l" pos="2274840"/>
                  <a:tab algn="l" pos="2724120"/>
                  <a:tab algn="l" pos="3173400"/>
                  <a:tab algn="l" pos="3622680"/>
                  <a:tab algn="l" pos="4071960"/>
                  <a:tab algn="l" pos="4521240"/>
                  <a:tab algn="l" pos="4970520"/>
                  <a:tab algn="l" pos="5419800"/>
                  <a:tab algn="l" pos="5869080"/>
                  <a:tab algn="l" pos="6318360"/>
                  <a:tab algn="l" pos="6767640"/>
                  <a:tab algn="l" pos="7216920"/>
                  <a:tab algn="l" pos="7666200"/>
                  <a:tab algn="l" pos="8115480"/>
                  <a:tab algn="l" pos="8564400"/>
                  <a:tab algn="l" pos="90136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LAN </a:t>
              </a:r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759280" y="3586320"/>
            <a:ext cx="1752840" cy="914400"/>
            <a:chOff x="5759280" y="3586320"/>
            <a:chExt cx="1752840" cy="91440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5759280" y="3586320"/>
              <a:ext cx="1752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759280" y="3586320"/>
              <a:ext cx="1752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9240" tIns="0" bIns="0" anchor="t">
              <a:noAutofit/>
            </a:bodyPr>
            <a:p>
              <a:pPr marL="30240">
                <a:lnSpc>
                  <a:spcPct val="93000"/>
                </a:lnSpc>
                <a:tabLst>
                  <a:tab algn="l" pos="0"/>
                  <a:tab algn="l" pos="30240"/>
                  <a:tab algn="l" pos="477720"/>
                  <a:tab algn="l" pos="927000"/>
                  <a:tab algn="l" pos="1376280"/>
                  <a:tab algn="l" pos="1825560"/>
                  <a:tab algn="l" pos="2274840"/>
                  <a:tab algn="l" pos="2724120"/>
                  <a:tab algn="l" pos="3173400"/>
                  <a:tab algn="l" pos="3622680"/>
                  <a:tab algn="l" pos="4071960"/>
                  <a:tab algn="l" pos="4521240"/>
                  <a:tab algn="l" pos="4970520"/>
                  <a:tab algn="l" pos="5419800"/>
                  <a:tab algn="l" pos="5869080"/>
                  <a:tab algn="l" pos="6318360"/>
                  <a:tab algn="l" pos="6767640"/>
                  <a:tab algn="l" pos="7216920"/>
                  <a:tab algn="l" pos="7666200"/>
                  <a:tab algn="l" pos="8115480"/>
                  <a:tab algn="l" pos="8564400"/>
                  <a:tab algn="l" pos="90136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LAN </a:t>
              </a:r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619280" y="1785960"/>
            <a:ext cx="1752480" cy="914400"/>
            <a:chOff x="1619280" y="1785960"/>
            <a:chExt cx="1752480" cy="914400"/>
          </a:xfrm>
        </p:grpSpPr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1619280" y="1785960"/>
              <a:ext cx="1752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619280" y="1785960"/>
              <a:ext cx="17524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9240" tIns="0" bIns="0" anchor="t">
              <a:noAutofit/>
            </a:bodyPr>
            <a:p>
              <a:pPr marL="30240">
                <a:lnSpc>
                  <a:spcPct val="93000"/>
                </a:lnSpc>
                <a:tabLst>
                  <a:tab algn="l" pos="0"/>
                  <a:tab algn="l" pos="30240"/>
                  <a:tab algn="l" pos="477720"/>
                  <a:tab algn="l" pos="927000"/>
                  <a:tab algn="l" pos="1376280"/>
                  <a:tab algn="l" pos="1825560"/>
                  <a:tab algn="l" pos="2274840"/>
                  <a:tab algn="l" pos="2724120"/>
                  <a:tab algn="l" pos="3173400"/>
                  <a:tab algn="l" pos="3622680"/>
                  <a:tab algn="l" pos="4071960"/>
                  <a:tab algn="l" pos="4521240"/>
                  <a:tab algn="l" pos="4970520"/>
                  <a:tab algn="l" pos="5419800"/>
                  <a:tab algn="l" pos="5869080"/>
                  <a:tab algn="l" pos="6318360"/>
                  <a:tab algn="l" pos="6767640"/>
                  <a:tab algn="l" pos="7216920"/>
                  <a:tab algn="l" pos="7666200"/>
                  <a:tab algn="l" pos="8115480"/>
                  <a:tab algn="l" pos="8564400"/>
                  <a:tab algn="l" pos="90136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LAN </a:t>
              </a:r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503600" y="5046840"/>
            <a:ext cx="2362320" cy="927000"/>
            <a:chOff x="4503600" y="5046840"/>
            <a:chExt cx="2362320" cy="927000"/>
          </a:xfrm>
        </p:grpSpPr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4503600" y="5046840"/>
              <a:ext cx="236232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503600" y="5046840"/>
              <a:ext cx="23623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9240" tIns="0" bIns="0" anchor="t">
              <a:noAutofit/>
            </a:bodyPr>
            <a:p>
              <a:pPr marL="30240">
                <a:lnSpc>
                  <a:spcPct val="93000"/>
                </a:lnSpc>
                <a:tabLst>
                  <a:tab algn="l" pos="0"/>
                  <a:tab algn="l" pos="30240"/>
                  <a:tab algn="l" pos="477720"/>
                  <a:tab algn="l" pos="927000"/>
                  <a:tab algn="l" pos="1376280"/>
                  <a:tab algn="l" pos="1825560"/>
                  <a:tab algn="l" pos="2274840"/>
                  <a:tab algn="l" pos="2724120"/>
                  <a:tab algn="l" pos="3173400"/>
                  <a:tab algn="l" pos="3622680"/>
                  <a:tab algn="l" pos="4071960"/>
                  <a:tab algn="l" pos="4521240"/>
                  <a:tab algn="l" pos="4970520"/>
                  <a:tab algn="l" pos="5419800"/>
                  <a:tab algn="l" pos="5869080"/>
                  <a:tab algn="l" pos="6318360"/>
                  <a:tab algn="l" pos="6767640"/>
                  <a:tab algn="l" pos="7216920"/>
                  <a:tab algn="l" pos="7666200"/>
                  <a:tab algn="l" pos="8115480"/>
                  <a:tab algn="l" pos="8564400"/>
                  <a:tab algn="l" pos="90136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V="1">
            <a:off x="1981080" y="3495240"/>
            <a:ext cx="2216160" cy="16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1600200" y="5029200"/>
            <a:ext cx="573120" cy="511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3809880" y="3124080"/>
            <a:ext cx="789120" cy="45900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260360" y="3419640"/>
            <a:ext cx="1752840" cy="914400"/>
            <a:chOff x="1260360" y="3419640"/>
            <a:chExt cx="1752840" cy="914400"/>
          </a:xfrm>
        </p:grpSpPr>
        <p:pic>
          <p:nvPicPr>
            <p:cNvPr id="187" name="" descr=""/>
            <p:cNvPicPr/>
            <p:nvPr/>
          </p:nvPicPr>
          <p:blipFill>
            <a:blip r:embed="rId7"/>
            <a:stretch/>
          </p:blipFill>
          <p:spPr>
            <a:xfrm>
              <a:off x="1260360" y="3419640"/>
              <a:ext cx="1752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260360" y="3419640"/>
              <a:ext cx="1752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9240" tIns="0" bIns="0" anchor="t">
              <a:noAutofit/>
            </a:bodyPr>
            <a:p>
              <a:pPr marL="30240">
                <a:lnSpc>
                  <a:spcPct val="93000"/>
                </a:lnSpc>
                <a:tabLst>
                  <a:tab algn="l" pos="0"/>
                  <a:tab algn="l" pos="30240"/>
                  <a:tab algn="l" pos="477720"/>
                  <a:tab algn="l" pos="927000"/>
                  <a:tab algn="l" pos="1376280"/>
                  <a:tab algn="l" pos="1825560"/>
                  <a:tab algn="l" pos="2274840"/>
                  <a:tab algn="l" pos="2724120"/>
                  <a:tab algn="l" pos="3173400"/>
                  <a:tab algn="l" pos="3622680"/>
                  <a:tab algn="l" pos="4071960"/>
                  <a:tab algn="l" pos="4521240"/>
                  <a:tab algn="l" pos="4970520"/>
                  <a:tab algn="l" pos="5419800"/>
                  <a:tab algn="l" pos="5869080"/>
                  <a:tab algn="l" pos="6318360"/>
                  <a:tab algn="l" pos="6767640"/>
                  <a:tab algn="l" pos="7216920"/>
                  <a:tab algn="l" pos="7666200"/>
                  <a:tab algn="l" pos="8115480"/>
                  <a:tab algn="l" pos="8564400"/>
                  <a:tab algn="l" pos="90136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LAN </a:t>
              </a:r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assive Monitor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5480" y="17776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36680" indent="-401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1120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irectly connected to a LAN segment via a switch port in “mirror” mode, optical splitter, or repeated segment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36680" indent="-401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1120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enerate flows for all local LAN traffic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36680" indent="-401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1120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ust have an interface or monitor deployed on each LAN segment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36680" indent="-401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1120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upport for more detailed flows – bidirectional and application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outer Colle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uter will generate flows for traffic that is directed to the rou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s are not generated for local LAN traff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imited to “simple” flow criteria (packet header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enerally easier to deploy – no new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Vendor implementat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0960" cy="8874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219320"/>
            <a:ext cx="7772400" cy="515304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152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t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t is and how it 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s and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endor Configurations/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isco and Junip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low-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chitectural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ftware, tools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re Discussion / Lab Demons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NetFlow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46040" indent="-4111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nidirectional flo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Pv4 unicast and multica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gregated and unaggreg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s exported via UD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upported on IOS and CatOS platfor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talyst NetFlow is different impleme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NetFlow Vers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46040" indent="-4111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4 Unaggregated types (1,5,6,7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4 Aggregated types (8.x, 9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ach version has its own packet form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ersion 1 does not have sequence numbers – no way to detect lost flo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“version” defines what type of data is in the fl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me versions specific to Catalyst platfor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1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Key fields: Source/Destination IP, Source/Destination Port, IP Protocol, ToS, Input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counting: Packets, Octets, Start/End time, Output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ther: Bitwise OR of TCP fla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5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123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Key fields: Source/Destination IP, Source/Destination Port, IP Protocol, ToS, Input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counting: Packets, Octets, Start/End time, Output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ther: Bitwise OR of TCP flags, Source/Destination AS and IP Mas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cket format adds sequence numbers for detecting lost expor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8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gregated v5 flo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 all flow types available on all equi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uch less data to post process, but loses fine granularity of v5 – no IP addr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8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tocol/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urce 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stination 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st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urce/Dest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ul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8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Protocol/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Source 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Destination 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Source/Destination 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Prefix/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9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1520" indent="-336600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cord formats are defined using templ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mplate descriptions are communicated from the router to the NetFlow Collection Eng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records are sent from the router to the NetFlow Collection Engine with minimal template information so that the NetFlow Collection Engine can relate the records to the appropriate templ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ersion 9 is independent of the underlying transport (UDP, TCP, SCTP, and so 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Packe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mmon header among export ver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l but v1 have a sequence nu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ersion specific data field where N records of data type are expor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 is determined by the size of the flow definition.  Packet size is kept under ~1480 bytes.  No fragmentation on Eth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5 Packet Examp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2209680"/>
            <a:ext cx="2666880" cy="914400"/>
          </a:xfrm>
          <a:prstGeom prst="roundRect">
            <a:avLst>
              <a:gd name="adj" fmla="val 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4" name=""/>
          <p:cNvSpPr/>
          <p:nvPr/>
        </p:nvSpPr>
        <p:spPr>
          <a:xfrm>
            <a:off x="3756240" y="2286000"/>
            <a:ext cx="1575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Flow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5 head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3276720"/>
            <a:ext cx="2666880" cy="53316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6" name=""/>
          <p:cNvSpPr/>
          <p:nvPr/>
        </p:nvSpPr>
        <p:spPr>
          <a:xfrm>
            <a:off x="3874320" y="3352680"/>
            <a:ext cx="1422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5 recor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1676520"/>
            <a:ext cx="2819520" cy="4724280"/>
          </a:xfrm>
          <a:custGeom>
            <a:avLst/>
            <a:gdLst>
              <a:gd name="textAreaLeft" fmla="*/ 360 w 2819520"/>
              <a:gd name="textAreaRight" fmla="*/ 2819160 w 2819520"/>
              <a:gd name="textAreaTop" fmla="*/ 360 h 4724280"/>
              <a:gd name="textAreaBottom" fmla="*/ 4723920 h 4724280"/>
            </a:gdLst>
            <a:ahLst/>
            <a:rect l="textAreaLeft" t="textAreaTop" r="textAreaRight" b="textAreaBottom"/>
            <a:pathLst>
              <a:path w="21600" h="36190">
                <a:moveTo>
                  <a:pt x="12" y="0"/>
                </a:moveTo>
                <a:arcTo wR="12" hR="12" stAng="16200000" swAng="-5400000"/>
                <a:lnTo>
                  <a:pt x="0" y="36178"/>
                </a:lnTo>
                <a:arcTo wR="12" hR="12" stAng="10800000" swAng="-5400000"/>
                <a:lnTo>
                  <a:pt x="21588" y="36190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8" name=""/>
          <p:cNvSpPr/>
          <p:nvPr/>
        </p:nvSpPr>
        <p:spPr>
          <a:xfrm>
            <a:off x="3293280" y="1752480"/>
            <a:ext cx="2446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P/UDP packe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563868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0" name=""/>
          <p:cNvSpPr/>
          <p:nvPr/>
        </p:nvSpPr>
        <p:spPr>
          <a:xfrm>
            <a:off x="3874320" y="5715000"/>
            <a:ext cx="1422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5 recor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11480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4876920"/>
            <a:ext cx="2666880" cy="53316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3" name=""/>
          <p:cNvSpPr/>
          <p:nvPr/>
        </p:nvSpPr>
        <p:spPr>
          <a:xfrm>
            <a:off x="4337640" y="4191120"/>
            <a:ext cx="311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4" name=""/>
          <p:cNvSpPr/>
          <p:nvPr/>
        </p:nvSpPr>
        <p:spPr>
          <a:xfrm>
            <a:off x="4337640" y="4952880"/>
            <a:ext cx="311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work Flo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ckets or frames that have a common attribu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reation and expiration policy – what conditions start and stop a fl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unters – packets,bytes,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uting information – AS, network mask, interfa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5 Packet (Header)</a:t>
            </a: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6" name=""/>
          <p:cNvSpPr/>
          <p:nvPr/>
        </p:nvSpPr>
        <p:spPr>
          <a:xfrm>
            <a:off x="547200" y="2057400"/>
            <a:ext cx="81781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ftpdu_v5 {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24 byte header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version;       /* 5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count;         /* The number of records in the PDU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sysUpTime;     /* Current time in millisecs since router booted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unix_secs;     /* Current seconds since 0000 UTC 1970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unix_nsecs;    /* Residual nanoseconds since 0000 UTC 1970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flow_sequence; /* Seq counter of total flows seen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engine_type;   /* Type of flow switching engine (RP,VIP,etc.)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engine_id;     /* Slot number of the flow switching engine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reserved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5 Packet (Records)</a:t>
            </a: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660680"/>
            <a:ext cx="784872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48 byte payload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ftrec_v5 {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srcaddr;    /* Source IP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staddr;    /* Destination IP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nexthop;    /* Next hop router's IP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input;      /* Input interface index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output;     /* Output interface index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Pkts;      /* Packets sent in Duration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Octets;    /* Octets sent in Duration.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First;      /* SysUptime at start of flow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Last;       /* and of last packet of flow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srcport;    /* TCP/UDP source port number or equivalent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dstport;    /* TCP/UDP destination port number or equiv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pad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tcp_flags;  /* Cumulative OR of tcp flag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prot;       /* IP protocol, e.g., 6=TCP, 17=UDP, ...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tos;        /* IP Type-of-Service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src_as;     /* originating AS of source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dst_as;     /* originating AS of destination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src_mask;   /* source address prefix mask bit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dst_mask;   /* destination address prefix mask bit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drops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records[FT_PDU_V5_MAXFLOWS]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8 Packet Exampl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(AS Aggregation)</a:t>
            </a: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2514600"/>
            <a:ext cx="2666880" cy="914400"/>
          </a:xfrm>
          <a:prstGeom prst="roundRect">
            <a:avLst>
              <a:gd name="adj" fmla="val 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1" name=""/>
          <p:cNvSpPr/>
          <p:nvPr/>
        </p:nvSpPr>
        <p:spPr>
          <a:xfrm>
            <a:off x="3678480" y="2590920"/>
            <a:ext cx="1575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Flow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8 head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358128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3" name=""/>
          <p:cNvSpPr/>
          <p:nvPr/>
        </p:nvSpPr>
        <p:spPr>
          <a:xfrm>
            <a:off x="3798360" y="3657600"/>
            <a:ext cx="1422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8 recor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1981080"/>
            <a:ext cx="2819520" cy="4724640"/>
          </a:xfrm>
          <a:custGeom>
            <a:avLst/>
            <a:gdLst>
              <a:gd name="textAreaLeft" fmla="*/ 360 w 2819520"/>
              <a:gd name="textAreaRight" fmla="*/ 2819160 w 2819520"/>
              <a:gd name="textAreaTop" fmla="*/ 360 h 4724640"/>
              <a:gd name="textAreaBottom" fmla="*/ 4724280 h 4724640"/>
            </a:gdLst>
            <a:ahLst/>
            <a:rect l="textAreaLeft" t="textAreaTop" r="textAreaRight" b="textAreaBottom"/>
            <a:pathLst>
              <a:path w="21600" h="36193">
                <a:moveTo>
                  <a:pt x="12" y="0"/>
                </a:moveTo>
                <a:arcTo wR="12" hR="12" stAng="16200000" swAng="-5400000"/>
                <a:lnTo>
                  <a:pt x="0" y="36181"/>
                </a:lnTo>
                <a:arcTo wR="12" hR="12" stAng="10800000" swAng="-5400000"/>
                <a:lnTo>
                  <a:pt x="21588" y="36193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5" name=""/>
          <p:cNvSpPr/>
          <p:nvPr/>
        </p:nvSpPr>
        <p:spPr>
          <a:xfrm>
            <a:off x="3216960" y="2057400"/>
            <a:ext cx="2446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P/UDP packe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594360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7" name=""/>
          <p:cNvSpPr/>
          <p:nvPr/>
        </p:nvSpPr>
        <p:spPr>
          <a:xfrm>
            <a:off x="3798360" y="6019920"/>
            <a:ext cx="1422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8 recor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4419720"/>
            <a:ext cx="2666880" cy="53316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518148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0" name=""/>
          <p:cNvSpPr/>
          <p:nvPr/>
        </p:nvSpPr>
        <p:spPr>
          <a:xfrm>
            <a:off x="4259880" y="4495680"/>
            <a:ext cx="311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1" name=""/>
          <p:cNvSpPr/>
          <p:nvPr/>
        </p:nvSpPr>
        <p:spPr>
          <a:xfrm>
            <a:off x="4259880" y="5257800"/>
            <a:ext cx="311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18302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8 AS agg. Pack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3" name=""/>
          <p:cNvSpPr/>
          <p:nvPr/>
        </p:nvSpPr>
        <p:spPr>
          <a:xfrm>
            <a:off x="470880" y="1235160"/>
            <a:ext cx="817812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ftpdu_v8_1 {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28 byte header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version;       /* 8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count;         /* The number of records in the PDU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sysUpTime;     /* Current time in millisecs since router booted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unix_secs;     /* Current seconds since 0000 UTC 1970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unix_nsecs;    /* Residual nanoseconds since 0000 UTC 1970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flow_sequence; /* Seq counter of total flows seen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engine_type;   /* Type of flow switching engine (RP,VIP,etc.)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engine_id;     /* Slot number of the flow switching engine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aggregation;   /* Aggregation method being used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agg_version;   /* Version of the aggregation export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reserved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28 byte payload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ftrec_v8_1 {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Flows;     /* Number of flow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Pkts;      /* Packets sent in duration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Octets;    /* Octets sent in duration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First;      /* SysUpTime at start of flow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Last;       /* and of last packet of flow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src_as;     /* originating AS of source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dst_as;     /* originating AS of destination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input;      /* input interface index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output;     /* output interface index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records[FT_PDU_V8_1_MAXFLOWS]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8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46040" indent="-4111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nfigured on each input interf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fine the ver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fine the IP address of the collector (where to send the flow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ptionally enable aggregation t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ptionally configure flow timeout and main (v5) flow table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ptionally configure sample 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7" name=""/>
          <p:cNvSpPr/>
          <p:nvPr/>
        </p:nvSpPr>
        <p:spPr>
          <a:xfrm>
            <a:off x="2368440" y="1668600"/>
            <a:ext cx="458784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FastEthernet0/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 Access to backbone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address 169.223.11.194 255.255.252.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route-cache flow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uplex aut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aut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FastEthernet0/1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 Access to local net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address 169.223.2.1 255.255.255.12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route-cache flow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uplex aut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aut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export version 5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export destination 169.223.2.2 5004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360" y="1584360"/>
            <a:ext cx="7772400" cy="50990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t">
            <a:normAutofit/>
          </a:bodyPr>
          <a:p>
            <a:pPr marL="739800" indent="-7048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Change in command in newer IO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73980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73980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FastEthernet0/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73980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route-cache flow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Osak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! Prior to IOS 12.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73980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 [ingress|egress]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Osak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! From IOS 12.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73980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739800" indent="-7048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Lucida Grande"/>
              <a:buChar char="•"/>
              <a:tabLst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If CEF is not configured on the router, this turns off the existing switching path on the router and enables NetFlow switching (basically modified optimum switching)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739800" indent="-7048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Lucida Grande"/>
              <a:buChar char="•"/>
              <a:tabLst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If CEF is configured on the router, NetFlow simply becomes a "flow information gatherer" and feature accelerator—CEF remains operational as the underlying switching proces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1" name=""/>
          <p:cNvSpPr/>
          <p:nvPr/>
        </p:nvSpPr>
        <p:spPr>
          <a:xfrm>
            <a:off x="318600" y="1676520"/>
            <a:ext cx="8238600" cy="34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w-169-223-2-0#sh ip flow export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w export v5 is enabled for main cach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rt source and destination details :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RF ID : Defaul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(1)  169.223.2.2 (5004)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sion 5 flow record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5074 flows exported in 3348 udp datagram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flows failed due to lack of export packe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export packets were sent up to process level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export packets were dropped due to no fib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export packets were dropped due to adjacency issu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export packets were dropped due to fragmentation failur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export packets were dropped due to encapsulation fixup failur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4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66068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w-169-223-2-0#sh ip cache flow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packet size distribution (3689551 total packets):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-32   64   96  128  160  192  224  256  288  320  352  384  416  448  48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000 .483 .189 .014 .002 .003 .001 .000 .000 .000 .000 .000 .000 .000 .001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12  544  576 1024 1536 2048 2560 3072 3584 4096 46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001 .000 .008 .002 .288 .000 .000 .000 .000 .000 .00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 Switching Cache, 278544 byt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6 active, 4070 inactive, 55206 added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430681 ager polls, 0 flow alloc failur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ve flows timeout in 30 minut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active flows timeout in 15 second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Sub Flow Cache, 25800 byt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6 active, 998 inactive, 55154 added, 55154 added to flow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alloc failures, 0 force free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chunk, 2 chunks added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clearing of statistics never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5" name=""/>
          <p:cNvSpPr/>
          <p:nvPr/>
        </p:nvSpPr>
        <p:spPr>
          <a:xfrm>
            <a:off x="952560" y="1168560"/>
            <a:ext cx="7224480" cy="45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tocol         Total    Flows   Packets Bytes  Packets Active(Sec) Idle(Sec)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         Flows     /Sec     /Flow  /Pkt     /Sec     /Flow     /Flow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Telnet        3357      0.0        35    92      1.3       0.5      11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FTP            128      0.0        19    97      0.0       0.6       1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FTPD           128      0.0       105   771      0.1       0.2       1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WWW          13462      0.1       125   962     19.3       7.0       5.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X              269      0.0         1    40      0.0       0.0      14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other         9107      0.1       154    62     16.1       6.9       8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DP-DNS           2248      0.0         1    73      0.0       0.8      15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DP-NTP           3132      0.0         1    76      0.0       0.0      15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DP-TFTP            24      0.0         6    49      0.0      30.0      15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DP-Frag             6      0.0         1    32      0.0       0.0      15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DP-other         6700      0.0         9   104      0.7       2.2      15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CMP             16661      0.1        23    87      4.5      18.5      15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:           55222      0.6        66   480     42.3       8.8      11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rcIf         SrcIPaddress    DstIf         DstIPaddress    Pr SrcP DstP  Pkts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195   Fa0/0         202.128.0.7     01 0000 0800     4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195   Fa0/0         218.185.127.204 01 0000 0800     4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2     Fa0/0         169.223.15.102  06 0016 C917    89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2     Local         169.223.2.1     06 DB27 0016   120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195   Fa0/0         202.128.31.179  01 0000 0800     4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208.81.191.133  Fa0/1         169.223.2.194   06 0050 8452     3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work Flo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nidirectional or bidirect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idirectional flows can contain other information such as round trip time, TCP behavi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pplication flows look past the headers to classify packets by their cont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gregated flows – flows of flo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360" y="37944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60000" y="1345680"/>
            <a:ext cx="8597880" cy="513396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t">
            <a:normAutofit/>
          </a:bodyPr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top-talker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p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-by by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w-169-223-2-0#sh ip flow top-talker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rcIf         SrcIPaddress    DstIf         DstIPaddress    Pr SrcP DstP By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2     Fa0/0         169.223.11.33   06 0050 0B64  3444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2     Fa0/0         169.223.11.33   06 0050 0B12  3181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169.223.11.33   Fa0/1         169.223.2.2     06 0B12 0050    56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169.223.11.33   Fa0/1         169.223.2.2     06 0B64 0050    55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2     Local         169.223.2.1     01 0000 0303    18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130   Fa0/0         64.18.197.134   06 9C45 0050    15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130   Fa0/0         64.18.197.134   06 9C44 0050    12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213.144.138.195 Fa0/1         169.223.2.130   06 01BB DC31  7167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169.223.15.102  Fa0/1         169.223.2.2     06 C917 0016  273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2     Local         169.223.2.1     06 DB27 0016  230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of 10 top talkers shown. 49 flows processe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24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command summar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152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able CE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344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cef –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this is the default nowad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able flow on each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3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route-cache flow 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3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 ing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3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 eg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3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iew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344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 ip cache f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344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 ip flow top-talk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360" y="379440"/>
            <a:ext cx="7772400" cy="99216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Command Summar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t">
            <a:normAutofit/>
          </a:bodyPr>
          <a:p>
            <a:pPr marL="733320" indent="-698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orting Flows to a coll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export version 5 [origin-as|peer-a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export destination x.x.x.x &lt;udp-por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733320" indent="-698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orting aggregated flow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aggregation cache as|prefix|dest|source|prot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nabl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rt destination x.x.x.x &lt;udp-port&gt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s and Applicat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Uses for Flow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152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 identification / s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affic classif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S Traceback (some slides by Danny McPherson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-AS traffic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porting on application prox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ross verification from other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n cross-check with SNMP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Traffic Classification</a:t>
            </a:r>
            <a:r>
              <a:rPr b="0" lang="en-GB" sz="4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152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ased on Protocol, source and destination 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tocol identification (TCP, UDP, ICM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n define well known 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n identify well known P2P por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st common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73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xy measurement - http , f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73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te limiting P2P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Traceback: Flow-based*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040960" cy="427032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152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ace attack by matching fingerprint/signature at each interface via passive monito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low data (e.g., NetFlow, cflowd, sFlow, IPFIX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an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SAMP (Packet Sampling, IETF PSAMP WG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mber of open source and commercial products evolving in 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n-intrusive, widely suppo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based Detection*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152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nitor flows (i.e., Network and Transport Layer transactions) on the network and build baselines for what normal behavior looks lik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e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er pref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er Transport Layer protocol &amp; 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uild time-based buckets (e.g., 5 minutes, 30 minutes, 1 hours, 12 hours, day of week, day of month, day of year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872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Grande"/>
              </a:rPr>
              <a:t>Detect Anomalous Events: SQL “Slammer” Worm*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-19080" y="2340000"/>
            <a:ext cx="6319800" cy="4259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200400" y="1619280"/>
            <a:ext cx="5943600" cy="22780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4545000" y="4319640"/>
            <a:ext cx="42750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based Detection (cont)*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296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ce baselines are built anomalous activity can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328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ur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ate-based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pps or bps) anomalies may be legitimate or malic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328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ny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isus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attacks can be immediately recognized, even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ithou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aselines (e.g., TCP SYN or RST floods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328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ignature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can also be defined to identify “interesting” transactional data (e.g., proto udp and port 1434 and 404 octets(376 payload) == slammer!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328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emporal compound signatures can be defined to detect with higher prec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Unidirectional Flow with Source/Destination IP K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086600" y="2438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31920" y="2666880"/>
            <a:ext cx="3506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/>
          <p:nvPr/>
        </p:nvSpPr>
        <p:spPr>
          <a:xfrm>
            <a:off x="932400" y="3164040"/>
            <a:ext cx="1185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"/>
          <p:cNvSpPr/>
          <p:nvPr/>
        </p:nvSpPr>
        <p:spPr>
          <a:xfrm>
            <a:off x="6815880" y="3200400"/>
            <a:ext cx="1185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"/>
          <p:cNvSpPr/>
          <p:nvPr/>
        </p:nvSpPr>
        <p:spPr>
          <a:xfrm>
            <a:off x="2381760" y="2097000"/>
            <a:ext cx="2429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telnet 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808000" y="3581280"/>
            <a:ext cx="3220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"/>
          <p:cNvSpPr/>
          <p:nvPr/>
        </p:nvSpPr>
        <p:spPr>
          <a:xfrm>
            <a:off x="3181680" y="3048120"/>
            <a:ext cx="8719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/>
          <p:nvPr/>
        </p:nvSpPr>
        <p:spPr>
          <a:xfrm>
            <a:off x="3225240" y="4191120"/>
            <a:ext cx="25041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11480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876920"/>
            <a:ext cx="6172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02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334120"/>
            <a:ext cx="6629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"/>
          <p:cNvSpPr/>
          <p:nvPr/>
        </p:nvSpPr>
        <p:spPr>
          <a:xfrm>
            <a:off x="-12600" y="5510160"/>
            <a:ext cx="5330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based Commercial Tools…*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2217" t="21477" r="3212" b="0"/>
          <a:stretch/>
        </p:blipFill>
        <p:spPr>
          <a:xfrm>
            <a:off x="685800" y="1600200"/>
            <a:ext cx="723888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219320" y="1415880"/>
            <a:ext cx="6933960" cy="50612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Commercial Detec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 Large Scale DOS attack*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Traceback: Commercial*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40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0240">
              <a:lnSpc>
                <a:spcPct val="95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295280" y="1316160"/>
            <a:ext cx="6578640" cy="47718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7086600" y="1905120"/>
            <a:ext cx="609480" cy="152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743200"/>
            <a:ext cx="761760" cy="2286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1211400"/>
            <a:ext cx="7221240" cy="5229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1800" y="-360"/>
            <a:ext cx="7119720" cy="151452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Commercial Traceback: More Detail*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Traffic Analysi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 fontScale="97000"/>
          </a:bodyPr>
          <a:p>
            <a:pPr marL="360360" indent="-326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 see traffic based on source and destination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 and destination AS derived through the routing table on the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roduces the need to run full mesh BGP at IXPs as well as transit and p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 and destination prefix based flows can be collected and plotted against external prefix to AS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ount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152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low based accounting can be a good supplement to SNMP based accoun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SNMP and Flo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5859360" cy="1581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447920" y="2666880"/>
            <a:ext cx="5867280" cy="1582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1447920" y="4267080"/>
            <a:ext cx="5859360" cy="15811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990720" y="5943600"/>
            <a:ext cx="617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ata Courtesy  AARNET, Australia and Bruce Morgan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96048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See the fine lines..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100560" cy="16462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447920" y="4191120"/>
            <a:ext cx="6095880" cy="16444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990720" y="5943600"/>
            <a:ext cx="617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ata Courtesy  AARNET, Australia and Bruce Morgan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1447920" y="2514600"/>
            <a:ext cx="609588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0382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SNMP and Flo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095880" cy="1644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43000" y="2597040"/>
            <a:ext cx="6095880" cy="16448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1143000" y="4254480"/>
            <a:ext cx="6095880" cy="16448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990720" y="5943600"/>
            <a:ext cx="617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ata Courtesy  AARNET, Australia and Bruce Morgan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What Nex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845964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152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PFIX (IP Flow Information Exchange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make the flow format uniform and make it easier to write analysis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www1.ietf.org/html.charters/ipfix-charter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Requirements for IP Flow Information Export (RFC 3917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valuation of Candidate Protocols for IP Flow Information Export (IPFIX) (RFC 3955)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Unidirectional Flow with Source/Destination IP K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086600" y="2438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52520" y="2879640"/>
            <a:ext cx="3506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"/>
          <p:cNvSpPr/>
          <p:nvPr/>
        </p:nvSpPr>
        <p:spPr>
          <a:xfrm>
            <a:off x="932400" y="3164040"/>
            <a:ext cx="1185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/>
          <p:nvPr/>
        </p:nvSpPr>
        <p:spPr>
          <a:xfrm>
            <a:off x="6815880" y="3200400"/>
            <a:ext cx="1185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"/>
          <p:cNvSpPr/>
          <p:nvPr/>
        </p:nvSpPr>
        <p:spPr>
          <a:xfrm>
            <a:off x="2703960" y="1905120"/>
            <a:ext cx="2429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telnet 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808000" y="3886200"/>
            <a:ext cx="3220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2971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"/>
          <p:cNvSpPr/>
          <p:nvPr/>
        </p:nvSpPr>
        <p:spPr>
          <a:xfrm>
            <a:off x="3225240" y="4191120"/>
            <a:ext cx="25041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11480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876920"/>
            <a:ext cx="8534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02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5334120"/>
            <a:ext cx="6629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"/>
          <p:cNvSpPr/>
          <p:nvPr/>
        </p:nvSpPr>
        <p:spPr>
          <a:xfrm>
            <a:off x="-12600" y="5510160"/>
            <a:ext cx="5330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"/>
          <p:cNvSpPr/>
          <p:nvPr/>
        </p:nvSpPr>
        <p:spPr>
          <a:xfrm>
            <a:off x="2705040" y="2362320"/>
            <a:ext cx="2240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ping 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429000"/>
            <a:ext cx="271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CMP echo rep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89420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 fontScale="99000"/>
          </a:bodyPr>
          <a:p>
            <a:pPr marL="452520" indent="-4179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-tools: </a:t>
            </a: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http://www.splintered.net/sw/flow-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17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Flow Applications </a:t>
            </a:r>
            <a:r>
              <a:rPr b="0" lang="en-GB" sz="2400" spc="-1" strike="noStrike">
                <a:solidFill>
                  <a:srgbClr val="000080"/>
                </a:solidFill>
                <a:latin typeface="Lucida Grande"/>
                <a:ea typeface="Lucida Grande"/>
              </a:rPr>
              <a:t>http://www.inmon.com/technology/netflowapps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17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flow HOW-TO</a:t>
            </a:r>
            <a:br>
              <a:rPr sz="3200"/>
            </a:b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http://www.linuxgeek.org/netflow-howto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17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ETF standards effort:</a:t>
            </a:r>
            <a:br>
              <a:rPr sz="3200"/>
            </a:br>
            <a:r>
              <a:rPr b="0" lang="en-GB" sz="2400" spc="-1" strike="noStrike">
                <a:solidFill>
                  <a:srgbClr val="000080"/>
                </a:solidFill>
                <a:latin typeface="Lucida Grande"/>
                <a:ea typeface="Lucida Grande"/>
              </a:rPr>
              <a:t>http://www.ietf.org/html.charters/ipfix-charter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0000" y="1980720"/>
            <a:ext cx="8459640" cy="521172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57200" indent="-422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bilene NetFlow page</a:t>
            </a:r>
            <a:br>
              <a:rPr sz="3200"/>
            </a:b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http://abilene-netflow.itec.oar.net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-tools mailing list:                      </a:t>
            </a: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flow-tools@splintered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isco Centric Open Source Community </a:t>
            </a: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http://cosi-nms.sourceforge.net/related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9880"/>
            <a:ext cx="7772400" cy="19508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Unidirectional Flow with IP, Port,Protocol K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20829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86600" y="20829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4560" y="2540160"/>
            <a:ext cx="3506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"/>
          <p:cNvSpPr/>
          <p:nvPr/>
        </p:nvSpPr>
        <p:spPr>
          <a:xfrm>
            <a:off x="918360" y="2808360"/>
            <a:ext cx="908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"/>
          <p:cNvSpPr/>
          <p:nvPr/>
        </p:nvSpPr>
        <p:spPr>
          <a:xfrm>
            <a:off x="6801480" y="2844720"/>
            <a:ext cx="908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08000" y="3530520"/>
            <a:ext cx="3220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"/>
          <p:cNvSpPr/>
          <p:nvPr/>
        </p:nvSpPr>
        <p:spPr>
          <a:xfrm>
            <a:off x="3107160" y="2616120"/>
            <a:ext cx="6706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gin: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"/>
          <p:cNvSpPr/>
          <p:nvPr/>
        </p:nvSpPr>
        <p:spPr>
          <a:xfrm>
            <a:off x="3203280" y="3835440"/>
            <a:ext cx="14385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ive Flow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759120"/>
            <a:ext cx="9144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3689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02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02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t     srcPort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stPor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826160"/>
            <a:ext cx="868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950000"/>
            <a:ext cx="83818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          TCP    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2000  23             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          TCP    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3        32000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         ICMP  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0           0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         ICMP  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0           0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"/>
          <p:cNvSpPr/>
          <p:nvPr/>
        </p:nvSpPr>
        <p:spPr>
          <a:xfrm>
            <a:off x="3028320" y="1828800"/>
            <a:ext cx="184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telnet 10.0.0.2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ping 10.0.0.2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073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CMP echo repl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Bidirectional Flow with IP, Port,Protocol K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086600" y="2438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84560" y="2895480"/>
            <a:ext cx="3506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"/>
          <p:cNvSpPr/>
          <p:nvPr/>
        </p:nvSpPr>
        <p:spPr>
          <a:xfrm>
            <a:off x="932400" y="3164040"/>
            <a:ext cx="1185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"/>
          <p:cNvSpPr/>
          <p:nvPr/>
        </p:nvSpPr>
        <p:spPr>
          <a:xfrm>
            <a:off x="6815880" y="3200400"/>
            <a:ext cx="1185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"/>
          <p:cNvSpPr/>
          <p:nvPr/>
        </p:nvSpPr>
        <p:spPr>
          <a:xfrm>
            <a:off x="2703960" y="1905120"/>
            <a:ext cx="2429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telnet 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695320" y="3959280"/>
            <a:ext cx="2889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"/>
          <p:cNvSpPr/>
          <p:nvPr/>
        </p:nvSpPr>
        <p:spPr>
          <a:xfrm>
            <a:off x="3103920" y="2971800"/>
            <a:ext cx="8719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" name=""/>
          <p:cNvSpPr/>
          <p:nvPr/>
        </p:nvSpPr>
        <p:spPr>
          <a:xfrm>
            <a:off x="3225240" y="4191120"/>
            <a:ext cx="25041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11480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724280"/>
            <a:ext cx="9360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02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02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       prot     srcPort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stPor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5181480"/>
            <a:ext cx="8686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5305320"/>
            <a:ext cx="8381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         TCP    32000  23         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ICMP  0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"/>
          <p:cNvSpPr/>
          <p:nvPr/>
        </p:nvSpPr>
        <p:spPr>
          <a:xfrm>
            <a:off x="2705040" y="2362320"/>
            <a:ext cx="2240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ping 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3429000"/>
            <a:ext cx="285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CMP echo rep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8272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pplication Flow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86600" y="22096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4560" y="2666880"/>
            <a:ext cx="3506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" name=""/>
          <p:cNvSpPr/>
          <p:nvPr/>
        </p:nvSpPr>
        <p:spPr>
          <a:xfrm>
            <a:off x="932400" y="2935440"/>
            <a:ext cx="1185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"/>
          <p:cNvSpPr/>
          <p:nvPr/>
        </p:nvSpPr>
        <p:spPr>
          <a:xfrm>
            <a:off x="6815880" y="2971800"/>
            <a:ext cx="1185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"/>
          <p:cNvSpPr/>
          <p:nvPr/>
        </p:nvSpPr>
        <p:spPr>
          <a:xfrm>
            <a:off x="2624040" y="1981080"/>
            <a:ext cx="4241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firefox http://10.0.0.2/909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08000" y="3657600"/>
            <a:ext cx="3220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" name=""/>
          <p:cNvSpPr/>
          <p:nvPr/>
        </p:nvSpPr>
        <p:spPr>
          <a:xfrm>
            <a:off x="3161520" y="3124080"/>
            <a:ext cx="2100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ntent-type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" name=""/>
          <p:cNvSpPr/>
          <p:nvPr/>
        </p:nvSpPr>
        <p:spPr>
          <a:xfrm>
            <a:off x="3225240" y="3809880"/>
            <a:ext cx="25041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39740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778280"/>
            <a:ext cx="853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02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02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5235480"/>
            <a:ext cx="8686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53593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487440" indent="-457200">
              <a:lnSpc>
                <a:spcPct val="93000"/>
              </a:lnSpc>
              <a:tabLst>
                <a:tab algn="l" pos="0"/>
                <a:tab algn="l" pos="48744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20480"/>
                <a:tab algn="l" pos="107744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   HTTP            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" name=""/>
          <p:cNvSpPr/>
          <p:nvPr/>
        </p:nvSpPr>
        <p:spPr>
          <a:xfrm>
            <a:off x="7408800" y="1549440"/>
            <a:ext cx="1663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b server on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0240">
              <a:lnSpc>
                <a:spcPct val="93000"/>
              </a:lnSpc>
              <a:tabLst>
                <a:tab algn="l" pos="0"/>
                <a:tab algn="l" pos="30240"/>
                <a:tab algn="l" pos="477720"/>
                <a:tab algn="l" pos="927000"/>
                <a:tab algn="l" pos="1376280"/>
                <a:tab algn="l" pos="1825560"/>
                <a:tab algn="l" pos="2274840"/>
                <a:tab algn="l" pos="2724120"/>
                <a:tab algn="l" pos="3173400"/>
                <a:tab algn="l" pos="3622680"/>
                <a:tab algn="l" pos="4071960"/>
                <a:tab algn="l" pos="4521240"/>
                <a:tab algn="l" pos="4970520"/>
                <a:tab algn="l" pos="5419800"/>
                <a:tab algn="l" pos="5869080"/>
                <a:tab algn="l" pos="6318360"/>
                <a:tab algn="l" pos="6767640"/>
                <a:tab algn="l" pos="7216920"/>
                <a:tab algn="l" pos="7666200"/>
                <a:tab algn="l" pos="8115480"/>
                <a:tab algn="l" pos="8564400"/>
                <a:tab algn="l" pos="9013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rt 909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