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33080" y="1006200"/>
            <a:ext cx="5095800" cy="34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02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7800"/>
            <a:ext cx="93502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963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7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240" y="4537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06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1520" y="1963800"/>
            <a:ext cx="30106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3040" y="1963800"/>
            <a:ext cx="30106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7800"/>
            <a:ext cx="30106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1520" y="4537800"/>
            <a:ext cx="30106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3040" y="4537800"/>
            <a:ext cx="30106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02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02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2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240" y="1963800"/>
            <a:ext cx="4562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59788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-20628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963800"/>
            <a:ext cx="4562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7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2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240" y="1963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240" y="4537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240" y="1963800"/>
            <a:ext cx="45626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7800"/>
            <a:ext cx="93502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02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8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84000"/>
              </a:lnSpc>
              <a:spcBef>
                <a:spcPts val="726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0640" indent="-212760">
              <a:lnSpc>
                <a:spcPct val="8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3" marL="1717560" indent="-206280">
              <a:lnSpc>
                <a:spcPct val="84000"/>
              </a:lnSpc>
              <a:spcBef>
                <a:spcPts val="726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4" marL="2149560" indent="-208080">
              <a:lnSpc>
                <a:spcPct val="8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5" marL="2149560" indent="-208080">
              <a:lnSpc>
                <a:spcPct val="84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6" marL="2149560" indent="-208080">
              <a:lnSpc>
                <a:spcPct val="84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5880" y="1787040"/>
            <a:ext cx="877248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2280" indent="-212760" algn="ctr">
              <a:lnSpc>
                <a:spcPct val="98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2280" indent="-212760" algn="ctr">
              <a:lnSpc>
                <a:spcPct val="98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2280" indent="-212760" algn="ctr">
              <a:lnSpc>
                <a:spcPct val="98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2280" indent="-212760" algn="ctr">
              <a:lnSpc>
                <a:spcPct val="99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2280" indent="-212760" algn="ctr">
              <a:lnSpc>
                <a:spcPct val="99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06280" indent="-206280" algn="ctr">
              <a:lnSpc>
                <a:spcPct val="99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06280" indent="-206280" algn="ctr">
              <a:lnSpc>
                <a:spcPct val="99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2280" indent="-212760" algn="ctr">
              <a:lnSpc>
                <a:spcPct val="98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2280" indent="-212760" algn="ctr">
              <a:lnSpc>
                <a:spcPct val="98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2280" indent="-212760" algn="ctr">
              <a:lnSpc>
                <a:spcPct val="98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2280" indent="-212760" algn="ctr">
              <a:lnSpc>
                <a:spcPct val="98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Operations and Network Management 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21080" y="4897440"/>
            <a:ext cx="48639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360" y="1855800"/>
            <a:ext cx="93600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Active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Ping – test connectivity to a hos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Traceroute – show path to a hos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TR – combination of ping + traceroute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NMP collectors (polling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Passive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log monitoring, SNMP trap receiver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Automated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mokePing – record and graph latency to a set of hosts, using ICMP (Ping) or other protocol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RTG – record and graph bandwidth usage on a switch port or network link, at regular interval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 - 3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etwork &amp; Service Monitoring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Nagios – server and service monitor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8164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Can monitor pretty much anything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8164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HTTP, SMTP, DNS, Disk space, CPU usage, 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8164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Easy to write new plugins (extensions)</a:t>
            </a: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‏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Basic scripting skills are required to develop simple monitoring jobs – Perl, Shellscript...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any good Open Source tool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8164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Zabbix, ZenOSS, Hyperic, 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them to monitor reachability and latency in your network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Parent-child dependency mechanisms are very useful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 - 4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Monitor your critical Network Service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N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adius/LDAP/SQL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SH to router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w will you be notified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Don't forget log collection!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Every network device (and UNIX and Windows servers as well) can report system events using syslog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You </a:t>
            </a:r>
            <a:r>
              <a:rPr b="1" lang="en-GB" sz="2600" spc="-1" strike="noStrike">
                <a:solidFill>
                  <a:srgbClr val="333333"/>
                </a:solidFill>
                <a:latin typeface="Lucida Sans Typewriter Regular"/>
              </a:rPr>
              <a:t>MUST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 collect and monitor your logs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Not doing so is one of the most common mistakes when doing network monitoring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anagement Protoc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NMP – Simple Network Management Protoco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ndustry standard, hundreds of tools exist to exploit i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Present on any decent network equipmen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Network throughput, errors, CPU load, temperature, 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UNIX and Windows implement this as well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Disk space, running processes, 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SH and telne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t's also possible to use scripting to automate monitoring of hosts and servic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tatistics &amp; accounting to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raffic account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what is your network used for, and how much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Useful for Quality of Service, detecting abuses, and billing (metering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edicated protocol: NetFlow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dentify traffic ”flows”: protocol, source, destination, byt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ifferent tools exist to process the information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Flowtools, flowc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NFSen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Fault &amp; problem managem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2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s the problem transie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Overload, temporary ressource shortage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s the problem permane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Equipment failure, link down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w do you detect an error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onitoring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ustomer complaint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A ticket system is essentia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Open ticket to track an event (planned or failure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efine dispatch/escalation rul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8164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o handles the problem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8164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o gets it next if no one is available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</p:txBody>
      </p:sp>
      <p:sp>
        <p:nvSpPr>
          <p:cNvPr id="80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1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y are they importa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Track all events, failures and issu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ocal point for helpdesk communication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it to track all communication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Both internal and external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vents originating from the outside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ustomer complaint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vents originating from the inside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ystem outages (direct or indirec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Planned maintenance / upgrade – Remember to notify your customers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84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5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ticket system to follow each case, including internal communication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between technician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ach case is assigned a case number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ach case goes through a similar life cycle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New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Open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...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esolved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losed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88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9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 - 3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orkflow:</a:t>
            </a:r>
            <a:br>
              <a:rPr sz="3000"/>
            </a:br>
            <a:br>
              <a:rPr sz="30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Ticket System      Helpdesk         Tech            Eqpt     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----------------------------------------------------------------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T                T               T                T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query      |                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from  </a:t>
            </a:r>
            <a:r>
              <a:rPr b="1" lang="en-GB" sz="1800" spc="-1" strike="noStrike">
                <a:solidFill>
                  <a:srgbClr val="00ae00"/>
                </a:solidFill>
                <a:latin typeface="Lucida Sans Typewriter Regular"/>
              </a:rPr>
              <a:t>----&gt;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                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customer  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--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request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--&gt;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               |                |</a:t>
            </a: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&lt;-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ack.</a:t>
            </a:r>
            <a:r>
              <a:rPr b="0" lang="en-GB" sz="1800" spc="-1" strike="noStrike">
                <a:solidFill>
                  <a:srgbClr val="000000"/>
                </a:solidFill>
                <a:latin typeface="Lucida Sans Typewriter Regular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|                </a:t>
            </a:r>
            <a:r>
              <a:rPr b="0" lang="en-GB" sz="1800" spc="-1" strike="noStrike">
                <a:solidFill>
                  <a:srgbClr val="000000"/>
                </a:solidFill>
                <a:latin typeface="Lucida Sans Typewriter Regular"/>
              </a:rPr>
              <a:t>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|             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&lt;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comm </a:t>
            </a:r>
            <a:r>
              <a:rPr b="0" lang="en-GB" sz="1800" spc="-1" strike="noStrike">
                <a:solidFill>
                  <a:srgbClr val="0000ff"/>
                </a:solidFill>
                <a:latin typeface="Lucida Sans Typewriter Regular"/>
              </a:rPr>
              <a:t>--&gt;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Sans Typewriter Regular"/>
              </a:rPr>
              <a:t>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|                |            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fix issue </a:t>
            </a:r>
            <a:r>
              <a:rPr b="0" lang="en-GB" sz="1800" spc="-1" strike="noStrike">
                <a:solidFill>
                  <a:srgbClr val="0000ff"/>
                </a:solidFill>
                <a:latin typeface="Lucida Sans Typewriter Regular"/>
              </a:rPr>
              <a:t>-&gt;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eqpt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|             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&lt;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report fix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customer </a:t>
            </a:r>
            <a:r>
              <a:rPr b="1" lang="en-GB" sz="1800" spc="-1" strike="noStrike">
                <a:solidFill>
                  <a:srgbClr val="00ae00"/>
                </a:solidFill>
                <a:latin typeface="Lucida Sans Typewriter Regular"/>
              </a:rPr>
              <a:t>&lt;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&lt;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respond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-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|                |               |                |</a:t>
            </a:r>
            <a:endParaRPr b="0" lang="en-US" sz="18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92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3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 - 4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ome ticketing software systems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Trac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e'll be looking at using Trac later in the workshop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96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7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verview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at is network operations and manageme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y network manageme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he Network Operation Center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etwork monitoring systems and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tatistics and accounting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ault/problem managemen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icket system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onfiguration management &amp; monito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he big picture...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nfiguration management &amp;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360" y="1979280"/>
            <a:ext cx="93600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Record changes to equipment configuration, using </a:t>
            </a:r>
            <a:r>
              <a:rPr b="0" i="1" lang="en-GB" sz="3000" spc="-1" strike="noStrike">
                <a:solidFill>
                  <a:srgbClr val="333333"/>
                </a:solidFill>
                <a:latin typeface="Lucida Sans Typewriter Regular"/>
              </a:rPr>
              <a:t>revision control 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(also for configuration files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ventory management (equipment, IPs, interfaces, ...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version control!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As simple as: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”cp named.conf named.conf.20070827-01”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or plain configuration files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VS, Subversion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ercurial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00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1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nfiguration management &amp; monitoring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raditionnally, used for source code (programs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orks well for any text-based configuration file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Also for binary files, but less easy to see differenc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or network equipment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ANCID (Automatic Cisco configuration retrieval and archiving, also for other equipment types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04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5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Big pictur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360" y="1728360"/>
            <a:ext cx="93600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w it all fits together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08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274840"/>
            <a:ext cx="1979280" cy="89208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Monitor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Data collection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Account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1" name=""/>
          <p:cNvSpPr/>
          <p:nvPr/>
        </p:nvSpPr>
        <p:spPr>
          <a:xfrm>
            <a:off x="6840360" y="3876840"/>
            <a:ext cx="2340000" cy="116352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Capacity plann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Availability (SLAs)</a:t>
            </a: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Trend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Detect problem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2" name=""/>
          <p:cNvSpPr/>
          <p:nvPr/>
        </p:nvSpPr>
        <p:spPr>
          <a:xfrm>
            <a:off x="6119640" y="2700360"/>
            <a:ext cx="1440000" cy="900000"/>
          </a:xfrm>
          <a:custGeom>
            <a:avLst/>
            <a:gdLst/>
            <a:ahLst/>
            <a:rect l="l" t="t" r="r" b="b"/>
            <a:pathLst>
              <a:path w="4001" h="2501">
                <a:moveTo>
                  <a:pt x="0" y="0"/>
                </a:moveTo>
                <a:cubicBezTo>
                  <a:pt x="0" y="0"/>
                  <a:pt x="1740" y="120"/>
                  <a:pt x="2500" y="500"/>
                </a:cubicBezTo>
                <a:cubicBezTo>
                  <a:pt x="3500" y="1000"/>
                  <a:pt x="4000" y="2500"/>
                  <a:pt x="4000" y="2500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5219640"/>
            <a:ext cx="1741680" cy="1560600"/>
          </a:xfrm>
          <a:custGeom>
            <a:avLst/>
            <a:gdLst/>
            <a:ahLst/>
            <a:rect l="l" t="t" r="r" b="b"/>
            <a:pathLst>
              <a:path w="4839" h="4336">
                <a:moveTo>
                  <a:pt x="4838" y="0"/>
                </a:moveTo>
                <a:cubicBezTo>
                  <a:pt x="4838" y="0"/>
                  <a:pt x="4833" y="2197"/>
                  <a:pt x="4000" y="3000"/>
                </a:cubicBezTo>
                <a:cubicBezTo>
                  <a:pt x="3167" y="3803"/>
                  <a:pt x="0" y="4335"/>
                  <a:pt x="0" y="4335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6840360"/>
            <a:ext cx="1620720" cy="35100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Fix problem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5048280"/>
            <a:ext cx="1979640" cy="62244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Improvemen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Upgrade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3600360"/>
            <a:ext cx="2160720" cy="72072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Change control &amp; monitor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7" name=""/>
          <p:cNvSpPr/>
          <p:nvPr/>
        </p:nvSpPr>
        <p:spPr>
          <a:xfrm>
            <a:off x="1800360" y="5759280"/>
            <a:ext cx="1800000" cy="1260720"/>
          </a:xfrm>
          <a:custGeom>
            <a:avLst/>
            <a:gdLst/>
            <a:ahLst/>
            <a:rect l="l" t="t" r="r" b="b"/>
            <a:pathLst>
              <a:path w="5001" h="3501">
                <a:moveTo>
                  <a:pt x="5000" y="3500"/>
                </a:moveTo>
                <a:cubicBezTo>
                  <a:pt x="5000" y="3500"/>
                  <a:pt x="2382" y="2972"/>
                  <a:pt x="1500" y="2500"/>
                </a:cubicBezTo>
                <a:cubicBezTo>
                  <a:pt x="440" y="1933"/>
                  <a:pt x="0" y="0"/>
                  <a:pt x="0" y="0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8" name=""/>
          <p:cNvSpPr/>
          <p:nvPr/>
        </p:nvSpPr>
        <p:spPr>
          <a:xfrm>
            <a:off x="1800360" y="4319640"/>
            <a:ext cx="1440" cy="539640"/>
          </a:xfrm>
          <a:custGeom>
            <a:avLst/>
            <a:gdLst/>
            <a:ahLst/>
            <a:rect l="l" t="t" r="r" b="b"/>
            <a:pathLst>
              <a:path w="1" h="1501">
                <a:moveTo>
                  <a:pt x="0" y="1500"/>
                </a:moveTo>
                <a:cubicBezTo>
                  <a:pt x="0" y="1500"/>
                  <a:pt x="0" y="0"/>
                  <a:pt x="0" y="0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9" name=""/>
          <p:cNvSpPr/>
          <p:nvPr/>
        </p:nvSpPr>
        <p:spPr>
          <a:xfrm>
            <a:off x="1800360" y="2519280"/>
            <a:ext cx="1620720" cy="900360"/>
          </a:xfrm>
          <a:custGeom>
            <a:avLst/>
            <a:gdLst/>
            <a:ahLst/>
            <a:rect l="l" t="t" r="r" b="b"/>
            <a:pathLst>
              <a:path w="4501" h="2501">
                <a:moveTo>
                  <a:pt x="0" y="2500"/>
                </a:moveTo>
                <a:cubicBezTo>
                  <a:pt x="0" y="2500"/>
                  <a:pt x="740" y="880"/>
                  <a:pt x="1500" y="500"/>
                </a:cubicBezTo>
                <a:cubicBezTo>
                  <a:pt x="2500" y="0"/>
                  <a:pt x="4500" y="0"/>
                  <a:pt x="4500" y="0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0" name=""/>
          <p:cNvSpPr/>
          <p:nvPr/>
        </p:nvSpPr>
        <p:spPr>
          <a:xfrm>
            <a:off x="4680000" y="5678640"/>
            <a:ext cx="2160360" cy="6220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User complain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Reques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19640" y="4852800"/>
            <a:ext cx="1800" cy="733320"/>
          </a:xfrm>
          <a:prstGeom prst="line">
            <a:avLst/>
          </a:prstGeom>
          <a:ln w="3600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4140360"/>
            <a:ext cx="1979280" cy="622080"/>
          </a:xfrm>
          <a:prstGeom prst="rect">
            <a:avLst/>
          </a:prstGeom>
          <a:noFill/>
          <a:ln w="9360">
            <a:solidFill>
              <a:srgbClr val="33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NOC Tool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Ticket system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3" name=""/>
          <p:cNvSpPr/>
          <p:nvPr/>
        </p:nvSpPr>
        <p:spPr>
          <a:xfrm>
            <a:off x="4680000" y="3240000"/>
            <a:ext cx="1440" cy="72072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4" name=""/>
          <p:cNvSpPr/>
          <p:nvPr/>
        </p:nvSpPr>
        <p:spPr>
          <a:xfrm>
            <a:off x="4807080" y="341964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5" name=""/>
          <p:cNvSpPr/>
          <p:nvPr/>
        </p:nvSpPr>
        <p:spPr>
          <a:xfrm>
            <a:off x="5886360" y="468792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932080" y="4500720"/>
            <a:ext cx="733320" cy="144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119640" y="2152800"/>
            <a:ext cx="1979640" cy="37296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8" name=""/>
          <p:cNvSpPr/>
          <p:nvPr/>
        </p:nvSpPr>
        <p:spPr>
          <a:xfrm>
            <a:off x="8280360" y="1979640"/>
            <a:ext cx="1620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Notification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9" name=""/>
          <p:cNvSpPr/>
          <p:nvPr/>
        </p:nvSpPr>
        <p:spPr>
          <a:xfrm>
            <a:off x="5400720" y="504828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0" name=""/>
          <p:cNvSpPr/>
          <p:nvPr/>
        </p:nvSpPr>
        <p:spPr>
          <a:xfrm>
            <a:off x="3367080" y="504828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060720" y="4854600"/>
            <a:ext cx="539640" cy="19224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319640" y="4852800"/>
            <a:ext cx="179280" cy="181260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3" name=""/>
          <p:cNvSpPr/>
          <p:nvPr/>
        </p:nvSpPr>
        <p:spPr>
          <a:xfrm>
            <a:off x="3367080" y="594828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2280" indent="-212760" algn="ctr">
              <a:lnSpc>
                <a:spcPct val="102000"/>
              </a:lnSpc>
              <a:tabLst>
                <a:tab algn="l" pos="0"/>
                <a:tab algn="l" pos="422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9600" spc="-1" strike="noStrike">
                <a:solidFill>
                  <a:srgbClr val="b84700"/>
                </a:solidFill>
                <a:latin typeface="Utopia"/>
                <a:ea typeface="Bitstream Vera Sans"/>
              </a:rPr>
              <a:t>?</a:t>
            </a:r>
            <a:endParaRPr b="0" lang="en-US" sz="96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stions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network management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ystem &amp; Service monito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eachability, availability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Ressource measurement/monito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apacity planning, availability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Perf. monitoring (RTT, throughput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tatistics &amp; Accounting/Mete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ault Managemen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Fault detection, troubleshooting, and tracking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Ticketing systems, helpdesk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hange management &amp; configuration monito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we don't cover...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Provision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(processes associated with allocation and configuration of resources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ecurity aspect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Basic security is proper administration and management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y network management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Make sure the network is up and running.  Need to monitor it.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eliver projected SLAs (Service Level Agreements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epends on policy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at does your management expect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at do your users expect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at do your customers expect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at does the rest of the Internet expect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s 24x7 good enough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064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There's no such thing as 100% uptime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y network management ?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at does it take to deliver 99.9 %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30,5 x 24 = 762 hours a month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(762 – (762 x .999)) x 60 = 45 minutes max of downtime a month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eed to shutdown 1 hour / week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(762 - 4) / 762 x 100 = 99.4 %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emember to take planned maintenance into account in your calculations, and inform your users/customers if they are included/excluded in the SLA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w is availability measured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n the core ? End-to-end ? From the Internet ?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y network management ? - 3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Know when to upgrade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s your bandwidth usage too high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Where is your traffic going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o you need to get a faster line, or more providers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s the equipment too old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Keep an audit trace of change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ecord all chang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akes it easier to find cause of problems due to upgrades and configuration chang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ere to consolidate all these functions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n the Network Operation Center (NOC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he Network Operations Center (NOC)</a:t>
            </a: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‏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ere it all happen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oordination of task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tatus on network and servic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Fielding of network-related incidents and complaint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Where the tools reside (”NOC server”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7960" indent="-31428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One of the goals of this workshop...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Build a NOC box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t will be the most important machine on your network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5280" indent="-2811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We will do this during the week, by installing, and configuring, various tools to help in network monitoring and management.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wo kinds of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iagnostic tools – used to test connectivity, ascertain that a location is reachable, or a device is up – usually active tool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3920" indent="-2840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onitoring tools – tools running in the background (”daemons” or services), which collect events, but can also initiate their own probes (using diagnostic tools), and recording the output, in a scheduled fashion.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   Track E0 AfNOG workshop April 23-27 2007 Abuja, Nigeria    </dc:title>
</cp:coreProperties>
</file>