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71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6200" y="0"/>
            <a:ext cx="29671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73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8686800"/>
            <a:ext cx="29671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6200" y="8686800"/>
            <a:ext cx="29671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F44E1-3939-4024-AA86-C50BF6C4B5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DB60-F8A3-43A2-8B1D-1E9F33131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9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1FB7-BFC4-4EA5-8F3E-978343D2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DECA-99A5-418F-8E2E-CCDBAB876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738B-FB31-4901-B403-956BE721B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F896-A49D-4DA5-820A-06C37977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F84C-7010-4E41-82E5-1FF3EAAD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6C4A-F8BA-4000-84CA-99E4866D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E707-3B8C-43FC-8C07-3C85ECC8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6772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673C-73BB-4C76-B901-F8B818BF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C80E-4044-416A-8F3A-38485F87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12C4-01BA-4884-9873-CACB5F46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49D9-40CF-4687-8A62-8B70FF89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5BE5B-6C23-4E4C-A4EB-DEC64539E81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9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RTG / RRDT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1280" y="684360"/>
            <a:ext cx="8772840" cy="47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457200" algn="ctr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Verdana"/>
                <a:ea typeface="Verdana"/>
              </a:rPr>
              <a:t>Network Management Worksh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9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intERlab at 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9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Thai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March 11-15,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60720" y="4680000"/>
            <a:ext cx="4863960" cy="19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sn't it simple 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rdtool create /var/nagios/rrd/host0_load.rrd -s 600 DS:1MIN-Load:GAUGE:1200:0:100 DS:5MIN-Load:GAUGE:1200:0:100 DS:15MIN-Load:GAUGE:1200:0:100 RRA:AVERAGE:0.5:1:50400 RRA:AVERAGE:0.5:60:4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rdtool create /var/nagios/rrd/host0_disk_usage.rrd -s 600 DS:root:GAUGE:1200:0:U DS:home:GAUGE:1200:0:U DS:usr:GAUGE:1200:0:U DS:var:GAUGE:1200:0:U RRA:AVERAGE:0.5:1:50400 RRA:AVERAGE:0.5:60:4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rdtool create /var/nagios/rrd/apricot-INTL_Ping.rrd -s 300 DS:ping:GAUGE:600:0:U RRA:AVERAGE:0.5:1:50400 RRA:AVERAGE:0.5:60:4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rdtool create /var/nagios/rrd/host0_total.rrd -s 300 DS:IN:COUNTER:1200:0:U DS:OUT:COUNTER:600:0:U RRA:AVERAGE:0.5:1:50400 RRA:AVERAGE:0.5:60:4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1280" y="923760"/>
            <a:ext cx="9056880" cy="5859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370520" y="284040"/>
            <a:ext cx="6855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mincho"/>
              </a:rPr>
              <a:t>Ping Latency Graph Created by APAN from RRD Database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RT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Ubuntu  / Deb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t-get install mrt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etc/mrtg/&lt;device.mrtg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obal directory : /var/www/mrt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un MRTG against the configuration file from cr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fg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s snmpwalk and creates a mrtg configuratio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usr/bin/cfgmaker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-output=/etc/mrtg/router.mrtg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-global 'workdir: /var/www/mrtg'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-global 'options[_]: growright,bits' apric0t08@169.223.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#Title[leased]: a 128K lease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#PageTop[leased]: &lt;H1&gt;Our 128K link to the outside world&lt;/H1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#Target[leased]: 1:public@router.local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#MaxBytes[leased]: 16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reating HTML with index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usr/bin/indexmaker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-output=/var/www/mrtg/device.html /etc/mrtg/device.mrtg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your mrtg configuration file is well commented, the html is nice and detail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b 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parate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RDT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 apt-get install rrd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 apt-get install librrdp-pe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 apt-get install librrds-pe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d in your MRTG Configuration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etc/mrtg/router.mrt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gFormat: rrd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mrt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 see in /var/www/mrt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RT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ulti Router Traffic Grapher (MRTG) is a tool to monitor the traffic load on network-links. MRTG generates HTML pages containing PNG images which provide an almost live visual representation of this traffic. Check http://oss.oetiker.ch/mrtg/ to see what it do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has been the most common network traffic measurement tool for all Service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uses simple SNMP queries on a regular interval to generate 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RT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0508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4440" indent="-3344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rnal readers for MRTG graphs can create other interpretation of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software can be used not only to measure network traffic on interfaces, but also build graphs of anything that has an equivalent SNMP MIB - like CPU load, Disk availability, Temperature, etc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sources can be anything that provides a counter or gauge value – not necessarily SN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800" indent="-278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, graphing round trip ti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can be extended to work with RRD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RTG -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generates each graph (what if you have hundreds of graphs!) every 5 minutes, creating a lot of overh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also has very few customizable graphing op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k space is always an 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management itself can be tedious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unning MRT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Get the required pack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ompile and install the pac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Make cfg files for router interfaces with cfg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 html pages from the cfg files with index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rigger MRTG periodically from Cron or run it in daemon mod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38080" y="1981080"/>
            <a:ext cx="746460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marL="546120" indent="-54612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Round Robin Database for time series data storag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6120" indent="-54612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Command line base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6120" indent="-54612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From the author of MRT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6120" indent="-54612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Made to be faster and more flexib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6120" indent="-54612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Includes CGI and Graphing tools, plus API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6120" indent="-54612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Solves the Historical Trends and Simple Interface probl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1198440"/>
          </a:xfrm>
          <a:prstGeom prst="roundRect">
            <a:avLst>
              <a:gd name="adj" fmla="val 116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382680"/>
            <a:ext cx="62481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msmincho"/>
              </a:rPr>
              <a:t>RRDt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320760"/>
            <a:ext cx="9144000" cy="69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80"/>
                </a:solidFill>
                <a:latin typeface="Times New Roman"/>
                <a:ea typeface="msmincho"/>
              </a:rPr>
              <a:t>Define Data Sources (Inputs)</a:t>
            </a:r>
            <a:r>
              <a:rPr b="0" lang="en-GB" sz="40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4360" y="1450800"/>
            <a:ext cx="7466040" cy="48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marL="387360" indent="-293760">
              <a:lnSpc>
                <a:spcPct val="96000"/>
              </a:lnSpc>
              <a:spcBef>
                <a:spcPts val="71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urier New"/>
                <a:ea typeface="msmincho"/>
              </a:rPr>
              <a:t>DS:speed:COUNTER:600:U: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87360" indent="-293760">
              <a:lnSpc>
                <a:spcPct val="100000"/>
              </a:lnSpc>
              <a:spcBef>
                <a:spcPts val="71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urier New"/>
                <a:ea typeface="msmincho"/>
              </a:rPr>
              <a:t>DS:fuel:GAUGE:600:U: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DS = Data Sour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speed, fuel = “variable” nam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COUNTER, GAUGE = variable typ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600 = heart beat – UNKNOWN returned for interval if nothing received after this amount of ti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U:U = limits on minimum and maximum variable values (U means unknown and any value is permitted)</a:t>
            </a: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20760"/>
            <a:ext cx="9144000" cy="69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80"/>
                </a:solidFill>
                <a:latin typeface="Times New Roman"/>
                <a:ea typeface="msmincho"/>
              </a:rPr>
              <a:t>Define Archives (Outputs)</a:t>
            </a:r>
            <a:r>
              <a:rPr b="0" lang="en-GB" sz="40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4360" y="1450800"/>
            <a:ext cx="863604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marL="387360" indent="-2937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:AVERAGE:0.5:1: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2937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:AVERAGE:0.5:6: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RRA = Round Robi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AVERAGE = consolidation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0.5 = up to 50% of consolidated points may be UNKN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83000"/>
              </a:lnSpc>
              <a:spcBef>
                <a:spcPts val="437"/>
              </a:spcBef>
              <a:tabLst>
                <a:tab algn="l" pos="0"/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1:24 = this RRA keeps each sample (average over one 5 minute primary sample), 24 times (which is 2 hours worth)</a:t>
            </a: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83000"/>
              </a:lnSpc>
              <a:spcBef>
                <a:spcPts val="437"/>
              </a:spcBef>
              <a:tabLst>
                <a:tab algn="l" pos="0"/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6:10 = one RRA keeps an average over every six 5 minute primary samples (30 minutes), 10 times (which is 5 hours worth)</a:t>
            </a: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293760">
              <a:lnSpc>
                <a:spcPct val="83000"/>
              </a:lnSpc>
              <a:spcBef>
                <a:spcPts val="624"/>
              </a:spcBef>
              <a:buClr>
                <a:srgbClr val="ff0000"/>
              </a:buClr>
              <a:buSzPct val="87000"/>
              <a:buFont typeface="Arial"/>
              <a:buChar char="•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msmincho"/>
              </a:rPr>
              <a:t>Clear as mud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736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937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all depends on original step size which defaults to 5 minu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330480"/>
            <a:ext cx="9144000" cy="69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msmincho"/>
              </a:rPr>
              <a:t>RRDtool Database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4160" y="1432080"/>
            <a:ext cx="350964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msmincho"/>
              </a:rPr>
              <a:t>Recent data stored once every 5 minutes for the past 2 hours (1:24)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25760" y="5626080"/>
            <a:ext cx="450540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dc2300"/>
                </a:solidFill>
                <a:latin typeface="Times New Roman"/>
                <a:ea typeface="msmincho"/>
              </a:rPr>
              <a:t>Medium length data averaged to one entry per half hour for the last 5 hours (6:10)</a:t>
            </a:r>
            <a:r>
              <a:rPr b="0" lang="en-GB" sz="2200" spc="-1" strike="noStrike">
                <a:solidFill>
                  <a:srgbClr val="dc230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29240" y="1414440"/>
            <a:ext cx="344628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mincho"/>
              </a:rPr>
              <a:t>Old data averaged to one entry per day for the last 365 days (288:365)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954080" y="2489040"/>
            <a:ext cx="4900680" cy="2211480"/>
            <a:chOff x="1954080" y="2489040"/>
            <a:chExt cx="4900680" cy="2211480"/>
          </a:xfrm>
        </p:grpSpPr>
        <p:sp>
          <p:nvSpPr>
            <p:cNvPr id="74" name=""/>
            <p:cNvSpPr/>
            <p:nvPr/>
          </p:nvSpPr>
          <p:spPr>
            <a:xfrm>
              <a:off x="1954080" y="248904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954080" y="267480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54080" y="2857680"/>
              <a:ext cx="1635120" cy="1839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54080" y="304308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954080" y="3225960"/>
              <a:ext cx="1635120" cy="18540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87760" y="2489040"/>
              <a:ext cx="1635120" cy="552600"/>
            </a:xfrm>
            <a:prstGeom prst="roundRect">
              <a:avLst>
                <a:gd name="adj" fmla="val 259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219640" y="2489040"/>
              <a:ext cx="1635120" cy="1106640"/>
            </a:xfrm>
            <a:prstGeom prst="roundRect">
              <a:avLst>
                <a:gd name="adj" fmla="val 130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54080" y="340992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954080" y="359424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54080" y="377676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54080" y="3962520"/>
              <a:ext cx="1635120" cy="1839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54080" y="414648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87760" y="3041640"/>
              <a:ext cx="1635120" cy="552600"/>
            </a:xfrm>
            <a:prstGeom prst="roundRect">
              <a:avLst>
                <a:gd name="adj" fmla="val 259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87760" y="3594240"/>
              <a:ext cx="1635120" cy="552240"/>
            </a:xfrm>
            <a:prstGeom prst="roundRect">
              <a:avLst>
                <a:gd name="adj" fmla="val 259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87760" y="4146480"/>
              <a:ext cx="1635120" cy="552600"/>
            </a:xfrm>
            <a:prstGeom prst="roundRect">
              <a:avLst>
                <a:gd name="adj" fmla="val 259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54080" y="432900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54080" y="451332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19640" y="3594240"/>
              <a:ext cx="1635120" cy="1106280"/>
            </a:xfrm>
            <a:prstGeom prst="roundRect">
              <a:avLst>
                <a:gd name="adj" fmla="val 130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00080" y="3294000"/>
            <a:ext cx="17208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--step 3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msmincho"/>
              </a:rPr>
              <a:t>(5 minute input step size)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17600" y="4718160"/>
            <a:ext cx="1325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 1: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76680" y="4770360"/>
            <a:ext cx="132552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 6: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81480" y="4770360"/>
            <a:ext cx="172260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 288:3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05720" y="3184560"/>
            <a:ext cx="8589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msmincho"/>
              </a:rPr>
              <a:t>R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msmincho"/>
              </a:rPr>
              <a:t>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88320" y="2448000"/>
            <a:ext cx="396720" cy="2147760"/>
          </a:xfrm>
          <a:custGeom>
            <a:avLst/>
            <a:gdLst/>
            <a:ahLst/>
            <a:rect l="l" t="t" r="r" b="b"/>
            <a:pathLst>
              <a:path w="1217" h="6577">
                <a:moveTo>
                  <a:pt x="0" y="6576"/>
                </a:moveTo>
                <a:lnTo>
                  <a:pt x="326" y="6576"/>
                </a:lnTo>
                <a:lnTo>
                  <a:pt x="537" y="6492"/>
                </a:lnTo>
                <a:lnTo>
                  <a:pt x="706" y="6300"/>
                </a:lnTo>
                <a:lnTo>
                  <a:pt x="815" y="5977"/>
                </a:lnTo>
                <a:lnTo>
                  <a:pt x="855" y="5582"/>
                </a:lnTo>
                <a:lnTo>
                  <a:pt x="855" y="4084"/>
                </a:lnTo>
                <a:lnTo>
                  <a:pt x="869" y="3881"/>
                </a:lnTo>
                <a:lnTo>
                  <a:pt x="924" y="3749"/>
                </a:lnTo>
                <a:lnTo>
                  <a:pt x="1011" y="3677"/>
                </a:lnTo>
                <a:lnTo>
                  <a:pt x="1148" y="3653"/>
                </a:lnTo>
                <a:lnTo>
                  <a:pt x="1195" y="3653"/>
                </a:lnTo>
                <a:lnTo>
                  <a:pt x="1216" y="3653"/>
                </a:lnTo>
                <a:lnTo>
                  <a:pt x="1216" y="2995"/>
                </a:lnTo>
                <a:lnTo>
                  <a:pt x="1195" y="2983"/>
                </a:lnTo>
                <a:lnTo>
                  <a:pt x="1115" y="2971"/>
                </a:lnTo>
                <a:lnTo>
                  <a:pt x="1066" y="2971"/>
                </a:lnTo>
                <a:lnTo>
                  <a:pt x="1026" y="2971"/>
                </a:lnTo>
                <a:lnTo>
                  <a:pt x="999" y="2959"/>
                </a:lnTo>
                <a:lnTo>
                  <a:pt x="930" y="2887"/>
                </a:lnTo>
                <a:lnTo>
                  <a:pt x="884" y="2778"/>
                </a:lnTo>
                <a:lnTo>
                  <a:pt x="862" y="2647"/>
                </a:lnTo>
                <a:lnTo>
                  <a:pt x="855" y="2468"/>
                </a:lnTo>
                <a:lnTo>
                  <a:pt x="855" y="994"/>
                </a:lnTo>
                <a:lnTo>
                  <a:pt x="815" y="587"/>
                </a:lnTo>
                <a:lnTo>
                  <a:pt x="706" y="276"/>
                </a:lnTo>
                <a:lnTo>
                  <a:pt x="537" y="72"/>
                </a:lnTo>
                <a:lnTo>
                  <a:pt x="326" y="0"/>
                </a:lnTo>
                <a:lnTo>
                  <a:pt x="0" y="0"/>
                </a:lnTo>
                <a:lnTo>
                  <a:pt x="0" y="718"/>
                </a:lnTo>
                <a:lnTo>
                  <a:pt x="156" y="718"/>
                </a:lnTo>
                <a:lnTo>
                  <a:pt x="246" y="742"/>
                </a:lnTo>
                <a:lnTo>
                  <a:pt x="307" y="803"/>
                </a:lnTo>
                <a:lnTo>
                  <a:pt x="340" y="947"/>
                </a:lnTo>
                <a:lnTo>
                  <a:pt x="354" y="1162"/>
                </a:lnTo>
                <a:lnTo>
                  <a:pt x="354" y="2551"/>
                </a:lnTo>
                <a:lnTo>
                  <a:pt x="366" y="2875"/>
                </a:lnTo>
                <a:lnTo>
                  <a:pt x="441" y="3090"/>
                </a:lnTo>
                <a:lnTo>
                  <a:pt x="571" y="3234"/>
                </a:lnTo>
                <a:lnTo>
                  <a:pt x="775" y="3330"/>
                </a:lnTo>
                <a:lnTo>
                  <a:pt x="571" y="3390"/>
                </a:lnTo>
                <a:lnTo>
                  <a:pt x="441" y="3534"/>
                </a:lnTo>
                <a:lnTo>
                  <a:pt x="366" y="3761"/>
                </a:lnTo>
                <a:lnTo>
                  <a:pt x="354" y="4084"/>
                </a:lnTo>
                <a:lnTo>
                  <a:pt x="354" y="5474"/>
                </a:lnTo>
                <a:lnTo>
                  <a:pt x="340" y="5653"/>
                </a:lnTo>
                <a:lnTo>
                  <a:pt x="307" y="5761"/>
                </a:lnTo>
                <a:lnTo>
                  <a:pt x="239" y="5846"/>
                </a:lnTo>
                <a:lnTo>
                  <a:pt x="156" y="5858"/>
                </a:lnTo>
                <a:lnTo>
                  <a:pt x="0" y="5858"/>
                </a:lnTo>
                <a:lnTo>
                  <a:pt x="0" y="6576"/>
                </a:lnTo>
              </a:path>
            </a:pathLst>
          </a:custGeom>
          <a:solidFill>
            <a:srgbClr val="333399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980560" y="-546120"/>
            <a:ext cx="1440" cy="54000"/>
          </a:xfrm>
          <a:custGeom>
            <a:avLst/>
            <a:gdLst/>
            <a:ahLst/>
            <a:rect l="l" t="t" r="r" b="b"/>
            <a:pathLst>
              <a:path w="21600" h="652320">
                <a:moveTo>
                  <a:pt x="10800" y="0"/>
                </a:moveTo>
                <a:arcTo wR="10800" hR="10800" stAng="16200000" swAng="-5400000"/>
                <a:lnTo>
                  <a:pt x="0" y="641520"/>
                </a:lnTo>
                <a:arcTo wR="10800" hR="10800" stAng="10800000" swAng="-5400000"/>
                <a:lnTo>
                  <a:pt x="10800" y="65232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MRTG</dc:title>
</cp:coreProperties>
</file>