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04280" y="711828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Arial"/>
              </a:rPr>
              <a:t>nsrc@intERLab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Arial"/>
              </a:rPr>
              <a:t>Bangkok, Thai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7.png"/><Relationship Id="rId15" Type="http://schemas.openxmlformats.org/officeDocument/2006/relationships/image" Target="../media/image6.jpeg"/><Relationship Id="rId16" Type="http://schemas.openxmlformats.org/officeDocument/2006/relationships/image" Target="../media/image11.png"/><Relationship Id="rId17" Type="http://schemas.openxmlformats.org/officeDocument/2006/relationships/image" Target="../media/image4.png"/><Relationship Id="rId18" Type="http://schemas.openxmlformats.org/officeDocument/2006/relationships/image" Target="../media/image6.jpe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5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7.png"/><Relationship Id="rId30" Type="http://schemas.openxmlformats.org/officeDocument/2006/relationships/image" Target="../media/image6.jpeg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468360"/>
            <a:ext cx="92930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Utopia"/>
              </a:rPr>
              <a:t>An Introduction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intERLab at 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Network Managemen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March 11-15 – 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1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Utopia"/>
                <a:ea typeface="msmincho"/>
              </a:rPr>
              <a:t>Hervey Allen &amp; Phil Regna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83120" y="6323040"/>
            <a:ext cx="209052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05000" y="2529000"/>
            <a:ext cx="368964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84600" y="6245280"/>
            <a:ext cx="3656160" cy="3650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70080" y="800280"/>
            <a:ext cx="3689640" cy="11016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680" y="2308320"/>
            <a:ext cx="9996480" cy="1784160"/>
            <a:chOff x="4680" y="2308320"/>
            <a:chExt cx="9996480" cy="1784160"/>
          </a:xfrm>
        </p:grpSpPr>
        <p:sp>
          <p:nvSpPr>
            <p:cNvPr id="170" name=""/>
            <p:cNvSpPr/>
            <p:nvPr/>
          </p:nvSpPr>
          <p:spPr>
            <a:xfrm>
              <a:off x="4680" y="2308320"/>
              <a:ext cx="9996480" cy="1784160"/>
            </a:xfrm>
            <a:prstGeom prst="roundRect">
              <a:avLst>
                <a:gd name="adj" fmla="val 8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0" y="2308320"/>
              <a:ext cx="9996480" cy="17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  <a:ea typeface="msmincho"/>
                </a:rPr>
                <a:t>Remaining Slid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543040" y="4363920"/>
            <a:ext cx="4778640" cy="66996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Dhruba Raj Bhand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26040" y="5043600"/>
            <a:ext cx="903240" cy="36648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CN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4880" y="5573880"/>
            <a:ext cx="3973320" cy="66960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Additions by Phil Regna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bhandari.dhruba@scp.com.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212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39800" indent="-525600" algn="ctr">
              <a:lnSpc>
                <a:spcPct val="93000"/>
              </a:lnSpc>
              <a:spcBef>
                <a:spcPts val="587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gios Status Detail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540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Tactical Overview Of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ervice Detail of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440" y="830160"/>
            <a:ext cx="1008036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msmincho"/>
              </a:rPr>
              <a:t> </a:t>
            </a: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ervic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525600"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1440" y="774720"/>
            <a:ext cx="1008036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225360" y="-3240"/>
            <a:ext cx="10729800" cy="7562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06880" y="312840"/>
            <a:ext cx="5567400" cy="39672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Map of MC Network From Nagi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7200" y="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Overview from nag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440" y="762120"/>
            <a:ext cx="1008036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82640" y="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Status Summary Based On Host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0840" y="762120"/>
            <a:ext cx="9767880" cy="66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5240" y="1006560"/>
            <a:ext cx="9837720" cy="623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27200" y="353880"/>
            <a:ext cx="4842000" cy="48924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Host Trends or Status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6840" y="2606760"/>
            <a:ext cx="9891720" cy="369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25520" y="666720"/>
            <a:ext cx="4273560" cy="67140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Histogram Of 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ere Does Nagios Fit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8088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gios, in some ways, ties it all together. We've seen things lik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NM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RDT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nc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mok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775040" y="3807000"/>
            <a:ext cx="47386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You can and will use all this functionality in Nag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t is a monolithic too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ower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1440" y="938160"/>
            <a:ext cx="10080360" cy="6621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21280" y="135000"/>
            <a:ext cx="185724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Event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5400" y="816120"/>
            <a:ext cx="9983520" cy="6743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89480" y="190440"/>
            <a:ext cx="301608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Who is Notifi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3980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Notification Email 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9800" y="2101680"/>
            <a:ext cx="860724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From: nagios@thuldai.mos.com.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To: "ishwars@mos.com.np" &lt;ishwars@mos.com.n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Subject: Host DOWN alert for WORLDBANK-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Date: 05/02/04 11: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***** Nagios 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Notification Type: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Host: WORLDBANK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State: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Address: 202.52.239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Info: PING CRITICAL - Packet loss =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87000"/>
              </a:lnSpc>
              <a:spcAft>
                <a:spcPts val="1412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Date/Time: Thu Feb 5 11:06:38 NP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configuration fi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ocated in /etc/nagios2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ortant fi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gi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ols the Web Interfac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ons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and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ands that Nagi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s to 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gio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n Nagios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f.d/*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re of the config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configuration fi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9002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der conf.d/*, files “xxxx_nagios2.cfg”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ct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rs and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ic-ho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template” host (default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ic-servic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template”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stgroup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st group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vice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ich services to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period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to check and not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plugin configur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/etc/nagios-plugins/config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t.cfg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tp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hcp.cfg   ping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k.cfg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s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ummy.cfg  real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tp.cfg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sh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.cfg   tcp_udp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ad.cfg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lnet.cf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l.cfg   users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ws.cf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6680" y="484200"/>
            <a:ext cx="9701280" cy="67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oncepts: parent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sts can have par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one to specify which dependencies there are in the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 sending alarms if we cannot know the state of a hos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3880" y="233280"/>
            <a:ext cx="9063000" cy="646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46000" y="3295800"/>
            <a:ext cx="3038760" cy="232884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54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6058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– working principl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9880" y="176040"/>
            <a:ext cx="9579240" cy="6518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66680"/>
            <a:ext cx="2071800" cy="1481040"/>
          </a:xfrm>
          <a:prstGeom prst="roundRect">
            <a:avLst>
              <a:gd name="adj" fmla="val 106"/>
            </a:avLst>
          </a:prstGeom>
          <a:solidFill>
            <a:srgbClr val="ffffff"/>
          </a:solidFill>
          <a:ln w="54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y Nagio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Relatively scalable, Manageable, Secure and m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Best documentation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Good log and databas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Nice, informative and attractive web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Very flexib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lerts automatically sent if condition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Various notification options (Email, pager, mobile phone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Nagios Resource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8344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Nagios Hom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://www.nagios.org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Nagios Plugins and Add Ons Exchang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://www.nagiosexchange.com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Nagios Tutorial for Debian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ttp://www.debianhelp.co.uk/nagios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Nagios Commercial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://www.nagios.com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405240" y="3179880"/>
            <a:ext cx="3387600" cy="9172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80"/>
                </a:solidFill>
                <a:latin typeface="Times New Roman"/>
                <a:ea typeface="msmincho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y Nagio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Verdana"/>
                <a:ea typeface="msmincho"/>
              </a:rPr>
              <a:t>Avoidance of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 “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  <a:ea typeface="msmincho"/>
              </a:rPr>
              <a:t>Too many red flashing light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msmincho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“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Just the facts” – only want root cause failures to be reported, not cascade of every downstream fail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lso avoids unnecessary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e.g. HTTP responds, therefore no need to 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e.g. power outage, no ping response, so don’t bother trying anything 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Services are running fine no need to do check if the host itself is al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 Can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Individual node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Is it u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What is its lo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What is the memory and swap us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NFS and network lo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re the partitions fu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re applications and services running proper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How about ping laten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Aggregated node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1600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  <a:ea typeface="msmincho"/>
              </a:rPr>
              <a:t>Same info, but across groups of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Utopia"/>
              </a:rPr>
              <a:t>What Can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lot, includ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ice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erts from SNMP tra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ing redunda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ction of primary failure to avoid multiple like aler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ifications via email, pag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ifications to individuals or defined group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g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90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databases to store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ph generation from MRT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ry extensible via plug-ins, add-ons and local scrip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scale to large instal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ows for redundant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ggregation of like-data across multiple n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bility to escalate ale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uns on multiple Un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censed under GPL v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61040" y="6284880"/>
            <a:ext cx="836280" cy="70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1055520"/>
            <a:ext cx="719280" cy="586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51280" y="2668680"/>
            <a:ext cx="760680" cy="67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65200" y="162072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01560" y="47772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5200" y="278604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28560" y="407520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9097920" y="188136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4675320" y="1998720"/>
            <a:ext cx="871560" cy="37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8597880" y="3341520"/>
            <a:ext cx="133020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8785080" y="4792680"/>
            <a:ext cx="1019160" cy="4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6483240" y="6275520"/>
            <a:ext cx="85248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2411280" y="6316560"/>
            <a:ext cx="857520" cy="70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3184560" y="410688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4743360" y="4138560"/>
            <a:ext cx="760680" cy="67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>
            <a:off x="452520" y="4616280"/>
            <a:ext cx="779400" cy="64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41800" y="8841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0200" y="1619280"/>
            <a:ext cx="1440" cy="42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24600" y="234000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16080" y="490680"/>
            <a:ext cx="1800" cy="465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084400" y="3033720"/>
            <a:ext cx="2657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6480" y="816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2080" y="1959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2080" y="313056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920" y="4408560"/>
            <a:ext cx="120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71440" y="4437000"/>
            <a:ext cx="1160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3520" y="4437000"/>
            <a:ext cx="1263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9320" y="1809720"/>
            <a:ext cx="1440" cy="336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11920" y="21636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838560" y="3673440"/>
            <a:ext cx="1792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11920" y="4994280"/>
            <a:ext cx="20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11480" y="5973840"/>
            <a:ext cx="561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7760" y="4762440"/>
            <a:ext cx="144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3080" y="597384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10560" y="597384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7880" y="5973840"/>
            <a:ext cx="1800" cy="33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22760" y="295272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8040" y="1824120"/>
            <a:ext cx="115920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0840" y="4545000"/>
            <a:ext cx="11588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7143840"/>
            <a:ext cx="20732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Client At N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0120" y="5170320"/>
            <a:ext cx="1201680" cy="3067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720" y="4803840"/>
            <a:ext cx="897120" cy="441360"/>
          </a:xfrm>
          <a:prstGeom prst="roundRect">
            <a:avLst>
              <a:gd name="adj" fmla="val 3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57680" y="0"/>
            <a:ext cx="319536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	</a:t>
            </a: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	</a:t>
            </a:r>
            <a:r>
              <a:rPr b="1" lang="en-GB" sz="4400" spc="-1" strike="noStrike">
                <a:solidFill>
                  <a:srgbClr val="000080"/>
                </a:solidFill>
                <a:latin typeface="Verdana"/>
                <a:ea typeface="msmincho"/>
              </a:rPr>
              <a:t>Sample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4361040" y="6284880"/>
            <a:ext cx="836280" cy="70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4751280" y="2668680"/>
            <a:ext cx="760680" cy="67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>
            <a:off x="565200" y="162072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0"/>
          <a:stretch/>
        </p:blipFill>
        <p:spPr>
          <a:xfrm>
            <a:off x="601560" y="47772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>
            <a:off x="565200" y="278604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2"/>
          <a:stretch/>
        </p:blipFill>
        <p:spPr>
          <a:xfrm>
            <a:off x="628560" y="4075200"/>
            <a:ext cx="31608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3"/>
          <a:stretch/>
        </p:blipFill>
        <p:spPr>
          <a:xfrm>
            <a:off x="9097920" y="188136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4"/>
          <a:stretch/>
        </p:blipFill>
        <p:spPr>
          <a:xfrm>
            <a:off x="4675320" y="1998720"/>
            <a:ext cx="871560" cy="372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>
            <a:off x="8597880" y="3341520"/>
            <a:ext cx="1330200" cy="573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>
            <a:off x="8785080" y="4792680"/>
            <a:ext cx="1019160" cy="4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>
            <a:off x="6483240" y="6275520"/>
            <a:ext cx="852480" cy="701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>
            <a:off x="2411280" y="6316560"/>
            <a:ext cx="857520" cy="70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>
            <a:off x="3184560" y="4106880"/>
            <a:ext cx="315720" cy="69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>
            <a:off x="4743360" y="4138560"/>
            <a:ext cx="760680" cy="67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>
            <a:off x="452520" y="4616280"/>
            <a:ext cx="779400" cy="64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41800" y="8841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0200" y="1619280"/>
            <a:ext cx="1440" cy="422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4600" y="234000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490680"/>
            <a:ext cx="1800" cy="465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084400" y="3033720"/>
            <a:ext cx="2657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6480" y="816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080" y="1959120"/>
            <a:ext cx="1251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2080" y="313056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1920" y="4408560"/>
            <a:ext cx="120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71440" y="4437000"/>
            <a:ext cx="1160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3520" y="4437000"/>
            <a:ext cx="1263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9320" y="1809720"/>
            <a:ext cx="1440" cy="336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11920" y="216360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38560" y="3673440"/>
            <a:ext cx="1792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11920" y="4994280"/>
            <a:ext cx="20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1480" y="5973840"/>
            <a:ext cx="56181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7760" y="4762440"/>
            <a:ext cx="144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3080" y="5973840"/>
            <a:ext cx="1440" cy="353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0560" y="597384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7880" y="5973840"/>
            <a:ext cx="1800" cy="33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22760" y="2952720"/>
            <a:ext cx="1278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7200" y="3279600"/>
            <a:ext cx="1581480" cy="3067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51200" y="7143840"/>
            <a:ext cx="20732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Web Client At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2720" y="4803840"/>
            <a:ext cx="897120" cy="441360"/>
          </a:xfrm>
          <a:prstGeom prst="roundRect">
            <a:avLst>
              <a:gd name="adj" fmla="val 3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6360" y="2422440"/>
            <a:ext cx="2030400" cy="3668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host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3120" y="3048120"/>
            <a:ext cx="31572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0160" y="3112920"/>
            <a:ext cx="212400" cy="208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78000" y="4404960"/>
            <a:ext cx="52236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98440" y="3508200"/>
            <a:ext cx="2052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880240" y="2936520"/>
            <a:ext cx="330120" cy="190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35720" y="3655800"/>
            <a:ext cx="42552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459560" y="4989240"/>
            <a:ext cx="50796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2560" y="2163600"/>
            <a:ext cx="425520" cy="18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7760" y="3755880"/>
            <a:ext cx="1800" cy="4222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116080" y="4146480"/>
            <a:ext cx="180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28680" y="2417400"/>
            <a:ext cx="14400" cy="3063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55760" y="1946160"/>
            <a:ext cx="295200" cy="18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111040" y="1166760"/>
            <a:ext cx="20520" cy="2923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396800" y="798120"/>
            <a:ext cx="377640" cy="205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99320" y="2311560"/>
            <a:ext cx="1440" cy="3045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24600" y="2351160"/>
            <a:ext cx="27000" cy="169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24600" y="1657440"/>
            <a:ext cx="1440" cy="2649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30320" y="2803680"/>
            <a:ext cx="853920" cy="24732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3320" y="1606680"/>
            <a:ext cx="912960" cy="24768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6480" y="298440"/>
            <a:ext cx="1254240" cy="247680"/>
          </a:xfrm>
          <a:prstGeom prst="roundRect">
            <a:avLst>
              <a:gd name="adj" fmla="val 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6600" y="1604880"/>
            <a:ext cx="1144440" cy="3063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Check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4200" y="184320"/>
            <a:ext cx="9690120" cy="64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gios Configu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60400" y="965160"/>
            <a:ext cx="84470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