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33080" y="1006560"/>
            <a:ext cx="5100840" cy="34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037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dc2300"/>
                </a:solidFill>
                <a:latin typeface="Helvetica Bold"/>
              </a:rPr>
              <a:t>Click to move the slide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39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53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0000" y="4539240"/>
            <a:ext cx="93553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6000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376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2960" y="196380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86280" y="196380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0000" y="453924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2960" y="453924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86280" y="453924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60000" y="1963800"/>
            <a:ext cx="935532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Utop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532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0880" y="28260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-210960"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Utop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6000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376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0000" y="4539240"/>
            <a:ext cx="93553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5520" y="155520"/>
            <a:ext cx="9769680" cy="1328760"/>
          </a:xfrm>
          <a:prstGeom prst="rect">
            <a:avLst/>
          </a:prstGeom>
          <a:solidFill>
            <a:srgbClr val="c0c0c0"/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dc2300"/>
                </a:solidFill>
                <a:latin typeface="Helvetica Bold"/>
              </a:rPr>
              <a:t>Click to edit the title text format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0000" y="1963800"/>
            <a:ext cx="935532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Click to edit the outline text format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Second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Third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3" marL="1722600" indent="-21132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Four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4" marL="2154240" indent="-21276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Fif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5" marL="2154240" indent="-21276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Six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6" marL="2154240" indent="-21276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Seven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" name=""/>
          <p:cNvSpPr/>
          <p:nvPr/>
        </p:nvSpPr>
        <p:spPr>
          <a:xfrm>
            <a:off x="360360" y="1619280"/>
            <a:ext cx="9360000" cy="144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515880" y="1795320"/>
            <a:ext cx="8772480" cy="501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-216000" algn="ctr">
              <a:lnSpc>
                <a:spcPct val="97000"/>
              </a:lnSpc>
              <a:tabLst>
                <a:tab algn="l" pos="0"/>
                <a:tab algn="l" pos="426960"/>
                <a:tab algn="l" pos="662040"/>
                <a:tab algn="l" pos="111276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6960" indent="-216000" algn="ctr">
              <a:lnSpc>
                <a:spcPct val="95000"/>
              </a:lnSpc>
              <a:tabLst>
                <a:tab algn="l" pos="0"/>
                <a:tab algn="l" pos="426960"/>
                <a:tab algn="l" pos="662040"/>
                <a:tab algn="l" pos="111276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6960" indent="-216000" algn="ctr">
              <a:lnSpc>
                <a:spcPct val="100000"/>
              </a:lnSpc>
              <a:tabLst>
                <a:tab algn="l" pos="0"/>
                <a:tab algn="l" pos="426960"/>
                <a:tab algn="l" pos="662040"/>
                <a:tab algn="l" pos="111276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Network Management Workshop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lvl="1" marL="426960" indent="-216000" algn="ctr">
              <a:lnSpc>
                <a:spcPct val="96000"/>
              </a:lnSpc>
              <a:tabLst>
                <a:tab algn="l" pos="0"/>
                <a:tab algn="l" pos="426960"/>
                <a:tab algn="l" pos="662040"/>
                <a:tab algn="l" pos="111276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intERlab at AIT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lvl="1" marL="426960" indent="-216000" algn="ctr">
              <a:lnSpc>
                <a:spcPct val="96000"/>
              </a:lnSpc>
              <a:tabLst>
                <a:tab algn="l" pos="0"/>
                <a:tab algn="l" pos="426960"/>
                <a:tab algn="l" pos="662040"/>
                <a:tab algn="l" pos="111276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Thailand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210960" indent="-210960" algn="ctr">
              <a:lnSpc>
                <a:spcPct val="96000"/>
              </a:lnSpc>
              <a:tabLst>
                <a:tab algn="l" pos="0"/>
                <a:tab algn="l" pos="426960"/>
                <a:tab algn="l" pos="662040"/>
                <a:tab algn="l" pos="111276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March 11-15, 2008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210960" indent="-210960" algn="ctr">
              <a:lnSpc>
                <a:spcPct val="96000"/>
              </a:lnSpc>
              <a:tabLst>
                <a:tab algn="l" pos="0"/>
                <a:tab algn="l" pos="426960"/>
                <a:tab algn="l" pos="662040"/>
                <a:tab algn="l" pos="111276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lvl="1" marL="426960" indent="-216000" algn="ctr">
              <a:lnSpc>
                <a:spcPct val="95000"/>
              </a:lnSpc>
              <a:tabLst>
                <a:tab algn="l" pos="0"/>
                <a:tab algn="l" pos="426960"/>
                <a:tab algn="l" pos="662040"/>
                <a:tab algn="l" pos="111276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lvl="1" marL="426960" indent="-216000" algn="ctr">
              <a:lnSpc>
                <a:spcPct val="95000"/>
              </a:lnSpc>
              <a:tabLst>
                <a:tab algn="l" pos="0"/>
                <a:tab algn="l" pos="426960"/>
                <a:tab algn="l" pos="662040"/>
                <a:tab algn="l" pos="111276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6960" indent="-216000" algn="ctr">
              <a:lnSpc>
                <a:spcPct val="95000"/>
              </a:lnSpc>
              <a:tabLst>
                <a:tab algn="l" pos="0"/>
                <a:tab algn="l" pos="426960"/>
                <a:tab algn="l" pos="662040"/>
                <a:tab algn="l" pos="111276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6960" indent="-216000" algn="ctr">
              <a:lnSpc>
                <a:spcPct val="95000"/>
              </a:lnSpc>
              <a:tabLst>
                <a:tab algn="l" pos="0"/>
                <a:tab algn="l" pos="426960"/>
                <a:tab algn="l" pos="662040"/>
                <a:tab algn="l" pos="111276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Introduction to SNMP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21080" y="4897440"/>
            <a:ext cx="486396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OIDs and MIB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Navigate tree downward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OIDs separated by '.'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8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1.3.6.1.4.1.9. ...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OID corresponds to a lab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8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.1.3.6.1.2.1.1.5 =&gt; sysName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The complete path: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8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Courier New"/>
              </a:rPr>
              <a:t>.iso.org.dod.internet.mgmt.mib-2.system.sysName</a:t>
            </a: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How do we convert from OIDs to Labels (and vice versa ?)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Use of MIBs files!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MIB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MIBs are files defining the objects that can be queried, including: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Object name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Object description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Data type (integer, text, list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MIBS are structured text, using ASN.1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Standard MIBs include: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MIB-II – (RFC1213) – a group of sub-MIBs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HOST-RESOURCES-MIB (RFC2790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MIBs - 2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MIBs also make it possible to interpret a returned value from an agent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For example, the status for a fan could be 1,2,3,4,5,6 – what does it mean ?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MIBs - SAMPLE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87" name=""/>
          <p:cNvSpPr/>
          <p:nvPr/>
        </p:nvSpPr>
        <p:spPr>
          <a:xfrm>
            <a:off x="252360" y="1916280"/>
            <a:ext cx="9655200" cy="53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UpTime OBJECT-TYPE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NTAX  TimeTicks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ESS  read-only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US  mandatory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The time (in hundredths of a second) since the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etwork management portion of the system was last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-initialized."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:= { system 3 }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-Bold"/>
              </a:rPr>
              <a:t>sysUpTime OBJECT-TYPE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efines the object called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ysUpTim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spcAft>
                <a:spcPts val="15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-Bold"/>
                <a:ea typeface="Courier-Bold"/>
              </a:rPr>
              <a:t>SYNTAX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1300" spc="-1" strike="noStrike">
                <a:solidFill>
                  <a:srgbClr val="000000"/>
                </a:solidFill>
                <a:latin typeface="Courier-Bold"/>
                <a:ea typeface="Courier-Bold"/>
              </a:rPr>
              <a:t>TimeTicks</a:t>
            </a:r>
            <a:br>
              <a:rPr sz="1300"/>
            </a:br>
            <a:r>
              <a:rPr b="1" lang="en-GB" sz="1300" spc="-1" strike="noStrike">
                <a:solidFill>
                  <a:srgbClr val="000000"/>
                </a:solidFill>
                <a:latin typeface="Courier-Bold"/>
                <a:ea typeface="Courier-Bold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object is of the type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Tick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bject types are specified in the SMI we mentioned a moment ago.</a:t>
            </a:r>
            <a:endParaRPr b="0" lang="en-US" sz="16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spcAft>
                <a:spcPts val="15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-Bold"/>
              </a:rPr>
              <a:t>ACCESS read-only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-Bold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object can only be read via SNMP (i.e.,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get-reques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it cannot be changed (i.e.,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et-reques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spcAft>
                <a:spcPts val="15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-Bold"/>
              </a:rPr>
              <a:t>STATUS mandator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-Bold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-Bold"/>
              </a:rPr>
              <a:t>This object must be implemented in any SNMP agent.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-Bold"/>
              </a:rPr>
              <a:t>DESCRIPTION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-Bold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-Bold"/>
              </a:rPr>
              <a:t>A description of the object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-Bold"/>
              </a:rPr>
              <a:t>::= { system 3 }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-Bold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ysUpTim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is the third branch off of the system object group tree.</a:t>
            </a:r>
            <a:endParaRPr b="0" lang="en-US" sz="16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MIBs - SAMPLE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89" name=""/>
          <p:cNvSpPr/>
          <p:nvPr/>
        </p:nvSpPr>
        <p:spPr>
          <a:xfrm>
            <a:off x="252360" y="1916280"/>
            <a:ext cx="9655200" cy="53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iscoEnvMonState ::= TEXTUAL-CONVENTION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ATUS  current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"Represents the state of a device being monitored.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alid values are: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ormal(1):         the environment is good, such as low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erature.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warning(2):        the environment is bad, such as temperature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bove normal operation range but not too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high.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ritical(3):       the environment is very bad, such as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erature much higher than normal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peration limit.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hutdown(4):       the environment is the worst, the system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hould be shutdown immediately.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otPresent(5):     the environmental monitor is not present,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uch as temperature sensors do not exist.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otFunctioning(6): the environmental monitor does not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unction properly, such as a temperature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ensor generates a abnormal data like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1000 C.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Querying SNMP agent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60000" y="1963440"/>
            <a:ext cx="9720360" cy="53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2640" indent="-31896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Some typical commands for querying: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0320" indent="-282960">
              <a:lnSpc>
                <a:spcPct val="8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snmpget 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0320" indent="-282960">
              <a:lnSpc>
                <a:spcPct val="8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snmpwalk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0320" indent="-282960">
              <a:lnSpc>
                <a:spcPct val="8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snmpstatus</a:t>
            </a:r>
            <a:br>
              <a:rPr sz="2600"/>
            </a:b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 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2640" indent="-31896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Syntax: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nmpXXX -c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community 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-v1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host [oid]</a:t>
            </a:r>
            <a:br>
              <a:rPr sz="2400"/>
            </a:b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nmpXXX -c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community 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-v2c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host [oid]</a:t>
            </a:r>
            <a:br>
              <a:rPr sz="2400"/>
            </a:b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marL="422640" indent="-31896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Let's take an example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0320" indent="-282960">
              <a:lnSpc>
                <a:spcPct val="8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snmpstatus -c 1nterl4b -v1 10.10.10.1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0320" indent="-282960">
              <a:lnSpc>
                <a:spcPct val="8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snmpget -c 1nterl4b -v1 10.10.10.10 .iso.org.dod.internet.mgmt.mib-2.interfaces.ifNumber.0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0320" indent="-282960">
              <a:lnSpc>
                <a:spcPct val="8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snmpwalk -c 1nterl4b -v1 10.10.10.10 ifDescr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Querying SNMP agent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Community: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A ”security” string (password) to define whether the querying manager will have RO (read only) or RW (read write) access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This is the simplest form of authentication in SNMP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OID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A value, for example, .1.3.6.1.2.1.1.5.0, or it's name equivalent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.iso.org.dod.internet.mgmt.mib-2.system.sysName.0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Let's ask for the system's name (using the OID above)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Why the .0 ?  What do you notice ?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Coming up...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Using snmpwalk, snmpget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Configuring SNMPD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Loading MIB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Reference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60000" y="1963440"/>
            <a:ext cx="935676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Basic SNMP at Cisco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http://www.cisco.com/warp/public/535/3.html 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http://www.cisco.com/univercd/cc/td/doc/cisintwk/ito_doc/snmp.htm  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Wikipedia: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http://en.wikipedia.org/wiki/Simple_Network_Management_Protocol 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IP Monitor MIB Browser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http://support.ipmonitor.com/mibs_byoidtree.aspx 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Cisco MIB browser: http://tools.cisco.com/Support/SNMP/do/BrowseOID.do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Open Source Java MIB Browser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http://www.kill-9.org/mbrowse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http://www.dwipal.com/mibbrowser.htm (Java)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SNMP Link – collection of SNMP resources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http://www.snmplink.org/ 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Net-SNMP Open Source SNMP tools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http://net-snmp.sourceforge.net/ 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Overview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What is SNMP ?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OID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MIB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Polling and querying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Trap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What is SNMP ?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360" y="1979280"/>
            <a:ext cx="936000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SNMP – Simple Network Management Protoco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Industry standard, hundreds of tools exist to exploit it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Present on any decent network equipment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Query – response based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 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GET / SET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5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Lucida Sans Typewriter"/>
              </a:rPr>
              <a:t>Mostly GET is used for monitoring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Tree hierarchy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Query for ”Object Identifiers” (OIDs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Concept of MIBs (Management Information Base)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Standard and vendor-specific (Enterprise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What is SNMP ?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360" y="1979280"/>
            <a:ext cx="9360000" cy="54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UDP protocol, port 161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Different version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Originally, 1988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v1 – RFC1155, RFC1156, RFC1157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5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Lucida Sans Typewriter"/>
              </a:rPr>
              <a:t>Original specification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v2 – RFC1901 ... RFC1908 + RFC2578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5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Lucida Sans Typewriter"/>
              </a:rPr>
              <a:t>Extends v1, new data types, better retrieval methods (GETBULK)</a:t>
            </a:r>
            <a:r>
              <a:rPr b="0" lang="en-GB" sz="24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5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Lucida Sans Typewriter"/>
              </a:rPr>
              <a:t>Really is version v2c (without security model)</a:t>
            </a:r>
            <a:r>
              <a:rPr b="0" lang="en-GB" sz="24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v3 – RFC3411 ... RFC3418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Typically we use SNMPv2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Terminology: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Manager (the monitoring ”client”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Agent (running on the equipment/server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What is SNMP ?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Typical querie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Bytes In/Out on an interface, errors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CPU load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Uptime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Temperature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...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For hosts (servers or workstations)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Diskspace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Installed software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Running processes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...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0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Windows and UNIX have SNMP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How does it work ?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4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Basic command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GET 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(manager -&gt; agent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5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Lucida Sans Typewriter"/>
              </a:rPr>
              <a:t>Query for a value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GET-NEXT 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(manager -&gt; agent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5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Lucida Sans Typewriter"/>
              </a:rPr>
              <a:t>Get next value (list of values for a table)</a:t>
            </a:r>
            <a:r>
              <a:rPr b="0" lang="en-GB" sz="24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GET-RESPONSE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(agent -&gt; manager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5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Lucida Sans Typewriter"/>
              </a:rPr>
              <a:t>Response to GET/SET, or error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SET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(manager -&gt; agent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5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Lucida Sans Typewriter"/>
              </a:rPr>
              <a:t>Set a value, or perform action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0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TRAP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(agent -&gt; manager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5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Lucida Sans Typewriter"/>
              </a:rPr>
              <a:t>Spontaneous notification from equipment (line down, temperature above threshold, ...)</a:t>
            </a:r>
            <a:r>
              <a:rPr b="0" lang="en-GB" sz="24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771640" y="5400720"/>
            <a:ext cx="3240360" cy="1800360"/>
          </a:xfrm>
          <a:prstGeom prst="roundRect">
            <a:avLst>
              <a:gd name="adj" fmla="val 88"/>
            </a:avLst>
          </a:prstGeom>
          <a:solidFill>
            <a:srgbClr val="cccccc"/>
          </a:solidFill>
          <a:ln w="9360">
            <a:solidFill>
              <a:srgbClr val="dcdc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2340000"/>
            <a:ext cx="1440000" cy="234000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2340000"/>
              <a:gd name="textAreaBottom" fmla="*/ 2339640 h 2340000"/>
            </a:gdLst>
            <a:ahLst/>
            <a:rect l="textAreaLeft" t="textAreaTop" r="textAreaRight" b="textAreaBottom"/>
            <a:pathLst>
              <a:path w="21600" h="35097">
                <a:moveTo>
                  <a:pt x="23" y="0"/>
                </a:moveTo>
                <a:arcTo wR="23" hR="23" stAng="16200000" swAng="-5400000"/>
                <a:lnTo>
                  <a:pt x="0" y="35074"/>
                </a:lnTo>
                <a:arcTo wR="23" hR="23" stAng="10800000" swAng="-5400000"/>
                <a:lnTo>
                  <a:pt x="21577" y="35097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cccccc"/>
          </a:solidFill>
          <a:ln w="9360">
            <a:solidFill>
              <a:srgbClr val="dcdc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1" name=""/>
          <p:cNvSpPr/>
          <p:nvPr/>
        </p:nvSpPr>
        <p:spPr>
          <a:xfrm>
            <a:off x="6227640" y="4859280"/>
            <a:ext cx="1440000" cy="180036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800360"/>
              <a:gd name="textAreaBottom" fmla="*/ 1800000 h 1800360"/>
            </a:gdLst>
            <a:ahLst/>
            <a:rect l="textAreaLeft" t="textAreaTop" r="textAreaRight" b="textAreaBottom"/>
            <a:pathLst>
              <a:path w="21600" h="27004">
                <a:moveTo>
                  <a:pt x="23" y="0"/>
                </a:moveTo>
                <a:arcTo wR="23" hR="23" stAng="16200000" swAng="-5400000"/>
                <a:lnTo>
                  <a:pt x="0" y="26981"/>
                </a:lnTo>
                <a:arcTo wR="23" hR="23" stAng="10800000" swAng="-5400000"/>
                <a:lnTo>
                  <a:pt x="21577" y="27004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dcdc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The MIB tree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63" name=""/>
          <p:cNvSpPr/>
          <p:nvPr/>
        </p:nvSpPr>
        <p:spPr>
          <a:xfrm>
            <a:off x="4824360" y="1685880"/>
            <a:ext cx="4888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root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1979640"/>
            <a:ext cx="161928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561840" y="1979640"/>
            <a:ext cx="14432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6" name=""/>
          <p:cNvSpPr/>
          <p:nvPr/>
        </p:nvSpPr>
        <p:spPr>
          <a:xfrm>
            <a:off x="5003640" y="197964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7" name=""/>
          <p:cNvSpPr/>
          <p:nvPr/>
        </p:nvSpPr>
        <p:spPr>
          <a:xfrm>
            <a:off x="3203640" y="2340000"/>
            <a:ext cx="718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ccitt(0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8" name=""/>
          <p:cNvSpPr/>
          <p:nvPr/>
        </p:nvSpPr>
        <p:spPr>
          <a:xfrm>
            <a:off x="4713120" y="2303640"/>
            <a:ext cx="6271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iso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9" name=""/>
          <p:cNvSpPr/>
          <p:nvPr/>
        </p:nvSpPr>
        <p:spPr>
          <a:xfrm>
            <a:off x="6200640" y="2340000"/>
            <a:ext cx="1393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joint-iso-ccitt(3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2592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1" name=""/>
          <p:cNvSpPr/>
          <p:nvPr/>
        </p:nvSpPr>
        <p:spPr>
          <a:xfrm>
            <a:off x="4667400" y="2916360"/>
            <a:ext cx="657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org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3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2" name=""/>
          <p:cNvSpPr/>
          <p:nvPr/>
        </p:nvSpPr>
        <p:spPr>
          <a:xfrm>
            <a:off x="4667400" y="3600360"/>
            <a:ext cx="6966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dod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6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3" name=""/>
          <p:cNvSpPr/>
          <p:nvPr/>
        </p:nvSpPr>
        <p:spPr>
          <a:xfrm>
            <a:off x="5003640" y="324000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4" name=""/>
          <p:cNvSpPr/>
          <p:nvPr/>
        </p:nvSpPr>
        <p:spPr>
          <a:xfrm>
            <a:off x="4500720" y="4248000"/>
            <a:ext cx="9950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internet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24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382560" y="4500720"/>
            <a:ext cx="162252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572000" y="4497480"/>
            <a:ext cx="431640" cy="363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8" name=""/>
          <p:cNvSpPr/>
          <p:nvPr/>
        </p:nvSpPr>
        <p:spPr>
          <a:xfrm>
            <a:off x="5003640" y="4500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9" name=""/>
          <p:cNvSpPr/>
          <p:nvPr/>
        </p:nvSpPr>
        <p:spPr>
          <a:xfrm>
            <a:off x="5003640" y="4500720"/>
            <a:ext cx="161928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0" name=""/>
          <p:cNvSpPr/>
          <p:nvPr/>
        </p:nvSpPr>
        <p:spPr>
          <a:xfrm>
            <a:off x="2808360" y="4859280"/>
            <a:ext cx="1084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directory(1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1" name=""/>
          <p:cNvSpPr/>
          <p:nvPr/>
        </p:nvSpPr>
        <p:spPr>
          <a:xfrm>
            <a:off x="3889440" y="4859280"/>
            <a:ext cx="8445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mgmt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543280" y="3959280"/>
            <a:ext cx="1082520" cy="360360"/>
          </a:xfrm>
          <a:prstGeom prst="line">
            <a:avLst/>
          </a:prstGeom>
          <a:ln w="93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3" name=""/>
          <p:cNvSpPr/>
          <p:nvPr/>
        </p:nvSpPr>
        <p:spPr>
          <a:xfrm>
            <a:off x="6669000" y="3780000"/>
            <a:ext cx="7286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Lucida Sans"/>
              </a:rPr>
              <a:t>1.3.6.1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4" name=""/>
          <p:cNvSpPr/>
          <p:nvPr/>
        </p:nvSpPr>
        <p:spPr>
          <a:xfrm>
            <a:off x="4753080" y="4859280"/>
            <a:ext cx="14205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experimental(3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5" name=""/>
          <p:cNvSpPr/>
          <p:nvPr/>
        </p:nvSpPr>
        <p:spPr>
          <a:xfrm>
            <a:off x="6443640" y="4859280"/>
            <a:ext cx="934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private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6" name=""/>
          <p:cNvSpPr/>
          <p:nvPr/>
        </p:nvSpPr>
        <p:spPr>
          <a:xfrm>
            <a:off x="5003640" y="3924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7" name=""/>
          <p:cNvSpPr/>
          <p:nvPr/>
        </p:nvSpPr>
        <p:spPr>
          <a:xfrm>
            <a:off x="6912000" y="514836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8" name=""/>
          <p:cNvSpPr/>
          <p:nvPr/>
        </p:nvSpPr>
        <p:spPr>
          <a:xfrm>
            <a:off x="6229440" y="5472000"/>
            <a:ext cx="12826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enterprises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6083280"/>
            <a:ext cx="8082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cisco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9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0" name=""/>
          <p:cNvSpPr/>
          <p:nvPr/>
        </p:nvSpPr>
        <p:spPr>
          <a:xfrm>
            <a:off x="6912000" y="575928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1" name=""/>
          <p:cNvSpPr/>
          <p:nvPr/>
        </p:nvSpPr>
        <p:spPr>
          <a:xfrm>
            <a:off x="6912000" y="640872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6696000"/>
            <a:ext cx="504720" cy="289080"/>
          </a:xfrm>
          <a:custGeom>
            <a:avLst/>
            <a:gdLst/>
            <a:ahLst/>
            <a:rect l="l" t="t" r="r" b="b"/>
            <a:pathLst>
              <a:path w="1401" h="801">
                <a:moveTo>
                  <a:pt x="1400" y="0"/>
                </a:moveTo>
                <a:lnTo>
                  <a:pt x="900" y="500"/>
                </a:lnTo>
                <a:lnTo>
                  <a:pt x="400" y="500"/>
                </a:lnTo>
                <a:lnTo>
                  <a:pt x="0" y="8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3" name=""/>
          <p:cNvSpPr/>
          <p:nvPr/>
        </p:nvSpPr>
        <p:spPr>
          <a:xfrm>
            <a:off x="6659640" y="6624720"/>
            <a:ext cx="504720" cy="288720"/>
          </a:xfrm>
          <a:custGeom>
            <a:avLst/>
            <a:gdLst/>
            <a:ahLst/>
            <a:rect l="l" t="t" r="r" b="b"/>
            <a:pathLst>
              <a:path w="1401" h="801">
                <a:moveTo>
                  <a:pt x="1400" y="0"/>
                </a:moveTo>
                <a:lnTo>
                  <a:pt x="900" y="500"/>
                </a:lnTo>
                <a:lnTo>
                  <a:pt x="400" y="500"/>
                </a:lnTo>
                <a:lnTo>
                  <a:pt x="0" y="8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4" name=""/>
          <p:cNvSpPr/>
          <p:nvPr/>
        </p:nvSpPr>
        <p:spPr>
          <a:xfrm>
            <a:off x="3889440" y="5435640"/>
            <a:ext cx="8445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mib-2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5" name=""/>
          <p:cNvSpPr/>
          <p:nvPr/>
        </p:nvSpPr>
        <p:spPr>
          <a:xfrm>
            <a:off x="4319640" y="514836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6" name=""/>
          <p:cNvSpPr/>
          <p:nvPr/>
        </p:nvSpPr>
        <p:spPr>
          <a:xfrm>
            <a:off x="2808360" y="6073920"/>
            <a:ext cx="96516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system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7" name=""/>
          <p:cNvSpPr/>
          <p:nvPr/>
        </p:nvSpPr>
        <p:spPr>
          <a:xfrm>
            <a:off x="3144960" y="6434280"/>
            <a:ext cx="11746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interfaces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2)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8" name=""/>
          <p:cNvSpPr/>
          <p:nvPr/>
        </p:nvSpPr>
        <p:spPr>
          <a:xfrm>
            <a:off x="4687920" y="6443640"/>
            <a:ext cx="5382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ip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9" name=""/>
          <p:cNvSpPr/>
          <p:nvPr/>
        </p:nvSpPr>
        <p:spPr>
          <a:xfrm>
            <a:off x="5040360" y="6073920"/>
            <a:ext cx="92556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snmp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11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600360" y="5757840"/>
            <a:ext cx="612720" cy="326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032360" y="5757480"/>
            <a:ext cx="179280" cy="7239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4210200" y="5757480"/>
            <a:ext cx="542880" cy="7239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4209840" y="5757840"/>
            <a:ext cx="903240" cy="363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440000" y="5757840"/>
            <a:ext cx="2771640" cy="363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5" name=""/>
          <p:cNvSpPr/>
          <p:nvPr/>
        </p:nvSpPr>
        <p:spPr>
          <a:xfrm>
            <a:off x="1009800" y="6075360"/>
            <a:ext cx="8366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host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25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6" name=""/>
          <p:cNvSpPr/>
          <p:nvPr/>
        </p:nvSpPr>
        <p:spPr>
          <a:xfrm>
            <a:off x="1560600" y="6434280"/>
            <a:ext cx="96516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hrStorage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7" name=""/>
          <p:cNvSpPr/>
          <p:nvPr/>
        </p:nvSpPr>
        <p:spPr>
          <a:xfrm>
            <a:off x="839880" y="6686640"/>
            <a:ext cx="9349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hrSystem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8" name=""/>
          <p:cNvSpPr/>
          <p:nvPr/>
        </p:nvSpPr>
        <p:spPr>
          <a:xfrm>
            <a:off x="84240" y="6434280"/>
            <a:ext cx="8856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hrDevice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39640" y="6298920"/>
            <a:ext cx="720720" cy="182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1257480" y="6298920"/>
            <a:ext cx="723600" cy="182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1" name=""/>
          <p:cNvSpPr/>
          <p:nvPr/>
        </p:nvSpPr>
        <p:spPr>
          <a:xfrm>
            <a:off x="1260360" y="63007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79280" y="5400720"/>
            <a:ext cx="3240360" cy="1800360"/>
          </a:xfrm>
          <a:prstGeom prst="roundRect">
            <a:avLst>
              <a:gd name="adj" fmla="val 88"/>
            </a:avLst>
          </a:prstGeom>
          <a:solidFill>
            <a:srgbClr val="cccccc"/>
          </a:solidFill>
          <a:ln w="9360">
            <a:solidFill>
              <a:srgbClr val="dcdc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2340000"/>
            <a:ext cx="1440000" cy="234000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2340000"/>
              <a:gd name="textAreaBottom" fmla="*/ 2339640 h 2340000"/>
            </a:gdLst>
            <a:ahLst/>
            <a:rect l="textAreaLeft" t="textAreaTop" r="textAreaRight" b="textAreaBottom"/>
            <a:pathLst>
              <a:path w="21600" h="35097">
                <a:moveTo>
                  <a:pt x="23" y="0"/>
                </a:moveTo>
                <a:arcTo wR="23" hR="23" stAng="16200000" swAng="-5400000"/>
                <a:lnTo>
                  <a:pt x="0" y="35074"/>
                </a:lnTo>
                <a:arcTo wR="23" hR="23" stAng="10800000" swAng="-5400000"/>
                <a:lnTo>
                  <a:pt x="21577" y="35097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cccccc"/>
          </a:solidFill>
          <a:ln w="9360">
            <a:solidFill>
              <a:srgbClr val="dcdc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4" name=""/>
          <p:cNvSpPr/>
          <p:nvPr/>
        </p:nvSpPr>
        <p:spPr>
          <a:xfrm>
            <a:off x="5759280" y="2879640"/>
            <a:ext cx="3780000" cy="3600360"/>
          </a:xfrm>
          <a:prstGeom prst="roundRect">
            <a:avLst>
              <a:gd name="adj" fmla="val 42"/>
            </a:avLst>
          </a:prstGeom>
          <a:solidFill>
            <a:srgbClr val="ccffff"/>
          </a:solidFill>
          <a:ln w="9360">
            <a:solidFill>
              <a:srgbClr val="dcdc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4859280"/>
            <a:ext cx="1440000" cy="180036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800360"/>
              <a:gd name="textAreaBottom" fmla="*/ 1800000 h 1800360"/>
            </a:gdLst>
            <a:ahLst/>
            <a:rect l="textAreaLeft" t="textAreaTop" r="textAreaRight" b="textAreaBottom"/>
            <a:pathLst>
              <a:path w="21600" h="27004">
                <a:moveTo>
                  <a:pt x="23" y="0"/>
                </a:moveTo>
                <a:arcTo wR="23" hR="23" stAng="16200000" swAng="-5400000"/>
                <a:lnTo>
                  <a:pt x="0" y="26981"/>
                </a:lnTo>
                <a:arcTo wR="23" hR="23" stAng="10800000" swAng="-5400000"/>
                <a:lnTo>
                  <a:pt x="21577" y="27004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dcdc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The MIB tree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17" name=""/>
          <p:cNvSpPr/>
          <p:nvPr/>
        </p:nvSpPr>
        <p:spPr>
          <a:xfrm>
            <a:off x="2232000" y="1685880"/>
            <a:ext cx="4888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root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8" name=""/>
          <p:cNvSpPr/>
          <p:nvPr/>
        </p:nvSpPr>
        <p:spPr>
          <a:xfrm>
            <a:off x="2411280" y="1979640"/>
            <a:ext cx="161928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969480" y="1979640"/>
            <a:ext cx="14432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197964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1" name=""/>
          <p:cNvSpPr/>
          <p:nvPr/>
        </p:nvSpPr>
        <p:spPr>
          <a:xfrm>
            <a:off x="612720" y="2340000"/>
            <a:ext cx="7192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ccitt(0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2" name=""/>
          <p:cNvSpPr/>
          <p:nvPr/>
        </p:nvSpPr>
        <p:spPr>
          <a:xfrm>
            <a:off x="2122560" y="2303640"/>
            <a:ext cx="6271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iso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3" name=""/>
          <p:cNvSpPr/>
          <p:nvPr/>
        </p:nvSpPr>
        <p:spPr>
          <a:xfrm>
            <a:off x="3608280" y="2340000"/>
            <a:ext cx="1393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joint-iso-ccitt(3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4" name=""/>
          <p:cNvSpPr/>
          <p:nvPr/>
        </p:nvSpPr>
        <p:spPr>
          <a:xfrm>
            <a:off x="2411280" y="2592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5" name=""/>
          <p:cNvSpPr/>
          <p:nvPr/>
        </p:nvSpPr>
        <p:spPr>
          <a:xfrm>
            <a:off x="2076480" y="2916360"/>
            <a:ext cx="65736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org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3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6" name=""/>
          <p:cNvSpPr/>
          <p:nvPr/>
        </p:nvSpPr>
        <p:spPr>
          <a:xfrm>
            <a:off x="2076480" y="3600360"/>
            <a:ext cx="6969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dod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6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324000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4248000"/>
            <a:ext cx="9954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internet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9" name=""/>
          <p:cNvSpPr/>
          <p:nvPr/>
        </p:nvSpPr>
        <p:spPr>
          <a:xfrm>
            <a:off x="2411280" y="3924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790200" y="4500720"/>
            <a:ext cx="162252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979640" y="4497480"/>
            <a:ext cx="431640" cy="363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4500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3" name=""/>
          <p:cNvSpPr/>
          <p:nvPr/>
        </p:nvSpPr>
        <p:spPr>
          <a:xfrm>
            <a:off x="2411280" y="4500720"/>
            <a:ext cx="161928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4" name=""/>
          <p:cNvSpPr/>
          <p:nvPr/>
        </p:nvSpPr>
        <p:spPr>
          <a:xfrm>
            <a:off x="144360" y="4859280"/>
            <a:ext cx="1084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directory(1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5" name=""/>
          <p:cNvSpPr/>
          <p:nvPr/>
        </p:nvSpPr>
        <p:spPr>
          <a:xfrm>
            <a:off x="1297080" y="4859280"/>
            <a:ext cx="8445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mgmt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950920" y="3959280"/>
            <a:ext cx="1082520" cy="360360"/>
          </a:xfrm>
          <a:prstGeom prst="line">
            <a:avLst/>
          </a:prstGeom>
          <a:ln w="93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7" name=""/>
          <p:cNvSpPr/>
          <p:nvPr/>
        </p:nvSpPr>
        <p:spPr>
          <a:xfrm>
            <a:off x="4076640" y="3780000"/>
            <a:ext cx="7286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Lucida Sans"/>
              </a:rPr>
              <a:t>1.3.6.1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8" name=""/>
          <p:cNvSpPr/>
          <p:nvPr/>
        </p:nvSpPr>
        <p:spPr>
          <a:xfrm>
            <a:off x="2160720" y="4859280"/>
            <a:ext cx="14205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experimental(3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9" name=""/>
          <p:cNvSpPr/>
          <p:nvPr/>
        </p:nvSpPr>
        <p:spPr>
          <a:xfrm>
            <a:off x="3851280" y="4859280"/>
            <a:ext cx="934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private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3924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1" name=""/>
          <p:cNvSpPr/>
          <p:nvPr/>
        </p:nvSpPr>
        <p:spPr>
          <a:xfrm>
            <a:off x="4319640" y="514836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2" name=""/>
          <p:cNvSpPr/>
          <p:nvPr/>
        </p:nvSpPr>
        <p:spPr>
          <a:xfrm>
            <a:off x="3637080" y="5472000"/>
            <a:ext cx="12826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enterprises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6083280"/>
            <a:ext cx="8078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cisco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9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4" name=""/>
          <p:cNvSpPr/>
          <p:nvPr/>
        </p:nvSpPr>
        <p:spPr>
          <a:xfrm>
            <a:off x="4319640" y="575928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5" name=""/>
          <p:cNvSpPr/>
          <p:nvPr/>
        </p:nvSpPr>
        <p:spPr>
          <a:xfrm>
            <a:off x="6986520" y="2987640"/>
            <a:ext cx="12524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ciscoMgmt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9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6" name=""/>
          <p:cNvSpPr/>
          <p:nvPr/>
        </p:nvSpPr>
        <p:spPr>
          <a:xfrm>
            <a:off x="5219640" y="1800360"/>
            <a:ext cx="1800" cy="5400720"/>
          </a:xfrm>
          <a:prstGeom prst="line">
            <a:avLst/>
          </a:prstGeom>
          <a:ln w="36000">
            <a:solidFill>
              <a:srgbClr val="2300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7" name=""/>
          <p:cNvSpPr/>
          <p:nvPr/>
        </p:nvSpPr>
        <p:spPr>
          <a:xfrm>
            <a:off x="4319640" y="640872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8" name=""/>
          <p:cNvSpPr/>
          <p:nvPr/>
        </p:nvSpPr>
        <p:spPr>
          <a:xfrm>
            <a:off x="4068720" y="6696000"/>
            <a:ext cx="504720" cy="289080"/>
          </a:xfrm>
          <a:custGeom>
            <a:avLst/>
            <a:gdLst/>
            <a:ahLst/>
            <a:rect l="l" t="t" r="r" b="b"/>
            <a:pathLst>
              <a:path w="1401" h="801">
                <a:moveTo>
                  <a:pt x="1400" y="0"/>
                </a:moveTo>
                <a:lnTo>
                  <a:pt x="900" y="500"/>
                </a:lnTo>
                <a:lnTo>
                  <a:pt x="400" y="500"/>
                </a:lnTo>
                <a:lnTo>
                  <a:pt x="0" y="8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9" name=""/>
          <p:cNvSpPr/>
          <p:nvPr/>
        </p:nvSpPr>
        <p:spPr>
          <a:xfrm>
            <a:off x="4068720" y="6624720"/>
            <a:ext cx="504720" cy="288720"/>
          </a:xfrm>
          <a:custGeom>
            <a:avLst/>
            <a:gdLst/>
            <a:ahLst/>
            <a:rect l="l" t="t" r="r" b="b"/>
            <a:pathLst>
              <a:path w="1401" h="801">
                <a:moveTo>
                  <a:pt x="1400" y="0"/>
                </a:moveTo>
                <a:lnTo>
                  <a:pt x="900" y="500"/>
                </a:lnTo>
                <a:lnTo>
                  <a:pt x="400" y="500"/>
                </a:lnTo>
                <a:lnTo>
                  <a:pt x="0" y="8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0" name=""/>
          <p:cNvSpPr/>
          <p:nvPr/>
        </p:nvSpPr>
        <p:spPr>
          <a:xfrm>
            <a:off x="7272360" y="2411280"/>
            <a:ext cx="504720" cy="289080"/>
          </a:xfrm>
          <a:custGeom>
            <a:avLst/>
            <a:gdLst/>
            <a:ahLst/>
            <a:rect l="l" t="t" r="r" b="b"/>
            <a:pathLst>
              <a:path w="1401" h="801">
                <a:moveTo>
                  <a:pt x="1400" y="0"/>
                </a:moveTo>
                <a:lnTo>
                  <a:pt x="900" y="500"/>
                </a:lnTo>
                <a:lnTo>
                  <a:pt x="400" y="500"/>
                </a:lnTo>
                <a:lnTo>
                  <a:pt x="0" y="8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1" name=""/>
          <p:cNvSpPr/>
          <p:nvPr/>
        </p:nvSpPr>
        <p:spPr>
          <a:xfrm>
            <a:off x="7272360" y="2340000"/>
            <a:ext cx="504720" cy="289080"/>
          </a:xfrm>
          <a:custGeom>
            <a:avLst/>
            <a:gdLst/>
            <a:ahLst/>
            <a:rect l="l" t="t" r="r" b="b"/>
            <a:pathLst>
              <a:path w="1401" h="801">
                <a:moveTo>
                  <a:pt x="1400" y="0"/>
                </a:moveTo>
                <a:lnTo>
                  <a:pt x="900" y="500"/>
                </a:lnTo>
                <a:lnTo>
                  <a:pt x="400" y="500"/>
                </a:lnTo>
                <a:lnTo>
                  <a:pt x="0" y="8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2" name=""/>
          <p:cNvSpPr/>
          <p:nvPr/>
        </p:nvSpPr>
        <p:spPr>
          <a:xfrm>
            <a:off x="7559640" y="262728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3" name=""/>
          <p:cNvSpPr/>
          <p:nvPr/>
        </p:nvSpPr>
        <p:spPr>
          <a:xfrm>
            <a:off x="7559640" y="324000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4" name=""/>
          <p:cNvSpPr/>
          <p:nvPr/>
        </p:nvSpPr>
        <p:spPr>
          <a:xfrm>
            <a:off x="6662880" y="3600360"/>
            <a:ext cx="1876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ciscoEnvMonMIB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13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5" name=""/>
          <p:cNvSpPr/>
          <p:nvPr/>
        </p:nvSpPr>
        <p:spPr>
          <a:xfrm>
            <a:off x="6662880" y="4176720"/>
            <a:ext cx="20682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ciscoEnvMonObjects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6" name=""/>
          <p:cNvSpPr/>
          <p:nvPr/>
        </p:nvSpPr>
        <p:spPr>
          <a:xfrm>
            <a:off x="5907240" y="4788000"/>
            <a:ext cx="339696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ciscoEnvMonTemperatureStatusTable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3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7" name=""/>
          <p:cNvSpPr/>
          <p:nvPr/>
        </p:nvSpPr>
        <p:spPr>
          <a:xfrm>
            <a:off x="7559640" y="385128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8" name=""/>
          <p:cNvSpPr/>
          <p:nvPr/>
        </p:nvSpPr>
        <p:spPr>
          <a:xfrm>
            <a:off x="7559640" y="442764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9" name=""/>
          <p:cNvSpPr/>
          <p:nvPr/>
        </p:nvSpPr>
        <p:spPr>
          <a:xfrm>
            <a:off x="5907240" y="5940360"/>
            <a:ext cx="34113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ciscoEnvMonTemperatureStatusValue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3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0" name=""/>
          <p:cNvSpPr/>
          <p:nvPr/>
        </p:nvSpPr>
        <p:spPr>
          <a:xfrm>
            <a:off x="5907240" y="5364000"/>
            <a:ext cx="33876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ciscoEnvMonTemperatureStatusEntry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1" name=""/>
          <p:cNvSpPr/>
          <p:nvPr/>
        </p:nvSpPr>
        <p:spPr>
          <a:xfrm>
            <a:off x="7559640" y="5040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2" name=""/>
          <p:cNvSpPr/>
          <p:nvPr/>
        </p:nvSpPr>
        <p:spPr>
          <a:xfrm>
            <a:off x="7559640" y="56167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3" name=""/>
          <p:cNvSpPr/>
          <p:nvPr/>
        </p:nvSpPr>
        <p:spPr>
          <a:xfrm>
            <a:off x="7559640" y="6264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4" name=""/>
          <p:cNvSpPr/>
          <p:nvPr/>
        </p:nvSpPr>
        <p:spPr>
          <a:xfrm>
            <a:off x="7381800" y="6588000"/>
            <a:ext cx="331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5" name=""/>
          <p:cNvSpPr/>
          <p:nvPr/>
        </p:nvSpPr>
        <p:spPr>
          <a:xfrm>
            <a:off x="1297080" y="5435640"/>
            <a:ext cx="8445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mib-2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6" name=""/>
          <p:cNvSpPr/>
          <p:nvPr/>
        </p:nvSpPr>
        <p:spPr>
          <a:xfrm>
            <a:off x="1728720" y="5148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7" name=""/>
          <p:cNvSpPr/>
          <p:nvPr/>
        </p:nvSpPr>
        <p:spPr>
          <a:xfrm>
            <a:off x="144360" y="6181560"/>
            <a:ext cx="9651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system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8" name=""/>
          <p:cNvSpPr/>
          <p:nvPr/>
        </p:nvSpPr>
        <p:spPr>
          <a:xfrm>
            <a:off x="552600" y="6541920"/>
            <a:ext cx="11746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interfaces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2)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9" name=""/>
          <p:cNvSpPr/>
          <p:nvPr/>
        </p:nvSpPr>
        <p:spPr>
          <a:xfrm>
            <a:off x="2095560" y="6551640"/>
            <a:ext cx="5382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ip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0" name=""/>
          <p:cNvSpPr/>
          <p:nvPr/>
        </p:nvSpPr>
        <p:spPr>
          <a:xfrm>
            <a:off x="2448000" y="6181560"/>
            <a:ext cx="9255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snmp(</a:t>
            </a:r>
            <a:r>
              <a:rPr b="1" lang="en-GB" sz="1400" spc="-1" strike="noStrike">
                <a:solidFill>
                  <a:srgbClr val="000000"/>
                </a:solidFill>
                <a:latin typeface="Lucida Sans"/>
              </a:rPr>
              <a:t>11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008000" y="5757840"/>
            <a:ext cx="612720" cy="326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440000" y="5757480"/>
            <a:ext cx="179280" cy="7239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1619280" y="5757480"/>
            <a:ext cx="542880" cy="7239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1617480" y="5757840"/>
            <a:ext cx="903240" cy="363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-1440" y="5759280"/>
            <a:ext cx="1622160" cy="36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The Internet MIB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3000"/>
              </a:lnSpc>
              <a:spcAft>
                <a:spcPts val="1599"/>
              </a:spcAft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directory(1)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OSI directory</a:t>
            </a:r>
            <a:endParaRPr b="0" lang="en-US" sz="28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80000"/>
              </a:lnSpc>
              <a:spcAft>
                <a:spcPts val="1599"/>
              </a:spcAft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mgmt(2)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RFC standard objects</a:t>
            </a:r>
            <a:endParaRPr b="0" lang="en-US" sz="28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80000"/>
              </a:lnSpc>
              <a:spcAft>
                <a:spcPts val="1599"/>
              </a:spcAft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experimental(3)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Internet experiments</a:t>
            </a:r>
            <a:endParaRPr b="0" lang="en-US" sz="28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80000"/>
              </a:lnSpc>
              <a:spcAft>
                <a:spcPts val="1599"/>
              </a:spcAft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private(4)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Vendor-specific</a:t>
            </a:r>
            <a:endParaRPr b="0" lang="en-US" sz="28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80000"/>
              </a:lnSpc>
              <a:spcAft>
                <a:spcPts val="1599"/>
              </a:spcAft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security(5)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Security</a:t>
            </a:r>
            <a:endParaRPr b="0" lang="en-US" sz="28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80000"/>
              </a:lnSpc>
              <a:spcAft>
                <a:spcPts val="1599"/>
              </a:spcAft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snmpV2(6)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Courier New"/>
                <a:ea typeface="Courier New"/>
              </a:rPr>
              <a:t>SNMP internal</a:t>
            </a:r>
            <a:endParaRPr b="0" lang="en-US" sz="2800" spc="-1" strike="noStrike">
              <a:solidFill>
                <a:srgbClr val="333333"/>
              </a:solidFill>
              <a:latin typeface="Lucida Sans Typewriter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433680" y="3411360"/>
          <a:ext cx="3251160" cy="76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3680" y="3411360"/>
                    <a:ext cx="325116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    Track E0 AfNOG workshop April 23-27 2007 Abuja, Nigeria    </dc:title>
</cp:coreProperties>
</file>