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-360" y="-6856560"/>
            <a:ext cx="360" cy="151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-334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360" y="416340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488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98072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36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056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163400"/>
            <a:ext cx="250092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79080"/>
            <a:ext cx="776592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4880" y="416340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980720"/>
            <a:ext cx="379044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4163400"/>
            <a:ext cx="7767360" cy="199296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65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ctr">
            <a:noAutofit/>
          </a:bodyPr>
          <a:p>
            <a:pPr marL="334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6736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40760" tIns="50760" bIns="50760" anchor="t">
            <a:normAutofit fontScale="98000"/>
          </a:bodyPr>
          <a:p>
            <a:pPr marL="367200" indent="-3330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9200" indent="-27684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268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5088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98720" indent="-22392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1.ietf.org/html.charters/ipfix-charter.html" TargetMode="External"/><Relationship Id="rId2" Type="http://schemas.openxmlformats.org/officeDocument/2006/relationships/hyperlink" Target="http://www1.ietf.org/rfc/rfc3917.tx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42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Lucida Grande"/>
              </a:rPr>
              <a:t>Net-flow</a:t>
            </a:r>
            <a:endParaRPr b="0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84320" y="4449600"/>
            <a:ext cx="341640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609560"/>
            <a:ext cx="57358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23960" indent="-282600" algn="ctr">
              <a:lnSpc>
                <a:spcPct val="97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101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101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74760" indent="-339840" algn="ctr">
              <a:lnSpc>
                <a:spcPct val="96000"/>
              </a:lnSpc>
              <a:tabLst>
                <a:tab algn="l" pos="0"/>
                <a:tab algn="l" pos="7239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7074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ggregated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981080"/>
            <a:ext cx="8534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rcPor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88920" y="246384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562120"/>
            <a:ext cx="8964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32000  23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23        3200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1494720" y="4599000"/>
            <a:ext cx="5641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 IP Aggreg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956120"/>
            <a:ext cx="617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413320"/>
            <a:ext cx="662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-235080" y="5661000"/>
            <a:ext cx="5337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"/>
          <p:cNvSpPr/>
          <p:nvPr/>
        </p:nvSpPr>
        <p:spPr>
          <a:xfrm>
            <a:off x="2482920" y="1371600"/>
            <a:ext cx="4365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in Active flow ta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orking with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7000"/>
          </a:bodyPr>
          <a:p>
            <a:pPr marL="363240" indent="-329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nerating and Viewing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240" indent="-329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orting Flows from dev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ypes of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pling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240" indent="-329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ols to Collect Flows - Flow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240" indent="-329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yz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re tools available, can write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Descrip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5330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Key with more elements will generate more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eater number of flows leads to more post processing time to generate reports, more memory and CPU requirements for device generating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pends on application.  Traffic engineering vs. intrusion de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 information accumulated with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, Bytes, Start Time, End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work routing information – masks and autonomous system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Generation/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ssive mon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3477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passive monitor (usually a unix host) receives all data and generates flow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3477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ource intensive, newer investment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network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devices like switch, generate flo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ing i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hing new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21360" y="4680000"/>
            <a:ext cx="2438280" cy="121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828800"/>
            <a:ext cx="533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18288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"/>
          <p:cNvSpPr/>
          <p:nvPr/>
        </p:nvSpPr>
        <p:spPr>
          <a:xfrm>
            <a:off x="678600" y="3124080"/>
            <a:ext cx="2094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"/>
          <p:cNvSpPr/>
          <p:nvPr/>
        </p:nvSpPr>
        <p:spPr>
          <a:xfrm>
            <a:off x="6145920" y="3124080"/>
            <a:ext cx="2097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355480" y="2057400"/>
            <a:ext cx="185436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267080" y="1981080"/>
            <a:ext cx="159552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6621480" y="5040360"/>
            <a:ext cx="1430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mpu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788760" cy="45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809880" y="1676520"/>
            <a:ext cx="912960" cy="380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77920" y="4840200"/>
            <a:ext cx="32479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probe conn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switch port 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ffic mirror” mo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"/>
          <p:cNvSpPr/>
          <p:nvPr/>
        </p:nvSpPr>
        <p:spPr>
          <a:xfrm>
            <a:off x="6119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812680" y="2431800"/>
            <a:ext cx="130644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267080" y="2355840"/>
            <a:ext cx="14558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89360" y="3429000"/>
            <a:ext cx="122544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429000"/>
            <a:ext cx="160200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505320"/>
            <a:ext cx="925560" cy="16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1023480" y="5602320"/>
            <a:ext cx="502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collec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ores exported flows from rout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80000" y="1800360"/>
            <a:ext cx="1752840" cy="914400"/>
            <a:chOff x="5580000" y="1800360"/>
            <a:chExt cx="1752840" cy="91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580000" y="180036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580000" y="180036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3480">
                <a:lnSpc>
                  <a:spcPct val="93000"/>
                </a:lnSpc>
                <a:tabLst>
                  <a:tab algn="l" pos="0"/>
                  <a:tab algn="l" pos="33480"/>
                  <a:tab algn="l" pos="480960"/>
                  <a:tab algn="l" pos="930240"/>
                  <a:tab algn="l" pos="1379520"/>
                  <a:tab algn="l" pos="1828800"/>
                  <a:tab algn="l" pos="2278080"/>
                  <a:tab algn="l" pos="2727360"/>
                  <a:tab algn="l" pos="3176640"/>
                  <a:tab algn="l" pos="3625920"/>
                  <a:tab algn="l" pos="4075200"/>
                  <a:tab algn="l" pos="4524480"/>
                  <a:tab algn="l" pos="4973760"/>
                  <a:tab algn="l" pos="5423040"/>
                  <a:tab algn="l" pos="5872320"/>
                  <a:tab algn="l" pos="6321600"/>
                  <a:tab algn="l" pos="6770520"/>
                  <a:tab algn="l" pos="7219800"/>
                  <a:tab algn="l" pos="7669080"/>
                  <a:tab algn="l" pos="8118360"/>
                  <a:tab algn="l" pos="8567640"/>
                  <a:tab algn="l" pos="90169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59280" y="3586320"/>
            <a:ext cx="1752840" cy="914400"/>
            <a:chOff x="5759280" y="3586320"/>
            <a:chExt cx="1752840" cy="91440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5759280" y="358632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759280" y="358632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3480">
                <a:lnSpc>
                  <a:spcPct val="93000"/>
                </a:lnSpc>
                <a:tabLst>
                  <a:tab algn="l" pos="0"/>
                  <a:tab algn="l" pos="33480"/>
                  <a:tab algn="l" pos="480960"/>
                  <a:tab algn="l" pos="930240"/>
                  <a:tab algn="l" pos="1379520"/>
                  <a:tab algn="l" pos="1828800"/>
                  <a:tab algn="l" pos="2278080"/>
                  <a:tab algn="l" pos="2727360"/>
                  <a:tab algn="l" pos="3176640"/>
                  <a:tab algn="l" pos="3625920"/>
                  <a:tab algn="l" pos="4075200"/>
                  <a:tab algn="l" pos="4524480"/>
                  <a:tab algn="l" pos="4973760"/>
                  <a:tab algn="l" pos="5423040"/>
                  <a:tab algn="l" pos="5872320"/>
                  <a:tab algn="l" pos="6321600"/>
                  <a:tab algn="l" pos="6770520"/>
                  <a:tab algn="l" pos="7219800"/>
                  <a:tab algn="l" pos="7669080"/>
                  <a:tab algn="l" pos="8118360"/>
                  <a:tab algn="l" pos="8567640"/>
                  <a:tab algn="l" pos="90169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19280" y="1785960"/>
            <a:ext cx="1752480" cy="914400"/>
            <a:chOff x="1619280" y="1785960"/>
            <a:chExt cx="1752480" cy="91440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619280" y="178596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19280" y="1785960"/>
              <a:ext cx="1752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3480">
                <a:lnSpc>
                  <a:spcPct val="93000"/>
                </a:lnSpc>
                <a:tabLst>
                  <a:tab algn="l" pos="0"/>
                  <a:tab algn="l" pos="33480"/>
                  <a:tab algn="l" pos="480960"/>
                  <a:tab algn="l" pos="930240"/>
                  <a:tab algn="l" pos="1379520"/>
                  <a:tab algn="l" pos="1828800"/>
                  <a:tab algn="l" pos="2278080"/>
                  <a:tab algn="l" pos="2727360"/>
                  <a:tab algn="l" pos="3176640"/>
                  <a:tab algn="l" pos="3625920"/>
                  <a:tab algn="l" pos="4075200"/>
                  <a:tab algn="l" pos="4524480"/>
                  <a:tab algn="l" pos="4973760"/>
                  <a:tab algn="l" pos="5423040"/>
                  <a:tab algn="l" pos="5872320"/>
                  <a:tab algn="l" pos="6321600"/>
                  <a:tab algn="l" pos="6770520"/>
                  <a:tab algn="l" pos="7219800"/>
                  <a:tab algn="l" pos="7669080"/>
                  <a:tab algn="l" pos="8118360"/>
                  <a:tab algn="l" pos="8567640"/>
                  <a:tab algn="l" pos="90169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503600" y="5046840"/>
            <a:ext cx="2362320" cy="927000"/>
            <a:chOff x="4503600" y="5046840"/>
            <a:chExt cx="2362320" cy="927000"/>
          </a:xfrm>
        </p:grpSpPr>
        <p:pic>
          <p:nvPicPr>
            <p:cNvPr id="179" name="" descr=""/>
            <p:cNvPicPr/>
            <p:nvPr/>
          </p:nvPicPr>
          <p:blipFill>
            <a:blip r:embed="rId4"/>
            <a:stretch/>
          </p:blipFill>
          <p:spPr>
            <a:xfrm>
              <a:off x="4503600" y="5046840"/>
              <a:ext cx="23623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3600" y="5046840"/>
              <a:ext cx="2362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3480">
                <a:lnSpc>
                  <a:spcPct val="93000"/>
                </a:lnSpc>
                <a:tabLst>
                  <a:tab algn="l" pos="0"/>
                  <a:tab algn="l" pos="33480"/>
                  <a:tab algn="l" pos="480960"/>
                  <a:tab algn="l" pos="930240"/>
                  <a:tab algn="l" pos="1379520"/>
                  <a:tab algn="l" pos="1828800"/>
                  <a:tab algn="l" pos="2278080"/>
                  <a:tab algn="l" pos="2727360"/>
                  <a:tab algn="l" pos="3176640"/>
                  <a:tab algn="l" pos="3625920"/>
                  <a:tab algn="l" pos="4075200"/>
                  <a:tab algn="l" pos="4524480"/>
                  <a:tab algn="l" pos="4973760"/>
                  <a:tab algn="l" pos="5423040"/>
                  <a:tab algn="l" pos="5872320"/>
                  <a:tab algn="l" pos="6321600"/>
                  <a:tab algn="l" pos="6770520"/>
                  <a:tab algn="l" pos="7219800"/>
                  <a:tab algn="l" pos="7669080"/>
                  <a:tab algn="l" pos="8118360"/>
                  <a:tab algn="l" pos="8567640"/>
                  <a:tab algn="l" pos="90169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V="1">
            <a:off x="1981080" y="3498840"/>
            <a:ext cx="221616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809880" y="3124080"/>
            <a:ext cx="789120" cy="4590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260360" y="3419640"/>
            <a:ext cx="1752840" cy="914400"/>
            <a:chOff x="1260360" y="3419640"/>
            <a:chExt cx="1752840" cy="914400"/>
          </a:xfrm>
        </p:grpSpPr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1260360" y="341964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260360" y="341964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0" bIns="0" anchor="t">
              <a:noAutofit/>
            </a:bodyPr>
            <a:p>
              <a:pPr marL="33480">
                <a:lnSpc>
                  <a:spcPct val="93000"/>
                </a:lnSpc>
                <a:tabLst>
                  <a:tab algn="l" pos="0"/>
                  <a:tab algn="l" pos="33480"/>
                  <a:tab algn="l" pos="480960"/>
                  <a:tab algn="l" pos="930240"/>
                  <a:tab algn="l" pos="1379520"/>
                  <a:tab algn="l" pos="1828800"/>
                  <a:tab algn="l" pos="2278080"/>
                  <a:tab algn="l" pos="2727360"/>
                  <a:tab algn="l" pos="3176640"/>
                  <a:tab algn="l" pos="3625920"/>
                  <a:tab algn="l" pos="4075200"/>
                  <a:tab algn="l" pos="4524480"/>
                  <a:tab algn="l" pos="4973760"/>
                  <a:tab algn="l" pos="5423040"/>
                  <a:tab algn="l" pos="5872320"/>
                  <a:tab algn="l" pos="6321600"/>
                  <a:tab algn="l" pos="6770520"/>
                  <a:tab algn="l" pos="7219800"/>
                  <a:tab algn="l" pos="7669080"/>
                  <a:tab algn="l" pos="8118360"/>
                  <a:tab algn="l" pos="8567640"/>
                  <a:tab algn="l" pos="90169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5480" y="17776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39560" indent="-4046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rectly connected to a LAN segment via a switch port in “mirror” mode, optical splitter, or repeated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9560" indent="-4046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te flows for all local LAN traffic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9560" indent="-404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st have an interface or monitor deployed on each LAN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9560" indent="-404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 for more detailed flows – bidirectional and application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will generate flows for traffic that is directed to the ro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are not generated for local LAN traff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mited to “simple” flow criteria (packet heade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lly easier to deploy – no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Vendor implement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0960" cy="88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21932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t is and how it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s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ndor Configurations/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isco and Junip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ow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chitectur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ftware, tool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re Discussion / Lab 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v4 unicast and multic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and unaggre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exported via UD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ed on IOS and CatOS platfo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talyst NetFlow is different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 Ver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 Unaggregated types (1,5,6,7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4 Aggregated types (8.x, 9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version has its own packet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1 does not have sequence numbers – no way to detect lost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“version” defines what type of data is in the f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versions specific to Catalyst plat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123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, Source/Destination AS and IP M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 format adds sequence numbers for detecting lost expo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v5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all flow types available on all equi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ch less data to post process, but loses fine granularity of v5 – no IP addr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ul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efix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cord formats are defined using templ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mplate descriptions are communicated from the router to the NetFlow Collection Eng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records are sent from the router to the NetFlow Collection Engine with minimal template information so that the NetFlow Collection Engine can relate the records to the appropriate temp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9 is independent of the underlying transport (UDP, TCP, SCTP, and so 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Packe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mon header among export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but v1 have a sequence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specific data field where N records of data type are exp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 is determined by the size of the flow definition.  Packet size is kept under ~1480 bytes.  No fragmentation on Eth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220968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"/>
          <p:cNvSpPr/>
          <p:nvPr/>
        </p:nvSpPr>
        <p:spPr>
          <a:xfrm>
            <a:off x="3754440" y="2286000"/>
            <a:ext cx="1578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3276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3873600" y="3352680"/>
            <a:ext cx="142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1676520"/>
            <a:ext cx="2819520" cy="472428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280"/>
              <a:gd name="textAreaBottom" fmla="*/ 4723920 h 4724280"/>
            </a:gdLst>
            <a:ahLst/>
            <a:rect l="textAreaLeft" t="textAreaTop" r="textAreaRight" b="textAreaBottom"/>
            <a:pathLst>
              <a:path w="21600" h="36190">
                <a:moveTo>
                  <a:pt x="12" y="0"/>
                </a:moveTo>
                <a:arcTo wR="12" hR="12" stAng="16200000" swAng="-5400000"/>
                <a:lnTo>
                  <a:pt x="0" y="36178"/>
                </a:lnTo>
                <a:arcTo wR="12" hR="12" stAng="10800000" swAng="-5400000"/>
                <a:lnTo>
                  <a:pt x="21588" y="36190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"/>
          <p:cNvSpPr/>
          <p:nvPr/>
        </p:nvSpPr>
        <p:spPr>
          <a:xfrm>
            <a:off x="3293280" y="1752480"/>
            <a:ext cx="2449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56386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"/>
          <p:cNvSpPr/>
          <p:nvPr/>
        </p:nvSpPr>
        <p:spPr>
          <a:xfrm>
            <a:off x="3873600" y="5715000"/>
            <a:ext cx="142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1148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8769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"/>
          <p:cNvSpPr/>
          <p:nvPr/>
        </p:nvSpPr>
        <p:spPr>
          <a:xfrm>
            <a:off x="4337640" y="4191120"/>
            <a:ext cx="314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"/>
          <p:cNvSpPr/>
          <p:nvPr/>
        </p:nvSpPr>
        <p:spPr>
          <a:xfrm>
            <a:off x="4337640" y="4952880"/>
            <a:ext cx="314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 or frames that have a common attrib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reation and expiration policy – what conditions start and stop a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nters – packets,bytes,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ing information – AS, network mask,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Header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"/>
          <p:cNvSpPr/>
          <p:nvPr/>
        </p:nvSpPr>
        <p:spPr>
          <a:xfrm>
            <a:off x="543960" y="2057400"/>
            <a:ext cx="8181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4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5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Records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660680"/>
            <a:ext cx="78487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4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rcaddr;    /* Source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staddr;    /* Destination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nexthop;    /* Next hop router's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port;    /* TCP/UDP source port number or equivalen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port;    /* TCP/UDP destination port number or equiv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a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cp_flags;  /* Cumulative OR of tcp flag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rot;       /* IP protocol, e.g., 6=TCP, 17=UDP, ..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os;        /* IP Type-of-Servic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src_mask;   /* source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dst_mask;   /* destination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rops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5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Packet Exampl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(AS Aggregation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"/>
          <p:cNvSpPr/>
          <p:nvPr/>
        </p:nvSpPr>
        <p:spPr>
          <a:xfrm>
            <a:off x="3676680" y="2590920"/>
            <a:ext cx="1578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5812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"/>
          <p:cNvSpPr/>
          <p:nvPr/>
        </p:nvSpPr>
        <p:spPr>
          <a:xfrm>
            <a:off x="3797640" y="3657600"/>
            <a:ext cx="142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1981080"/>
            <a:ext cx="2819520" cy="472464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640"/>
              <a:gd name="textAreaBottom" fmla="*/ 4724280 h 4724640"/>
            </a:gdLst>
            <a:ahLst/>
            <a:rect l="textAreaLeft" t="textAreaTop" r="textAreaRight" b="textAreaBottom"/>
            <a:pathLst>
              <a:path w="21600" h="36193">
                <a:moveTo>
                  <a:pt x="12" y="0"/>
                </a:moveTo>
                <a:arcTo wR="12" hR="12" stAng="16200000" swAng="-5400000"/>
                <a:lnTo>
                  <a:pt x="0" y="36181"/>
                </a:lnTo>
                <a:arcTo wR="12" hR="12" stAng="10800000" swAng="-5400000"/>
                <a:lnTo>
                  <a:pt x="21588" y="36193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"/>
          <p:cNvSpPr/>
          <p:nvPr/>
        </p:nvSpPr>
        <p:spPr>
          <a:xfrm>
            <a:off x="3216960" y="2057400"/>
            <a:ext cx="2449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9436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"/>
          <p:cNvSpPr/>
          <p:nvPr/>
        </p:nvSpPr>
        <p:spPr>
          <a:xfrm>
            <a:off x="3797640" y="6019920"/>
            <a:ext cx="142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4419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51814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"/>
          <p:cNvSpPr/>
          <p:nvPr/>
        </p:nvSpPr>
        <p:spPr>
          <a:xfrm>
            <a:off x="4259880" y="4495680"/>
            <a:ext cx="314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"/>
          <p:cNvSpPr/>
          <p:nvPr/>
        </p:nvSpPr>
        <p:spPr>
          <a:xfrm>
            <a:off x="4259880" y="5257800"/>
            <a:ext cx="314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AS agg. Pack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"/>
          <p:cNvSpPr/>
          <p:nvPr/>
        </p:nvSpPr>
        <p:spPr>
          <a:xfrm>
            <a:off x="467640" y="1235160"/>
            <a:ext cx="818136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8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regation;   /* Aggregation method being us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_version;   /* Version of the aggregation expor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Flows;     /* Number of flow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8_1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8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figured on each input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ver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IP address of the collector (where to send the flow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enable aggregation 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flow timeout and main (v5) flow table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1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sampl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"/>
          <p:cNvSpPr/>
          <p:nvPr/>
        </p:nvSpPr>
        <p:spPr>
          <a:xfrm>
            <a:off x="2368440" y="1668600"/>
            <a:ext cx="458784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backbon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11.194 255.255.252.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local net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2.1 255.255.255.12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169.223.2.2 500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7772400" cy="50990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743040" indent="-70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Change in command in newer IO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Prior to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[ingress|egress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From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43040" indent="-70812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Lucida Grande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If CEF is not configured on the router, this turns off the existing switching path on the router and enables NetFlow switching (basically modified optimum switching)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43040" indent="-70812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Lucida Grande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If CEF is configured on the router, NetFlow simply becomes a "flow information gatherer" and feature accelerator—CEF remains operational as the underlying switching proce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9" name=""/>
          <p:cNvSpPr/>
          <p:nvPr/>
        </p:nvSpPr>
        <p:spPr>
          <a:xfrm>
            <a:off x="315360" y="1676520"/>
            <a:ext cx="824184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flow export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 export v5 is enabled for main cach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source and destination details :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RF ID : Defaul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(1)  169.223.2.2 (5004)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5 flow recor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5074 flows exported in 3348 udp datagram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flows failed due to lack of export packe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sent up to process leve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no fib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adjacency issu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fragmentation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encapsulation fixup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4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66068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packet size distribution (3689551 total packets):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-32   64   96  128  160  192  224  256  288  320  352  384  416  448  48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0 .483 .189 .014 .002 .003 .001 .000 .000 .000 .000 .000 .000 .000 .00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2  544  576 1024 1536 2048 2560 3072 3584 4096 46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1 .000 .008 .002 .288 .000 .000 .000 .000 .000 .00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Switching Cache, 278544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6 active, 4070 inactive, 55206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430681 ager polls, 0 flow alloc failur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 flows timeout in 30 minu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active flows timeout in 15 second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Sub Flow Cache, 25800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6 active, 998 inactive, 55154 added, 55154 added to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alloc failures, 0 force fre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chunk, 2 chunks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clearing of statistics nev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"/>
          <p:cNvSpPr/>
          <p:nvPr/>
        </p:nvSpPr>
        <p:spPr>
          <a:xfrm>
            <a:off x="952560" y="1168560"/>
            <a:ext cx="7224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ocol         Total    Flows   Packets Bytes  Packets Active(Sec) Idle(Sec)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         Flows     /Sec     /Flow  /Pkt     /Sec     /Flow     /Flow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Telnet        3357      0.0        35    92      1.3       0.5      1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FTP            128      0.0        19    97      0.0       0.6       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FTPD           128      0.0       105   771      0.1       0.2       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WWW          13462      0.1       125   962     19.3       7.0       5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X              269      0.0         1    40      0.0       0.0      14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other         9107      0.1       154    62     16.1       6.9       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DNS           2248      0.0         1    73      0.0       0.8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NTP           3132      0.0         1    76      0.0       0.0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TFTP            24      0.0         6    49      0.0      30.0      15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Frag             6      0.0         1    32      0.0       0.0      1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other         6700      0.0         9   104      0.7       2.2      1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CMP             16661      0.1        23    87      4.5      18.5     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          55222      0.6        66   480     42.3       8.8      11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 Pkt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02.128.0.7    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18.185.127.204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5.102  06 0016 C917    89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6 DB27 0016   120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95   Fa0/0         202.128.31.179  01 0000 0800     4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08.81.191.133  Fa0/1         169.223.2.194   06 0050 8452     3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work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or bidirect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idirectional flows can contain other information such as round trip time, TCP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 flows look past the headers to classify packets by their cont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flows – flows of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0000" y="1345680"/>
            <a:ext cx="8597880" cy="5133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top-talk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-by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w-169-223-2-0#sh ip flow top-talker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1.33   06 0050 0B64  3444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Fa0/0         169.223.11.33   06 0050 0B12  3181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1.33   Fa0/1         169.223.2.2     06 0B12 0050    56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1.33   Fa0/1         169.223.2.2     06 0B64 0050    55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1 0000 0303    18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30   Fa0/0         64.18.197.134   06 9C45 0050    15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130   Fa0/0         64.18.197.134   06 9C44 0050    12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13.144.138.195 Fa0/1         169.223.2.130   06 01BB DC31  7167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15.102  Fa0/1         169.223.2.2     06 C917 0016  27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2.2     Local         169.223.2.1     06 DB27 0016  230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of 10 top talkers shown. 49 flows process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4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 C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14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ce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 flow on each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 cache flow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in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e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ew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14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cache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14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flow top-tal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736560" indent="-700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orting Flows to a coll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 [origin-as|peer-a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x.x.x.x &lt;udp-por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6560" indent="-700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orting aggregated flow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aggregation cache as|prefix|dest|source|pro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nabl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destination x.x.x.x &lt;udp-port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s and Applic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ses for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identification / s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ffic classif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S Traceback (some slides by Danny McPherson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-AS traff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orting on application prox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 verification from other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cross-check with SNMP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Classification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sed on Protocol, source and destination 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tocol identification (TCP, UDP, ICM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define well known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identify well known P2P 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common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76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xy measurement - http , f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76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e limiting P2P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Flow-based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270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ce attack by matching fingerprint/signature at each interface via passive monito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w data (e.g., NetFlow, cflowd, sFlow, IPFIX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SAMP (Packet Sampling, IETF PSAMP WG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mber of open source and commercial products evolving in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n-intrusive, widely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itor flows (i.e., Network and Transport Layer transactions) on the network and build baselines for what normal behavior looks li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pref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Transport Layer protocol &amp;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ild time-based buckets (e.g., 5 minutes, 30 minutes, 1 hours, 12 hours, day of week, day of month, day of year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Grande"/>
              </a:rPr>
              <a:t>Detect Anomalous Events: SQL “Slammer” Worm*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-19080" y="2400480"/>
            <a:ext cx="6319800" cy="4259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00400" y="1619280"/>
            <a:ext cx="5943600" cy="227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545000" y="4319640"/>
            <a:ext cx="4275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 (cont)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620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ce baselines are built anomalous activity can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r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te-base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pps or bps) anomalies may be legitimate or malic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su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ttacks can be immediately recognized, eve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ithou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aselines (e.g., TCP SYN or RST flood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ignatur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an also be defined to identify “interesting” transactional data (e.g., proto udp and port 1434 and 404 octets(376 payload) == slammer!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mporal compound signatures can be defined to detect with higher pr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192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"/>
          <p:cNvSpPr/>
          <p:nvPr/>
        </p:nvSpPr>
        <p:spPr>
          <a:xfrm>
            <a:off x="930960" y="316404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"/>
          <p:cNvSpPr/>
          <p:nvPr/>
        </p:nvSpPr>
        <p:spPr>
          <a:xfrm>
            <a:off x="6814080" y="320040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/>
          <p:nvPr/>
        </p:nvSpPr>
        <p:spPr>
          <a:xfrm>
            <a:off x="2378520" y="2097000"/>
            <a:ext cx="2432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11240" y="3581280"/>
            <a:ext cx="321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/>
          <p:nvPr/>
        </p:nvSpPr>
        <p:spPr>
          <a:xfrm>
            <a:off x="3181680" y="3048120"/>
            <a:ext cx="875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/>
          <p:nvPr/>
        </p:nvSpPr>
        <p:spPr>
          <a:xfrm>
            <a:off x="3225240" y="4191120"/>
            <a:ext cx="2507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76920"/>
            <a:ext cx="6172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/>
          <p:nvPr/>
        </p:nvSpPr>
        <p:spPr>
          <a:xfrm>
            <a:off x="-15840" y="5510160"/>
            <a:ext cx="5337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Commercial Tools…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2217" t="21477" r="3212" b="0"/>
          <a:stretch/>
        </p:blipFill>
        <p:spPr>
          <a:xfrm>
            <a:off x="685800" y="1600200"/>
            <a:ext cx="723888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1415880"/>
            <a:ext cx="6933960" cy="5061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Dete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 Large Scale DOS attack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Commercial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40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5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95280" y="1316160"/>
            <a:ext cx="6578640" cy="4771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086600" y="1905120"/>
            <a:ext cx="609480" cy="152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2743200"/>
            <a:ext cx="76176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1211400"/>
            <a:ext cx="7221240" cy="5229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1800" y="-360"/>
            <a:ext cx="71197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Traceback: More Detail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Analysi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7000"/>
          </a:bodyPr>
          <a:p>
            <a:pPr marL="363240" indent="-329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 see traffic based on source and destination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AS derived through the routing table on th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es the need to run full mesh BGP at IXPs as well as transit and p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7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prefix based flows can be collected and plotted against external prefix to AS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low based accounting can be a good supplement to SNMP based accoun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859360" cy="1581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5867280" cy="1582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585936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92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9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ee the fine lines.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100560" cy="1646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6095880" cy="1644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92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609588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038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095880" cy="16444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3000" y="2597040"/>
            <a:ext cx="6095880" cy="16448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143000" y="4254480"/>
            <a:ext cx="6095880" cy="1644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92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476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PFIX (IP Flow Information Exchange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make the flow format uniform and make it easier to write analysis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1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quirements for IP Flow Information Export (RFC 3917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47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fea"/>
                </a:solidFill>
                <a:uFillTx/>
                <a:latin typeface="Times New Roman"/>
                <a:ea typeface="Times New Roman"/>
              </a:rPr>
              <a:t>Evaluation of Candidate Protocols for IP Flow Information Export (IPFIX) (RFC 3955)</a:t>
            </a:r>
            <a:r>
              <a:rPr b="0" lang="en-GB" sz="2400" spc="-1" strike="noStrike" u="sng">
                <a:solidFill>
                  <a:srgbClr val="000fea"/>
                </a:solidFill>
                <a:uFillTx/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52520" y="287964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/>
          <p:nvPr/>
        </p:nvSpPr>
        <p:spPr>
          <a:xfrm>
            <a:off x="930960" y="316404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/>
          <p:nvPr/>
        </p:nvSpPr>
        <p:spPr>
          <a:xfrm>
            <a:off x="6814080" y="320040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"/>
          <p:cNvSpPr/>
          <p:nvPr/>
        </p:nvSpPr>
        <p:spPr>
          <a:xfrm>
            <a:off x="2700720" y="1905120"/>
            <a:ext cx="2432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11240" y="3886200"/>
            <a:ext cx="3214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971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/>
          <p:nvPr/>
        </p:nvSpPr>
        <p:spPr>
          <a:xfrm>
            <a:off x="3225240" y="4191120"/>
            <a:ext cx="2507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876920"/>
            <a:ext cx="8534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/>
          <p:nvPr/>
        </p:nvSpPr>
        <p:spPr>
          <a:xfrm>
            <a:off x="-15840" y="5510160"/>
            <a:ext cx="5337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"/>
          <p:cNvSpPr/>
          <p:nvPr/>
        </p:nvSpPr>
        <p:spPr>
          <a:xfrm>
            <a:off x="2701800" y="2362320"/>
            <a:ext cx="224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3429000"/>
            <a:ext cx="27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 fontScale="99000"/>
          </a:bodyPr>
          <a:p>
            <a:pPr marL="455760" indent="-421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: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splintered.net/sw/flow-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Applications </a:t>
            </a: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nmon.com/technology/netflowapps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HOW-TO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linuxgeek.org/netflow-howto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5760" indent="-42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ETF standards effort:</a:t>
            </a:r>
            <a:br>
              <a:rPr sz="3200"/>
            </a:b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60000" y="1980720"/>
            <a:ext cx="8459640" cy="52117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460440" indent="-425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ilene NetFlow page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abilene-netflow.itec.oar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 mailing list:                     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flow-tools@splintered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2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isco Centric Open Source Community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cosi-nms.sourceforge.net/related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880"/>
            <a:ext cx="7772400" cy="1950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20829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86600" y="20829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4560" y="2540160"/>
            <a:ext cx="350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"/>
          <p:cNvSpPr/>
          <p:nvPr/>
        </p:nvSpPr>
        <p:spPr>
          <a:xfrm>
            <a:off x="915120" y="2808360"/>
            <a:ext cx="911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/>
          <p:nvPr/>
        </p:nvSpPr>
        <p:spPr>
          <a:xfrm>
            <a:off x="6798240" y="2844720"/>
            <a:ext cx="911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1240" y="3530520"/>
            <a:ext cx="321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3103920" y="2616120"/>
            <a:ext cx="673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"/>
          <p:cNvSpPr/>
          <p:nvPr/>
        </p:nvSpPr>
        <p:spPr>
          <a:xfrm>
            <a:off x="3200040" y="3835440"/>
            <a:ext cx="14418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759120"/>
            <a:ext cx="9144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3689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     srcPor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82616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950000"/>
            <a:ext cx="8381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2000  23            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3        3200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3028320" y="1828800"/>
            <a:ext cx="184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073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B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4560" y="28954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"/>
          <p:cNvSpPr/>
          <p:nvPr/>
        </p:nvSpPr>
        <p:spPr>
          <a:xfrm>
            <a:off x="930960" y="316404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"/>
          <p:cNvSpPr/>
          <p:nvPr/>
        </p:nvSpPr>
        <p:spPr>
          <a:xfrm>
            <a:off x="6814080" y="320040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>
            <a:off x="2700720" y="1905120"/>
            <a:ext cx="2432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698920" y="39592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/>
          <p:nvPr/>
        </p:nvSpPr>
        <p:spPr>
          <a:xfrm>
            <a:off x="3103920" y="2971800"/>
            <a:ext cx="875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3225240" y="4191120"/>
            <a:ext cx="2507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24280"/>
            <a:ext cx="936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       prot     srcPort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305320"/>
            <a:ext cx="838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TCP    32000  23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ICMP  0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2701800" y="2362320"/>
            <a:ext cx="224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429000"/>
            <a:ext cx="285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plication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456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"/>
          <p:cNvSpPr/>
          <p:nvPr/>
        </p:nvSpPr>
        <p:spPr>
          <a:xfrm>
            <a:off x="930960" y="293544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6814080" y="2971800"/>
            <a:ext cx="118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2624040" y="1981080"/>
            <a:ext cx="4244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firefox http://10.0.0.2/909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11240" y="3657600"/>
            <a:ext cx="3214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3161520" y="3124080"/>
            <a:ext cx="2103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tent-typ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>
            <a:off x="3225240" y="3809880"/>
            <a:ext cx="2507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974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778280"/>
            <a:ext cx="853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4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235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35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90680" indent="-457200">
              <a:lnSpc>
                <a:spcPct val="93000"/>
              </a:lnSpc>
              <a:tabLst>
                <a:tab algn="l" pos="0"/>
                <a:tab algn="l" pos="490680"/>
                <a:tab algn="l" pos="947880"/>
                <a:tab algn="l" pos="1862280"/>
                <a:tab algn="l" pos="2776680"/>
                <a:tab algn="l" pos="3691080"/>
                <a:tab algn="l" pos="4605480"/>
                <a:tab algn="l" pos="5519880"/>
                <a:tab algn="l" pos="6434280"/>
                <a:tab algn="l" pos="7348680"/>
                <a:tab algn="l" pos="8263080"/>
                <a:tab algn="l" pos="9177480"/>
                <a:tab algn="l" pos="1009188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HTTP  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7408800" y="1549440"/>
            <a:ext cx="1663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b server 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480">
              <a:lnSpc>
                <a:spcPct val="93000"/>
              </a:lnSpc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rt 909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