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4440" indent="-3344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120" indent="-2782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low-tools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Ful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f@splintered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gregated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14440"/>
            <a:ext cx="853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  Source IP               Destination 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c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st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77164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895480"/>
            <a:ext cx="83818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TCP    32000  23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TCP    23        3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4572000"/>
            <a:ext cx="6207120" cy="57960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/Destination IP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181480"/>
            <a:ext cx="617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638680"/>
            <a:ext cx="66294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15080"/>
            <a:ext cx="4029120" cy="8222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1676520"/>
            <a:ext cx="4222800" cy="5792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Active flow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 Descri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Key with more elements will generate more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ater number of flows leads to more post processing time to generate reports, more memory and CPU requirements for device generating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s on application.  Traffic engineering vs. intrusion det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ounting information accumulated with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ets, Bytes, Start Time, End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routing information – masks and autonomous system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ive mon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uter other existing network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ssive Monitor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1828800"/>
            <a:ext cx="53337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182880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124080"/>
            <a:ext cx="208116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tati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124080"/>
            <a:ext cx="208116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tat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360160" y="2057400"/>
            <a:ext cx="1832040" cy="2209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573120" cy="511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5880" y="4495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580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67080" y="1981080"/>
            <a:ext cx="1600200" cy="2362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43600" y="4800600"/>
            <a:ext cx="2438280" cy="1219320"/>
            <a:chOff x="5943600" y="4800600"/>
            <a:chExt cx="2438280" cy="1219320"/>
          </a:xfrm>
        </p:grpSpPr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5943600" y="4800600"/>
              <a:ext cx="2438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451560" y="5105520"/>
              <a:ext cx="16257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ampu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788760" cy="458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3809880" y="1676520"/>
            <a:ext cx="912960" cy="380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50840" y="4840200"/>
            <a:ext cx="3186360" cy="11876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 probe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witch por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irror”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uter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817360" y="2436480"/>
            <a:ext cx="1298520" cy="841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267080" y="2360160"/>
            <a:ext cx="1447920" cy="99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93680" y="3429000"/>
            <a:ext cx="122220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4290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3505320"/>
            <a:ext cx="914400" cy="1676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98560" y="5602320"/>
            <a:ext cx="4724280" cy="8222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es exported flows from ro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029200" y="1828800"/>
            <a:ext cx="1752480" cy="914400"/>
            <a:chOff x="5029200" y="1828800"/>
            <a:chExt cx="1752480" cy="914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029200" y="1828800"/>
              <a:ext cx="175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394240" y="2058840"/>
              <a:ext cx="1168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181480" y="3505320"/>
            <a:ext cx="1752840" cy="914400"/>
            <a:chOff x="5181480" y="3505320"/>
            <a:chExt cx="1752840" cy="91440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5181480" y="350532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546880" y="3735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00200" y="1905120"/>
            <a:ext cx="1752480" cy="914400"/>
            <a:chOff x="1600200" y="1905120"/>
            <a:chExt cx="1752480" cy="914400"/>
          </a:xfrm>
        </p:grpSpPr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1600200" y="1905120"/>
              <a:ext cx="175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965240" y="2135160"/>
              <a:ext cx="1168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47920" y="3429000"/>
            <a:ext cx="1752480" cy="914400"/>
            <a:chOff x="1447920" y="3429000"/>
            <a:chExt cx="1752480" cy="91440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1447920" y="3429000"/>
              <a:ext cx="175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812960" y="365904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876920" y="4800600"/>
            <a:ext cx="2361960" cy="927000"/>
            <a:chOff x="4876920" y="4800600"/>
            <a:chExt cx="2361960" cy="927000"/>
          </a:xfrm>
        </p:grpSpPr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4876920" y="4800600"/>
              <a:ext cx="236196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369040" y="5033880"/>
              <a:ext cx="157464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1981080" y="3503520"/>
            <a:ext cx="2210040" cy="1679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1600200" y="5029200"/>
            <a:ext cx="573120" cy="511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3809880" y="3124080"/>
            <a:ext cx="789120" cy="4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ssive Moni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ly connected to a LAN segment via a switch port in “mirror” mode, optical splitter, or repeated seg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te flows for all local LAN traff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have an interface or monitor deployed on each LAN seg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for more detailed flows – bidirectional and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uter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uter will generate flows for traffic that is directed to the ro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s are not generated for local LAN traff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to “simple” flow criteria (packet head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ly easier to deploy – no new equi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sco Net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directional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Pv4 unicast and multic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gregated and unaggreg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s exported via UD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ed on IOS and CatIOS plat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NetFlow is different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sco NetFlow 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Unaggregated types (1,5,6,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 Aggregated types (8.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ersion has its own packe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ion 1 does not have sequence numbers – no way to detect lost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“version” defines what type of data is in the 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versions specific to Catalyst plat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co / Juniper implementation – Net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co / Juniper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-tools programs overview and examples from Abilene and Ohio-Giga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fields: Source/Destination IP, Source/Destination Port, IP Protocol, ToS, Input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ounting: Packets, Octets, Start/End time, Output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: Bitwise OR of TCP fla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fields: Source/Destination IP, Source/Destination Port, IP Protocol, ToS, Input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ounting: Packets, Octets, Start/End time, Output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: Bitwise OR of TCP flags, Source/Destination AS and IP M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et format adds sequence numbers for detecting lost ex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gregated v5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Catalyst 65xx specific that correspond to the configurable flow m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ch less data to post process, but lose fine granularity of v5 – no IP addr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col/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tination 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tination (Catalyst 65xx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/Destination (Catalyst 65xx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Flow (Catalyst 65xx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S/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S/Protocol/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S/Source 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S/Destination 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s/Source/Destination 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S/Prefix/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Packe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header among export ver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but v1 have a sequenc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ion specific data field where N records of data type are exp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 is determined by the size of the flow definition.  Packet size is kept under ~1480 bytes.  No fragmentation on Eth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5 Packe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2209680"/>
            <a:ext cx="266688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2286000"/>
            <a:ext cx="1625400" cy="8222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5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32767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352680"/>
            <a:ext cx="145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5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1676520"/>
            <a:ext cx="2819520" cy="4724280"/>
          </a:xfrm>
          <a:custGeom>
            <a:avLst/>
            <a:gdLst>
              <a:gd name="textAreaLeft" fmla="*/ 360 w 2819520"/>
              <a:gd name="textAreaRight" fmla="*/ 2819160 w 2819520"/>
              <a:gd name="textAreaTop" fmla="*/ 360 h 4724280"/>
              <a:gd name="textAreaBottom" fmla="*/ 4723920 h 4724280"/>
            </a:gdLst>
            <a:ahLst/>
            <a:rect l="textAreaLeft" t="textAreaTop" r="textAreaRight" b="textAreaBottom"/>
            <a:pathLst>
              <a:path w="21600" h="36190">
                <a:moveTo>
                  <a:pt x="12" y="0"/>
                </a:moveTo>
                <a:arcTo wR="12" hR="12" stAng="16200000" swAng="-5400000"/>
                <a:lnTo>
                  <a:pt x="0" y="36178"/>
                </a:lnTo>
                <a:arcTo wR="12" hR="12" stAng="10800000" swAng="-5400000"/>
                <a:lnTo>
                  <a:pt x="21588" y="36190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1752480"/>
            <a:ext cx="25192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/UD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56386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5715000"/>
            <a:ext cx="145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5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11480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8769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191120"/>
            <a:ext cx="4892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4952880"/>
            <a:ext cx="4892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5 Packet (Header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057400"/>
            <a:ext cx="8267760" cy="2432160"/>
          </a:xfrm>
          <a:prstGeom prst="roundRect">
            <a:avLst>
              <a:gd name="adj" fmla="val 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ruct ftpdu_v5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* 24 byte head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version;       /* 5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count;         /* The number of records in the PDU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sysUpTime;     /* Current time in millisecs since router boote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unix_secs;     /* Current seconds since 0000 UTC 1970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unix_nsecs;    /* Residual nanoseconds since 0000 UTC 1970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flow_sequence; /* Seq counter of total flows see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engine_type;   /* Type of flow switching engine (RP,VIP,etc.)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engine_id;     /* Slot number of the flow switching engin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reserv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5 Packet (Record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660680"/>
            <a:ext cx="7848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* 48 byte paylo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ruct ftrec_v5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srcaddr;    /* Source IP Addres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dstaddr;    /* Destination IP Addres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nexthop;    /* Next hop router's IP Addres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input;      /* Input interface index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output;     /* Output interface index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dPkts;      /* Packets sent in Durat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dOctets;    /* Octets sent in Duration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First;      /* SysUptime at start of flow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Last;       /* and of last packet of flow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srcport;    /* TCP/UDP source port number or equivalen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dstport;    /* TCP/UDP destination port number or equiv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pa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tcp_flags;  /* Cumulative OR of tcp flag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prot;       /* IP protocol, e.g., 6=TCP, 17=UDP, ..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tos;        /* IP Type-of-Servic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src_as;     /* originating AS of source addres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dst_as;     /* originating AS of destination addres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src_mask;   /* source address prefix mask bit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dst_mask;   /* destination address prefix mask bit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drop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 records[FT_PDU_V5_MAXFLOWS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8 Packet Exampl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(AS Aggregation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2514600"/>
            <a:ext cx="266688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2590920"/>
            <a:ext cx="1625760" cy="8222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8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812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3657600"/>
            <a:ext cx="14554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8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981080"/>
            <a:ext cx="2819520" cy="4724640"/>
          </a:xfrm>
          <a:custGeom>
            <a:avLst/>
            <a:gdLst>
              <a:gd name="textAreaLeft" fmla="*/ 360 w 2819520"/>
              <a:gd name="textAreaRight" fmla="*/ 2819160 w 2819520"/>
              <a:gd name="textAreaTop" fmla="*/ 360 h 4724640"/>
              <a:gd name="textAreaBottom" fmla="*/ 4724280 h 4724640"/>
            </a:gdLst>
            <a:ahLst/>
            <a:rect l="textAreaLeft" t="textAreaTop" r="textAreaRight" b="textAreaBottom"/>
            <a:pathLst>
              <a:path w="21600" h="36193">
                <a:moveTo>
                  <a:pt x="12" y="0"/>
                </a:moveTo>
                <a:arcTo wR="12" hR="12" stAng="16200000" swAng="-5400000"/>
                <a:lnTo>
                  <a:pt x="0" y="36181"/>
                </a:lnTo>
                <a:arcTo wR="12" hR="12" stAng="10800000" swAng="-5400000"/>
                <a:lnTo>
                  <a:pt x="21588" y="36193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2057400"/>
            <a:ext cx="25196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/UD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594360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6019920"/>
            <a:ext cx="14554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8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44197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51814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4495680"/>
            <a:ext cx="4888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5257800"/>
            <a:ext cx="4888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work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ets or frames that have a common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on and expiration policy – what conditions start and stop a 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ers – packets,bytes,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uting information – AS, network mask,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42640"/>
            <a:ext cx="7696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Flow v8 AS agg. Pack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235160"/>
            <a:ext cx="8267760" cy="5622840"/>
          </a:xfrm>
          <a:prstGeom prst="roundRect">
            <a:avLst>
              <a:gd name="adj" fmla="val 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ruct ftpdu_v8_1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* 28 byte head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version;       /* 8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count;         /* The number of records in the PDU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sysUpTime;     /* Current time in millisecs since router boote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unix_secs;     /* Current seconds since 0000 UTC 1970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unix_nsecs;    /* Residual nanoseconds since 0000 UTC 1970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flow_sequence; /* Seq counter of total flows see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engine_type;   /* Type of flow switching engine (RP,VIP,etc.)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engine_id;     /* Slot number of the flow switching engin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aggregation;   /* Aggregation method being use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8  agg_version;   /* Version of the aggregation expor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reserv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* 28 byte paylo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ruct ftrec_v8_1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dFlows;     /* Number of flow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dPkts;      /* Packets sent in durat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dOctets;    /* Octets sent in durat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First;      /* SysUpTime at start of flow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32 Last;       /* and of last packet of flow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src_as;     /* originating AS of source addres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dst_as;     /* originating AS of destination addres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input;      /* input interface index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_int16 output;     /* output interface index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 records[FT_PDU_V8_1_MAXFLOWS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figured on each input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 the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 the IP address of the collector (where to send the flow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ally enable aggregation 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ally configure flow timeout and main (v5) flow tabl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ally configure sample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668600"/>
            <a:ext cx="4545000" cy="4771800"/>
          </a:xfrm>
          <a:custGeom>
            <a:avLst/>
            <a:gdLst>
              <a:gd name="textAreaLeft" fmla="*/ 360 w 4545000"/>
              <a:gd name="textAreaRight" fmla="*/ 4544640 w 4545000"/>
              <a:gd name="textAreaTop" fmla="*/ 360 h 4771800"/>
              <a:gd name="textAreaBottom" fmla="*/ 4771440 h 4771800"/>
            </a:gdLst>
            <a:ahLst/>
            <a:rect l="textAreaLeft" t="textAreaTop" r="textAreaRight" b="textAreaBottom"/>
            <a:pathLst>
              <a:path w="21600" h="22678">
                <a:moveTo>
                  <a:pt x="7" y="0"/>
                </a:moveTo>
                <a:arcTo wR="7" hR="7" stAng="16200000" swAng="-5400000"/>
                <a:lnTo>
                  <a:pt x="0" y="22671"/>
                </a:lnTo>
                <a:arcTo wR="7" hR="7" stAng="10800000" swAng="-5400000"/>
                <a:lnTo>
                  <a:pt x="21593" y="22678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FastEthernet0/0/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address 10.0.0.1 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o ip directed-broad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route-cache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ATM1/0/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o ip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o ip directed-broadca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route-cache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Loopback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address 10.10.10.10 255.255.255.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o ip directed-broad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flow-export version 5 origin-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flow-export destination 10.0.0.10 5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flow-export source loopba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flow-aggregation cache pref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port destination 10.0.0.10 55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1676520"/>
            <a:ext cx="8373960" cy="473688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krc4#sh ip flow ex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low export is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orting flows to 10.0.0.10 (5004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orting using source IP address 10.10.10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ersion 5 flow records, origin-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che for prefix aggreg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orting flows to 10.0.0.10 (5555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orting using source IP address 10.10.10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176848179 flows exported in 105898459 udp dat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flows failed due to lack of export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5 export packets were sent up to process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export packets were punted to the 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 export packets were dropped due to no f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1 export packets were dropped due to adjacency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export packets were dropped due to fragmentation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export packets were dropped due to encapsulation fixup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export packets were dropped enqueuing for the 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export packets were dropped due to IPC rate lim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export packets were dropped due to output dr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60680"/>
            <a:ext cx="8480520" cy="4984560"/>
          </a:xfrm>
          <a:prstGeom prst="roundRect">
            <a:avLst>
              <a:gd name="adj" fmla="val 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krc4#sho ip ca f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packet size distribution (106519M total packets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-32   64   96  128  160  192  224  256  288  320  352  384  416  448  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.002 .405 .076 .017 .011 .010 .007 .005 .004 .005 .004 .004 .003 .002 .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512  544  576 1024 1536 2048 2560 3072 3584 4096 46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.002 .006 .024 .032 .368 .000 .000 .000 .000 .000 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Flow Switching Cache, 445670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6418 active, 29118 inactive, 3141073565 ad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132256745 ager polls, 0 flow alloc fail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ctive flows timeout in 30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active flows timeout in 15 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ast clearing of statistics n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tocol         Total    Flows   Packets Bytes  Packets Active(Sec) Idle(Sec)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--------         Flows     /Sec     /Flow  /Pkt     /Sec     /Flow     /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CP-Telnet     2951815      0.6        61   216     42.2      26.6      2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CP-FTP       24128311      5.6        71   748    402.3      15.0      2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CP-FTPD       2865416      0.6       916   843    611.6      34.7      19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CP-WWW      467748914    108.9        15   566   1675.8       4.9      2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CP-SMTP      46697428     10.8        14   370    159.6       4.0      2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CP-X           521071      0.1       203   608     24.7      24.5      2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CP-BGP        2835505      0.6         5    94      3.3      16.2      2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905120"/>
            <a:ext cx="8586720" cy="434628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krc4#sho ip ca f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CP-other   1620253066    377.2        47   631  18001.6      27.3      2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DP-DNS      125622144     29.2         2    78     82.5       4.6      24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DP-NTP       67332976     15.6         1    76     22.0       2.7      2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DP-TFTP         37173      0.0         2    76      0.0       4.1      24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DP-Frag         68421      0.0       474   900      7.5     111.7      2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DP-other    493337764    114.8        17   479   1990.3       3.8      2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CMP         243659509     56.7         3   166    179.7       3.3      2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GMP             18601      0.0        96    35      0.4     941.4       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INIP           12246      0.0        69    52      0.1     548.4      1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GRE             125763      0.0       235   156      6.9      50.3      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-other      75976755     17.6         2    78     45.4       3.9      22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otal:      3176854246    739.6        33   619  24797.4      16.2      22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rcIf         SrcIPaddress    DstIf         DstIPaddress    Pr SrcP DstP  Pk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T5/0/0.4     206.21.162.150  AT1/0/0.1     141.219.73.45   06 0E4B A029   50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T4/0/0.10    132.235.174.9   AT1/0/0.1     137.99.166.126  06 04BE 074C     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T4/0/0.12    131.123.59.33   AT1/0/0.1     137.229.58.168  06 04BE 09BB   64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T1/0/0.1     137.99.166.126  AT4/0/0.10    132.235.174.9   06 074C 04BE     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niper Conf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packets with firewall filter and forward to routing eng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ing rate is limited to 7000pps.  Fine for traffic engineering, but restrictive for DoS and intrusion det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niper calls NetFlow cfl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niper Conf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429000"/>
            <a:ext cx="2995560" cy="2536920"/>
          </a:xfrm>
          <a:prstGeom prst="roundRect">
            <a:avLst>
              <a:gd name="adj" fmla="val 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rewall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lter all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erm all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he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am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ccep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2743200"/>
            <a:ext cx="3728880" cy="3759120"/>
          </a:xfrm>
          <a:custGeom>
            <a:avLst/>
            <a:gdLst>
              <a:gd name="textAreaLeft" fmla="*/ 360 w 3728880"/>
              <a:gd name="textAreaRight" fmla="*/ 3728520 w 3728880"/>
              <a:gd name="textAreaTop" fmla="*/ 360 h 3759120"/>
              <a:gd name="textAreaBottom" fmla="*/ 3758760 h 3759120"/>
            </a:gdLst>
            <a:ahLst/>
            <a:rect l="textAreaLeft" t="textAreaTop" r="textAreaRight" b="textAreaBottom"/>
            <a:pathLst>
              <a:path w="21600" h="21775">
                <a:moveTo>
                  <a:pt x="9" y="0"/>
                </a:moveTo>
                <a:arcTo wR="9" hR="9" stAng="16200000" swAng="-5400000"/>
                <a:lnTo>
                  <a:pt x="0" y="21766"/>
                </a:lnTo>
                <a:arcTo wR="9" hR="9" stAng="10800000" swAng="-5400000"/>
                <a:lnTo>
                  <a:pt x="21591" y="21775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warding-option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ampl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pu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amily in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te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utpu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flowd 10.0.0.16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rt 20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ersion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251460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360" y="1692360"/>
            <a:ext cx="8105760" cy="5792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ewall fil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able sampling /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niper Conf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3048120"/>
            <a:ext cx="5195880" cy="351468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e-0/3/0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nit 0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amily in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lt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put 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utput 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ddress 192.148.244.1/2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2057400"/>
            <a:ext cx="6680160" cy="57960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 firewall filter to each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ion of programs to post process Cisco NetFlow compatible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in C, designed to be fast (scales to large installa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des library (ftlib) for custom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llation with configure;make;make install on most platforms (FreeBSD, Linux, Solaris, BSDi, NetBS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work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directional or bidirec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directional flows can contain other information such as round trip time, TCP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ication flows look past the headers to classify packets by their cont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gregated flows – flows of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cap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 NetFlow exports and stores to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t in com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s disk space by expiring older flow files at configurable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cts lost flows by missing sequence numbers and stores with flow meta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fan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icate NetFlow UDP streams from one source to many dest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tination may be a multicast add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ex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ire (remove) old flow files based on disk u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functionality built in to flow-cap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d when managing disk space in a distribu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ilene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 and process flows for Abilene ro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sampled Net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 flows to Asta and Arbor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ghtly usage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ve of raw anonymized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ector Placement and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Flow is UDP so the collector should ideally be directly connected to the router to minimize packet loss and IP spoofing r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flow control.  Undersized collector will drop flows.  Monitor netstat –s | grep buf and configure syslog so dropped flows will be logg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pr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ted output of flow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666880"/>
            <a:ext cx="914400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ng1:% flow-print &lt; ft-v05.2002-01-21.093345-0500 | head 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rcIP            dstIP            prot  srcPort  dstPort  octets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1.238.205.199  194.210.13.1     6     6346     40355    221         5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5.110.20     128.195.186.5    17    57040    33468    40          1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46.1.7      194.85.127.69    17    53       53       64          1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3.170.62.114   132.235.156.242  6     1453     1214     192         4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4.243.5.160    192.129.25.10    6     80       3360     654         7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2.235.156.242  193.170.62.114   6     1214     1453     160         4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0.206.43.51    130.101.99.107   6     3226     80       96          2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06.244.141.3    128.163.62.17    6     35593    80       739         1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06.244.141.3    128.163.62.17    6     35594    80       577         6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12.33.84.160    132.235.152.47   6     1447     1214     192         4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2.235.157.187  164.58.150.166   6     1214     56938    81          2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9.1.246.97     152.94.20.214    6     4541     6346     912         1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2.235.152.47   212.33.84.160    6     1214     1447     160         4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0.237.131.52   130.101.9.20     6     1246     80       902         1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at many flow files or directories of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352680"/>
            <a:ext cx="914400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ng1:% 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-v05.2002-01-21.160001-0500   ft-v05.2002-01-21.170001-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-v05.2002-01-21.161501-0500   ft-v05.2002-01-21.171501-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-v05.2002-01-21.163001-0500   ft-v05.2002-01-21.173001-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-v05.2002-01-21.164501-0500   tmp-v05.2002-01-21.174501-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ng1:% flow-cat . | flow-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rcIP            dstIP            prot  srcPort  dstPort  octets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8.26.220.46    192.5.110.20     17    62242    33456    40          1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3.105.55.23    18.123.66.15     17    41794    41794    40          1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9.15.134.66    164.107.69.33    6     1214     2222     4500        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2.235.170.19   152.30.96.188    6     6346     1475     128        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me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-merge is similar to flow-cat except it maintains relative ordering of flows when combining the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ly used when combining flows from multiple coll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ter flows based on port, protocol, ASN, IP address, ToS bits, TCP bits, and ta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0720" y="3505320"/>
            <a:ext cx="8693280" cy="2644560"/>
          </a:xfrm>
          <a:prstGeom prst="roundRect">
            <a:avLst>
              <a:gd name="adj" fmla="val 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g1% flow-cat . | flow-filter -P119 | flow-print | head -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rcIP            dstIP            prot  srcPort  dstPort  octets     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5.52.46.50     164.107.115.4    6     33225    119      114         2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8.223.220.29   129.137.4.135    6     52745    119      1438382     1022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5.52.46.50     164.107.115.4    6     33225    119      374         6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64.107.115.4    192.58.107.160   6     60141    119      5147961     8876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8.223.220.29   129.137.4.135    6     52745    119      1356325     96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8.223.220.29   129.137.4.135    6     52714    119      561016      398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0.207.244.18   129.22.8.64      6     36033    119      30194       121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5.52.46.50     164.107.115.4    6     33225    119      130         2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98.108.1.146    129.137.4.135    6     17800    119      210720652   21607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pl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lit flow files into smaller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ly used with flow-stat and graphing.  For example if flow files are 1 hour and want 5 minute data points in graph, flow-split can take the 1 hour flow files and generate 5 minute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idirectional Flow with Source/Destination IP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2666880"/>
            <a:ext cx="35049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2240" y="316404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320040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0160" y="2097000"/>
            <a:ext cx="247176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817360" y="3581280"/>
            <a:ext cx="3203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3048120"/>
            <a:ext cx="9144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4191120"/>
            <a:ext cx="2576520" cy="5792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876920"/>
            <a:ext cx="6172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3341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510160"/>
            <a:ext cx="4029120" cy="8222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t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s a tag field to flows based on IP exporter, IP prefix, Autonomous System, or next h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flow-filter used with othe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d to manage groups of prefixes or ASN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 meta information in flow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2438280"/>
            <a:ext cx="6296040" cy="424836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ng1:% flow-header &lt; ft-v05.2002-01-21.093345-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mode:                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apture hostname:     eng1.oar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exporter IP address:  0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apture start:        Mon Jan 21 09:33:45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apture end:          Mon Jan 21 09:45:01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apture period:       676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ompress:            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byte order:          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stream version: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export version: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lost flows:       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orrupt packets:  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sequencer resets: 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apture flows:        3413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tes reports from flow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put is readable and easily imported into graphing programs (gnuplot, et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P Address, IP address pairs, ports, packets, bytes, interfaces, next hop, Autonomous System, ToS bits, exporter, and ta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-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2133720"/>
            <a:ext cx="5806800" cy="351468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otal Flows                     : 242367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otal Octets                    : 712668066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otal Packets                   : 109298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otal Time (1/1000 secs) (flows): 2890311860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uration of data  (realtime)    : 86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uration of data (1/1000 secs)  : 883521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verage flow time (1/1000 secs) : 11925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verage packet size (octets)    : 652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verage flow size (octets)      : 294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verage packets per flow        : 4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verage flows / second (flow)   : 274.32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verage flows / second (real)   : 280.51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verage Kbits / second (flow)   : 6452.98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verage Kbits / second (real)   : 6598.77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Source AS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828800"/>
            <a:ext cx="6540480" cy="44928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src AS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FNETTEST14-AS  6.430    6.582    7.019    5.69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NENET-AS-1      2.914    4.417    3.529    3.56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ONET            0.600    4.052    2.484    1.97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ITT-AS         1.847    3.816    2.697    2.55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NCERT          1.786    2.931    2.391    1.95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HIOU            3.961    2.601    2.140    1.65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MU-ROUTER       1.962    2.577    2.349    2.07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STONU-AS       1.503    2.126    1.665    1.91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RDUE           2.185    1.994    2.157    2.5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NFORD         2.124    1.950    2.270    2.63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               1.809    1.919    1.652    1.53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MN-AGS-NET-AS   1.612    1.895    1.788    1.93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ISQ-AS          1.086    1.849    1.378    1.36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ENN-STATE       2.845    1.641    2.666    2.19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IT-ASN          0.796    1.601    1.414    0.83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Dest AS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631880"/>
            <a:ext cx="6540480" cy="473724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dst AS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FNETTEST14-AS  6.202    9.564    8.005    6.7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ENN-STATE       2.037    3.774    2.712    2.15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NCERT          2.628    3.133    2.888    2.32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NENET-AS-1      2.818    2.434    2.906    3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NFORD         1.915    2.360    2.122    2.19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ET            2.508    2.319    2.150    2.48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               0.831    2.187    2.431    2.9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FN-WIN-AS       2.349    2.099    1.938    2.35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MU-ROUTER       1.383    2.090    1.972    1.9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ONET            0.537    2.067    1.699    1.39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RDUE           2.029    1.934    1.983    2.17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MN-AGS-NET-AS   1.608    1.784    1.664    1.68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ITT-AS         1.507    1.707    2.067    2.28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IT-GATEWAYS     0.677    1.425    1.175    0.8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IT-ASN          0.644    1.313    1.243    0.86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DIANA-AS       0.899    1.285    0.996    0.78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Src/Dest AS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1160" y="1905120"/>
            <a:ext cx="8862840" cy="473688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src AS          dst AS   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EORGIA-TECH      PENN-STATE        0.030    0.965    0.459    0.07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WU-AS            0                 0.008    0.734    0.379    0.17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ONET             CONCERT           0.064    0.698    0.438    0.29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CLA              NSFNETTEST14-AS   0.037    0.568    0.269    0.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NCERT           UONET             0.052    0.543    0.364    0.2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CNET-AS          MIT-GATEWAYS      0.019    0.538    0.274    0.13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ONET             0                 0.015    0.536    0.318    0.2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IT-GATEWAYS      STANFORD          0.032    0.477    0.245    0.07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NENET-AS-1       NSFNETTEST14-AS   0.140    0.451    0.263    0.15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ONET             PENN-STATE        0.019    0.439    0.200    0.06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AA-AS           NOAA-FSL          0.018    0.438    0.255    0.03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NET             UONET             0.032    0.410    0.189    0.18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FNETTEST14-AS   UC-DOM            0.022    0.365    0.244    0.08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TALY-AS          UONET             0.016    0.358    0.228    0.11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FNETTEST14-AS   CONCERT           0.322    0.349    0.335    0.22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ONET             ITALY-AS          0.022    0.349    0.210    0.13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Src Port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160" y="1905120"/>
            <a:ext cx="6540480" cy="4981320"/>
          </a:xfrm>
          <a:prstGeom prst="roundRect">
            <a:avLst>
              <a:gd name="adj" fmla="val 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port  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14             31.480   25.875   22.251   24.5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p-data         0.325    4.043    2.417    1.24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ttp             2.386    2.855    1.729    1.04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346             4.124    2.224    3.619    5.88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nidata-ldm      0.105    0.893    0.526    0.38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ynoptics-trap   0.214    0.844    0.994    1.0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p              0.326    0.616    0.386    0.32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347             0.573    0.572    0.617    0.85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662             0.293    0.505    0.363    0.52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               0.015    0.460    0.217    0.09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sh              0.117    0.411    0.329    0.17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73              0.014    0.371    0.173    0.08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501             0.008    0.322    0.161    0.09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701             0.008    0.320    0.153    0.08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ol              0.048    0.316    0.257    0.15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699             0.106    0.280    0.215    0.26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ntp             0.995    0.234    2.960    2.63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Dst Port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1905120"/>
            <a:ext cx="6540480" cy="42480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port  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ntp             0.731    15.726   6.860    2.89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14             32.274   11.156   20.411   21.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346             4.032    2.701    4.155    6.62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ynoptics-trap   0.301    2.109    1.104    1.16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p-data         0.246    1.088    1.160    0.67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020             0.003    0.892    0.359    0.02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5524            0.374    0.863    1.665    2.49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347             0.680    0.488    0.643    0.97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lsi-lm          0.016    0.447    0.190    0.02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2002            0.103    0.381    0.467    0.67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699             0.196    0.332    0.300    0.38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662             0.229    0.301    0.260    0.33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534             0.013    0.243    0.109    0.03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tview-aix-3    0.024    0.221    0.102    0.04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IP protocol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905120"/>
            <a:ext cx="6540480" cy="375912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protocol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cp              93.877   97.143   93.326   91.5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dp              4.257    2.466    5.932    8.28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cmp             1.337    0.368    0.576    0.11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69              0.500    0.019    0.155    0.0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re              0.010    0.002    0.006    0.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im              0.012    0.002    0.004    0.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pv6             0.004    0.000    0.001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.25            0.001    0.000    0.000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pencap          0.001    0.000    0.000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gmp             0.000    0.000    0.000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spf             0.001    0.000    0.000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svp             0.000    0.000    0.000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idirectional Flow with Source/Destination IP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2895480"/>
            <a:ext cx="35053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316404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320040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905120"/>
            <a:ext cx="247176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17360" y="3886200"/>
            <a:ext cx="3203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971800"/>
            <a:ext cx="9144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191120"/>
            <a:ext cx="2576520" cy="5792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876920"/>
            <a:ext cx="8534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3341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510160"/>
            <a:ext cx="4029120" cy="8222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2362320"/>
            <a:ext cx="23032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4290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Src/Dst Prefix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057400"/>
            <a:ext cx="9229680" cy="400356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Source Prefix     Destination Prefix  flows    octets   packets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0.207/16          128.186/16          0.016    3.091    1.321    0.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0.207/16          130.203/16          0.019    2.110    0.904    0.11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8.108/24          130.207/16          0.023    2.097    0.855    0.19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69.232/16          128.169/16          0.086    1.420    0.644    0.42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4.79/16           65.118.160/20       0.008    1.158    0.467    0.03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8/8                130.207/16          0.030    1.042    0.572    0.14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9.171.96/19       128.223/16          0.019    0.848    0.341    0.14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8.26/16           193.190/15          0.006    0.574    0.245    0.04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09/16          146.229/16          0.014    0.558    0.231    0.07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09/16          170.140/16          0.014    0.536    0.221    0.06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0.207/16          18/8                0.034    0.493    0.416    0.13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223/16          130.207/16          0.017    0.476    0.200    0.1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09/16          131.96/16           0.018    0.463    0.190    0.09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ifIndex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1905120"/>
            <a:ext cx="6173640" cy="449244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in   out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     2      12.556   12.568   12.574   11.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     3      9.557    11.644   10.313   9.7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      2      8.172    8.896    8.274    8.52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      4      14.815   8.712    10.820   11.3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     4      9.131    8.033    8.565    9.1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      6      9.433    6.797    7.526    8.19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      3      2.085    3.245    2.317    2.1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     75     0.055    3.110    1.382    0.15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      2      2.759    3.024    2.855    2.95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      3      1.792    2.992    2.133    1.9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     91     1.002    2.361    1.595    1.28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      4      2.057    2.132    1.967    2.1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     6      2.301    1.698    2.463    3.0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     9      1.713    1.447    1.760    1.69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     8      1.614    1.311    1.639    1.69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Next-Hop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752480"/>
            <a:ext cx="6540480" cy="473724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IPaddr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.0.0.0          37.738   43.011   41.829   41.8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8.32.8.66      30.848   22.665   25.417   26.7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8.32.8.41      16.807   22.348   18.870   17.1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8.32.8.33      13.363   9.943    11.361   12.5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9.77.193.9     0.775    1.037    1.697    1.06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80.53.46     0.132    0.532    0.279    0.1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80.53.42     0.073    0.211    0.185    0.15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1.247.47.246   0.103    0.100    0.105    0.08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111.110.5    0.044    0.079    0.052    0.05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8.32.252.253   0.082    0.059    0.182    0.1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208.151.9    0.022    0.012    0.018    0.0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1.95.1.25      0.008    0.003    0.004    0.00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208.151.13   0.002    0.001    0.001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80.53.44     0.000    0.000    0.000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1.247.47.244   0.000    0.000    0.000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8.32.11.72     0.000    0.000    0.000    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Multicast S,G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828800"/>
            <a:ext cx="8618400" cy="42480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src IPaddr     dst IPaddr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1.117.45.72    233.2.171.38     2.455    13.233   4.169    3.73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8.49.215.223   224.2.177.155    2.437    8.630    5.859    4.43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1.193.77.102   224.2.177.155    2.249    8.369    4.340    4.06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88.194.131   224.2.177.155    2.278    6.381    4.407    4.05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06.75.91.24     224.2.177.155    2.241    6.111    4.876    4.08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63.209.73   233.2.171.38     1.304    5.784    3.349    2.54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0.221.8.157    224.2.177.155    2.280    5.245    4.435    4.08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3.10.50      224.2.177.155    2.261    5.177    4.660    4.07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35.152.209  224.2.177.155    2.281    4.716    4.494    4.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0.111.39.202   224.2.177.155    1.222    3.876    2.696    2.34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9.79.245.225   233.2.171.38     1.125    3.715    2.521    2.06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9.104.137.2    224.2.177.155    2.283    2.964    4.461    4.09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.231.212.52   224.2.177.155    0.560    2.865    1.319    1.0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2.61.42    233.2.171.38     1.691    2.687    3.267    3.01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ToS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752480"/>
            <a:ext cx="6540480" cy="44928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ToS            flows    octets   packets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               96.178   93.067   93.752   94.9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2               1.196    2.230    2.524    1.78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4               1.031    1.822    1.475    1.67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6               0.324    1.535    0.838    0.42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                0.104    0.698    0.588    0.3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6               0.166    0.182    0.147    0.09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6               0.349    0.149    0.226    0.27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              0.117    0.070    0.108    0.15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24              0.130    0.036    0.079    0.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2              0.221    0.033    0.087    0.0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00              0.004    0.016    0.009    0.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32              0.001    0.014    0.007    0.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44              0.012    0.012    0.013    0.02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36              0.012    0.009    0.011    0.02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4               0.010    0.008    0.008    0.01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tat – ToS 0010000xx % To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828800"/>
            <a:ext cx="9229680" cy="375912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Source Prefix     Destination Prefix  flows    octets   packets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31.193/16          0.270    8.619    3.243    1.34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6.201/16          141.213/16          0.547    7.105    2.689    2.44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29.252/16          0.349    5.958    2.455    1.60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52.7/16            0.638    3.960    1.592    0.84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41.213/16          0.314    3.037    1.240    1.15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29.21/16           1.280    2.416    2.132    1.63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28.239/16          0.824    2.394    1.050    0.8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30.207/16          1.679    2.322    29.290   7.14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99.240/18          0.151    2.082    0.785    0.71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30.108/16          0.295    2.036    0.767    1.21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28.227/16          0.569    2.034    0.988    1.37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8.186/16          139.78/16           0.321    1.962    1.047    0.93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d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S detection / network scanning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ag hosts which have flows to many other h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ag hosts which are using a large number of TCP/UDP 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better on smaller networks or with flow-filter to limit traffic.  For example filter TCP port 25 to detect hosts infected with e-mail w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bugging tool to generate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743200"/>
            <a:ext cx="9229680" cy="302580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ng1:% flow-gen -V8.1 | flow-print | head -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rcAS  dstAS  in     out    flows       octets      packets  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      65280  0      65280  2           1           1         429490176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     65281  1      65281  4           2           2         429490176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     65282  2      65282  6           3           3         429490176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     65283  3      65283  8           4           4         429490176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      65284  4      65284  10          5           5         429490176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      65285  5      65285  12          6           6         429490176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      65286  6      65286  14          7           7         429490176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7      65287  7      65287  16          8           8         429490176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      65288  8      65288  18          9           9         42949017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s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mit flow files with NetFlow protocol to another col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used to take flow-tools files and send them to other NetFlow compatible col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rece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flow-capture but does not manage disk space.  Output is to standard out and can be used directly with other flow-tools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ly used for debugg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495680"/>
            <a:ext cx="8693280" cy="221940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g1:% flow-receive 0/0/5555 | flow-pri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low-receive: New exporter: time=1011652474 src_ip=199.18.112.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st_ip=199.18.97.102 d_version=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rcPrefix           srcAS  dstPrefix           dstAS  input  output flows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43.105/16          600    128.9/16            4      48     25     1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40.141/16          600    150.216/16          81     48     25     4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2.235/16          17135  130.49/17           4130   38     25     25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1.123/16          11050  129.59/16           7212   42     25     1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06.21/16           600    128.239/16          11975  48     25     2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99.218/16          600    128.255/16          3676   48     25     1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idirectional Flow with IP, Port,Protocol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0" y="2895480"/>
            <a:ext cx="35053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2240" y="316404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320040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1905120"/>
            <a:ext cx="247176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17360" y="3886200"/>
            <a:ext cx="3203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971800"/>
            <a:ext cx="9144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191120"/>
            <a:ext cx="2576520" cy="5792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724280"/>
            <a:ext cx="853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  Source IP               Destination 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c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st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181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305320"/>
            <a:ext cx="83818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TCP    32000  23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TCP    23        3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362320"/>
            <a:ext cx="23032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34290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im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flows from other formats into flow-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supports ASCII and cflowd form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ex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ort flows from flow-tools files to other form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supports ASCII and cflowd form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CII output can be used with perl or other scripting languages (with a performance penalt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ow-x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late flows among NetFlow ver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ly intended for use with Catalyst switches since they export some flows in version 7 and others in version 5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-tools: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http://www.splintered.net/sw/flow-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Flow Applica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inmon.com/technology/netflowapps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flow HOW-TO</a:t>
            </a:r>
            <a:br>
              <a:rPr sz="32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ttp://www.linuxgeek.org/netflow-howto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TF standards effort: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http://ipfix.doit.wisc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-tools: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http://www.splintered.net/sw/flow-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ilene NetFlow page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http://www.itec.oar.net/abilene-net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-tools mailing list:                     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low-tools@splintered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co Centric Open Source Community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ttp://cosi-nms.sourceforge.net/related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directional Flow with IP, Port,Protocol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0" y="2895480"/>
            <a:ext cx="35053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240" y="316404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320040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1905120"/>
            <a:ext cx="247176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817360" y="3886200"/>
            <a:ext cx="3203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2971800"/>
            <a:ext cx="9144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91120"/>
            <a:ext cx="2576520" cy="5792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724280"/>
            <a:ext cx="853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  Source IP               Destination 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c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st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181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05320"/>
            <a:ext cx="83818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TCP    32000  23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ICMP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362320"/>
            <a:ext cx="23032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34290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ication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0" y="2895480"/>
            <a:ext cx="35053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240" y="316404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200400"/>
            <a:ext cx="12859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2209680"/>
            <a:ext cx="4488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netscape http://10.0.0.2/90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817360" y="3886200"/>
            <a:ext cx="3203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352680"/>
            <a:ext cx="20984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-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4191120"/>
            <a:ext cx="2576520" cy="5792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724280"/>
            <a:ext cx="853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  Source IP               Destination 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181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3053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HTTP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77160" y="1600200"/>
            <a:ext cx="2166840" cy="8222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server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 90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 m</dc:creator>
  <dc:description/>
  <dc:language>en-US</dc:language>
  <cp:lastModifiedBy>Gaurab Raj Upadhaya</cp:lastModifiedBy>
  <cp:revision>0</cp:revision>
  <dc:subject/>
  <dc:title>Flow-tools Tutorial</dc:title>
</cp:coreProperties>
</file>