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1722600" indent="-2113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2154240" indent="-2127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2154240" indent="-212760">
              <a:lnSpc>
                <a:spcPct val="96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2154240" indent="-212760">
              <a:lnSpc>
                <a:spcPct val="96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312920"/>
            <a:ext cx="877248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7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Introduction to SNM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4320" y="5384880"/>
            <a:ext cx="341604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IDs and MIB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Navigate tree downwar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s separated by '.'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1.3.6.1.4.1.9. 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 corresponds to a lab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.1.3.6.1.2.1.1.5 =&gt; sysNa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he complete path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ourier New"/>
              </a:rPr>
              <a:t>.iso.org.dod.internet.mgmt.mib-2.system.sysName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How do we convert from OIDs to Labels (and vice versa ?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Use of MIBs files!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 are files defining the objects that can be queried, includin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bject na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bject description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Data type (integer, text, lis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 are structured text, using ASN.1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tandard MIBs include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IB-II – (RFC1213) – a group of sub-MIB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HOST-RESOURCES-MIB (RFC2790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 also make it possible to interpret a returned value from an agen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For example, the status for a fan could be 1,2,3,4,5,6 – what does it mean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 - SAMPL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7" name=""/>
          <p:cNvSpPr/>
          <p:nvPr/>
        </p:nvSpPr>
        <p:spPr>
          <a:xfrm>
            <a:off x="252360" y="1916280"/>
            <a:ext cx="9655200" cy="59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 OBJECT-TYP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NTAX  TimeTicks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  read-only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  mandatory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The time (in hundredths of a second) since th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work management portion of the system was las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-initialized."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:= { system 3 }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sysUpTime OBJECT-TYP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fines the object called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8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SYNTAX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TimeTicks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is of the type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Tick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bject types are specified in the SMI we mentioned a moment ago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ACCESS read-onl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can only be read via SNMP (i.e.,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et-reque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it cannot be changed (i.e.,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t-reque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STATUS mandator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This object must be implemented in any SNMP agen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DESCRIPTIO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A description of the objec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::= { system 3 }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the third branch off of the system object group tree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 - SAMPL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9" name=""/>
          <p:cNvSpPr/>
          <p:nvPr/>
        </p:nvSpPr>
        <p:spPr>
          <a:xfrm>
            <a:off x="252360" y="1916280"/>
            <a:ext cx="965520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scoEnvMonState ::= TEXTUAL-CONVEN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TUS  curren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"Represents the state of a device being monitored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alid values are: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rmal(1):         the environment is good, such as low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erature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arning(2):        the environment is bad, such as temperatur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bove normal operation range but not too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igh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ritical(3):       the environment is very bad, such as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erature much higher than normal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peration limi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hutdown(4):       the environment is the worst, the system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hould be shutdown immediately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tPresent(5):     the environmental monitor is not present,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uch as temperature sensors do not exis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tFunctioning(6): the environmental monitor does n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unction properly, such as a temperatur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nsor generates a abnormal data lik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000 C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rying SNMP ag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58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ome typical commands for queryin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get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walk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status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yntax: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nmpXXX -c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community 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-v1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host [oid]</a:t>
            </a:r>
            <a:br>
              <a:rPr sz="2400"/>
            </a:b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nmpXXX -c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community 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-v2c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host [oid]</a:t>
            </a:r>
            <a:br>
              <a:rPr sz="2400"/>
            </a:b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et's take an example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status -c public -v1 169.223.2.2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get -c apric0t08 -v1 169.223.2.2 .iso.org.dod.internet.mgmt.mib-2.interfaces.ifNumber.0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walk -c public -v1 ifDescr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rying SNMP ag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ommunity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 ”security” string (password) to define whether the querying manager will have RO (read only) or RW (read write) acces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This is the simplest form of authentication in SNMP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 value, for example, .1.3.6.1.2.1.1.5.0, or it's name equivalen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.iso.org.dod.internet.mgmt.mib-2.system.sysName.0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et's ask for the system's name (using the OID above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Why the .0 ?  What do you notice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ming up...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sing snmpwalk, snmpge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onfiguring SNMP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oading MIB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Basic SNMP at Cisco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cisco.com/warp/public/535/3.html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cisco.com/univercd/cc/td/doc/cisintwk/ito_doc/snmp.htm 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Wikipedia: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en.wikipedia.org/wiki/Simple_Network_Management_Protocol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IP Monitor MIB Browser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support.ipmonitor.com/mibs_byoidtree.aspx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Cisco MIB browser: http://tools.cisco.com/Support/SNMP/do/BrowseOID.do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Open Source Java MIB Browser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kill-9.org/mbrowse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dwipal.com/mibbrowser.htm (Java)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SNMP Link – collection of SNMP resources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snmplink.org/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Net-SNMP Open Source SNMP tools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net-snmp.sourceforge.net/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hat is SNMP ?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Polling and queryin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rap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79280"/>
            <a:ext cx="936000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NMP – Simple Network Management Protoco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ndustry standard, hundreds of tools exist to exploit i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Present on any decent network equipmen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Query – response base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 / SE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Mostly GET is used for monitoring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ree hierarchy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Query for ”Object Identifiers” (OID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oncept of MIBs (Management Information Base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Standard and vendor-specific (Enterprise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DP protocol, port 161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Different version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riginally, 198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v1 – RFC1155, RFC1156, RFC1157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Original specification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v2 – RFC1901 ... RFC1908 + RFC257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Extends v1, new data types, better retrieval methods (GETBULK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Really is version v2c (without security model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v3 – RFC3411 ... RFC341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ypically we use SNMPv2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erminology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anager (the monitoring ”client”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gent (running on the equipment/server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ypical queri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Bytes In/Out on an interface, error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CPU load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Upti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Temperatur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For hosts (servers or workstations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Diskspac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nstalled softwar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Running processe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ndows and UNIX have SNMP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How does it work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Basic comman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Query for a value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-NEXT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Get next value (list of values for a table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-RESPONSE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agent -&gt; manager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Response to GET/SET, or error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SET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Set a value, or perform action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TRAP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agent -&gt; manager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Spontaneous notification from equipment (line down, temperature above threshold, ...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5400720"/>
            <a:ext cx="3240360" cy="1800360"/>
          </a:xfrm>
          <a:prstGeom prst="roundRect">
            <a:avLst>
              <a:gd name="adj" fmla="val 88"/>
            </a:avLst>
          </a:pr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2340000"/>
            <a:ext cx="1440000" cy="234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340000"/>
              <a:gd name="textAreaBottom" fmla="*/ 2339640 h 2340000"/>
            </a:gdLst>
            <a:ahLst/>
            <a:rect l="textAreaLeft" t="textAreaTop" r="textAreaRight" b="textAreaBottom"/>
            <a:pathLst>
              <a:path w="21600" h="35097">
                <a:moveTo>
                  <a:pt x="23" y="0"/>
                </a:moveTo>
                <a:arcTo wR="23" hR="23" stAng="16200000" swAng="-5400000"/>
                <a:lnTo>
                  <a:pt x="0" y="35074"/>
                </a:lnTo>
                <a:arcTo wR="23" hR="23" stAng="10800000" swAng="-5400000"/>
                <a:lnTo>
                  <a:pt x="21577" y="350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4859280"/>
            <a:ext cx="1440000" cy="180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800360"/>
              <a:gd name="textAreaBottom" fmla="*/ 1800000 h 1800360"/>
            </a:gdLst>
            <a:ahLst/>
            <a:rect l="textAreaLeft" t="textAreaTop" r="textAreaRight" b="textAreaBottom"/>
            <a:pathLst>
              <a:path w="21600" h="27004">
                <a:moveTo>
                  <a:pt x="23" y="0"/>
                </a:moveTo>
                <a:arcTo wR="23" hR="23" stAng="16200000" swAng="-5400000"/>
                <a:lnTo>
                  <a:pt x="0" y="26981"/>
                </a:lnTo>
                <a:arcTo wR="23" hR="23" stAng="10800000" swAng="-5400000"/>
                <a:lnTo>
                  <a:pt x="21577" y="27004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MIB tre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3" name=""/>
          <p:cNvSpPr/>
          <p:nvPr/>
        </p:nvSpPr>
        <p:spPr>
          <a:xfrm>
            <a:off x="4824360" y="1685880"/>
            <a:ext cx="539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197964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61840" y="1979640"/>
            <a:ext cx="14432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197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2340000"/>
            <a:ext cx="777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citt(0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303640"/>
            <a:ext cx="667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s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"/>
          <p:cNvSpPr/>
          <p:nvPr/>
        </p:nvSpPr>
        <p:spPr>
          <a:xfrm>
            <a:off x="6200640" y="2340000"/>
            <a:ext cx="1633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joint-iso-ccitt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59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"/>
          <p:cNvSpPr/>
          <p:nvPr/>
        </p:nvSpPr>
        <p:spPr>
          <a:xfrm>
            <a:off x="4667400" y="2916360"/>
            <a:ext cx="707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org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"/>
          <p:cNvSpPr/>
          <p:nvPr/>
        </p:nvSpPr>
        <p:spPr>
          <a:xfrm>
            <a:off x="4667400" y="3600360"/>
            <a:ext cx="749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od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6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4248000"/>
            <a:ext cx="1093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ne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82560" y="450072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72000" y="44974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450072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0" name=""/>
          <p:cNvSpPr/>
          <p:nvPr/>
        </p:nvSpPr>
        <p:spPr>
          <a:xfrm>
            <a:off x="2808360" y="4859280"/>
            <a:ext cx="1181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irectory(1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1" name=""/>
          <p:cNvSpPr/>
          <p:nvPr/>
        </p:nvSpPr>
        <p:spPr>
          <a:xfrm>
            <a:off x="3889440" y="4859280"/>
            <a:ext cx="923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gm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543280" y="3959280"/>
            <a:ext cx="1082520" cy="360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3" name=""/>
          <p:cNvSpPr/>
          <p:nvPr/>
        </p:nvSpPr>
        <p:spPr>
          <a:xfrm>
            <a:off x="6669000" y="3780000"/>
            <a:ext cx="782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Lucida Sans"/>
              </a:rPr>
              <a:t>1.3.6.1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4" name=""/>
          <p:cNvSpPr/>
          <p:nvPr/>
        </p:nvSpPr>
        <p:spPr>
          <a:xfrm>
            <a:off x="4753080" y="4859280"/>
            <a:ext cx="1549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xperimental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5" name=""/>
          <p:cNvSpPr/>
          <p:nvPr/>
        </p:nvSpPr>
        <p:spPr>
          <a:xfrm>
            <a:off x="6443640" y="4859280"/>
            <a:ext cx="100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privat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7" name=""/>
          <p:cNvSpPr/>
          <p:nvPr/>
        </p:nvSpPr>
        <p:spPr>
          <a:xfrm>
            <a:off x="691200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8" name=""/>
          <p:cNvSpPr/>
          <p:nvPr/>
        </p:nvSpPr>
        <p:spPr>
          <a:xfrm>
            <a:off x="6229440" y="5472000"/>
            <a:ext cx="1382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nterpris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6083280"/>
            <a:ext cx="8496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0" name=""/>
          <p:cNvSpPr/>
          <p:nvPr/>
        </p:nvSpPr>
        <p:spPr>
          <a:xfrm>
            <a:off x="6912000" y="57592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1" name=""/>
          <p:cNvSpPr/>
          <p:nvPr/>
        </p:nvSpPr>
        <p:spPr>
          <a:xfrm>
            <a:off x="6912000" y="640872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6696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6624720"/>
            <a:ext cx="504720" cy="28872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4" name=""/>
          <p:cNvSpPr/>
          <p:nvPr/>
        </p:nvSpPr>
        <p:spPr>
          <a:xfrm>
            <a:off x="3889440" y="5435640"/>
            <a:ext cx="960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ib-2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5" name=""/>
          <p:cNvSpPr/>
          <p:nvPr/>
        </p:nvSpPr>
        <p:spPr>
          <a:xfrm>
            <a:off x="431964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6" name=""/>
          <p:cNvSpPr/>
          <p:nvPr/>
        </p:nvSpPr>
        <p:spPr>
          <a:xfrm>
            <a:off x="2808360" y="6073920"/>
            <a:ext cx="1022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ystem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7" name=""/>
          <p:cNvSpPr/>
          <p:nvPr/>
        </p:nvSpPr>
        <p:spPr>
          <a:xfrm>
            <a:off x="3144960" y="6434280"/>
            <a:ext cx="1269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fac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)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8" name=""/>
          <p:cNvSpPr/>
          <p:nvPr/>
        </p:nvSpPr>
        <p:spPr>
          <a:xfrm>
            <a:off x="4687920" y="6443640"/>
            <a:ext cx="57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9" name=""/>
          <p:cNvSpPr/>
          <p:nvPr/>
        </p:nvSpPr>
        <p:spPr>
          <a:xfrm>
            <a:off x="5040360" y="6073920"/>
            <a:ext cx="101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nm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00360" y="5757840"/>
            <a:ext cx="612720" cy="32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32360" y="575748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210200" y="5757480"/>
            <a:ext cx="5428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209840" y="5757840"/>
            <a:ext cx="9032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440000" y="5757840"/>
            <a:ext cx="277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5" name=""/>
          <p:cNvSpPr/>
          <p:nvPr/>
        </p:nvSpPr>
        <p:spPr>
          <a:xfrm>
            <a:off x="1009800" y="6075360"/>
            <a:ext cx="911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os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5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6" name=""/>
          <p:cNvSpPr/>
          <p:nvPr/>
        </p:nvSpPr>
        <p:spPr>
          <a:xfrm>
            <a:off x="1560600" y="6434280"/>
            <a:ext cx="10206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rStorag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6686640"/>
            <a:ext cx="977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rSystem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8" name=""/>
          <p:cNvSpPr/>
          <p:nvPr/>
        </p:nvSpPr>
        <p:spPr>
          <a:xfrm>
            <a:off x="84240" y="6434280"/>
            <a:ext cx="933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rDevic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9640" y="6298920"/>
            <a:ext cx="72072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257480" y="6298920"/>
            <a:ext cx="72360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6300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5400720"/>
            <a:ext cx="3240360" cy="1800360"/>
          </a:xfrm>
          <a:prstGeom prst="roundRect">
            <a:avLst>
              <a:gd name="adj" fmla="val 88"/>
            </a:avLst>
          </a:pr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340000"/>
            <a:ext cx="1440000" cy="234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340000"/>
              <a:gd name="textAreaBottom" fmla="*/ 2339640 h 2340000"/>
            </a:gdLst>
            <a:ahLst/>
            <a:rect l="textAreaLeft" t="textAreaTop" r="textAreaRight" b="textAreaBottom"/>
            <a:pathLst>
              <a:path w="21600" h="35097">
                <a:moveTo>
                  <a:pt x="23" y="0"/>
                </a:moveTo>
                <a:arcTo wR="23" hR="23" stAng="16200000" swAng="-5400000"/>
                <a:lnTo>
                  <a:pt x="0" y="35074"/>
                </a:lnTo>
                <a:arcTo wR="23" hR="23" stAng="10800000" swAng="-5400000"/>
                <a:lnTo>
                  <a:pt x="21577" y="350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4" name=""/>
          <p:cNvSpPr/>
          <p:nvPr/>
        </p:nvSpPr>
        <p:spPr>
          <a:xfrm>
            <a:off x="5759280" y="2879640"/>
            <a:ext cx="3780000" cy="3600360"/>
          </a:xfrm>
          <a:prstGeom prst="roundRect">
            <a:avLst>
              <a:gd name="adj" fmla="val 42"/>
            </a:avLst>
          </a:pr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4859280"/>
            <a:ext cx="1440000" cy="180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800360"/>
              <a:gd name="textAreaBottom" fmla="*/ 1800000 h 1800360"/>
            </a:gdLst>
            <a:ahLst/>
            <a:rect l="textAreaLeft" t="textAreaTop" r="textAreaRight" b="textAreaBottom"/>
            <a:pathLst>
              <a:path w="21600" h="27004">
                <a:moveTo>
                  <a:pt x="23" y="0"/>
                </a:moveTo>
                <a:arcTo wR="23" hR="23" stAng="16200000" swAng="-5400000"/>
                <a:lnTo>
                  <a:pt x="0" y="26981"/>
                </a:lnTo>
                <a:arcTo wR="23" hR="23" stAng="10800000" swAng="-5400000"/>
                <a:lnTo>
                  <a:pt x="21577" y="27004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MIB tre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17" name=""/>
          <p:cNvSpPr/>
          <p:nvPr/>
        </p:nvSpPr>
        <p:spPr>
          <a:xfrm>
            <a:off x="2232000" y="1685880"/>
            <a:ext cx="539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197964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69480" y="1979640"/>
            <a:ext cx="14432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97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1" name=""/>
          <p:cNvSpPr/>
          <p:nvPr/>
        </p:nvSpPr>
        <p:spPr>
          <a:xfrm>
            <a:off x="612720" y="2340000"/>
            <a:ext cx="777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citt(0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2" name=""/>
          <p:cNvSpPr/>
          <p:nvPr/>
        </p:nvSpPr>
        <p:spPr>
          <a:xfrm>
            <a:off x="2122560" y="2303640"/>
            <a:ext cx="666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s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3" name=""/>
          <p:cNvSpPr/>
          <p:nvPr/>
        </p:nvSpPr>
        <p:spPr>
          <a:xfrm>
            <a:off x="3608280" y="2340000"/>
            <a:ext cx="1633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joint-iso-ccitt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259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5" name=""/>
          <p:cNvSpPr/>
          <p:nvPr/>
        </p:nvSpPr>
        <p:spPr>
          <a:xfrm>
            <a:off x="2076480" y="2916360"/>
            <a:ext cx="708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org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6" name=""/>
          <p:cNvSpPr/>
          <p:nvPr/>
        </p:nvSpPr>
        <p:spPr>
          <a:xfrm>
            <a:off x="2076480" y="3600360"/>
            <a:ext cx="749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od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6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4248000"/>
            <a:ext cx="10940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ne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90200" y="450072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79640" y="44974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450072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4" name=""/>
          <p:cNvSpPr/>
          <p:nvPr/>
        </p:nvSpPr>
        <p:spPr>
          <a:xfrm>
            <a:off x="144360" y="4859280"/>
            <a:ext cx="1181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irectory(1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5" name=""/>
          <p:cNvSpPr/>
          <p:nvPr/>
        </p:nvSpPr>
        <p:spPr>
          <a:xfrm>
            <a:off x="1297080" y="4859280"/>
            <a:ext cx="923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gm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50920" y="3959280"/>
            <a:ext cx="1082520" cy="360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7" name=""/>
          <p:cNvSpPr/>
          <p:nvPr/>
        </p:nvSpPr>
        <p:spPr>
          <a:xfrm>
            <a:off x="4076640" y="3780000"/>
            <a:ext cx="782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Lucida Sans"/>
              </a:rPr>
              <a:t>1.3.6.1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8" name=""/>
          <p:cNvSpPr/>
          <p:nvPr/>
        </p:nvSpPr>
        <p:spPr>
          <a:xfrm>
            <a:off x="2160720" y="4859280"/>
            <a:ext cx="1549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xperimental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859280"/>
            <a:ext cx="100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privat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1" name=""/>
          <p:cNvSpPr/>
          <p:nvPr/>
        </p:nvSpPr>
        <p:spPr>
          <a:xfrm>
            <a:off x="431964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2" name=""/>
          <p:cNvSpPr/>
          <p:nvPr/>
        </p:nvSpPr>
        <p:spPr>
          <a:xfrm>
            <a:off x="3637080" y="5472000"/>
            <a:ext cx="1382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nterpris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608328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4" name=""/>
          <p:cNvSpPr/>
          <p:nvPr/>
        </p:nvSpPr>
        <p:spPr>
          <a:xfrm>
            <a:off x="4319640" y="57592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5" name=""/>
          <p:cNvSpPr/>
          <p:nvPr/>
        </p:nvSpPr>
        <p:spPr>
          <a:xfrm>
            <a:off x="6986520" y="298764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Mgm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1800360"/>
            <a:ext cx="1800" cy="5400720"/>
          </a:xfrm>
          <a:prstGeom prst="line">
            <a:avLst/>
          </a:prstGeom>
          <a:ln w="36000">
            <a:solidFill>
              <a:srgbClr val="2300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7" name=""/>
          <p:cNvSpPr/>
          <p:nvPr/>
        </p:nvSpPr>
        <p:spPr>
          <a:xfrm>
            <a:off x="4319640" y="640872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8" name=""/>
          <p:cNvSpPr/>
          <p:nvPr/>
        </p:nvSpPr>
        <p:spPr>
          <a:xfrm>
            <a:off x="4068720" y="6696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9" name=""/>
          <p:cNvSpPr/>
          <p:nvPr/>
        </p:nvSpPr>
        <p:spPr>
          <a:xfrm>
            <a:off x="4068720" y="6624720"/>
            <a:ext cx="504720" cy="28872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0" name=""/>
          <p:cNvSpPr/>
          <p:nvPr/>
        </p:nvSpPr>
        <p:spPr>
          <a:xfrm>
            <a:off x="7272360" y="241128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1" name=""/>
          <p:cNvSpPr/>
          <p:nvPr/>
        </p:nvSpPr>
        <p:spPr>
          <a:xfrm>
            <a:off x="7272360" y="2340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2" name=""/>
          <p:cNvSpPr/>
          <p:nvPr/>
        </p:nvSpPr>
        <p:spPr>
          <a:xfrm>
            <a:off x="7559640" y="2627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3" name=""/>
          <p:cNvSpPr/>
          <p:nvPr/>
        </p:nvSpPr>
        <p:spPr>
          <a:xfrm>
            <a:off x="755964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4" name=""/>
          <p:cNvSpPr/>
          <p:nvPr/>
        </p:nvSpPr>
        <p:spPr>
          <a:xfrm>
            <a:off x="6662880" y="3600360"/>
            <a:ext cx="1949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MIB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5" name=""/>
          <p:cNvSpPr/>
          <p:nvPr/>
        </p:nvSpPr>
        <p:spPr>
          <a:xfrm>
            <a:off x="6662880" y="4176720"/>
            <a:ext cx="2179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Object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6" name=""/>
          <p:cNvSpPr/>
          <p:nvPr/>
        </p:nvSpPr>
        <p:spPr>
          <a:xfrm>
            <a:off x="5907240" y="4788000"/>
            <a:ext cx="3644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TemperatureStatusTabl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7" name=""/>
          <p:cNvSpPr/>
          <p:nvPr/>
        </p:nvSpPr>
        <p:spPr>
          <a:xfrm>
            <a:off x="7559640" y="3851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4427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9" name=""/>
          <p:cNvSpPr/>
          <p:nvPr/>
        </p:nvSpPr>
        <p:spPr>
          <a:xfrm>
            <a:off x="5907240" y="5940360"/>
            <a:ext cx="3647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TemperatureStatusValu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0" name=""/>
          <p:cNvSpPr/>
          <p:nvPr/>
        </p:nvSpPr>
        <p:spPr>
          <a:xfrm>
            <a:off x="5907240" y="5364000"/>
            <a:ext cx="3609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TemperatureStatusEntry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1" name=""/>
          <p:cNvSpPr/>
          <p:nvPr/>
        </p:nvSpPr>
        <p:spPr>
          <a:xfrm>
            <a:off x="7559640" y="504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2" name=""/>
          <p:cNvSpPr/>
          <p:nvPr/>
        </p:nvSpPr>
        <p:spPr>
          <a:xfrm>
            <a:off x="7559640" y="5616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3" name=""/>
          <p:cNvSpPr/>
          <p:nvPr/>
        </p:nvSpPr>
        <p:spPr>
          <a:xfrm>
            <a:off x="7559640" y="626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4" name=""/>
          <p:cNvSpPr/>
          <p:nvPr/>
        </p:nvSpPr>
        <p:spPr>
          <a:xfrm>
            <a:off x="7381800" y="6588000"/>
            <a:ext cx="349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5" name=""/>
          <p:cNvSpPr/>
          <p:nvPr/>
        </p:nvSpPr>
        <p:spPr>
          <a:xfrm>
            <a:off x="1297080" y="5435640"/>
            <a:ext cx="960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ib-2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6" name=""/>
          <p:cNvSpPr/>
          <p:nvPr/>
        </p:nvSpPr>
        <p:spPr>
          <a:xfrm>
            <a:off x="1728720" y="5148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7" name=""/>
          <p:cNvSpPr/>
          <p:nvPr/>
        </p:nvSpPr>
        <p:spPr>
          <a:xfrm>
            <a:off x="144360" y="6181560"/>
            <a:ext cx="1022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ystem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8" name=""/>
          <p:cNvSpPr/>
          <p:nvPr/>
        </p:nvSpPr>
        <p:spPr>
          <a:xfrm>
            <a:off x="552600" y="6541920"/>
            <a:ext cx="1269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fac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)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9" name=""/>
          <p:cNvSpPr/>
          <p:nvPr/>
        </p:nvSpPr>
        <p:spPr>
          <a:xfrm>
            <a:off x="2095560" y="6551640"/>
            <a:ext cx="57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0" name=""/>
          <p:cNvSpPr/>
          <p:nvPr/>
        </p:nvSpPr>
        <p:spPr>
          <a:xfrm>
            <a:off x="2448000" y="6181560"/>
            <a:ext cx="101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nm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08000" y="5757840"/>
            <a:ext cx="612720" cy="32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440000" y="575748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619280" y="5757480"/>
            <a:ext cx="5428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617480" y="5757840"/>
            <a:ext cx="9032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-1440" y="5759280"/>
            <a:ext cx="162216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Internet MIB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directory(1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OSI directory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mgmt(2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RFC standard objects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experimental(3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Internet experiments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private(4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Vendor-specific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ecurity(5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ecurity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nmpV2(6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NMP internal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33680" y="3411360"/>
          <a:ext cx="3251160" cy="7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3680" y="3411360"/>
                    <a:ext cx="3251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