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44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860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776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25480" indent="-21420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607080"/>
            <a:ext cx="100807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7189920"/>
            <a:ext cx="1541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900" spc="-1" strike="noStrike">
                <a:solidFill>
                  <a:srgbClr val="0000ff"/>
                </a:solidFill>
                <a:latin typeface="Verdana"/>
              </a:rPr>
              <a:t>nsrc@apricot2008</a:t>
            </a:r>
            <a:br>
              <a:rPr sz="900"/>
            </a:br>
            <a:r>
              <a:rPr b="0" i="1" lang="en-GB" sz="900" spc="-1" strike="noStrike">
                <a:solidFill>
                  <a:srgbClr val="0000ff"/>
                </a:solidFill>
                <a:latin typeface="Verdana"/>
              </a:rPr>
              <a:t>Taipei, Taiw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-216000" algn="ctr">
              <a:lnSpc>
                <a:spcPct val="123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-216000" algn="ctr">
              <a:lnSpc>
                <a:spcPct val="123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-216000" algn="ctr">
              <a:lnSpc>
                <a:spcPct val="123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msmincho"/>
              </a:rPr>
              <a:t>http://trac.edgewall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-216000" algn="ctr">
              <a:lnSpc>
                <a:spcPct val="102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msmincho"/>
              </a:rPr>
              <a:t>APRICOT 2008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-216000" algn="ctr">
              <a:lnSpc>
                <a:spcPct val="102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mincho"/>
              </a:rPr>
              <a:t>Feb 20-25 – Taipei, Tai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-216000" algn="ctr">
              <a:lnSpc>
                <a:spcPct val="102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msmincho"/>
              </a:rPr>
              <a:t>Hervey 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-216000" algn="ctr">
              <a:lnSpc>
                <a:spcPct val="93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-216000" algn="ctr">
              <a:lnSpc>
                <a:spcPct val="93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46400" y="6107040"/>
            <a:ext cx="2090880" cy="54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95600" y="1724040"/>
            <a:ext cx="5000760" cy="14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's it Do?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1956960"/>
            <a:ext cx="876132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Software Configuration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iki for collab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face to subversion for change manag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meline for milestones, progress report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cketing syste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gration with ema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Installation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We'll create a fairly complex trac project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ltiple trac environment configu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uthentication via trac not Apach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 user admin via web interf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rite-protected for anonymous us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bility to add subversion la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ztech calendar plug-i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trac: Some Detail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Let's look at the wiki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Let's look at the ticketing system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Let's look at different user views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hen we'll instal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21080" y="4726080"/>
            <a:ext cx="5257800" cy="185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trac install and post install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Let's do the following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1.) Insta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2.) Review the insta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3.) If time, do a few more exercis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dd “TICKET_VEW” to the </a:t>
            </a:r>
            <a:r>
              <a:rPr b="1" i="1" lang="en-GB" sz="3200" spc="-1" strike="noStrike">
                <a:solidFill>
                  <a:srgbClr val="000000"/>
                </a:solidFill>
                <a:latin typeface="Verdana"/>
              </a:rPr>
              <a:t>anonymous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user profi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Find a plugin you want and instal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cp:revision>0</cp:revision>
  <dc:subject/>
  <dc:title/>
</cp:coreProperties>
</file>