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15480"/>
            <a:ext cx="8607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860760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25920"/>
            <a:ext cx="860760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15480"/>
            <a:ext cx="8607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960" y="180036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2592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1960" y="452592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15480"/>
            <a:ext cx="8607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27712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1480" y="1800360"/>
            <a:ext cx="27712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1720" y="1800360"/>
            <a:ext cx="27712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25920"/>
            <a:ext cx="27712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1480" y="4525920"/>
            <a:ext cx="27712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1720" y="4525920"/>
            <a:ext cx="27712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15480"/>
            <a:ext cx="8607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1800360"/>
            <a:ext cx="86076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15480"/>
            <a:ext cx="8607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86076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15480"/>
            <a:ext cx="8607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4200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1960" y="1800360"/>
            <a:ext cx="4200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15480"/>
            <a:ext cx="8607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15480"/>
            <a:ext cx="86076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15480"/>
            <a:ext cx="8607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960" y="1800360"/>
            <a:ext cx="4200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2592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15480"/>
            <a:ext cx="8607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4200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1960" y="180036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1960" y="452592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15480"/>
            <a:ext cx="8607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1960" y="1800360"/>
            <a:ext cx="420048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25920"/>
            <a:ext cx="860760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19280"/>
            <a:ext cx="10078920" cy="5940360"/>
          </a:xfrm>
          <a:prstGeom prst="roundRect">
            <a:avLst>
              <a:gd name="adj" fmla="val 23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15480"/>
            <a:ext cx="8607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1800360"/>
            <a:ext cx="86076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– concurrent version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41240" y="1441440"/>
            <a:ext cx="8772480" cy="59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Taipei, Taiwan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February 20-24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25760" y="5386320"/>
            <a:ext cx="341640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– example workflow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check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 c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rojectnam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 check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 work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 commi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[filename]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 chang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 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date working cop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 work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 commi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[filename]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– example workflow – cont'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1800360"/>
            <a:ext cx="8364600" cy="49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clien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1800000"/>
            <a:ext cx="86090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ist for most oper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 command line (UNIX, Win32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rtoiseCVS – embeds in Explorer (Win32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CVS (Win32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the repository over the network or lo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9791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commands – action command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 a new project into an existing repositor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out (co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out a working copy of a project/file/module from the repositor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date (u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date a working copy from the CVS versio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it changes back to the repository (incl. new fil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0360" y="3419640"/>
            <a:ext cx="1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-23760"/>
            <a:ext cx="89791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commands – action commands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nt'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a new file in the working copy, ready to commit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lete  (de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a file from the working copy, ready to commit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3419640"/>
            <a:ext cx="1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command – status command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e the status and version of a given file or by default all fil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the difference between a given revision (by default: the last one) of the named file and the file in the working repositor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revision history for one or mor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00360" y="1260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 working exampl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763640"/>
            <a:ext cx="9180720" cy="53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CVSROOT=:ext:server.name:/data/cv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export CVSR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cvs co some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assword: ****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vs server: Updating some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U dir/file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U dir/file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ls -l dir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-rwxr-xr-x 2 regnauld staff  512 Dec 20 15:44  CV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-rw-r--r-- 1 regnauld staff 1244 Nov 17 14:21  file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-rw-r--r-- 1 regnauld staff  341 Dec  3 21:04  file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vi file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cvs commit file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 working example – cont'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692360"/>
            <a:ext cx="918072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................... editor ...................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 Bugfix -- Modified file1 to fix bug               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\                                                    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 CVS:----------------------------------------------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\ CVS: Enter Log.  Lines beginning with `CVS:' are   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 CVS: removed automatically                        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\ CVS:                                               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 CVS: Modified Files:                              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\ CVS:    file1                                      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 CVS:----------------------------------------------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\....................................................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tmp/cvsUABnYm: 8 lines, 290 charac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hecking in file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data/cvs/dir/file1,v  &lt;--  file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new revision: 1.2; previous revision: 1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53964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at's in the CVS/ directory 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53964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1240" y="1800000"/>
            <a:ext cx="86090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isting files, and newly added files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is the repository located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of module or path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CVS $Id$ directiv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53964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n existing file, we add the following line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$Id$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cvs commit the file, and look at the fil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Overview – what is CVS 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1240" y="1800000"/>
            <a:ext cx="86090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algn="ctr">
              <a:lnSpc>
                <a:spcPct val="97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Typewriter"/>
                <a:ea typeface="msmincho"/>
              </a:rPr>
              <a:t>CVS is a Version Control System (VCS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Lucida Sans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etting up a new repositor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53964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1800000"/>
            <a:ext cx="86090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one can create a repository, an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e using 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vs ini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kdir /data/cvsre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xport CVSROOT=/data/cvsre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vs [-d /data/cvsrepo] 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ls -l /data/cvsrepo</a:t>
            </a:r>
            <a:br>
              <a:rPr sz="2800"/>
            </a:b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rwxrwxr-x 3 pr staff 1024 Dec 20 15:45 CVSROOT/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ccessing the new repositor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53964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 -d /data/cvsrepo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necessary to specify -d if CVSROOT is defin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 -d :ext:servername:/data/cvsrepo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SH must be available!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dy for impo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mporting a new project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53964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908000"/>
            <a:ext cx="9180720" cy="53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CVSROOT=/data/cvs; export CVSR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cd someplace/myproject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 cvs import my/new/project before_cvs st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.................. editor ...................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 Import pre-CVS version of my new project          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\                                                    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 CVS:----------------------------------------------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\ CVS: Enter Log.  Lines beginning with `CVS:' are   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/ CVS: removed automatically                        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\....................................................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N my/new/project/file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N my/new/project/file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No conflicts created by this im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Importing a new project...cont'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53964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1240" y="1800000"/>
            <a:ext cx="86090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ocation for this project in the repository is now my/new/project, under the /data/cvs repository i.e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data/cvs/my/new/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's test that we can check out the project:</a:t>
            </a:r>
            <a:br>
              <a:rPr sz="3200"/>
            </a:b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cvs co new/projec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my/new/project/file1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my/new/project/file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cd my/new/projec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ls -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odul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3964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0720" y="1646280"/>
            <a:ext cx="877248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y/new/project is maybe too long as a project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ution: modules, which are shorter names for directories or groups of directories and other mod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roject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y/new/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such a module defined, it will be possible to checkout, commit, etc... using the simple name “project”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vs -d :ext:/data/cvs co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'll see how to define modules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CVSROOT/ director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53964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0720" y="1717560"/>
            <a:ext cx="877248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efault module is always created when one inits a repository: CVSROO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cvs co CVSROO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checkoutlis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commitinf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confi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cvswrapper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editinf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loginf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modul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notif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rcsinf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taginf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 CVSROOT/verifym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CVSROOT/ directory – cont'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964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described in cvs(5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 5 cv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relev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u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e modu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itinf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-commit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wrapp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ndle special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inf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-commit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re- and post- job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53964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commitinfo and loginfo, it is possible to have automatic jobs run before and after each commit, for instanc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-commit stage (commitinfo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ify that a user is allowed to modify a give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syntax for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-commit stage (loginfo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d update as a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end it to a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big picture: mail, cvsweb, lis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53964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58760" y="1749600"/>
            <a:ext cx="7580520" cy="54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utting it all together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53964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1800000"/>
            <a:ext cx="86090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sion control and change mana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to CVS – principles,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 up a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ing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ing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ng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shortcoming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1240" y="1728720"/>
            <a:ext cx="8772480" cy="56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mlinks and ownership of files are not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renaming of files (copy + delet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change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file has 1 version, need postprocessing work t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gure out “all files for this commit”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disconnected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, remove, commit, ... all need access to the serve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anching/merging is quit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utomated scenario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53964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a: automatize configuration management tasks so that configuration files are automatically versioned using CVS..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 even when the sysadmin forgets :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 – cron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all files in a given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y exist in the repository already -&gt; 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y don't, add, then 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utomated scenarios – cont'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53964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ready exists for network equipment: RAN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shrubbery.net/rancid/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concept to implement for all relevant files in /etc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cribe all admins to the alias / mailing list, so everyone receives a notification when a change takes place – whether planned or no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ferenc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nongnu.org/cvs/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cvsbook.red-bean.com/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tortoisecvs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ntents – cont'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VSROOT/ directory and its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- and post-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ig picture: mail notifications, cvsweb, and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omated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Overview – what is version control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877248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sion control, and change managemen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ep track of changes (revision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changes with others (public repository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multiple versions of a same set of data (branches)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kind of data 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nary data as well (less efficient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terminolog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1655640"/>
            <a:ext cx="8772480" cy="59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ntral, master copy containing all files being versioned.  Directory structure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ing 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 copy of a project, checked out from a repository.  Contains special directories (CVS) with information about which files are under CVS control, where they files come from and where they should be com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et of directories, files or other modules under a common “shortcut”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5876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principl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6800" y="1800360"/>
            <a:ext cx="877248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VS uses a centralized “master copy”: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work is done in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king 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ar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mmit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ack to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al directory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30520" y="4500720"/>
            <a:ext cx="6549840" cy="16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15840"/>
            <a:ext cx="86090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– the repositor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87724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VS is a centralized VCS (1 repository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pository contains files in the RCS format, all ending in ' ,v '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RCS file contains a complete history, with changelog, of the file being versioned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ll adapted to tex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pository is NEVER edited b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umber of tools exist to analyze or browse the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vsweb/webc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VS – the repositor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ents can access the repository locally or over the network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pository is indicated (UNIX) using the CVSROOT environment variabl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VSROOT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cvs/myproject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 local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:pserver:myserver.com:/cvs/myproject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 via p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:ext:user@myserver.com:/cvs/myproj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# via SS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s for distributed work over LAN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 Regnauld</dc:creator>
  <dc:description/>
  <dc:language>en-US</dc:language>
  <cp:lastModifiedBy/>
  <cp:revision>0</cp:revision>
  <dc:subject/>
  <dc:title/>
</cp:coreProperties>
</file>