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33080" y="1006560"/>
            <a:ext cx="5100840" cy="34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037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move the slid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39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0000" y="453924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376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296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8628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000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296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8628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376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5520" y="155520"/>
            <a:ext cx="9769680" cy="13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edit the title text forma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Click to edit the outline text forma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econd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Third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3" marL="1722600" indent="-2113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Four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4" marL="2154240" indent="-2127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Fif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5" marL="2154240" indent="-212760">
              <a:lnSpc>
                <a:spcPct val="96000"/>
              </a:lnSpc>
              <a:spcBef>
                <a:spcPts val="726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ix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6" marL="2154240" indent="-212760">
              <a:lnSpc>
                <a:spcPct val="96000"/>
              </a:lnSpc>
              <a:spcBef>
                <a:spcPts val="726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even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1619280"/>
            <a:ext cx="9360000" cy="144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15880" y="1312920"/>
            <a:ext cx="8772480" cy="59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APRICOT 2008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208080" indent="-208080" algn="ctr">
              <a:lnSpc>
                <a:spcPct val="101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cccccc"/>
              </a:solidFill>
              <a:latin typeface="Utopia"/>
            </a:endParaRPr>
          </a:p>
          <a:p>
            <a:pPr marL="208080" indent="-208080" algn="ctr">
              <a:lnSpc>
                <a:spcPct val="101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Taipei, Taiwan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cccccc"/>
              </a:solidFill>
              <a:latin typeface="Utopia"/>
            </a:endParaRPr>
          </a:p>
          <a:p>
            <a:pPr marL="208080" indent="-208080" algn="ctr">
              <a:lnSpc>
                <a:spcPct val="97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February 20-24, 2008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Managing network configuration</a:t>
            </a:r>
            <a:br>
              <a:rPr sz="4000"/>
            </a:b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ith RANCID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25760" y="5386320"/>
            <a:ext cx="341640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Overview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What is RANCID ?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Reference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ucida Sans Typewriter"/>
              </a:rPr>
              <a:t>http://www.shrubbery.net/rancid/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ucida Sans Typewriter"/>
              </a:rPr>
              <a:t>http://www.shrubbery.net/rancid/NANOG29/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ucida Sans Typewriter"/>
              </a:rPr>
              <a:t>http://www.linuxhomenetworking.com/wiki/index.php/Quick_HOWTO_:_Ch1_:_Network_Backups_With_Rancid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ucida Sans Typewriter"/>
              </a:rPr>
              <a:t>http://gentoo-wiki.com/HOWTO_Rancid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ucida Sans Typewriter"/>
              </a:rPr>
              <a:t>http://homepage.mac.com/duling/halfdozen/RANCID-Howto.html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   Track E0 AfNOG workshop April 23-27 2007 Abuja, Nigeria    </dc:title>
</cp:coreProperties>
</file>