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860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7760" y="4590360"/>
            <a:ext cx="277020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8360" y="459036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90360"/>
            <a:ext cx="8604360" cy="22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2854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25480" indent="-2142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607080"/>
            <a:ext cx="100807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7189920"/>
            <a:ext cx="154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nsrc@apricot2008</a:t>
            </a:r>
            <a:br>
              <a:rPr sz="900"/>
            </a:br>
            <a:r>
              <a:rPr b="0" i="1" lang="en-GB" sz="900" spc="-1" strike="noStrike">
                <a:solidFill>
                  <a:srgbClr val="0000ff"/>
                </a:solidFill>
                <a:latin typeface="Verdana"/>
              </a:rPr>
              <a:t>Taipei, Taiw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ostname/cgi-bin/smokeping.cgi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ss.oetiker.ch/smokeping/doc/smokeping_examples.en.html" TargetMode="External"/><Relationship Id="rId2" Type="http://schemas.openxmlformats.org/officeDocument/2006/relationships/hyperlink" Target="http://oss.oetiker.ch/smokeping/doc/smokeping_config.en.html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ss.oetiker.ch/smokeping/doc/smokeping_examples.en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9440" y="652320"/>
            <a:ext cx="929304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 &amp;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2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msmincho"/>
              </a:rPr>
              <a:t>APRICOT 2008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msmincho"/>
              </a:rPr>
              <a:t>February 20-25 – Taipei,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msmincho"/>
              </a:rPr>
              <a:t>Hervey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0" algn="ctr">
              <a:lnSpc>
                <a:spcPct val="93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46400" y="6107040"/>
            <a:ext cx="2090880" cy="54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8560" y="2071800"/>
            <a:ext cx="4799160" cy="203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906800" y="1919160"/>
            <a:ext cx="488808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The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nce configured, then restart the service to build the directories with RRD dat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4000"/>
              </a:lnSpc>
              <a:spcAft>
                <a:spcPts val="8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# /etc/init.d/smokeping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4000"/>
              </a:lnSpc>
              <a:spcAft>
                <a:spcPts val="8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You can find your graphs and layout a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4000"/>
              </a:lnSpc>
              <a:spcAft>
                <a:spcPts val="8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hostname/cgi-bin/smokeping.cg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ets have a look at the config file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93840" indent="0">
              <a:lnSpc>
                <a:spcPct val="94000"/>
              </a:lnSpc>
              <a:spcAft>
                <a:spcPts val="8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Verdana"/>
              </a:rPr>
              <a:t>cacti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The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nstallation is a bit tricky...   (as root)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10 Pitch"/>
              </a:rPr>
              <a:t>apt-get install mysql-server-5.0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mysqladmin --user=root –password=</a:t>
            </a:r>
            <a:r>
              <a:rPr b="0" i="1" lang="en-GB" sz="2000" spc="-1" strike="noStrike">
                <a:solidFill>
                  <a:srgbClr val="000000"/>
                </a:solidFill>
                <a:latin typeface="Courier 10 Pitch"/>
              </a:rPr>
              <a:t>inst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ass create cacti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10 Pitch"/>
              </a:rPr>
              <a:t>apt-get install cacti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10 Pitch"/>
              </a:rPr>
              <a:t>login with admin/admin then chang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pt-get install mysql-server-5.0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1440000" y="4951440"/>
            <a:ext cx="744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er the same password we have used during the worksh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cou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85920" y="2035080"/>
            <a:ext cx="765648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701880" y="5094360"/>
            <a:ext cx="2936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can ignor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30360" y="2028960"/>
            <a:ext cx="734076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55800" y="2089080"/>
            <a:ext cx="6588000" cy="3156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46320" y="5630760"/>
            <a:ext cx="5946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lease choose “Apache2” and then 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14360" y="1898640"/>
            <a:ext cx="7338960" cy="3541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51200" y="5776920"/>
            <a:ext cx="4794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oose “Yes” at this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01760" y="1957320"/>
            <a:ext cx="7719840" cy="2392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58760" y="4713120"/>
            <a:ext cx="85932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er the same password you used when installing MySQL previously. This is your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ins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ccount pass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84160" y="1890720"/>
            <a:ext cx="659304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5320" y="4314960"/>
            <a:ext cx="3149640" cy="202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008920" y="2739960"/>
            <a:ext cx="98424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26280" y="3327480"/>
            <a:ext cx="1344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82080" bIns="8208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240" y="4678200"/>
            <a:ext cx="49705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82080" bIns="8208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t's use the same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ins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ssword to keep things si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Next Step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xt open a web browser on your machine and go to the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10 Pitch"/>
              </a:rPr>
              <a:t>http://localhost/cact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You will see the following screens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the Difference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re's definite overlap, b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mokeping: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latency measurement and packet loss tool. Uses RRDtool to maintain it's data store. No remote daemons or services required:</a:t>
            </a:r>
            <a:br>
              <a:rPr sz="3200"/>
            </a:br>
            <a:br>
              <a:rPr sz="12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mokePing is a deluxe latency measurement tool. It can measure, store and display latency, latency distribution and packet loss. SmokePing uses RRDtool to maintain a longterm data-store and to draw pretty graphs, giving up to the minute information on the state of each network connection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90080" y="6119640"/>
            <a:ext cx="1662120" cy="4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33640" y="6043680"/>
            <a:ext cx="2762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ck on “Next &gt;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70320" y="1778040"/>
            <a:ext cx="539100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96880" y="2181240"/>
            <a:ext cx="7282080" cy="3286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7560" y="5721480"/>
            <a:ext cx="65721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 sure “New Install is chosen and 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“Next &gt;&gt;” bu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pt-get install cacti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90680" y="1720800"/>
            <a:ext cx="3932280" cy="490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829480" y="1712880"/>
            <a:ext cx="376704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pefully your screen looks like this. If not, let your instructor kn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ss “Finis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Initial Login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68600" y="1898640"/>
            <a:ext cx="5099040" cy="295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63920" y="5259240"/>
            <a:ext cx="48337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itial login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r Name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ssword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102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Change Password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57320" y="5403960"/>
            <a:ext cx="66153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the same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ins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password to keep things simple for our work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16120" y="1727280"/>
            <a:ext cx="50054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cacti: Finishing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58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7720" y="1841400"/>
            <a:ext cx="8313840" cy="1882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74720" y="3946680"/>
            <a:ext cx="8713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 you can see the idea is to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the devices you wish to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the graphs you wish to use for each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ew and organize graphs as you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that cacti takes advantage of snmp settings. As possible we'll set up some cacti graphs at thi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What's the Difference?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acti: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s RRDtool, PHP an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ores data in MySQL as well as supporting SNMP and graphin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ith MRT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Cacti is a complete frontend to RRDTool, it stores all of the necessary information to create graphs and populate them with data in a MySQL database. The frontend is completely PHP driven. Along with being able to maintain Graphs, Data Sources, and Round Robin Archives in a database, cacti handles the data gathering. There is also SNMP support for those used to creating traffic graphs with MRTG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99560" y="1655640"/>
            <a:ext cx="160164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Installation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We'll install both produc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stallation varies between flavors of Linux and UNIX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's pretty easy to to install these items under Ubunt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You can do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massiv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 configuration of each. We'll do some to get you started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Some Detail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195732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asic install is extremely easy:</a:t>
            </a:r>
            <a:br>
              <a:rPr sz="1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urier 10 Pitch"/>
              </a:rPr>
              <a:t>apt-get install smokep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10 Pitc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asic config file (/etc/smokeping/config) is simple, but you can get very complex very quickly:</a:t>
            </a:r>
            <a:br>
              <a:rPr sz="2800"/>
            </a:br>
            <a:br>
              <a:rPr sz="1600"/>
            </a:br>
            <a:r>
              <a:rPr b="0" lang="en-GB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oss.oetiker.ch/smokeping/doc/smokeping_examples.en.html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nd, other configuration options:</a:t>
            </a:r>
            <a:br>
              <a:rPr sz="1600"/>
            </a:br>
            <a:br>
              <a:rPr sz="1600"/>
            </a:br>
            <a:r>
              <a:rPr b="0" lang="en-GB" sz="1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oss.oetiker.ch/smokeping/doc/smokeping_config.e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The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udo apt-get install smok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udo apt-get install echo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su -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to become root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cd /etc/smok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mv config config.orig</a:t>
            </a:r>
            <a:br>
              <a:rPr sz="2400"/>
            </a:br>
            <a:br>
              <a:rPr sz="10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n we will grab a copy of our local Smokeping config file, install this and go over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cp inst@noc:/etc/smokeping/config /etc/smokeping/confi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Courier 10 Pitch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10 Pitch"/>
              </a:rPr>
              <a:t>/etc/init.d/smokeping 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Some Details</a:t>
            </a:r>
            <a:br>
              <a:rPr sz="4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/etc/smokeing/conf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heck on latency of connection (ping)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heck on web server uptime and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++ LocalMach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menu = The NO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itle = The noc@apricot200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More Details</a:t>
            </a:r>
            <a:br>
              <a:rPr sz="4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/etc/smokeing/conf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Performance/Up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++ NOCsqu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menu = The NOC Squ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title = www-cache / HTTP for noc@apricot200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port = 808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url = http://localhost/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The Install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re are several more examples he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oss.oetiker.ch/smokeping/doc/smokeping_examples.en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 there is time we will play with /etc/smokeping/config to customize as you want and, maybe, to use some of the example described in the file linked abov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cp:revision>0</cp:revision>
  <dc:subject/>
  <dc:title/>
</cp:coreProperties>
</file>