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33080" y="1006560"/>
            <a:ext cx="510084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37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540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96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6280" y="196380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96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6280" y="4539240"/>
            <a:ext cx="30121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0960" indent="-21096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760" y="453924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760" y="1963800"/>
            <a:ext cx="456516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539240"/>
            <a:ext cx="9355320" cy="23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1963800"/>
            <a:ext cx="93553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3" marL="1722600" indent="-2113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4" marL="2154240" indent="-2127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5" marL="2154240" indent="-212760">
              <a:lnSpc>
                <a:spcPct val="96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6" marL="2154240" indent="-212760">
              <a:lnSpc>
                <a:spcPct val="96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15880" y="1312920"/>
            <a:ext cx="8772480" cy="59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101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101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97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6000"/>
              </a:lnSpc>
              <a:tabLst>
                <a:tab algn="l" pos="0"/>
                <a:tab algn="l" pos="423720"/>
                <a:tab algn="l" pos="658800"/>
                <a:tab algn="l" pos="110952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Log monitor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5760" y="5386320"/>
            <a:ext cx="341640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WATCH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 u="sng">
                <a:solidFill>
                  <a:srgbClr val="333333"/>
                </a:solidFill>
                <a:uFillTx/>
                <a:latin typeface="Lucida Sans Typewriter"/>
              </a:rPr>
              <a:t>S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imple Log </a:t>
            </a:r>
            <a:r>
              <a:rPr b="0" lang="en-GB" sz="3000" spc="-1" strike="noStrike" u="sng">
                <a:solidFill>
                  <a:srgbClr val="333333"/>
                </a:solidFill>
                <a:uFillTx/>
                <a:latin typeface="Lucida Sans Typewriter"/>
              </a:rPr>
              <a:t>Watch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Written in Perl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Monitors log files, looking for patterns (”regular expressions”) to match in the log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Perform a given action if the pattern is found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ample confi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5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ourier New"/>
              </a:rPr>
              <a:t># watchfor = /%SYS-5-CONFIG/ mail addresses=inst,subject=System configuration notice throttle 1:00</a:t>
            </a:r>
            <a:endParaRPr b="0" lang="en-US" sz="2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1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ourier New"/>
              </a:rPr>
              <a:t># watchfor = /%LINK-3-UPDOWN/ mail addresses=inst,subject=Link updown throttle 1:00</a:t>
            </a:r>
            <a:endParaRPr b="0" lang="en-US" sz="2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1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ourier New"/>
              </a:rPr>
              <a:t># watchfor = /%SEC-6-IPACCESSLOGP/ exec /usr/bin/echo $* &gt;&gt; /tmp/accesslist.log</a:t>
            </a:r>
            <a:endParaRPr b="0" lang="en-US" sz="2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1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Courier New"/>
              </a:rPr>
              <a:t>watchfor = /%SYS-5-CONFIG/</a:t>
            </a:r>
            <a:br>
              <a:rPr sz="2000"/>
            </a:br>
            <a:r>
              <a:rPr b="0" lang="en-GB" sz="2000" spc="-1" strike="noStrike">
                <a:solidFill>
                  <a:srgbClr val="333333"/>
                </a:solidFill>
                <a:latin typeface="Courier New"/>
              </a:rPr>
              <a:t>        mail addresses=inst,subject=Configuration of router,throttle = 60:00</a:t>
            </a:r>
            <a:endParaRPr b="0" lang="en-US" sz="2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Referenc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http://www.loganalysis.org/  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yslog NG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www.balabit.com/network-security/syslog-ng/</a:t>
            </a:r>
            <a:br>
              <a:rPr sz="2200"/>
            </a:b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indows Event Log to Syslog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s://engineering.purdue.edu/ECN/Resources/Documents/UNIX/evtsys</a:t>
            </a:r>
            <a:br>
              <a:rPr sz="2200"/>
            </a:b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WATCH log watch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swatch.sourceforge.net/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www.loganalysis.org/sections/signatures/log-swatch-skendrick.txt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www.loganalysis.org/ 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Lucida Sans Typewriter"/>
              </a:rPr>
              <a:t>http://sourceforge.net/docman/display_doc.php?docid=5332&amp;group_id=25401</a:t>
            </a:r>
            <a:endParaRPr b="0" lang="en-US" sz="22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Questions </a:t>
            </a: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	</a:t>
            </a: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0000" y="200808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8000"/>
              </a:lnSpc>
              <a:buNone/>
              <a:tabLst>
                <a:tab algn="l" pos="0"/>
                <a:tab algn="l" pos="23508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cccccc"/>
                </a:solidFill>
                <a:latin typeface="Utopia"/>
              </a:rPr>
              <a:t>?</a:t>
            </a:r>
            <a:endParaRPr b="0" lang="en-US" sz="60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Log management and monitor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hat is log management and monitoring ?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It's about keeping your logs in a safe place, putting them where you can easily inspect them with tool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Keep an eye on your log fil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They tell you something important...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Lots of things happen, and someone needs to keep an eye on them...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Not really practictal to do it by hand!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Log management and monitor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n your routers and switches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Sep  1 04:40:11.788 INDIA: %SEC-6-IPACCESSLOGP: list 100 denied tcp 79.210.84.154(2167) -&gt; 169.223.192.85(6662), 1 packet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Sep  1 04:42:35.270 INDIA: %SYS-5-CONFIG_I: Configured from console by pr on vty0 (203.200.80.75)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‏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%CI-3-TEMP: Overtemperature warning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Mar  1 00:05:51.443: %LINK-3-UPDOWN: Interface Serial1, changed state to down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n your servers as well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Aug 31 17:53:12 ubuntu nagios2: Caught SIGTERM, shutting down... 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Lucida Sans Typewriter"/>
              </a:rPr>
              <a:t>Aug 31 19:19:36 ubuntu sshd[16404]: Failed password for root from 169.223.1.130 port 2039 ssh2</a:t>
            </a:r>
            <a:endParaRPr b="0" lang="en-US" sz="18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Log managem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63440"/>
            <a:ext cx="9356760" cy="50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First, need to centralize and consolidate log fil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Log all messages from routers, switches and servers to a single machine – a logserv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All logging from network equipment and UNIX servers is done using syslog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indows can be configured to use syslog as well, with some tool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Log locally, but also to the central server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entralized logg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38120" y="2160720"/>
            <a:ext cx="1743120" cy="1638000"/>
            <a:chOff x="438120" y="2160720"/>
            <a:chExt cx="1743120" cy="1638000"/>
          </a:xfrm>
        </p:grpSpPr>
        <p:sp>
          <p:nvSpPr>
            <p:cNvPr id="57" name=""/>
            <p:cNvSpPr/>
            <p:nvPr/>
          </p:nvSpPr>
          <p:spPr>
            <a:xfrm>
              <a:off x="1260360" y="3168720"/>
              <a:ext cx="720720" cy="179280"/>
            </a:xfrm>
            <a:prstGeom prst="roundRect">
              <a:avLst>
                <a:gd name="adj" fmla="val 889"/>
              </a:avLst>
            </a:prstGeom>
            <a:solidFill>
              <a:srgbClr val="99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2160720"/>
              <a:ext cx="720720" cy="539640"/>
            </a:xfrm>
            <a:prstGeom prst="roundRect">
              <a:avLst>
                <a:gd name="adj" fmla="val 292"/>
              </a:avLst>
            </a:pr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60360" y="3060720"/>
              <a:ext cx="720720" cy="1792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60360" y="3276720"/>
              <a:ext cx="720720" cy="17928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6240" y="3497400"/>
              <a:ext cx="1035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ocal disk</a:t>
              </a:r>
              <a:endParaRPr b="0" lang="en-US" sz="15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60360" y="2340000"/>
              <a:ext cx="7113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5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0720" y="2519280"/>
              <a:ext cx="360360" cy="720720"/>
            </a:xfrm>
            <a:custGeom>
              <a:avLst/>
              <a:gdLst/>
              <a:ahLst/>
              <a:rect l="l" t="t" r="r" b="b"/>
              <a:pathLst>
                <a:path w="1001" h="2001">
                  <a:moveTo>
                    <a:pt x="1000" y="0"/>
                  </a:moveTo>
                  <a:lnTo>
                    <a:pt x="0" y="0"/>
                  </a:lnTo>
                  <a:lnTo>
                    <a:pt x="0" y="2000"/>
                  </a:lnTo>
                  <a:lnTo>
                    <a:pt x="1000" y="2000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Utopia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227520" y="2718000"/>
              <a:ext cx="722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yslog</a:t>
              </a:r>
              <a:endParaRPr b="0" lang="en-US" sz="1500" spc="-1" strike="noStrike">
                <a:solidFill>
                  <a:srgbClr val="000000"/>
                </a:solidFill>
                <a:latin typeface="Utopia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887640" y="2160720"/>
            <a:ext cx="720720" cy="539640"/>
          </a:xfrm>
          <a:prstGeom prst="roundRect">
            <a:avLst>
              <a:gd name="adj" fmla="val 292"/>
            </a:avLst>
          </a:prstGeom>
          <a:solidFill>
            <a:srgbClr val="23b8d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6" name=""/>
          <p:cNvSpPr/>
          <p:nvPr/>
        </p:nvSpPr>
        <p:spPr>
          <a:xfrm>
            <a:off x="3887640" y="2340000"/>
            <a:ext cx="682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2160720"/>
            <a:ext cx="720720" cy="539640"/>
          </a:xfrm>
          <a:prstGeom prst="roundRect">
            <a:avLst>
              <a:gd name="adj" fmla="val 292"/>
            </a:avLst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2340000"/>
            <a:ext cx="711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9" name=""/>
          <p:cNvSpPr/>
          <p:nvPr/>
        </p:nvSpPr>
        <p:spPr>
          <a:xfrm>
            <a:off x="4243320" y="5688000"/>
            <a:ext cx="720720" cy="612720"/>
          </a:xfrm>
          <a:prstGeom prst="roundRect">
            <a:avLst>
              <a:gd name="adj" fmla="val 255"/>
            </a:avLst>
          </a:prstGeom>
          <a:solidFill>
            <a:srgbClr val="99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0" name=""/>
          <p:cNvSpPr/>
          <p:nvPr/>
        </p:nvSpPr>
        <p:spPr>
          <a:xfrm>
            <a:off x="4243320" y="4500720"/>
            <a:ext cx="720720" cy="539640"/>
          </a:xfrm>
          <a:prstGeom prst="roundRect">
            <a:avLst>
              <a:gd name="adj" fmla="val 292"/>
            </a:avLst>
          </a:prstGeom>
          <a:solidFill>
            <a:srgbClr val="99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5580000"/>
            <a:ext cx="720720" cy="1792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2" name=""/>
          <p:cNvSpPr/>
          <p:nvPr/>
        </p:nvSpPr>
        <p:spPr>
          <a:xfrm>
            <a:off x="4243320" y="6227640"/>
            <a:ext cx="720720" cy="179640"/>
          </a:xfrm>
          <a:prstGeom prst="ellipse">
            <a:avLst/>
          </a:prstGeom>
          <a:solidFill>
            <a:srgbClr val="999999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3" name=""/>
          <p:cNvSpPr/>
          <p:nvPr/>
        </p:nvSpPr>
        <p:spPr>
          <a:xfrm>
            <a:off x="3959280" y="6443640"/>
            <a:ext cx="1446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yslog storage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4" name=""/>
          <p:cNvSpPr/>
          <p:nvPr/>
        </p:nvSpPr>
        <p:spPr>
          <a:xfrm>
            <a:off x="4299120" y="4557600"/>
            <a:ext cx="75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yslog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5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5" name=""/>
          <p:cNvSpPr/>
          <p:nvPr/>
        </p:nvSpPr>
        <p:spPr>
          <a:xfrm>
            <a:off x="4680000" y="5040360"/>
            <a:ext cx="1440" cy="53964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77840" y="2808360"/>
            <a:ext cx="2379960" cy="169236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7" name=""/>
          <p:cNvSpPr/>
          <p:nvPr/>
        </p:nvSpPr>
        <p:spPr>
          <a:xfrm>
            <a:off x="4248000" y="2843280"/>
            <a:ext cx="252720" cy="165564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2879640"/>
            <a:ext cx="2303280" cy="1619280"/>
          </a:xfrm>
          <a:prstGeom prst="line">
            <a:avLst/>
          </a:prstGeom>
          <a:ln w="93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onfiguring centralized logg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Cisco equipmen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Minimum: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2" marL="1079640" indent="-216000">
              <a:lnSpc>
                <a:spcPct val="77000"/>
              </a:lnSpc>
              <a:buClr>
                <a:srgbClr val="800000"/>
              </a:buClr>
              <a:buSzPct val="45000"/>
              <a:buFont typeface="Symbol" charset="2"/>
              <a:buChar char="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logging ip.of.log.host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NIX host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Edit /etc/syslog.conf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Add a line ”*.*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@ip.of.log.host”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Restart syslogd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Other equipments have similar option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Options to control facility and level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Receiving the message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000" y="1711440"/>
            <a:ext cx="9356760" cy="57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Identify the facility that the SENDING host or device will send their message on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Reconfigure syslogd to listen to the network (on Ubuntu/Debian: add ”-r” to /etc/defaults/syslog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Add an entry to syslogd indicating where to write messages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local7.*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/var/log/router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Create the file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touch /var/log/routers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Restart syslogd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1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Courier New"/>
              </a:rPr>
              <a:t>/etc/init.d/sysklogd restart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yslog basic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0000" y="1963800"/>
            <a:ext cx="935676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DP protocol, port 514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2640" indent="-31896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Syslog messages contain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0320" indent="-28296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Facility: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Auth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Level: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Emergency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0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Authpriv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Alert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1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Console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Critical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2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Cron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Error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3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Daemon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Warning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4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Ftp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Notice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5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Kern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Info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6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Lpr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Mail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Debug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(7)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News 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Ntp 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|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Security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Syslog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User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UUCP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	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 Local0 ...Local7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326880"/>
            <a:ext cx="86043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37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orting log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0000" y="1782720"/>
            <a:ext cx="935676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sing facility and level, sort by category into different fil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With tools like syslog-ng, sort by host, date, ... automatically into different directories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Grep your way through the logs.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marL="426960" indent="-32220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Lucida Sans Typewriter"/>
              <a:buChar char="■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"/>
              </a:rPr>
              <a:t>Use standard UNIX tools to sort, and eliminate, things you want to filter out:</a:t>
            </a:r>
            <a:endParaRPr b="0" lang="en-US" sz="30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egrep -v '(list 100 denied|logging rate-limited)' mylogfile 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  <a:p>
            <a:pPr lvl="1" marL="858960" indent="-285840">
              <a:lnSpc>
                <a:spcPct val="93000"/>
              </a:lnSpc>
              <a:buClr>
                <a:srgbClr val="800000"/>
              </a:buClr>
              <a:buSzPct val="45000"/>
              <a:buFont typeface="Lucida Sans Typewriter"/>
              <a:buChar char="●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"/>
              </a:rPr>
              <a:t>Is there a way to do this automatically ?</a:t>
            </a:r>
            <a:endParaRPr b="0" lang="en-US" sz="2600" spc="-1" strike="noStrike">
              <a:solidFill>
                <a:srgbClr val="333333"/>
              </a:solidFill>
              <a:latin typeface="Lucida Sans Typewrite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   Track E0 AfNOG workshop April 23-27 2007 Abuja, Nigeria    </dc:title>
</cp:coreProperties>
</file>