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DAF4B-D6B1-41EC-885F-280627601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F22-0273-43C8-A89C-B078101C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7F2-EE70-4082-A46F-BA705112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C2C-D638-443E-A714-20292BB4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27C-6C65-44C5-9713-BF5C8B99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9F2-3695-4D26-97FF-405AD9CF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0CB-2E4E-4A9B-9DD1-B7FA4F9D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938-37D4-46B9-B872-A8117C87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2B5-1BDE-4CBA-A928-75D8079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AAC-CBF3-4948-813B-56DD4114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1CD-EA39-4F5C-9CDE-26E698D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321-2C8A-41F5-AC45-AF4375A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33C-ADD9-42C0-AA07-E3D98C4B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7DED1-F933-40B4-88A9-4F4668AC76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60720" y="4664160"/>
            <a:ext cx="3416400" cy="181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22280" indent="-212760" algn="ctr">
              <a:lnSpc>
                <a:spcPct val="97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96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3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