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0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86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0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86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39440" y="282240"/>
            <a:ext cx="86043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40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68640" y="196380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4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40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68640" y="4542480"/>
            <a:ext cx="2823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82240"/>
            <a:ext cx="86043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Luxi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54248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8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42480"/>
            <a:ext cx="87678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mailto:NSRC@APRICOT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10077480" cy="70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800" y="626760"/>
            <a:ext cx="8601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Utop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11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3" name=""/>
          <p:cNvSpPr/>
          <p:nvPr/>
        </p:nvSpPr>
        <p:spPr>
          <a:xfrm>
            <a:off x="8686800" y="7201080"/>
            <a:ext cx="13129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Utopia"/>
              </a:rPr>
              <a:t>NSRC@SANOG 10 New Del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282240"/>
            <a:ext cx="8604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top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9440" y="1963800"/>
            <a:ext cx="87678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-287280"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2" marL="1295280" indent="-21564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3" marL="1727280" indent="-216000"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4" marL="2158920" indent="-215640"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5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6" marL="2158920" indent="-215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Utop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40360"/>
            <a:ext cx="10077480" cy="72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58200" y="7110360"/>
            <a:ext cx="158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 u="sng">
                <a:solidFill>
                  <a:srgbClr val="ccccff"/>
                </a:solidFill>
                <a:uFillTx/>
                <a:latin typeface="Utopia"/>
                <a:hlinkClick r:id="rId3"/>
              </a:rPr>
              <a:t>NSRC@APRICOT</a:t>
            </a:r>
            <a:r>
              <a:rPr b="0" i="1" lang="en-GB" sz="1000" spc="-1" strike="noStrike">
                <a:solidFill>
                  <a:srgbClr val="0000ff"/>
                </a:solidFill>
                <a:latin typeface="Utopia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Utopia"/>
              </a:rPr>
              <a:t>Taip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243000"/>
            <a:ext cx="8605800" cy="32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Purisa"/>
              </a:rPr>
              <a:t>Welcome!</a:t>
            </a:r>
            <a:br>
              <a:rPr sz="6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PRICOT 2008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Network Managemen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aipei, Taiwa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bruary 20-24, 2008</a:t>
            </a:r>
            <a:endParaRPr b="0" lang="en-US" sz="24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3914280"/>
            <a:ext cx="8769240" cy="27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tors:</a:t>
            </a:r>
            <a:endParaRPr b="0" lang="en-US" sz="44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vey Allen (Chile/USA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il Regnauld (Denmark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86280" y="4091040"/>
            <a:ext cx="388620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Your Instructors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6328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Utopia"/>
              </a:rPr>
              <a:t>Hervey Allen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Network Startup Resource Center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Santiago, Ch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Utopia"/>
              </a:rPr>
              <a:t>Phil Regnauld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catpipe systems ApS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Network Startup Resource Center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Utopia"/>
              </a:rPr>
              <a:t>Copenhagen, Denmar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1963800"/>
            <a:ext cx="42894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Utopia"/>
              </a:rPr>
              <a:t>Timetable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09:00-10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0:30-11:00 brea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1:00-12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2:30-14:00 lunch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4:00-15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5:30-16:00 break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  <a:p>
            <a:pPr lvl="1" marL="863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16:00-17:30 </a:t>
            </a:r>
            <a:endParaRPr b="0" lang="en-US" sz="28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033640"/>
            <a:ext cx="3657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Five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Utopia"/>
              </a:rPr>
              <a:t>Wednesday - Sun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Utop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63280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3000"/>
              </a:lnSpc>
              <a:buClr>
                <a:srgbClr val="000000"/>
              </a:buClr>
              <a:buFont typeface="Utop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Please don't change the </a:t>
            </a:r>
            <a:r>
              <a:rPr b="0" i="1" lang="en-GB" sz="3200" spc="-1" strike="noStrike">
                <a:solidFill>
                  <a:srgbClr val="000000"/>
                </a:solidFill>
                <a:latin typeface="Utopia"/>
              </a:rPr>
              <a:t>inst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password.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-323640">
              <a:lnSpc>
                <a:spcPct val="123000"/>
              </a:lnSpc>
              <a:buClr>
                <a:srgbClr val="000000"/>
              </a:buClr>
              <a:buFont typeface="Utop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Please ask lots of questions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  <a:p>
            <a:pPr marL="431640" indent="0" algn="ctr">
              <a:lnSpc>
                <a:spcPct val="12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Utopia"/>
              </a:rPr>
              <a:t>Schedule for the week...</a:t>
            </a:r>
            <a:endParaRPr b="0" lang="en-US" sz="3200" spc="-1" strike="noStrike">
              <a:solidFill>
                <a:srgbClr val="000000"/>
              </a:solidFill>
              <a:latin typeface="Utop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