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295E7-AA0D-4239-8247-039B82E5C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579-0563-42D7-8699-ED3CFB47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82C-04B2-4925-BD74-E07DD764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217-C086-43F3-BCCE-F03D8EFE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9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693-1042-4840-94F1-00E11F6A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AD1-1CC7-4343-BD78-7F6F62A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636-61A5-4B73-AE16-917A335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5E4-A567-4624-91C5-3A10E8BD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169-5793-4353-97A5-10E82AB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A53-79F8-4BD8-B2C1-2F253344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67B-3327-4A82-BEF9-0B7C7786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9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8D2-5A5D-4B5C-B3C3-086B137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AC0-C2DA-4AB5-B236-4490CA6F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E0715-8BD1-41FD-AD5E-C484C9D41F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 / 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60720" y="4664160"/>
            <a:ext cx="3416400" cy="181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280" y="684360"/>
            <a:ext cx="877284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22280" indent="-212760" algn="ctr">
              <a:lnSpc>
                <a:spcPct val="97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APRICOT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Network Management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101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Verdana"/>
                <a:ea typeface="Verdana"/>
              </a:rPr>
              <a:t>Taipei, Taiwan</a:t>
            </a:r>
            <a:r>
              <a:rPr b="0" lang="en-GB" sz="12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6280" indent="-206280" algn="ctr">
              <a:lnSpc>
                <a:spcPct val="96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Lucida Sans Typewriter Regular"/>
                <a:ea typeface="Bitstream Vera Sans"/>
              </a:rPr>
              <a:t>February 20-2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212760" algn="ctr">
              <a:lnSpc>
                <a:spcPct val="95000"/>
              </a:lnSpc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n't it simple 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load.rrd -s 600 DS:1MIN-Load:GAUGE:1200:0:100 DS:5MIN-Load:GAUGE:1200:0:100 DS:15MIN-Load:GAUGE:1200:0:100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disk_usage.rrd -s 600 DS:root:GAUGE:1200:0:U DS:home:GAUGE:1200:0:U DS:usr:GAUGE:1200:0:U DS:var:GAUGE:12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apricot-INTL_Ping.rrd -s 300 DS:ping:GAUGE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rdtool create /var/nagios/rrd/host0_total.rrd -s 300 DS:IN:COUNTER:1200:0:U DS:OUT:COUNTER:600:0:U RRA:AVERAGE:0.5:1:50400 RRA:AVERAGE:0.5:60:4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923760"/>
            <a:ext cx="9056880" cy="585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70520" y="284040"/>
            <a:ext cx="685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Ping Latency Graph Created by APAN from RRD Databas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Ubuntu  / Deb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t-get install 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&lt;device.mrtg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directory : /var/www/mrt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MRTG against the configuration file from c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g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snmpwalk and creates a mrtg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cfg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etc/mrtg/router.mrt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workdir: /var/www/mrtg'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global 'options[_]: growright,bits' apric0t08@169.223.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itle[leased]: a 128K leas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PageTop[leased]: &lt;H1&gt;Our 128K link to the outside world&lt;/H1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Target[leased]: 1:public@router.loca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#MaxBytes[leased]: 1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eating HTML with index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bin/indexmaker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output=/var/www/mrtg/device.html /etc/mrtg/device.mrt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r mrtg configuration file is well commented, the html is nice and detai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b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para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p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apt-get install librrds-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in your MRTG Configuration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etc/mrtg/router.mrt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Format: rrd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m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see in /var/www/mrt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768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ulti Router Traffic Grapher (MRTG) is a tool to monitor the traffic load on network-links. MRTG generates HTML pages containing PNG images which provide an almost live visual representation of this traffic. Check http://oss.oetiker.ch/mrtg/ to see what it do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has been the most common network traffic measurement tool for al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uses simple SNMP queries on a regular interval to generat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RT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0508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readers for MRTG graphs can create other interpreta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software can be used not only to measure network traffic on interfaces, but also build graphs of anything that has an equivalent SNMP MIB - like CPU load, Disk availability, Temperature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sources can be anything that provides a counter or gauge value – not necessarily SN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graphing round trip t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can be extended to work with RRD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RTG -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generates each graph (what if you have hundreds of graphs!) every 5 minutes, creating a lot of over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also has very few customizable graphing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k space is always an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TG management itself can be tediou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nning MR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quired pack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mpile and install the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ke cfg files for router interfaces with cfg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html pages from the cfg files with index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igger MRTG periodically from Cron or run it in daemon mo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1981080"/>
            <a:ext cx="7464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Round Robin Database for time series data stora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Command line bas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From the author of MRT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Made to be faster and more flex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Includes CGI and Graphing tools, plus AP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547560">
              <a:lnSpc>
                <a:spcPct val="94000"/>
              </a:lnSpc>
              <a:spcBef>
                <a:spcPts val="53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80"/>
                </a:solidFill>
                <a:latin typeface="Times New Roman"/>
                <a:ea typeface="msmincho"/>
              </a:rPr>
              <a:t>Solves the Historical Trends and Simple Interface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1198440"/>
          </a:xfrm>
          <a:prstGeom prst="roundRect">
            <a:avLst>
              <a:gd name="adj" fmla="val 116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82680"/>
            <a:ext cx="6248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Data Sources (In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360" y="1450800"/>
            <a:ext cx="7466040" cy="48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96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speed:COUNTER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100000"/>
              </a:lnSpc>
              <a:spcBef>
                <a:spcPts val="71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urier New"/>
                <a:ea typeface="msmincho"/>
              </a:rPr>
              <a:t>DS:fuel:GAUGE:600:U: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DS = Data Sou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speed, fuel = “variable”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COUNTER, GAUGE = variable ty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600 = heart beat – UNKNOWN returned for interval if nothing received after this amount of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U:U = limits on minimum and maximum variable values (U means unknown and any value is permitted)</a:t>
            </a:r>
            <a:r>
              <a:rPr b="0" lang="en-GB" sz="25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2076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Define Archives (Outputs)</a:t>
            </a:r>
            <a:r>
              <a:rPr b="0" lang="en-GB" sz="40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60" y="1450800"/>
            <a:ext cx="86360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:AVERAGE:0.5: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RRA = Round Robi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VERAGE = consolid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0.5 = up to 50% of consolidated points may be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1:24 = this RRA keeps each sample (average over one 5 minute primary sample), 24 times (which is 2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tabLst>
                <a:tab algn="l" pos="0"/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6:10 = one RRA keeps an average over every six 5 minute primary samples (30 minutes), 10 times (which is 5 hours worth)</a:t>
            </a: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8800" indent="-293400">
              <a:lnSpc>
                <a:spcPct val="83000"/>
              </a:lnSpc>
              <a:spcBef>
                <a:spcPts val="624"/>
              </a:spcBef>
              <a:buClr>
                <a:srgbClr val="ff0000"/>
              </a:buClr>
              <a:buSzPct val="87000"/>
              <a:buFont typeface="Arial"/>
              <a:buChar char="•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Clear as mu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58840">
              <a:lnSpc>
                <a:spcPct val="83000"/>
              </a:lnSpc>
              <a:spcBef>
                <a:spcPts val="4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3664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Times New Roman"/>
                <a:ea typeface="msmincho"/>
              </a:rPr>
              <a:t>all depends on original step size which defaults to 5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30480"/>
            <a:ext cx="914400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RRDtool Databas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4160" y="1432080"/>
            <a:ext cx="3509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Recent data stored once every 5 minutes for the past 2 hours (1:24)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25760" y="5626080"/>
            <a:ext cx="45054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Medium length data averaged to one entry per half hour for the last 5 hours (6:10)</a:t>
            </a:r>
            <a:r>
              <a:rPr b="0" lang="en-GB" sz="2200" spc="-1" strike="noStrike">
                <a:solidFill>
                  <a:srgbClr val="dc23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9240" y="1414440"/>
            <a:ext cx="34462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Old data averaged to one entry per day for the last 365 days (288:365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54080" y="2489040"/>
            <a:ext cx="4900680" cy="2211480"/>
            <a:chOff x="1954080" y="2489040"/>
            <a:chExt cx="4900680" cy="2211480"/>
          </a:xfrm>
        </p:grpSpPr>
        <p:sp>
          <p:nvSpPr>
            <p:cNvPr id="73" name=""/>
            <p:cNvSpPr/>
            <p:nvPr/>
          </p:nvSpPr>
          <p:spPr>
            <a:xfrm>
              <a:off x="1954080" y="24890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54080" y="26748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54080" y="285768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54080" y="30430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54080" y="3225960"/>
              <a:ext cx="1635120" cy="18540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7760" y="24890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19640" y="2489040"/>
              <a:ext cx="1635120" cy="110664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54080" y="34099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54080" y="359424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54080" y="377676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080" y="3962520"/>
              <a:ext cx="1635120" cy="1839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54080" y="414648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7760" y="304164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7760" y="3594240"/>
              <a:ext cx="1635120" cy="55224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87760" y="4146480"/>
              <a:ext cx="1635120" cy="552600"/>
            </a:xfrm>
            <a:prstGeom prst="roundRect">
              <a:avLst>
                <a:gd name="adj" fmla="val 259"/>
              </a:avLst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4080" y="432900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54080" y="4513320"/>
              <a:ext cx="1635120" cy="185760"/>
            </a:xfrm>
            <a:prstGeom prst="roundRect">
              <a:avLst>
                <a:gd name="adj" fmla="val 778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9640" y="3594240"/>
              <a:ext cx="1635120" cy="1106280"/>
            </a:xfrm>
            <a:prstGeom prst="roundRect">
              <a:avLst>
                <a:gd name="adj" fmla="val 13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0080" y="3294000"/>
            <a:ext cx="17208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--step 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(5 minute input step size)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17600" y="4718160"/>
            <a:ext cx="1325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1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76680" y="4770360"/>
            <a:ext cx="1325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6: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4770360"/>
            <a:ext cx="1722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msmincho"/>
              </a:rPr>
              <a:t>RRA 288:3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05720" y="3184560"/>
            <a:ext cx="858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6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msmincho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88320" y="2448000"/>
            <a:ext cx="396720" cy="2147760"/>
          </a:xfrm>
          <a:custGeom>
            <a:avLst/>
            <a:gdLst/>
            <a:ahLst/>
            <a:rect l="l" t="t" r="r" b="b"/>
            <a:pathLst>
              <a:path w="1217" h="6577">
                <a:moveTo>
                  <a:pt x="0" y="6576"/>
                </a:moveTo>
                <a:lnTo>
                  <a:pt x="326" y="6576"/>
                </a:lnTo>
                <a:lnTo>
                  <a:pt x="537" y="6492"/>
                </a:lnTo>
                <a:lnTo>
                  <a:pt x="706" y="6300"/>
                </a:lnTo>
                <a:lnTo>
                  <a:pt x="815" y="5977"/>
                </a:lnTo>
                <a:lnTo>
                  <a:pt x="855" y="5582"/>
                </a:lnTo>
                <a:lnTo>
                  <a:pt x="855" y="4084"/>
                </a:lnTo>
                <a:lnTo>
                  <a:pt x="869" y="3881"/>
                </a:lnTo>
                <a:lnTo>
                  <a:pt x="924" y="3749"/>
                </a:lnTo>
                <a:lnTo>
                  <a:pt x="1011" y="3677"/>
                </a:lnTo>
                <a:lnTo>
                  <a:pt x="1148" y="3653"/>
                </a:lnTo>
                <a:lnTo>
                  <a:pt x="1195" y="3653"/>
                </a:lnTo>
                <a:lnTo>
                  <a:pt x="1216" y="3653"/>
                </a:lnTo>
                <a:lnTo>
                  <a:pt x="1216" y="2995"/>
                </a:lnTo>
                <a:lnTo>
                  <a:pt x="1195" y="2983"/>
                </a:lnTo>
                <a:lnTo>
                  <a:pt x="1115" y="2971"/>
                </a:lnTo>
                <a:lnTo>
                  <a:pt x="1066" y="2971"/>
                </a:lnTo>
                <a:lnTo>
                  <a:pt x="1026" y="2971"/>
                </a:lnTo>
                <a:lnTo>
                  <a:pt x="999" y="2959"/>
                </a:lnTo>
                <a:lnTo>
                  <a:pt x="930" y="2887"/>
                </a:lnTo>
                <a:lnTo>
                  <a:pt x="884" y="2778"/>
                </a:lnTo>
                <a:lnTo>
                  <a:pt x="862" y="2647"/>
                </a:lnTo>
                <a:lnTo>
                  <a:pt x="855" y="2468"/>
                </a:lnTo>
                <a:lnTo>
                  <a:pt x="855" y="994"/>
                </a:lnTo>
                <a:lnTo>
                  <a:pt x="815" y="587"/>
                </a:lnTo>
                <a:lnTo>
                  <a:pt x="706" y="276"/>
                </a:lnTo>
                <a:lnTo>
                  <a:pt x="537" y="72"/>
                </a:lnTo>
                <a:lnTo>
                  <a:pt x="326" y="0"/>
                </a:lnTo>
                <a:lnTo>
                  <a:pt x="0" y="0"/>
                </a:lnTo>
                <a:lnTo>
                  <a:pt x="0" y="718"/>
                </a:lnTo>
                <a:lnTo>
                  <a:pt x="156" y="718"/>
                </a:lnTo>
                <a:lnTo>
                  <a:pt x="246" y="742"/>
                </a:lnTo>
                <a:lnTo>
                  <a:pt x="307" y="803"/>
                </a:lnTo>
                <a:lnTo>
                  <a:pt x="340" y="947"/>
                </a:lnTo>
                <a:lnTo>
                  <a:pt x="354" y="1162"/>
                </a:lnTo>
                <a:lnTo>
                  <a:pt x="354" y="2551"/>
                </a:lnTo>
                <a:lnTo>
                  <a:pt x="366" y="2875"/>
                </a:lnTo>
                <a:lnTo>
                  <a:pt x="441" y="3090"/>
                </a:lnTo>
                <a:lnTo>
                  <a:pt x="571" y="3234"/>
                </a:lnTo>
                <a:lnTo>
                  <a:pt x="775" y="3330"/>
                </a:lnTo>
                <a:lnTo>
                  <a:pt x="571" y="3390"/>
                </a:lnTo>
                <a:lnTo>
                  <a:pt x="441" y="3534"/>
                </a:lnTo>
                <a:lnTo>
                  <a:pt x="366" y="3761"/>
                </a:lnTo>
                <a:lnTo>
                  <a:pt x="354" y="4084"/>
                </a:lnTo>
                <a:lnTo>
                  <a:pt x="354" y="5474"/>
                </a:lnTo>
                <a:lnTo>
                  <a:pt x="340" y="5653"/>
                </a:lnTo>
                <a:lnTo>
                  <a:pt x="307" y="5761"/>
                </a:lnTo>
                <a:lnTo>
                  <a:pt x="239" y="5846"/>
                </a:lnTo>
                <a:lnTo>
                  <a:pt x="156" y="5858"/>
                </a:lnTo>
                <a:lnTo>
                  <a:pt x="0" y="5858"/>
                </a:lnTo>
                <a:lnTo>
                  <a:pt x="0" y="6576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80560" y="-546120"/>
            <a:ext cx="1440" cy="54000"/>
          </a:xfrm>
          <a:custGeom>
            <a:avLst/>
            <a:gdLst/>
            <a:ahLst/>
            <a:rect l="l" t="t" r="r" b="b"/>
            <a:pathLst>
              <a:path w="21600" h="652320">
                <a:moveTo>
                  <a:pt x="10800" y="0"/>
                </a:moveTo>
                <a:arcTo wR="10800" hR="10800" stAng="16200000" swAng="-5400000"/>
                <a:lnTo>
                  <a:pt x="0" y="641520"/>
                </a:lnTo>
                <a:arcTo wR="10800" hR="10800" stAng="10800000" swAng="-5400000"/>
                <a:lnTo>
                  <a:pt x="10800" y="65232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RTG</dc:title>
</cp:coreProperties>
</file>